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061C-559B-4C72-AFDC-78BD689240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2C39-9973-4AA1-8E02-C8FB7599FC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73EE-E590-4CFF-9DF2-0004AF83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C64-9973-42D3-9004-F3EC3EF6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593-6F5B-45D3-B844-1D8FF54E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288-F9FE-4CA1-A19D-3FA5E1FF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754-3EE6-4DEF-82FD-1B9B47FF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363-82EE-4BAB-87C0-D68FD3A3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BA4-672A-4F91-BBF6-C1BD986E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94D-F3D3-49FD-B368-9905B365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7C1-B1C0-4FEE-9B58-48EA3C63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138-7AA4-4F38-B352-FE830123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F2E-03CD-4327-B7F0-412408E2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7BC-FC1F-447B-B3AA-6AFEF6F9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3fd"/>
            </a:gs>
            <a:gs pos="100000">
              <a:srgbClr val="b0c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1171-061B-4FCE-9ED7-4B77127E09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1122480"/>
            <a:ext cx="711684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WWF выбрал семь самых необычных охраняемых территорий в России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4" descr=""/>
          <p:cNvPicPr/>
          <p:nvPr/>
        </p:nvPicPr>
        <p:blipFill>
          <a:blip r:embed="rId1"/>
          <a:stretch/>
        </p:blipFill>
        <p:spPr>
          <a:xfrm>
            <a:off x="4933800" y="4199040"/>
            <a:ext cx="3814920" cy="2376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"/>
          <p:cNvPicPr/>
          <p:nvPr/>
        </p:nvPicPr>
        <p:blipFill>
          <a:blip r:embed="rId2"/>
          <a:stretch/>
        </p:blipFill>
        <p:spPr>
          <a:xfrm>
            <a:off x="861840" y="4259160"/>
            <a:ext cx="3587760" cy="2436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"/>
          <p:cNvPicPr/>
          <p:nvPr/>
        </p:nvPicPr>
        <p:blipFill>
          <a:blip r:embed="rId3"/>
          <a:stretch/>
        </p:blipFill>
        <p:spPr>
          <a:xfrm>
            <a:off x="9067680" y="22716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"/>
          <p:cNvPicPr/>
          <p:nvPr/>
        </p:nvPicPr>
        <p:blipFill>
          <a:blip r:embed="rId4"/>
          <a:stretch/>
        </p:blipFill>
        <p:spPr>
          <a:xfrm>
            <a:off x="9067680" y="22575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Roboto"/>
              </a:rPr>
              <a:t>Самый пушно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Picture 2" descr="https://retina.news.mail.ru/pic/d8/25/image28388455_d385c8391e26d8a0fa6207b01b75b6ea.jpg"/>
          <p:cNvPicPr/>
          <p:nvPr/>
        </p:nvPicPr>
        <p:blipFill>
          <a:blip r:embed="rId1"/>
          <a:stretch/>
        </p:blipFill>
        <p:spPr>
          <a:xfrm>
            <a:off x="338040" y="1690560"/>
            <a:ext cx="4429080" cy="43513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5267160" y="525600"/>
            <a:ext cx="6391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в России заповедник — Баргузинский (Бурятия) создавался с целью сохранить соболя, которого охотники за пушниной довели до грани исчезнов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здании заповедника в нем оставалось лишь 20−30 собо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же здесь обитает несколько тысяч особей всевозможного окраса. Также на территории ООПТ можно встретить бурого медведя, лося, кабаргу, зайца-беляка и других животн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6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Roboto"/>
              </a:rPr>
              <a:t>Самый мистически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8080" y="1257120"/>
            <a:ext cx="10515600" cy="49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оро-Илычском заповеднике в Коми находится плато Маньпупунёр с семью каменными изваяниями высотой с 15-этажный дом. Легенда гласит, что однажды великаны попытались украсть дочь вождя жившего здесь народа. Сын вождя отправился спасать сестру, и с помощью добрых духов превратил великанов в кам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4" descr=""/>
          <p:cNvPicPr/>
          <p:nvPr/>
        </p:nvPicPr>
        <p:blipFill>
          <a:blip r:embed="rId1"/>
          <a:stretch/>
        </p:blipFill>
        <p:spPr>
          <a:xfrm>
            <a:off x="3863880" y="3363840"/>
            <a:ext cx="516600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258560" y="388440"/>
            <a:ext cx="10231560" cy="30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, по мнению ученых, дело обошлось без волшебства: 200 миллионов лет назад на месте каменных столбов стояли высокие горы, которые разрушились под воздействием погодных явлений. Форма столбов до сих пор продолжает меняться, из-за чего существует миф, что столбы меняются местами. Обитателями этих мистических мест являются лоси, медведи, волки, росомахи, кабаны, барсуки, северные олени, енотовидные соба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7" descr=""/>
          <p:cNvPicPr/>
          <p:nvPr/>
        </p:nvPicPr>
        <p:blipFill>
          <a:blip r:embed="rId1"/>
          <a:stretch/>
        </p:blipFill>
        <p:spPr>
          <a:xfrm>
            <a:off x="3249720" y="3219480"/>
            <a:ext cx="53481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Roboto"/>
              </a:rPr>
              <a:t>Самый высоки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7720" y="1184400"/>
            <a:ext cx="542628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 других в России расположен национальный парк «Приэльбрусье» (Кабардино-Балкария), включающий самую высокую вершину страны — Эльбрус. Здесь есть водопады, озера, целебные минеральные источники, альпийские луга. Значительная часть территории занята лес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5" descr=""/>
          <p:cNvPicPr/>
          <p:nvPr/>
        </p:nvPicPr>
        <p:blipFill>
          <a:blip r:embed="rId1"/>
          <a:stretch/>
        </p:blipFill>
        <p:spPr>
          <a:xfrm>
            <a:off x="6611760" y="708120"/>
            <a:ext cx="51944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307800" y="7920"/>
            <a:ext cx="415296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9"/>
          <p:cNvSpPr/>
          <p:nvPr/>
        </p:nvSpPr>
        <p:spPr>
          <a:xfrm>
            <a:off x="846000" y="365040"/>
            <a:ext cx="9761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рке обитает огромное количество видов животных, в том числе: туры, серны, рыси, бурые медведи, волки, кабаны, сапсаны, кавказские тетерева, орланы-белохвосты и другие. Режим национального парка позволяет использовать «Приэльбрусье» как центр горного туризма и горнолыжного спор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Картинки по запросу приэльбрусье"/>
          <p:cNvPicPr/>
          <p:nvPr/>
        </p:nvPicPr>
        <p:blipFill>
          <a:blip r:embed="rId1"/>
          <a:stretch/>
        </p:blipFill>
        <p:spPr>
          <a:xfrm>
            <a:off x="3160800" y="3225960"/>
            <a:ext cx="531504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0400" y="228240"/>
            <a:ext cx="110329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За прошедшие сто лет в России было взято под охрану порядка 200 миллионов гектаров или около 11% территории всей страны. При этом при поддержке WWF России было создано порядка 52 миллионов гектаров охраняемых территорий. По инициативе фонда, начиная с 1997 года, 11 января отмечается как день создания заповедной системы России», — отмечает WW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816120" y="3108240"/>
            <a:ext cx="5021280" cy="2960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6539040" y="3108240"/>
            <a:ext cx="47052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амый маленьки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Picture 4" descr="https://retina.news.mail.ru/pic/9e/b6/image28388455_10fbda90ecab13357a4bb8c2729e1f57.jpg"/>
          <p:cNvPicPr/>
          <p:nvPr/>
        </p:nvPicPr>
        <p:blipFill>
          <a:blip r:embed="rId1"/>
          <a:stretch/>
        </p:blipFill>
        <p:spPr>
          <a:xfrm>
            <a:off x="484200" y="1690560"/>
            <a:ext cx="6284880" cy="43513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7122960" y="914400"/>
            <a:ext cx="4230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маленьким в России является заповедник «Галичья гора» в Липецкой области. Его площадь составляет всего 2,3 квадратных километра, на которых произрастает более 650 видов растений. При этом многие из них не типичны для этих широт, и ученые до сих пор спорят, как они могли сюда попа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5646600" y="2674800"/>
            <a:ext cx="5761080" cy="37641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503280" y="250920"/>
            <a:ext cx="905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представлена кавказская, алтайская и даже альпийская флора. Кроме того, в «Галичьей горе» невероятно большое разнообразие насекомых. Также здесь можно встретить черного коршуна, скопу, лисицу, енотовидную собаку, барсука, кабана и даже ло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амый большо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0720" y="1279440"/>
            <a:ext cx="5996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крупным по площади является Большой Арктический заповедник (Красноярский край) — 42 тысячи квадратных километров. Тут находится самое «богатое» белыми медведями место материковой Евразии, так как в заповеднике проходит один из важнейших миграционных путей этого вида. Также здесь сохранились популяции диких северных оленей, и встречаются редкие виды птиц: черная казарка, краснозобая казарка, орлан-белохвост, сапсан, малый лебед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6834240" y="1027080"/>
            <a:ext cx="48276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6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Roboto"/>
              </a:rPr>
              <a:t>Самый кошачи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Picture 2" descr="https://retina.news.mail.ru/pic/e3/9b/image28388455_30436bf10fa146aa5bd7c736311042ce.jpg"/>
          <p:cNvPicPr/>
          <p:nvPr/>
        </p:nvPicPr>
        <p:blipFill>
          <a:blip r:embed="rId1"/>
          <a:stretch/>
        </p:blipFill>
        <p:spPr>
          <a:xfrm>
            <a:off x="3112920" y="1301760"/>
            <a:ext cx="5965920" cy="32734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 flipV="1" rot="10800000">
            <a:off x="274680" y="5154480"/>
            <a:ext cx="1191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й парк «Земля леопарда» (Приморский край) — единственное в России место, где обитают сразу два представителя подсемейства «большие кошки»: амурский тигр и дальневосточный леопар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113536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есь можно встретить древние реликтовые растения, а также представителей тропической фауны. Из населяющих парк животных 40 видов относятся к редким и исчезающим. Помимо тигров и леопардов в этих местах встречаются: дальневосточный лесной кот, рысь, гималайский медведь, бурый медведь, кабарга, косуля, горал, дикий кабан, енотовидная собака, маньчжурский заяц и друг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"/>
          <p:cNvPicPr/>
          <p:nvPr/>
        </p:nvPicPr>
        <p:blipFill>
          <a:blip r:embed="rId1"/>
          <a:stretch/>
        </p:blipFill>
        <p:spPr>
          <a:xfrm>
            <a:off x="3422520" y="2697120"/>
            <a:ext cx="50119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Roboto"/>
              </a:rPr>
              <a:t>Самый плодовиты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Picture 2" descr="https://retina.news.mail.ru/pic/b2/0d/image28388455_0a71fcee3a261225b98d401d5d068d4a.jpg"/>
          <p:cNvPicPr/>
          <p:nvPr/>
        </p:nvPicPr>
        <p:blipFill>
          <a:blip r:embed="rId1"/>
          <a:stretch/>
        </p:blipFill>
        <p:spPr>
          <a:xfrm>
            <a:off x="6378480" y="1185840"/>
            <a:ext cx="5342040" cy="43513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649440" y="136692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ведник «Остров Врангеля» (Чукотка) называют главным родильным домом белых медвед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38080" y="-360"/>
            <a:ext cx="10515600" cy="30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год здесь в берлоги залегает рекордное количество готовящихся дать потомство самок — от 300 до 500. Кроме того, на острове Врангеля расположено крупнейшее в мире лежбище тихоокеанского моржа. Здесь же находятся самые большие в Чукотском море птичьи базары, в том числе и единственная в Евразии крупная постоянная колония белого гуся. Это самый богатый с точки зрения биоразнообразия арктический ост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2625840" y="3040200"/>
            <a:ext cx="631332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3T20:17:06Z</dcterms:created>
  <dc:creator>Александр Аверьянов</dc:creator>
  <dc:description/>
  <dc:language>en-US</dc:language>
  <cp:lastModifiedBy>Александр Аверьянов</cp:lastModifiedBy>
  <dcterms:modified xsi:type="dcterms:W3CDTF">2017-09-03T18:24:37Z</dcterms:modified>
  <cp:revision>10</cp:revision>
  <dc:subject/>
  <dc:title>WWF выбрал семь самых необычных охраняемых территорий в России</dc:title>
</cp:coreProperties>
</file>