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E61-49F4-4FFE-96FA-157EABF3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75E-3B2D-4457-B583-CF2CEEB8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DB4-C6D4-4858-9881-60509248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502-F4C1-4C88-A53A-AB8645E9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C2B-F476-4E07-9442-9F3BCF71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B39-6B4E-4C65-A801-77D89ADE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48B-8960-499F-A909-FCD56D12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C60-F97D-4AC1-AF2E-A4A93F31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939-5C20-47EA-AFF0-9E2F873D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416-FD94-441A-A328-E929D20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C49-7375-4781-A0D6-9B4383EE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68B-328F-4F08-9389-893EF7F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20D6-8264-4471-9262-DE508E125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3564000" y="4984920"/>
            <a:ext cx="523728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55640" y="26028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Сам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   </a:t>
            </a: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вкус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               </a:t>
            </a:r>
            <a:r>
              <a:rPr b="0" lang="ru-RU" sz="6600" spc="-1" strike="noStrike">
                <a:solidFill>
                  <a:srgbClr val="ff6600"/>
                </a:solidFill>
                <a:latin typeface="Dollar"/>
              </a:rPr>
              <a:t>бли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98920" y="4149720"/>
            <a:ext cx="5545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Arial"/>
                <a:ea typeface="Tahoma"/>
              </a:rPr>
              <a:t> 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  <a:ea typeface="Tahoma"/>
              </a:rPr>
              <a:t>Работу выполн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Arial"/>
                <a:ea typeface="Tahoma"/>
              </a:rPr>
              <a:t> 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  <a:ea typeface="DFKai-SB"/>
              </a:rPr>
              <a:t>Козлов Максим, 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Arial"/>
                <a:ea typeface="DFKai-SB"/>
              </a:rPr>
              <a:t>Руководи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  <a:ea typeface="DFKai-SB"/>
              </a:rPr>
              <a:t>Шумкова Т.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D:\Документы\Таня\Работа\Для оу\Маслица\Bliny-v-istorii-i-prostranstve211.jpg"/>
          <p:cNvPicPr/>
          <p:nvPr/>
        </p:nvPicPr>
        <p:blipFill>
          <a:blip r:embed="rId1"/>
          <a:stretch/>
        </p:blipFill>
        <p:spPr>
          <a:xfrm>
            <a:off x="324000" y="2205000"/>
            <a:ext cx="300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Диаграмма 6" descr=""/>
          <p:cNvPicPr/>
          <p:nvPr/>
        </p:nvPicPr>
        <p:blipFill>
          <a:blip r:embed="rId1"/>
          <a:stretch/>
        </p:blipFill>
        <p:spPr>
          <a:xfrm>
            <a:off x="-50760" y="425520"/>
            <a:ext cx="90266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D:\Документы\Таня\Работа\Для оу\Маслица\12Scan-170410-0001.jpg"/>
          <p:cNvPicPr/>
          <p:nvPr/>
        </p:nvPicPr>
        <p:blipFill>
          <a:blip r:embed="rId1"/>
          <a:stretch/>
        </p:blipFill>
        <p:spPr>
          <a:xfrm>
            <a:off x="144360" y="260280"/>
            <a:ext cx="889164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7" descr=""/>
          <p:cNvPicPr/>
          <p:nvPr/>
        </p:nvPicPr>
        <p:blipFill>
          <a:blip r:embed="rId1"/>
          <a:stretch/>
        </p:blipFill>
        <p:spPr>
          <a:xfrm>
            <a:off x="933480" y="-49320"/>
            <a:ext cx="7581960" cy="1317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2017-03-21_15.08.05.jpg"/>
          <p:cNvPicPr/>
          <p:nvPr/>
        </p:nvPicPr>
        <p:blipFill>
          <a:blip r:embed="rId2"/>
          <a:stretch/>
        </p:blipFill>
        <p:spPr>
          <a:xfrm>
            <a:off x="1908000" y="1268280"/>
            <a:ext cx="566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7" descr=""/>
          <p:cNvPicPr/>
          <p:nvPr/>
        </p:nvPicPr>
        <p:blipFill>
          <a:blip r:embed="rId1"/>
          <a:stretch/>
        </p:blipFill>
        <p:spPr>
          <a:xfrm>
            <a:off x="-66600" y="122400"/>
            <a:ext cx="9271080" cy="1139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2484360" y="981000"/>
            <a:ext cx="5400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2637000" y="1133640"/>
            <a:ext cx="5400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2789280" y="1285920"/>
            <a:ext cx="5400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Документы\Таня\Работа\Для оу\Маслица\i (1).jpg"/>
          <p:cNvPicPr/>
          <p:nvPr/>
        </p:nvPicPr>
        <p:blipFill>
          <a:blip r:embed="rId2"/>
          <a:stretch/>
        </p:blipFill>
        <p:spPr>
          <a:xfrm>
            <a:off x="1116000" y="1557360"/>
            <a:ext cx="69850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Цель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учиться печь идеальные вкусные 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учить историю возникновения бли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ассмотреть виды бли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знать технологию приготовления бли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пробировать рецепты вместе с мамой до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овести дегустацию в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6" descr=""/>
          <p:cNvPicPr/>
          <p:nvPr/>
        </p:nvPicPr>
        <p:blipFill>
          <a:blip r:embed="rId1"/>
          <a:stretch/>
        </p:blipFill>
        <p:spPr>
          <a:xfrm>
            <a:off x="390600" y="-212760"/>
            <a:ext cx="8472240" cy="28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Блины на кислом молоке"/>
          <p:cNvPicPr/>
          <p:nvPr/>
        </p:nvPicPr>
        <p:blipFill>
          <a:blip r:embed="rId2"/>
          <a:stretch/>
        </p:blipFill>
        <p:spPr>
          <a:xfrm>
            <a:off x="684360" y="270828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3722760" cy="248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Блины красные"/>
          <p:cNvPicPr/>
          <p:nvPr/>
        </p:nvPicPr>
        <p:blipFill>
          <a:blip r:embed="rId4"/>
          <a:srcRect l="0" t="8939" r="0" b="8816"/>
          <a:stretch/>
        </p:blipFill>
        <p:spPr>
          <a:xfrm>
            <a:off x="1042920" y="4724280"/>
            <a:ext cx="2298600" cy="151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Тесто для блинов в хлебопечке"/>
          <p:cNvPicPr/>
          <p:nvPr/>
        </p:nvPicPr>
        <p:blipFill>
          <a:blip r:embed="rId5"/>
          <a:stretch/>
        </p:blipFill>
        <p:spPr>
          <a:xfrm>
            <a:off x="5940360" y="4724280"/>
            <a:ext cx="28767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РАБОТА\Документы\Документы\Методические разработки\Новая папка\71352421_1298891242_goresearchsun1.jpg"/>
          <p:cNvPicPr/>
          <p:nvPr/>
        </p:nvPicPr>
        <p:blipFill>
          <a:blip r:embed="rId1"/>
          <a:stretch/>
        </p:blipFill>
        <p:spPr>
          <a:xfrm>
            <a:off x="4716360" y="2637000"/>
            <a:ext cx="3456000" cy="311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РАБОТА\Документы\Документы\Методические разработки\Новая папка\8904277-One-fried-pancake-against-the-white-background-Stock-Photo-pancake-pancakes.jpg"/>
          <p:cNvPicPr/>
          <p:nvPr/>
        </p:nvPicPr>
        <p:blipFill>
          <a:blip r:embed="rId2"/>
          <a:srcRect l="4434" t="3636" r="4049" b="0"/>
          <a:stretch/>
        </p:blipFill>
        <p:spPr>
          <a:xfrm>
            <a:off x="1116000" y="2637000"/>
            <a:ext cx="3240000" cy="3165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324000" y="692280"/>
            <a:ext cx="842472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ин очень по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ж на солнц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728200" cy="134604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26 из 17330"/>
          <p:cNvPicPr/>
          <p:nvPr/>
        </p:nvPicPr>
        <p:blipFill>
          <a:blip r:embed="rId2"/>
          <a:stretch/>
        </p:blipFill>
        <p:spPr>
          <a:xfrm>
            <a:off x="1116000" y="1413000"/>
            <a:ext cx="67690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ины в других стран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327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Американские панкейки (флен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041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8" descr=""/>
          <p:cNvPicPr/>
          <p:nvPr/>
        </p:nvPicPr>
        <p:blipFill>
          <a:blip r:embed="rId1"/>
          <a:stretch/>
        </p:blipFill>
        <p:spPr>
          <a:xfrm>
            <a:off x="-115920" y="109440"/>
            <a:ext cx="939960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2017-03-21_15.32.32.jpg"/>
          <p:cNvPicPr/>
          <p:nvPr/>
        </p:nvPicPr>
        <p:blipFill>
          <a:blip r:embed="rId2"/>
          <a:stretch/>
        </p:blipFill>
        <p:spPr>
          <a:xfrm>
            <a:off x="1763640" y="1125360"/>
            <a:ext cx="58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7" descr=""/>
          <p:cNvPicPr/>
          <p:nvPr/>
        </p:nvPicPr>
        <p:blipFill>
          <a:blip r:embed="rId1"/>
          <a:stretch/>
        </p:blipFill>
        <p:spPr>
          <a:xfrm>
            <a:off x="1719360" y="42840"/>
            <a:ext cx="5761080" cy="13352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2017-03-21_15.10.59.jpg"/>
          <p:cNvPicPr/>
          <p:nvPr/>
        </p:nvPicPr>
        <p:blipFill>
          <a:blip r:embed="rId2"/>
          <a:stretch/>
        </p:blipFill>
        <p:spPr>
          <a:xfrm>
            <a:off x="1863720" y="1371600"/>
            <a:ext cx="53722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03:46:35Z</dcterms:created>
  <dc:creator>PC User</dc:creator>
  <dc:description/>
  <dc:language>en-US</dc:language>
  <cp:lastModifiedBy>User</cp:lastModifiedBy>
  <dcterms:modified xsi:type="dcterms:W3CDTF">2017-04-12T01:26:05Z</dcterms:modified>
  <cp:revision>21</cp:revision>
  <dc:subject/>
  <dc:title>Праздник маслен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5000000000001024140</vt:lpwstr>
  </property>
</Properties>
</file>