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942-3AC8-47F1-A94C-C40D40D5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DDA-5509-4558-928F-AF2E347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82B-7C84-4EB7-B69A-31E7CD7E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651-46E6-4CC7-A45F-8F210ABB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C1E-8E1C-46CB-A2A0-56BA15D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C8C-B58B-4AEC-9CC3-681FA12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9D2-28E2-4B57-A9F6-9EADE203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1D9-4D2E-492E-8159-71065C9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257-65EB-48CD-937C-29BF29F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113-7D59-4990-AF25-04CA64E5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42F-6A49-4B39-981F-45F507E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ECB-C6D4-4272-8DA3-22292C4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10C-11AF-4A30-B60E-9E834A553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403280" y="836640"/>
            <a:ext cx="305748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Семейно – группово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«Я люблю свой город   Сургу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подготовительная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МБДОУ № 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«Микки – Мау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2016- 2017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E:\Documents and Settings\Света\Рабочий стол\Фотосургут 1\Основателям.jpg"/>
          <p:cNvPicPr/>
          <p:nvPr/>
        </p:nvPicPr>
        <p:blipFill>
          <a:blip r:embed="rId2"/>
          <a:stretch/>
        </p:blipFill>
        <p:spPr>
          <a:xfrm rot="21448800">
            <a:off x="4928760" y="999720"/>
            <a:ext cx="3000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000080" y="1000080"/>
            <a:ext cx="7215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Окт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й горо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родолжать знакомить детей с районом, где находится детский сад, его особенности и достопримеч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абота с картой города, выделение на карте одного района, где находится детский сад, дома воспитанников и их маршрутов до садика;  достопримечательности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ый выход на работу по благоустройству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000080" y="1000080"/>
            <a:ext cx="7215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Нояб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иродные и культурные объекты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ознакомить с памятниками города; с биографией знаменитост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Оформить листы к проекту с фотографиями памятников. Работа с картой города, выделение на карте одного района, где находится детский сад, дома воспитанников и их маршрутов до садика;  достопримечательности города. Совместный выход на работу по благоустройству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000080" y="1000080"/>
            <a:ext cx="7215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Декаб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офессии нашего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развивать интерес к профессиям своих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родолжать работу с картой города, при помощи моделей обозначить предприятия на которых работают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епортаж (фото) с работы родителей.  Выступление  детей  о важности профессии  сво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1000080" y="1000080"/>
            <a:ext cx="721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Янва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Архитектура нашего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акрепить представления детей об архитектуре современных зданий.  Познакомить с главным памятником архитектуры города. Воспитывать интерес и уважение к труду людей строитель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Групповая экскурсия с родителями к  памятнику, фоторепортаж с экс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000080" y="1000080"/>
            <a:ext cx="7215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Февра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Воинская слава России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акрепить представления детей об особенностях службы солдат в мирное время.  Воспитывать уважение к войнам, защищавшим нашу страну, гордость за исторические подвиги соотече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раздничный концерт для защитников Отечества, подготовить  газету с именными поздрав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000080" y="1000080"/>
            <a:ext cx="721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Мар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Сургут - спортивн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 закрепить знания детей о спорте. Познакомить с историей проведения сорев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портивный досуг  «Папа, мама, я – спортивная семья»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000080" y="1000080"/>
            <a:ext cx="7215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Апрел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ирода родн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родолжать знакомить  с природой нашего края: его обитателями, растительностью. Продолжать знакомить с местом отдыха – парковой зоной, с особенностью ландшафта. Расширить  представления о водных просторах города, о водном транспорте, научить сравнивать реки, озёра, мор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Экскурсия по лесопарковым и водным зонам  города, фоторепорт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928800" y="642960"/>
            <a:ext cx="7215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Ма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й город дороже которого н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раскрыть  общественную значимость труда взрослых. Воспитывать уважение к людям любой профессии; продолжать знакомить с достопримечательностями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ые прогулки с родителями по городу, рассказы о достопримечательностях, о людях разных профессиях, которые живут и работают в нашем городе.   КВН – на тему: « Город Сургу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Изготовление альбома совместно с родителями «Мой город – моя судьб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500040" y="500040"/>
            <a:ext cx="828684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1500120" y="1285920"/>
            <a:ext cx="4429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ОЖИДАЕМ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РЕЗУЛЬТА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Comic Sans MS"/>
              <a:ea typeface="Comic Sans MS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1428840" y="221472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Реализация проекта позволит повысить детскую, родительскую и педагогическую компетентность в вопросах истории, культуры города Сургута. Поможет сформировать чувство толерантности по отношению друг другу, заботливое отношение к  го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1428840" y="50720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Итог проекта: Фотоальбом. Альбом с рисунками детей</a:t>
            </a:r>
            <a:r>
              <a:rPr b="0" lang="ru-RU" sz="2400" spc="-1" strike="noStrike">
                <a:solidFill>
                  <a:srgbClr val="984807"/>
                </a:solidFill>
                <a:latin typeface="Monotype Corsiv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7"/>
          <p:cNvGrpSpPr/>
          <p:nvPr/>
        </p:nvGrpSpPr>
        <p:grpSpPr>
          <a:xfrm>
            <a:off x="1279440" y="920880"/>
            <a:ext cx="6608880" cy="731880"/>
            <a:chOff x="1279440" y="920880"/>
            <a:chExt cx="6608880" cy="731880"/>
          </a:xfrm>
        </p:grpSpPr>
        <p:pic>
          <p:nvPicPr>
            <p:cNvPr id="161" name="Rectangle 7" descr=""/>
            <p:cNvPicPr/>
            <p:nvPr/>
          </p:nvPicPr>
          <p:blipFill>
            <a:blip r:embed="rId3"/>
            <a:stretch/>
          </p:blipFill>
          <p:spPr>
            <a:xfrm>
              <a:off x="1279440" y="920880"/>
              <a:ext cx="6608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85920" y="928800"/>
              <a:ext cx="6597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e46c0a"/>
                  </a:solidFill>
                  <a:latin typeface="Arial Narrow"/>
                </a:rPr>
                <a:t>Спасибо за внимание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оугольник 8"/>
          <p:cNvSpPr/>
          <p:nvPr/>
        </p:nvSpPr>
        <p:spPr>
          <a:xfrm>
            <a:off x="3571920" y="5103720"/>
            <a:ext cx="471492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Материал подготов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Чайко Г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Редикульцева С.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Arial"/>
              </a:rPr>
              <a:t>                     </a:t>
            </a:r>
            <a:r>
              <a:rPr b="1" i="1" lang="ru-RU" sz="1800" spc="-1" strike="noStrike">
                <a:solidFill>
                  <a:srgbClr val="984807"/>
                </a:solidFill>
                <a:latin typeface="Arial"/>
              </a:rPr>
              <a:t>Сургут – 2016 – 2017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E:\Documents and Settings\Света\Рабочий стол\Фотосургут 1\Основателям.jpg"/>
          <p:cNvPicPr/>
          <p:nvPr/>
        </p:nvPicPr>
        <p:blipFill>
          <a:blip r:embed="rId4"/>
          <a:stretch/>
        </p:blipFill>
        <p:spPr>
          <a:xfrm>
            <a:off x="1714680" y="1928880"/>
            <a:ext cx="2292120" cy="340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E:\Documents and Settings\Света\Рабочий стол\фото сургут\11.jpg"/>
          <p:cNvPicPr/>
          <p:nvPr/>
        </p:nvPicPr>
        <p:blipFill>
          <a:blip r:embed="rId5"/>
          <a:stretch/>
        </p:blipFill>
        <p:spPr>
          <a:xfrm>
            <a:off x="4214880" y="1928880"/>
            <a:ext cx="2000160" cy="311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Documents and Settings\Света\Рабочий стол\фото сургут\Пушкину.jpg"/>
          <p:cNvPicPr/>
          <p:nvPr/>
        </p:nvPicPr>
        <p:blipFill>
          <a:blip r:embed="rId6"/>
          <a:stretch/>
        </p:blipFill>
        <p:spPr>
          <a:xfrm>
            <a:off x="6357960" y="1928880"/>
            <a:ext cx="18572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1357200" y="1071720"/>
            <a:ext cx="6500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Тип проекта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долгосро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Вид проекта</a:t>
            </a:r>
            <a:r>
              <a:rPr b="0" lang="ru-RU" sz="3600" spc="-1" strike="noStrike">
                <a:solidFill>
                  <a:srgbClr val="984807"/>
                </a:solidFill>
                <a:latin typeface="Monotype Corsiva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познавательно –   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исследователь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Длительность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9 меся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Участники проекта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дети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старшего дошкольного возраста , родители, 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:\Documents and Settings\Света\Рабочий стол\фото сургут\99165b2f8f341371Big.JPG"/>
          <p:cNvPicPr/>
          <p:nvPr/>
        </p:nvPicPr>
        <p:blipFill>
          <a:blip r:embed="rId3"/>
          <a:stretch/>
        </p:blipFill>
        <p:spPr>
          <a:xfrm>
            <a:off x="7000920" y="2714760"/>
            <a:ext cx="11430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357200" y="1214280"/>
            <a:ext cx="671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Проблема:  </a:t>
            </a: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Большое значение для познавательного, социально – личностного нравственного развития детей дошкольного возраста имеет знакомство с родным городом, его достопримечательностями, со своей семьёй, улицей на которой проживает ребёнок,  с известными людьми, которые строили наш город. Мы хотим, чтоб ребятам, город в котором они живут, стал люби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1"/>
          <p:cNvPicPr/>
          <p:nvPr/>
        </p:nvPicPr>
        <p:blipFill>
          <a:blip r:embed="rId3"/>
          <a:stretch/>
        </p:blipFill>
        <p:spPr>
          <a:xfrm>
            <a:off x="7143840" y="4429080"/>
            <a:ext cx="110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28760"/>
            <a:ext cx="8286480" cy="6019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357200" y="1214280"/>
            <a:ext cx="657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Причина: </a:t>
            </a: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НЕ все родители  имеют достаточно знаний о городе Сургуте, и не уделяют внимание данной проблеме, считая её неважной, поэтому дети не владеют достаточной  информацией о городе. Не имея достаточного количества знаний, трудно сформировать уважительное отношение к малой Родине</a:t>
            </a:r>
            <a:r>
              <a:rPr b="1" lang="ru-RU" sz="2400" spc="-1" strike="noStrike">
                <a:solidFill>
                  <a:srgbClr val="4f6228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:\Documents and Settings\Света\Рабочий стол\фото сургут\Лиса.jpg"/>
          <p:cNvPicPr/>
          <p:nvPr/>
        </p:nvPicPr>
        <p:blipFill>
          <a:blip r:embed="rId3"/>
          <a:stretch/>
        </p:blipFill>
        <p:spPr>
          <a:xfrm>
            <a:off x="5572080" y="4286160"/>
            <a:ext cx="2349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воспитанию в духе патриотизма, приобщение дошкольников к истории и культуре родного города, известным достопри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285920" y="1428840"/>
            <a:ext cx="6786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Monotype Corsiva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Monotype Corsiva"/>
              </a:rPr>
              <a:t>Осуществление комплексного подхода к воспитанию в духе патриотизма, приобщение дошкольников к истории и культуре родного города, местным достопримечательностям, воспитание  любви и привязанности к родному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image1"/>
          <p:cNvPicPr/>
          <p:nvPr/>
        </p:nvPicPr>
        <p:blipFill>
          <a:blip r:embed="rId3"/>
          <a:stretch/>
        </p:blipFill>
        <p:spPr>
          <a:xfrm>
            <a:off x="4214880" y="4429080"/>
            <a:ext cx="33573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285920" y="1071720"/>
            <a:ext cx="6715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чи: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1. Воспитать у ребёнка любовь и привязанность к своей семье, дому, детскому саду,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2. Осуществлять ознакомление с историческим, культурным, географическим, природно- экологическим своеобразием родного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3. Развивать интерес к русским народным традициям и промыс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4.Развивать  бережное отношение к городу, его достопримечательностям, культурным ценностям,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image2"/>
          <p:cNvPicPr/>
          <p:nvPr/>
        </p:nvPicPr>
        <p:blipFill>
          <a:blip r:embed="rId3"/>
          <a:stretch/>
        </p:blipFill>
        <p:spPr>
          <a:xfrm>
            <a:off x="6572160" y="4929120"/>
            <a:ext cx="150012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43040" y="1214280"/>
            <a:ext cx="63579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Как реш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1. Составить перспективн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2. Обсудить проблему с детьми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3. Определить задачи, исходя из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поставленной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4. Провести:  беседы, наблюдения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НОД, экскурсии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выставки рисунков «Мой родной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город Сургу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ассмотреть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" descr=""/>
          <p:cNvPicPr/>
          <p:nvPr/>
        </p:nvPicPr>
        <p:blipFill>
          <a:blip r:embed="rId3"/>
          <a:stretch/>
        </p:blipFill>
        <p:spPr>
          <a:xfrm>
            <a:off x="1571760" y="2143080"/>
            <a:ext cx="1714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571760" y="1285920"/>
            <a:ext cx="650052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Используемые методы и приё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Наблюдение: экскурсии, иллюстрации, 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Словесные: познавательные беседы, чтение художественной литературы, разучивание стихотворений, экскурсии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Игровые: игры,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Диагностический инструмента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исунк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торепор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000080" y="1000080"/>
            <a:ext cx="7215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Сент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я сем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накомить детей с понятием «Родословная». Учить принципам составления восходящей родословной – «от  себя» . Воспитывать интерес к своим кор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о с родителями составление восходящей                                  родословной. Презентация  на групповом собр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Игры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Составление и разгадывание ребуса «7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    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абота над понятием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0:13:54Z</dcterms:created>
  <dc:creator>Admin</dc:creator>
  <dc:description/>
  <dc:language>en-US</dc:language>
  <cp:lastModifiedBy>Я</cp:lastModifiedBy>
  <dcterms:modified xsi:type="dcterms:W3CDTF">2017-09-03T05:59:04Z</dcterms:modified>
  <cp:revision>35</cp:revision>
  <dc:subject/>
  <dc:title>Слайд 1</dc:title>
</cp:coreProperties>
</file>