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456-4E78-44AF-B22F-042344B2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81E-AA7C-41F0-8E39-6C6EE8F1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E24-DD12-4A48-9B36-3B6BC218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8B2-A8D1-4CA0-BA9F-A7E32773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6D42-D923-4110-86D2-BD91C76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0A84-B3CA-4936-B9BC-96BAD4B3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29B2-DBDC-4584-B308-B563AF11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3422-8C7F-4513-BB8A-F7645364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F545-073F-4447-BC66-8C693807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5DA2-E419-423F-A220-5454D47A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D3FB-8AD9-4B50-8CA5-8C7F85E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720-A224-4BA6-B12E-942BD825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5E8D-4D45-452D-AC57-DF9028FF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5B2F-2DD7-40DE-9D1F-44492FB6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CDDD-B852-4428-8113-C66F347F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6CEE-8288-41DF-BBFF-30B796E3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9D2C-5C89-4E8C-85A3-66718826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6C3C-77AF-4957-A5AB-74AAE158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2F71-EADD-4069-BD95-805EDFDA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A6A1-48F4-4667-94AD-E89B1326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47D7-E2A0-45E6-8F6C-97C39D52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BE30-A579-49CF-94DD-5890E215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EA8-07C2-493C-A662-951B7315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5A3E-4FAE-4037-A16A-32C35C7F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4831-235E-4DFD-805F-A2BDAF76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9AC1-10F9-4257-8C4F-19A671CD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2B3A-291C-4D6C-AFC4-7C411A3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2DD57-B4D7-4BE6-B872-E7DEB06A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B30C-2A9D-45E2-9883-576111FA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8B3B-9BB9-4055-A0A3-E6564C6C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30C10-BFAD-4E97-8367-79331524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3C19-302D-4545-94B4-0E14D648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49A7-8A19-476C-AFD4-DCE6C5CE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193-44C3-4DC5-9A1B-F20BBC77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9228-A4C5-49A3-95EA-AD9B9EAE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68E0-E4AB-4405-A010-7F7D36A2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8634-D27A-43D0-96C1-A779CEBF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0A8D5-F7C3-46B5-934C-7013DF5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D7F0A-8653-4B53-A6E6-64430F9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95CD-15B4-472F-B732-5E68073D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5A61-2CC7-47C1-8AB8-046D21F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70F24-2AE2-4CDE-83D5-0C37C0AE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226B-A722-4E4C-9002-68DA739B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4AA1F-44C8-43CF-AFD3-400F416A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F2F-1EBE-44B0-A2FD-AA8AEB6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2440A-1B20-408F-82D4-D782195E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709C5-F31C-4D71-B8EA-2476D371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44DD8-F25C-4FE6-99CC-220D945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5310A-B798-4642-98F3-2B705C52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AEEE2-9890-403A-8A0D-C72F8651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A110-8842-4B36-AD29-77A0C4D2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4336-1ADA-4D97-963A-EFAE801D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C9477-EDC9-44E4-8A60-E24FB379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E5E3-D449-4AF2-AE8C-35A6C283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9DC19-688C-4F24-BBFD-51D10E91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4E2-995E-4413-937A-CF6B3F5B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0FB7-8F3E-4E50-8FB3-37CBD18D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D6895-5AF9-4F88-98E7-313DCAA5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E6F1B-6C84-4C81-B35F-EAD8EC9F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58871-58C4-4CB1-B8B1-D08C6FDD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EF08F-EB15-4DEC-B6BA-D4F55FF0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4E213-8023-4529-A73B-FBC7E55B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B614-D099-4CC7-A1D1-0085219C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FE1EB-83AB-487D-BC50-6A974F6B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F01FF-845D-4728-912B-1A7D3EA0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970FF-08C3-4839-9CD6-18F8303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9D9-C5CE-4564-BFFC-AEC4F0C9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C8201-D8A9-4237-BFC4-56288CA4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D28A-097A-48F8-8CEF-C380BEEB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18B77-7FDE-4BED-81EA-4DBEB62E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F7150-9D6D-4551-B7C6-FE0885DB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BC3F3-853A-4A17-AF3B-770A11B6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0EEBB-D97F-4D39-92E5-CCCD5487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A8316-1BF1-45BA-B966-30CACFC0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E1569-A0A6-4BAF-BDBC-D265344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93AE9-729B-4777-8F32-3737EEA2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0D9F7-343E-4DD4-9221-AF3DB0F1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E2A-6EBB-4557-B1C7-73598A6D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80145-9BC6-4F32-BDE4-D78B6B00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06FFD-2DEC-402D-B116-7ACBC1A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C4A81-230B-4227-A51E-80A057AA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9BE51-0311-4E6C-A447-65AE3C7F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7D8A-5E44-43B7-B232-BC6D1E76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566-35B4-4FFF-8F70-02C5838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606BD-E48A-493F-ABE9-17F72076A9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6B32B-0B33-47F8-B382-ED4825568A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FEE0B-7518-44B6-98EC-01B9E436BE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DE4B0-5883-4E0F-9206-1BFC747C118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CC682-5C78-4404-8AB0-CA035CAAB177}" type="slidenum">
              <a:rPr b="0" lang="ru-RU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1F7FC-8BDE-48E2-8CA1-D739E6D5DE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8D117-3267-4E9E-8E4D-C517D75070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280" y="1272960"/>
            <a:ext cx="8064720" cy="27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alibri Light"/>
              </a:rPr>
              <a:t>Семейные правоотношения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5" name="Рисунок 3" descr=""/>
          <p:cNvPicPr/>
          <p:nvPr/>
        </p:nvPicPr>
        <p:blipFill>
          <a:blip r:embed="rId1"/>
          <a:stretch/>
        </p:blipFill>
        <p:spPr>
          <a:xfrm>
            <a:off x="179280" y="3747960"/>
            <a:ext cx="3816360" cy="25448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55f51"/>
              </a:solidFill>
              <a:latin typeface="Calibri Light"/>
            </a:endParaRPr>
          </a:p>
        </p:txBody>
      </p:sp>
      <p:pic>
        <p:nvPicPr>
          <p:cNvPr id="307" name="Рисунок 4" descr=""/>
          <p:cNvPicPr/>
          <p:nvPr/>
        </p:nvPicPr>
        <p:blipFill>
          <a:blip r:embed="rId2"/>
          <a:stretch/>
        </p:blipFill>
        <p:spPr>
          <a:xfrm>
            <a:off x="6008760" y="18900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 Light"/>
              </a:rPr>
              <a:t>Личные и имущественные права и обязанности супругов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23640" y="1846440"/>
            <a:ext cx="8569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ичные права и обязанности супругов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свобода каждого из супругов в выборе рода занятий, профессии, мест пребывания и жительства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равенство супругов в вопросах материнства и отцовства, воспитания и образования детей, других вопросов жизни семьи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право каждого из супругов по своему желанию выбирать при заключении брака фамилию одного из них в качестве общей фамилии, или сохранить свою добрачную фамилию, либо присоединить к своей фамилии фамилию другого супруг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Имущественные права и обязанности супругов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413000"/>
            <a:ext cx="90360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404040"/>
                </a:solidFill>
                <a:latin typeface="Calibri"/>
              </a:rPr>
              <a:t>на совместную собственность, которая включает в себя: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libri"/>
              </a:rPr>
              <a:t>1) имущество, нажитое супругами во время брака;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libri"/>
              </a:rPr>
              <a:t>2) имущество, нажитое каждым из супругов до вступления в брак.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404040"/>
                </a:solidFill>
                <a:latin typeface="Calibri"/>
              </a:rPr>
              <a:t>на личную собственность, которая включает в себя: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libri"/>
              </a:rPr>
              <a:t>1) имущество, нажитое каждым из супругов до вступления в брак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libri"/>
              </a:rPr>
              <a:t>2) имущество, полученное одним из супругов в порядке наследования;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libri"/>
              </a:rPr>
              <a:t>3) имущество, полученное одним из супругов по безвозмездным сделкам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libri"/>
              </a:rPr>
              <a:t>4) вещи индивидуального пользования ,за исключением драгоценностей и других предметов роскоши;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libri"/>
              </a:rPr>
              <a:t>5) награды, денежные призы, ценные подарки, полученные одним из супругов за спортивные достижения, за заслуги в научной деятельности, за деятельность в области искусства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воотношения родителей и детей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5280" y="1846440"/>
            <a:ext cx="83534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55f5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Schoolbook"/>
              </a:rPr>
              <a:t>Родители имеют право и обязаны воспитывать детей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55f5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Schoolbook"/>
              </a:rPr>
              <a:t>Право и обязанность обеспечить получение основного общего образования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55f5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Schoolbook"/>
              </a:rPr>
              <a:t>Право и обязанность защищать и содержать своих детей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55f5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Schoolbook"/>
              </a:rPr>
              <a:t>Право ребёнка воспитываться в семье и получать от родителей заботу и надлежащее воспитание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55f5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Schoolbook"/>
              </a:rPr>
              <a:t>Право выражать своё мнение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55f5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Schoolbook"/>
              </a:rPr>
              <a:t>Право на общение со всеми родственниками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55f5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Schoolbook"/>
              </a:rPr>
              <a:t>Право на содержание от своих родителей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одведение итогов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0560" y="1846440"/>
            <a:ext cx="8497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чение семьи в жизни человека?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вляются ли понятия «семья» и «брак» синонимами?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одумайте</a:t>
            </a: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	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9640" y="1846440"/>
            <a:ext cx="8136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емью называют малой группой, ячейкой общества?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ли семья существовать без брака, а брак - без семьи?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мья – это </a:t>
            </a:r>
            <a:br>
              <a:rPr sz="43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р. 141)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8360" y="1846440"/>
            <a:ext cx="7897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уг лиц, связанных личными неимущественными и имущественными правами и обязанностями, вытекающими из брака, родства, усыновления или иной формы принятия детей на воспитани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редпосылки создания семьи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онный брак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рак это –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юридически оформленный, свободный, добровольный союз мужчины и женщины, направленный на создание семьи и порождающий для них взаимные права и обяза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арактеристики брака: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1844280"/>
            <a:ext cx="81374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1. Брак -это союз мужчины и женщины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2. Цель брака - создание семьи. ( Что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такое фиктивный брак?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3. Брак - это союз, зарегистрированный в органах ЗАГСа. ( гражданский и церковный брак 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4. Брак это такой союз, который порождает между супругами юридические права и обязанност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Условия заключения брака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9280" y="1846440"/>
            <a:ext cx="8209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заимное добровольное согласие мужчины и женщины на вступление в брачные отношения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Достижение брачного возраста вступающих в брак — восемнадцать лет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Отсутствие обстоятельств, препятствующих заключению брака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041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Обстоятельства, препятствующие</a:t>
            </a:r>
            <a:br>
              <a:rPr sz="3600"/>
            </a:b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заключению брака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уждение к вступлению в брак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овершеннолетие вступающих в брак (т. е. до восемнадцати лет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ение брака между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Calibri"/>
              </a:rPr>
              <a:t>лицами, из которых хотя бы одно лицо уже состоит в другом зарегистрированном браке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Calibri"/>
              </a:rPr>
              <a:t>Близкими родственниками, усыновителями и усыновленными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Calibri"/>
              </a:rPr>
              <a:t>лицами, из которых хотя бы одно лицо признано судом недееспособным вследствие психического расстройств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орядок регистрации брак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Стр. 143 – 145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Семейные правоотношени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24000" y="1846440"/>
            <a:ext cx="8496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1. участники (субъекты) - близкие люди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2. основанием возникновения семейных правоотношений являются специфические юридические факты: брак, родство, материнство и т.д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7:59:41Z</dcterms:created>
  <dc:creator>Texnosila</dc:creator>
  <dc:description/>
  <dc:language>en-US</dc:language>
  <cp:lastModifiedBy>Admin</cp:lastModifiedBy>
  <dcterms:modified xsi:type="dcterms:W3CDTF">2017-09-03T09:57:44Z</dcterms:modified>
  <cp:revision>18</cp:revision>
  <dc:subject/>
  <dc:title>Оформление слайдов</dc:title>
</cp:coreProperties>
</file>