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7F89-D6C1-41E7-9798-890CE9DE0A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772D-F0C3-412A-88B7-11C8105771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7CC-BB99-480E-A3B5-AAD05EE1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B5E-8E36-44DE-B988-E88979FC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1F7-0AE8-409A-9457-75724141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2A7-206C-49EB-ADDE-871A8116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B39-D16A-4F01-80C1-35E4D50C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6EA-4139-41D3-BE43-D7DCC126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515-43C5-49B2-B3E3-AD585553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900-25E2-4B0E-BE80-59D733C3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1EF-5B99-4727-ACCB-E1F917AD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7D4-2C1E-4CCC-9773-4B286463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CA0-F00B-4868-BFFB-CA81ED2A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70B-DB48-4589-B191-850E3D7C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47B0-9789-45BA-94C9-05E0FD7018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европейского портфеля как средство оценки языковых компетенций школьник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2888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ромова Ирина Витальев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итель немецкого я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80866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ому языку нельзя научи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можно только научиться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ебный  портфель»-инструмент самооценки собственного познавательного, творческого труда ученика , рефлексии его собственной деятельности . Это комплект документов , самостоятельных работ учащих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 Европейского языкового портфе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ЕЯП демонстрирует способности владельца этого портфеля по иностранным язы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ЕЯП разработан для того , чтобы сделать процесс обучения прозрачным для учащихся. Он помогает учащимся  развивать свои мыслительные способности и самооценку . В этом случае учащиеся постепенно всё больше ощущают свою ответственность за учебу. Эта функция соответствует задаче Совета Европы : способствовать развитию автономности учащегося в изучении язы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языкового портфе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Языковой паспорт(Языки , которые я знаю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Языковая биография(Мои успех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Языковое досье(Моя копил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ефлек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овой паспо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 личные дан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б изучаемых языках в шко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ы и опыт межкультурного общения(поездки заграницу , школьный обме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конкурсах, олимпиадах , сданные экзамены , языковые сертифик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уровня владения ИЯ в настоящее вр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и «Учись учитьс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овая биограф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е листы самооценки основных коммуникативных уме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-выживание, А2-допорого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говый, В2-пороговый продвинут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1-высокий, С2-владение языком в совершенст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овое дос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ор(наиболее удачные работы , материалы об участии в проектах , сочинения, диплом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е материалы(письменные работы, таблицы, схемы , отражающие работу учащегося в рамках той или иной тем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8:20:42Z</dcterms:created>
  <dc:creator>Admin</dc:creator>
  <dc:description/>
  <dc:language>en-US</dc:language>
  <cp:lastModifiedBy>Admin</cp:lastModifiedBy>
  <dcterms:modified xsi:type="dcterms:W3CDTF">2013-03-28T08:42:04Z</dcterms:modified>
  <cp:revision>15</cp:revision>
  <dc:subject/>
  <dc:title>Технология европейского портфеля как средство оценки языковых компетенций школьников </dc:title>
</cp:coreProperties>
</file>