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gif" ContentType="image/gif"/>
  <Override PartName="/ppt/media/image8.jpeg" ContentType="image/jpeg"/>
  <Override PartName="/ppt/media/image11.png" ContentType="image/png"/>
  <Override PartName="/ppt/media/image7.jpeg" ContentType="image/jpeg"/>
  <Override PartName="/ppt/media/image19.gif" ContentType="image/gif"/>
  <Override PartName="/ppt/media/image1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5.gif" ContentType="image/gif"/>
  <Override PartName="/ppt/media/image4.jpeg" ContentType="image/jpeg"/>
  <Override PartName="/ppt/media/image13.gif" ContentType="image/gif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FC4-EEEB-4004-9F66-62AFF8AA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81B-87AC-4CDA-9E27-B8E521CF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0FF-16FF-4357-8D29-0787E27D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30B-954E-4C37-8283-0B02B963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0D6-4202-400E-A2D4-12625DB4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734-3E23-45BE-8873-CE09BB89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D01-8CFE-4002-8046-80B5759B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EA4-B0E6-44FB-A52F-FCECC549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90F-1ABF-4795-9EF6-E1398C84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3A5-5D3D-4B71-B424-41EBD4C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40C-546B-42D6-876C-F636139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604-0585-426D-B161-9C55104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EAC8-EF8A-4782-92F7-48608AE537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9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0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1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image" Target="../media/image7.jpeg"/><Relationship Id="rId6" Type="http://schemas.openxmlformats.org/officeDocument/2006/relationships/slide" Target="slide4.xm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slide" Target="slide3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" Target="slide41.xm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" Target="slide41.xm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2771640" y="5229360"/>
            <a:ext cx="1114560" cy="753840"/>
          </a:xfrm>
          <a:custGeom>
            <a:avLst/>
            <a:gdLst>
              <a:gd name="textAreaLeft" fmla="*/ 48600 w 1114560"/>
              <a:gd name="textAreaRight" fmla="*/ 1065960 w 111456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31931" h="21600">
                <a:moveTo>
                  <a:pt x="0" y="0"/>
                </a:moveTo>
                <a:lnTo>
                  <a:pt x="31931" y="0"/>
                </a:lnTo>
                <a:lnTo>
                  <a:pt x="31931" y="21600"/>
                </a:lnTo>
                <a:lnTo>
                  <a:pt x="0" y="21600"/>
                </a:lnTo>
                <a:close/>
              </a:path>
              <a:path fill="lightenLess" w="31931" h="21600">
                <a:moveTo>
                  <a:pt x="0" y="0"/>
                </a:moveTo>
                <a:lnTo>
                  <a:pt x="31931" y="0"/>
                </a:lnTo>
                <a:lnTo>
                  <a:pt x="30531" y="1400"/>
                </a:lnTo>
                <a:lnTo>
                  <a:pt x="1400" y="1400"/>
                </a:lnTo>
                <a:close/>
              </a:path>
              <a:path fill="darken" w="31931" h="21600">
                <a:moveTo>
                  <a:pt x="31931" y="0"/>
                </a:moveTo>
                <a:lnTo>
                  <a:pt x="31931" y="21600"/>
                </a:lnTo>
                <a:lnTo>
                  <a:pt x="30531" y="20200"/>
                </a:lnTo>
                <a:lnTo>
                  <a:pt x="30531" y="1400"/>
                </a:lnTo>
                <a:close/>
              </a:path>
              <a:path fill="darkenLess" w="31931" h="21600">
                <a:moveTo>
                  <a:pt x="31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31" y="20200"/>
                </a:lnTo>
                <a:close/>
              </a:path>
              <a:path fill="lighten" w="31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  <a:ea typeface="Arial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5292720" y="5300640"/>
            <a:ext cx="1008000" cy="6494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3519" h="21600">
                <a:moveTo>
                  <a:pt x="0" y="0"/>
                </a:moveTo>
                <a:lnTo>
                  <a:pt x="33519" y="0"/>
                </a:lnTo>
                <a:lnTo>
                  <a:pt x="33519" y="21600"/>
                </a:lnTo>
                <a:lnTo>
                  <a:pt x="0" y="21600"/>
                </a:lnTo>
                <a:close/>
              </a:path>
              <a:path fill="lightenLess" w="33519" h="21600">
                <a:moveTo>
                  <a:pt x="0" y="0"/>
                </a:moveTo>
                <a:lnTo>
                  <a:pt x="33519" y="0"/>
                </a:lnTo>
                <a:lnTo>
                  <a:pt x="32119" y="1400"/>
                </a:lnTo>
                <a:lnTo>
                  <a:pt x="1400" y="1400"/>
                </a:lnTo>
                <a:close/>
              </a:path>
              <a:path fill="darken" w="33519" h="21600">
                <a:moveTo>
                  <a:pt x="33519" y="0"/>
                </a:moveTo>
                <a:lnTo>
                  <a:pt x="33519" y="21600"/>
                </a:lnTo>
                <a:lnTo>
                  <a:pt x="32119" y="20200"/>
                </a:lnTo>
                <a:lnTo>
                  <a:pt x="32119" y="1400"/>
                </a:lnTo>
                <a:close/>
              </a:path>
              <a:path fill="darkenLess" w="33519" h="21600">
                <a:moveTo>
                  <a:pt x="33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9" y="20200"/>
                </a:lnTo>
                <a:close/>
              </a:path>
              <a:path fill="lighten" w="33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1268280"/>
            <a:ext cx="68421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оначальные понятия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ческой химии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2629080" y="5302080"/>
            <a:ext cx="15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628720" y="479736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2627640" y="4294080"/>
            <a:ext cx="35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 и то ж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907920"/>
            <a:ext cx="8697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Что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340000" y="1413000"/>
            <a:ext cx="4032000" cy="2251080"/>
            <a:chOff x="2340000" y="1413000"/>
            <a:chExt cx="4032000" cy="2251080"/>
          </a:xfrm>
        </p:grpSpPr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484360" y="1413000"/>
              <a:ext cx="38354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340000" y="1413000"/>
              <a:ext cx="40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4360" y="1918080"/>
              <a:ext cx="3816360" cy="1726920"/>
            </a:xfrm>
            <a:prstGeom prst="rect">
              <a:avLst/>
            </a:prstGeom>
            <a:solidFill>
              <a:srgbClr val="ccffff">
                <a:alpha val="4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419640" y="333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Вопрос 4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7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4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2989440" y="4076640"/>
            <a:ext cx="15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2989080" y="465300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3059640" y="5229360"/>
            <a:ext cx="35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 и то ж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20640"/>
            <a:ext cx="8697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Monotype Corsiva"/>
                <a:ea typeface="Arial"/>
              </a:rPr>
              <a:t>Вопрос 4</a:t>
            </a:r>
            <a:r>
              <a:rPr b="0" i="1" lang="en-US" sz="28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Что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40000" y="1413000"/>
            <a:ext cx="4032000" cy="2251080"/>
            <a:chOff x="2340000" y="1413000"/>
            <a:chExt cx="4032000" cy="2251080"/>
          </a:xfrm>
        </p:grpSpPr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2484360" y="1413000"/>
              <a:ext cx="38354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340000" y="1413000"/>
              <a:ext cx="40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84360" y="1918080"/>
              <a:ext cx="3816360" cy="1726920"/>
            </a:xfrm>
            <a:prstGeom prst="rect">
              <a:avLst/>
            </a:prstGeom>
            <a:solidFill>
              <a:srgbClr val="ccffff">
                <a:alpha val="4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6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8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5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484360" y="4005360"/>
            <a:ext cx="42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мологи и изо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2484360" y="5157720"/>
            <a:ext cx="42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меры и гомо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2483640" y="4581360"/>
            <a:ext cx="43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мологи и гомо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2484720" y="5734080"/>
            <a:ext cx="42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меры и изо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60720" y="2249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12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12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1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012000" y="1484280"/>
            <a:ext cx="1368360" cy="2089080"/>
            <a:chOff x="6012000" y="1484280"/>
            <a:chExt cx="1368360" cy="2089080"/>
          </a:xfrm>
        </p:grpSpPr>
        <p:grpSp>
          <p:nvGrpSpPr>
            <p:cNvPr id="131" name=""/>
            <p:cNvGrpSpPr/>
            <p:nvPr/>
          </p:nvGrpSpPr>
          <p:grpSpPr>
            <a:xfrm>
              <a:off x="6012000" y="1484280"/>
              <a:ext cx="1368360" cy="2089080"/>
              <a:chOff x="6012000" y="1484280"/>
              <a:chExt cx="1368360" cy="20890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01200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200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" name=""/>
            <p:cNvSpPr/>
            <p:nvPr/>
          </p:nvSpPr>
          <p:spPr>
            <a:xfrm>
              <a:off x="601200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18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90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58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2992320" y="407664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2992320" y="530064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2992320" y="465300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2991960" y="5877000"/>
            <a:ext cx="36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Вопрос 5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9440" y="2276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14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14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67280" y="1484280"/>
            <a:ext cx="1368360" cy="2089080"/>
            <a:chOff x="5867280" y="1484280"/>
            <a:chExt cx="1368360" cy="2089080"/>
          </a:xfrm>
        </p:grpSpPr>
        <p:grpSp>
          <p:nvGrpSpPr>
            <p:cNvPr id="151" name=""/>
            <p:cNvGrpSpPr/>
            <p:nvPr/>
          </p:nvGrpSpPr>
          <p:grpSpPr>
            <a:xfrm>
              <a:off x="5867280" y="1484280"/>
              <a:ext cx="1368360" cy="2089080"/>
              <a:chOff x="5867280" y="1484280"/>
              <a:chExt cx="1368360" cy="2089080"/>
            </a:xfrm>
          </p:grpSpPr>
          <p:pic>
            <p:nvPicPr>
              <p:cNvPr id="1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6728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6728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586728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18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90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58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920680" y="400536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2920680" y="458136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2921040" y="522936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2920320" y="5734080"/>
            <a:ext cx="36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Вопрос 5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3440" y="2276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16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16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724360" y="1484280"/>
            <a:ext cx="1368360" cy="2089080"/>
            <a:chOff x="5724360" y="1484280"/>
            <a:chExt cx="1368360" cy="2089080"/>
          </a:xfrm>
        </p:grpSpPr>
        <p:grpSp>
          <p:nvGrpSpPr>
            <p:cNvPr id="171" name=""/>
            <p:cNvGrpSpPr/>
            <p:nvPr/>
          </p:nvGrpSpPr>
          <p:grpSpPr>
            <a:xfrm>
              <a:off x="5724360" y="1484280"/>
              <a:ext cx="1368360" cy="2089080"/>
              <a:chOff x="5724360" y="1484280"/>
              <a:chExt cx="1368360" cy="2089080"/>
            </a:xfrm>
          </p:grpSpPr>
          <p:pic>
            <p:nvPicPr>
              <p:cNvPr id="17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2436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436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"/>
            <p:cNvSpPr/>
            <p:nvPr/>
          </p:nvSpPr>
          <p:spPr>
            <a:xfrm>
              <a:off x="572436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18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86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58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3063600" y="393372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3063600" y="450864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>
            <a:off x="3063960" y="573408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3063240" y="5157720"/>
            <a:ext cx="36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Вопрос 5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60720" y="2249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18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18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18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012000" y="1484280"/>
            <a:ext cx="1368360" cy="2089080"/>
            <a:chOff x="6012000" y="1484280"/>
            <a:chExt cx="1368360" cy="2089080"/>
          </a:xfrm>
        </p:grpSpPr>
        <p:grpSp>
          <p:nvGrpSpPr>
            <p:cNvPr id="191" name=""/>
            <p:cNvGrpSpPr/>
            <p:nvPr/>
          </p:nvGrpSpPr>
          <p:grpSpPr>
            <a:xfrm>
              <a:off x="6012000" y="1484280"/>
              <a:ext cx="1368360" cy="2089080"/>
              <a:chOff x="6012000" y="1484280"/>
              <a:chExt cx="1368360" cy="2089080"/>
            </a:xfrm>
          </p:grpSpPr>
          <p:pic>
            <p:nvPicPr>
              <p:cNvPr id="19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01200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200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"/>
            <p:cNvSpPr/>
            <p:nvPr/>
          </p:nvSpPr>
          <p:spPr>
            <a:xfrm>
              <a:off x="601200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5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18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86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3063600" y="450864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2992320" y="393372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4" action="ppaction://hlinksldjump"/>
          </p:cNvPr>
          <p:cNvSpPr/>
          <p:nvPr/>
        </p:nvSpPr>
        <p:spPr>
          <a:xfrm>
            <a:off x="3063960" y="580536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5" action="ppaction://hlinksldjump"/>
          </p:cNvPr>
          <p:cNvSpPr/>
          <p:nvPr/>
        </p:nvSpPr>
        <p:spPr>
          <a:xfrm>
            <a:off x="3063240" y="5157720"/>
            <a:ext cx="36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Вопрос 5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60720" y="2249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20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012000" y="1484280"/>
            <a:ext cx="1368360" cy="2089080"/>
            <a:chOff x="6012000" y="1484280"/>
            <a:chExt cx="1368360" cy="2089080"/>
          </a:xfrm>
        </p:grpSpPr>
        <p:grpSp>
          <p:nvGrpSpPr>
            <p:cNvPr id="211" name=""/>
            <p:cNvGrpSpPr/>
            <p:nvPr/>
          </p:nvGrpSpPr>
          <p:grpSpPr>
            <a:xfrm>
              <a:off x="6012000" y="1484280"/>
              <a:ext cx="1368360" cy="2089080"/>
              <a:chOff x="6012000" y="1484280"/>
              <a:chExt cx="1368360" cy="20890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01200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200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"/>
            <p:cNvSpPr/>
            <p:nvPr/>
          </p:nvSpPr>
          <p:spPr>
            <a:xfrm>
              <a:off x="601200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18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86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0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3998160" y="2373480"/>
            <a:ext cx="7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4069440" y="4749840"/>
            <a:ext cx="7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4" action="ppaction://hlinksldjump"/>
          </p:cNvPr>
          <p:cNvSpPr/>
          <p:nvPr/>
        </p:nvSpPr>
        <p:spPr>
          <a:xfrm>
            <a:off x="3998160" y="39592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5" action="ppaction://hlinksldjump"/>
          </p:cNvPr>
          <p:cNvSpPr/>
          <p:nvPr/>
        </p:nvSpPr>
        <p:spPr>
          <a:xfrm>
            <a:off x="3997800" y="316692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60"/>
                            </p:stCondLst>
                            <p:childTnLst>
                              <p:par>
                                <p:cTn id="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3997080" y="2538360"/>
            <a:ext cx="6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3926160" y="4916520"/>
            <a:ext cx="8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3926520" y="40528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5" action="ppaction://hlinksldjump"/>
          </p:cNvPr>
          <p:cNvSpPr/>
          <p:nvPr/>
        </p:nvSpPr>
        <p:spPr>
          <a:xfrm>
            <a:off x="3926160" y="33321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6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4286880" y="232416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4357800" y="494172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4285440" y="40528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4285080" y="326088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8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6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Monotype Corsiva"/>
              </a:rPr>
              <a:t>Автор «Теории химического строения органических соединений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1620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02880" y="3213000"/>
            <a:ext cx="1890720" cy="2671560"/>
            <a:chOff x="902880" y="3213000"/>
            <a:chExt cx="1890720" cy="2671560"/>
          </a:xfrm>
        </p:grpSpPr>
        <p:pic>
          <p:nvPicPr>
            <p:cNvPr id="47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71280" y="3213000"/>
              <a:ext cx="1638360" cy="2158920"/>
            </a:xfrm>
            <a:prstGeom prst="rect">
              <a:avLst/>
            </a:prstGeom>
            <a:ln w="76320">
              <a:solidFill>
                <a:srgbClr val="808080"/>
              </a:solidFill>
              <a:miter/>
            </a:ln>
          </p:spPr>
        </p:pic>
        <p:sp>
          <p:nvSpPr>
            <p:cNvPr id="48" name=""/>
            <p:cNvSpPr/>
            <p:nvPr/>
          </p:nvSpPr>
          <p:spPr>
            <a:xfrm>
              <a:off x="902880" y="5516280"/>
              <a:ext cx="18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.В.Ломонос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421080" y="2349360"/>
            <a:ext cx="1905840" cy="2671920"/>
            <a:chOff x="3421080" y="2349360"/>
            <a:chExt cx="1905840" cy="2671920"/>
          </a:xfrm>
        </p:grpSpPr>
        <p:pic>
          <p:nvPicPr>
            <p:cNvPr id="50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570480" y="2349360"/>
              <a:ext cx="1662480" cy="2202120"/>
            </a:xfrm>
            <a:prstGeom prst="rect">
              <a:avLst/>
            </a:prstGeom>
            <a:ln w="76320">
              <a:solidFill>
                <a:srgbClr val="808080"/>
              </a:solidFill>
              <a:miter/>
            </a:ln>
          </p:spPr>
        </p:pic>
        <p:sp>
          <p:nvSpPr>
            <p:cNvPr id="51" name=""/>
            <p:cNvSpPr/>
            <p:nvPr/>
          </p:nvSpPr>
          <p:spPr>
            <a:xfrm>
              <a:off x="3421080" y="4653000"/>
              <a:ext cx="190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.И. Менделее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56360" y="3213000"/>
            <a:ext cx="1721880" cy="2600280"/>
            <a:chOff x="6156360" y="3213000"/>
            <a:chExt cx="1721880" cy="2600280"/>
          </a:xfrm>
        </p:grpSpPr>
        <p:pic>
          <p:nvPicPr>
            <p:cNvPr id="5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156360" y="3213000"/>
              <a:ext cx="1600200" cy="2087640"/>
            </a:xfrm>
            <a:prstGeom prst="rect">
              <a:avLst/>
            </a:prstGeom>
            <a:ln w="76320">
              <a:solidFill>
                <a:srgbClr val="808080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>
              <a:off x="6158160" y="5445000"/>
              <a:ext cx="172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.М. Бутле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710160" y="260280"/>
            <a:ext cx="16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Вопрос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 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3997800" y="249228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4069080" y="5084640"/>
            <a:ext cx="8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4" action="ppaction://hlinksldjump"/>
          </p:cNvPr>
          <p:cNvSpPr/>
          <p:nvPr/>
        </p:nvSpPr>
        <p:spPr>
          <a:xfrm>
            <a:off x="3998520" y="422100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5" action="ppaction://hlinksldjump"/>
          </p:cNvPr>
          <p:cNvSpPr/>
          <p:nvPr/>
        </p:nvSpPr>
        <p:spPr>
          <a:xfrm>
            <a:off x="3997800" y="328464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8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2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4142520" y="246852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4141800" y="47721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4" action="ppaction://hlinksldjump"/>
          </p:cNvPr>
          <p:cNvSpPr/>
          <p:nvPr/>
        </p:nvSpPr>
        <p:spPr>
          <a:xfrm>
            <a:off x="4142520" y="397980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4140720" y="318780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8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6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3853800" y="2349360"/>
            <a:ext cx="4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3926160" y="5229360"/>
            <a:ext cx="8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3925440" y="429408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3853800" y="3357720"/>
            <a:ext cx="6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80"/>
                            </p:stCondLst>
                            <p:childTnLst>
                              <p:par>
                                <p:cTn id="6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"/>
                            </p:stCondLst>
                            <p:childTnLst>
                              <p:par>
                                <p:cTn id="6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60"/>
                            </p:stCondLst>
                            <p:childTnLst>
                              <p:par>
                                <p:cTn id="6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1042920" y="39337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1038960" y="340524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4" action="ppaction://hlinksldjump"/>
          </p:cNvPr>
          <p:cNvSpPr/>
          <p:nvPr/>
        </p:nvSpPr>
        <p:spPr>
          <a:xfrm>
            <a:off x="966240" y="2565360"/>
            <a:ext cx="52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5" action="ppaction://hlinksldjump"/>
          </p:cNvPr>
          <p:cNvSpPr/>
          <p:nvPr/>
        </p:nvSpPr>
        <p:spPr>
          <a:xfrm>
            <a:off x="1037880" y="465300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360"/>
                            </p:stCondLst>
                            <p:childTnLst>
                              <p:par>
                                <p:cTn id="6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80"/>
                            </p:stCondLst>
                            <p:childTnLst>
                              <p:par>
                                <p:cTn id="6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440"/>
                            </p:stCondLst>
                            <p:childTnLst>
                              <p:par>
                                <p:cTn id="6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745920" y="242100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3" action="ppaction://hlinksldjump"/>
          </p:cNvPr>
          <p:cNvSpPr/>
          <p:nvPr/>
        </p:nvSpPr>
        <p:spPr>
          <a:xfrm>
            <a:off x="751320" y="328464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4" action="ppaction://hlinksldjump"/>
          </p:cNvPr>
          <p:cNvSpPr/>
          <p:nvPr/>
        </p:nvSpPr>
        <p:spPr>
          <a:xfrm>
            <a:off x="750600" y="4003560"/>
            <a:ext cx="5256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5" action="ppaction://hlinksldjump"/>
          </p:cNvPr>
          <p:cNvSpPr/>
          <p:nvPr/>
        </p:nvSpPr>
        <p:spPr>
          <a:xfrm>
            <a:off x="750600" y="465120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96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80"/>
                            </p:stCondLst>
                            <p:childTnLst>
                              <p:par>
                                <p:cTn id="6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44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1044720" y="2637000"/>
            <a:ext cx="66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1045080" y="3357720"/>
            <a:ext cx="38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4" action="ppaction://hlinksldjump"/>
          </p:cNvPr>
          <p:cNvSpPr/>
          <p:nvPr/>
        </p:nvSpPr>
        <p:spPr>
          <a:xfrm>
            <a:off x="1044360" y="4076640"/>
            <a:ext cx="47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5" action="ppaction://hlinksldjump"/>
          </p:cNvPr>
          <p:cNvSpPr/>
          <p:nvPr/>
        </p:nvSpPr>
        <p:spPr>
          <a:xfrm>
            <a:off x="1042200" y="4724280"/>
            <a:ext cx="40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960"/>
                            </p:stCondLst>
                            <p:childTnLst>
                              <p:par>
                                <p:cTn id="7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80"/>
                            </p:stCondLst>
                            <p:childTnLst>
                              <p:par>
                                <p:cTn id="7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440"/>
                            </p:stCondLst>
                            <p:childTnLst>
                              <p:par>
                                <p:cTn id="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1322280" y="246708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1327680" y="318780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1326960" y="3906720"/>
            <a:ext cx="52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5" action="ppaction://hlinksldjump"/>
          </p:cNvPr>
          <p:cNvSpPr/>
          <p:nvPr/>
        </p:nvSpPr>
        <p:spPr>
          <a:xfrm>
            <a:off x="1326960" y="455436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96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8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44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1033200" y="254016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1038960" y="326088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4" action="ppaction://hlinksldjump"/>
          </p:cNvPr>
          <p:cNvSpPr/>
          <p:nvPr/>
        </p:nvSpPr>
        <p:spPr>
          <a:xfrm>
            <a:off x="1037880" y="3979800"/>
            <a:ext cx="52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5" action="ppaction://hlinksldjump"/>
          </p:cNvPr>
          <p:cNvSpPr/>
          <p:nvPr/>
        </p:nvSpPr>
        <p:spPr>
          <a:xfrm>
            <a:off x="1037880" y="462744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960"/>
                            </p:stCondLst>
                            <p:childTnLst>
                              <p:par>
                                <p:cTn id="7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0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440"/>
                            </p:stCondLst>
                            <p:childTnLst>
                              <p:par>
                                <p:cTn id="7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1033200" y="386064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1111680" y="321300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4" action="ppaction://hlinksldjump"/>
          </p:cNvPr>
          <p:cNvSpPr/>
          <p:nvPr/>
        </p:nvSpPr>
        <p:spPr>
          <a:xfrm>
            <a:off x="1110960" y="2565360"/>
            <a:ext cx="52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5" action="ppaction://hlinksldjump"/>
          </p:cNvPr>
          <p:cNvSpPr/>
          <p:nvPr/>
        </p:nvSpPr>
        <p:spPr>
          <a:xfrm>
            <a:off x="1110960" y="455436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360"/>
                            </p:stCondLst>
                            <p:childTnLst>
                              <p:par>
                                <p:cTn id="7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480"/>
                            </p:stCondLst>
                            <p:childTnLst>
                              <p:par>
                                <p:cTn id="7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440"/>
                            </p:stCondLst>
                            <p:childTnLst>
                              <p:par>
                                <p:cTn id="7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1393560" y="400536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1399320" y="270828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4" action="ppaction://hlinksldjump"/>
          </p:cNvPr>
          <p:cNvSpPr/>
          <p:nvPr/>
        </p:nvSpPr>
        <p:spPr>
          <a:xfrm>
            <a:off x="1398240" y="3357720"/>
            <a:ext cx="52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5" action="ppaction://hlinksldjump"/>
          </p:cNvPr>
          <p:cNvSpPr/>
          <p:nvPr/>
        </p:nvSpPr>
        <p:spPr>
          <a:xfrm>
            <a:off x="1398240" y="458136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120"/>
                            </p:stCondLst>
                            <p:childTnLst>
                              <p:par>
                                <p:cTn id="8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480"/>
                            </p:stCondLst>
                            <p:childTnLst>
                              <p:par>
                                <p:cTn id="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440"/>
                            </p:stCondLst>
                            <p:childTnLst>
                              <p:par>
                                <p:cTn id="8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97800" cy="9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Изомеры –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540720" y="2349360"/>
            <a:ext cx="62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ое строение и раз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539280" y="3500280"/>
            <a:ext cx="84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ую молекулярную формулу и разное 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547560" y="2924280"/>
            <a:ext cx="758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538560" y="4076640"/>
            <a:ext cx="69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ые свойства и одинаковую форм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4046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Вопрос 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6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8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88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2771640" y="350028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метилбу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2771640" y="4221000"/>
            <a:ext cx="31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метилпен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4" action="ppaction://hlinksldjump"/>
          </p:cNvPr>
          <p:cNvSpPr/>
          <p:nvPr/>
        </p:nvSpPr>
        <p:spPr>
          <a:xfrm>
            <a:off x="2771280" y="5589720"/>
            <a:ext cx="34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метилбутен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2771280" y="4941720"/>
            <a:ext cx="32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метилбутен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771640" y="1844640"/>
            <a:ext cx="3168720" cy="1008000"/>
            <a:chOff x="2771640" y="1844640"/>
            <a:chExt cx="3168720" cy="1008000"/>
          </a:xfrm>
        </p:grpSpPr>
        <p:grpSp>
          <p:nvGrpSpPr>
            <p:cNvPr id="286" name=""/>
            <p:cNvGrpSpPr/>
            <p:nvPr/>
          </p:nvGrpSpPr>
          <p:grpSpPr>
            <a:xfrm>
              <a:off x="2771640" y="1844640"/>
              <a:ext cx="3168720" cy="979560"/>
              <a:chOff x="2771640" y="1844640"/>
              <a:chExt cx="3168720" cy="979560"/>
            </a:xfrm>
          </p:grpSpPr>
          <p:pic>
            <p:nvPicPr>
              <p:cNvPr id="287" name="" descr=""/>
              <p:cNvPicPr/>
              <p:nvPr/>
            </p:nvPicPr>
            <p:blipFill>
              <a:blip r:embed="rId6">
                <a:alphaModFix amt="6000"/>
              </a:blip>
              <a:stretch/>
            </p:blipFill>
            <p:spPr>
              <a:xfrm>
                <a:off x="2771640" y="184464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288" name=""/>
              <p:cNvSpPr/>
              <p:nvPr/>
            </p:nvSpPr>
            <p:spPr>
              <a:xfrm>
                <a:off x="4601160" y="218088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61480" y="218088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771640" y="184464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2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8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68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3133080" y="3787920"/>
            <a:ext cx="22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132720" y="446724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203640" y="583416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204720" y="5181480"/>
            <a:ext cx="25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71640" y="2421000"/>
            <a:ext cx="3168720" cy="1008000"/>
            <a:chOff x="2771640" y="2421000"/>
            <a:chExt cx="3168720" cy="1008000"/>
          </a:xfrm>
        </p:grpSpPr>
        <p:grpSp>
          <p:nvGrpSpPr>
            <p:cNvPr id="297" name=""/>
            <p:cNvGrpSpPr/>
            <p:nvPr/>
          </p:nvGrpSpPr>
          <p:grpSpPr>
            <a:xfrm>
              <a:off x="2771640" y="2421000"/>
              <a:ext cx="3168720" cy="979560"/>
              <a:chOff x="2771640" y="2421000"/>
              <a:chExt cx="3168720" cy="979560"/>
            </a:xfrm>
          </p:grpSpPr>
          <p:pic>
            <p:nvPicPr>
              <p:cNvPr id="298" name="" descr=""/>
              <p:cNvPicPr/>
              <p:nvPr/>
            </p:nvPicPr>
            <p:blipFill>
              <a:blip r:embed="rId6">
                <a:alphaModFix amt="6000"/>
              </a:blip>
              <a:stretch/>
            </p:blipFill>
            <p:spPr>
              <a:xfrm>
                <a:off x="2771640" y="242100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299" name=""/>
              <p:cNvSpPr/>
              <p:nvPr/>
            </p:nvSpPr>
            <p:spPr>
              <a:xfrm>
                <a:off x="460116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46148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2771640" y="242100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520"/>
                            </p:stCondLst>
                            <p:childTnLst>
                              <p:par>
                                <p:cTn id="8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80"/>
                            </p:stCondLst>
                            <p:childTnLst>
                              <p:par>
                                <p:cTn id="8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680"/>
                            </p:stCondLst>
                            <p:childTnLst>
                              <p:par>
                                <p:cTn id="8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3204360" y="3932280"/>
            <a:ext cx="22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3205800" y="461016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5977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7800" y="5329080"/>
            <a:ext cx="25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843280" y="2565360"/>
            <a:ext cx="3168720" cy="1008000"/>
            <a:chOff x="2843280" y="2565360"/>
            <a:chExt cx="3168720" cy="1008000"/>
          </a:xfrm>
        </p:grpSpPr>
        <p:grpSp>
          <p:nvGrpSpPr>
            <p:cNvPr id="308" name=""/>
            <p:cNvGrpSpPr/>
            <p:nvPr/>
          </p:nvGrpSpPr>
          <p:grpSpPr>
            <a:xfrm>
              <a:off x="2843280" y="2565360"/>
              <a:ext cx="3168720" cy="979560"/>
              <a:chOff x="2843280" y="2565360"/>
              <a:chExt cx="3168720" cy="979560"/>
            </a:xfrm>
          </p:grpSpPr>
          <p:pic>
            <p:nvPicPr>
              <p:cNvPr id="309" name="" descr=""/>
              <p:cNvPicPr/>
              <p:nvPr/>
            </p:nvPicPr>
            <p:blipFill>
              <a:blip r:embed="rId4">
                <a:alphaModFix amt="6000"/>
              </a:blip>
              <a:stretch/>
            </p:blipFill>
            <p:spPr>
              <a:xfrm>
                <a:off x="2843280" y="256536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10" name=""/>
              <p:cNvSpPr/>
              <p:nvPr/>
            </p:nvSpPr>
            <p:spPr>
              <a:xfrm>
                <a:off x="4672800" y="2901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33120" y="2901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843280" y="256536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520"/>
                            </p:stCondLst>
                            <p:childTnLst>
                              <p:par>
                                <p:cTn id="9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80"/>
                            </p:stCondLst>
                            <p:childTnLst>
                              <p:par>
                                <p:cTn id="9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680"/>
                            </p:stCondLst>
                            <p:childTnLst>
                              <p:par>
                                <p:cTn id="9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3080" y="3860640"/>
            <a:ext cx="22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32720" y="453852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3640" y="590544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04720" y="5257800"/>
            <a:ext cx="25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771640" y="2421000"/>
            <a:ext cx="3168720" cy="1008000"/>
            <a:chOff x="2771640" y="2421000"/>
            <a:chExt cx="3168720" cy="1008000"/>
          </a:xfrm>
        </p:grpSpPr>
        <p:grpSp>
          <p:nvGrpSpPr>
            <p:cNvPr id="319" name=""/>
            <p:cNvGrpSpPr/>
            <p:nvPr/>
          </p:nvGrpSpPr>
          <p:grpSpPr>
            <a:xfrm>
              <a:off x="2771640" y="2421000"/>
              <a:ext cx="3168720" cy="979560"/>
              <a:chOff x="2771640" y="2421000"/>
              <a:chExt cx="3168720" cy="979560"/>
            </a:xfrm>
          </p:grpSpPr>
          <p:pic>
            <p:nvPicPr>
              <p:cNvPr id="320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771640" y="242100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21" name=""/>
              <p:cNvSpPr/>
              <p:nvPr/>
            </p:nvSpPr>
            <p:spPr>
              <a:xfrm>
                <a:off x="460116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6148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2771640" y="242100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20"/>
                            </p:stCondLst>
                            <p:childTnLst>
                              <p:par>
                                <p:cTn id="9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8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680"/>
                            </p:stCondLst>
                            <p:childTnLst>
                              <p:par>
                                <p:cTn id="9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31640" y="3860640"/>
            <a:ext cx="18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0560" y="4514760"/>
            <a:ext cx="20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1840" y="58816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2200" y="523404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771640" y="2349360"/>
            <a:ext cx="3168720" cy="1008360"/>
            <a:chOff x="2771640" y="2349360"/>
            <a:chExt cx="3168720" cy="1008360"/>
          </a:xfrm>
        </p:grpSpPr>
        <p:grpSp>
          <p:nvGrpSpPr>
            <p:cNvPr id="330" name=""/>
            <p:cNvGrpSpPr/>
            <p:nvPr/>
          </p:nvGrpSpPr>
          <p:grpSpPr>
            <a:xfrm>
              <a:off x="2771640" y="2349360"/>
              <a:ext cx="3168720" cy="979920"/>
              <a:chOff x="2771640" y="2349360"/>
              <a:chExt cx="3168720" cy="979920"/>
            </a:xfrm>
          </p:grpSpPr>
          <p:pic>
            <p:nvPicPr>
              <p:cNvPr id="331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771640" y="2349360"/>
                <a:ext cx="3168720" cy="97992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32" name=""/>
              <p:cNvSpPr/>
              <p:nvPr/>
            </p:nvSpPr>
            <p:spPr>
              <a:xfrm>
                <a:off x="4601160" y="2685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61480" y="2685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2771640" y="2349360"/>
              <a:ext cx="3167280" cy="100836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20"/>
                            </p:stCondLst>
                            <p:childTnLst>
                              <p:par>
                                <p:cTn id="9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080"/>
                            </p:stCondLst>
                            <p:childTnLst>
                              <p:par>
                                <p:cTn id="9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680"/>
                            </p:stCondLst>
                            <p:childTnLst>
                              <p:par>
                                <p:cTn id="9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58560" y="3716280"/>
            <a:ext cx="18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4394160"/>
            <a:ext cx="20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0200" y="57610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508464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627280" y="2421000"/>
            <a:ext cx="3168720" cy="1008000"/>
            <a:chOff x="2627280" y="2421000"/>
            <a:chExt cx="3168720" cy="1008000"/>
          </a:xfrm>
        </p:grpSpPr>
        <p:grpSp>
          <p:nvGrpSpPr>
            <p:cNvPr id="341" name=""/>
            <p:cNvGrpSpPr/>
            <p:nvPr/>
          </p:nvGrpSpPr>
          <p:grpSpPr>
            <a:xfrm>
              <a:off x="2627280" y="2421000"/>
              <a:ext cx="3168720" cy="979560"/>
              <a:chOff x="2627280" y="2421000"/>
              <a:chExt cx="3168720" cy="979560"/>
            </a:xfrm>
          </p:grpSpPr>
          <p:pic>
            <p:nvPicPr>
              <p:cNvPr id="342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627280" y="242100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43" name=""/>
              <p:cNvSpPr/>
              <p:nvPr/>
            </p:nvSpPr>
            <p:spPr>
              <a:xfrm>
                <a:off x="445680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712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627280" y="242100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20"/>
                            </p:stCondLst>
                            <p:childTnLst>
                              <p:par>
                                <p:cTn id="9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80"/>
                            </p:stCondLst>
                            <p:childTnLst>
                              <p:par>
                                <p:cTn id="10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680"/>
                            </p:stCondLst>
                            <p:childTnLst>
                              <p:par>
                                <p:cTn id="1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60000" y="3745080"/>
            <a:ext cx="22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34160" y="573408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3657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33080" y="5084640"/>
            <a:ext cx="25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771640" y="2349360"/>
            <a:ext cx="3168720" cy="1008360"/>
            <a:chOff x="2771640" y="2349360"/>
            <a:chExt cx="3168720" cy="1008360"/>
          </a:xfrm>
        </p:grpSpPr>
        <p:grpSp>
          <p:nvGrpSpPr>
            <p:cNvPr id="352" name=""/>
            <p:cNvGrpSpPr/>
            <p:nvPr/>
          </p:nvGrpSpPr>
          <p:grpSpPr>
            <a:xfrm>
              <a:off x="2771640" y="2349360"/>
              <a:ext cx="3168720" cy="979920"/>
              <a:chOff x="2771640" y="2349360"/>
              <a:chExt cx="3168720" cy="979920"/>
            </a:xfrm>
          </p:grpSpPr>
          <p:pic>
            <p:nvPicPr>
              <p:cNvPr id="353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771640" y="2349360"/>
                <a:ext cx="3168720" cy="97992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54" name=""/>
              <p:cNvSpPr/>
              <p:nvPr/>
            </p:nvSpPr>
            <p:spPr>
              <a:xfrm>
                <a:off x="4601160" y="2685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61480" y="2685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2771640" y="2349360"/>
              <a:ext cx="3167280" cy="100836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520"/>
                            </p:stCondLst>
                            <p:childTnLst>
                              <p:par>
                                <p:cTn id="10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120"/>
                            </p:stCondLst>
                            <p:childTnLst>
                              <p:par>
                                <p:cTn id="10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720"/>
                            </p:stCondLst>
                            <p:childTnLst>
                              <p:par>
                                <p:cTn id="10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8360" y="3789360"/>
            <a:ext cx="17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9440" y="5084640"/>
            <a:ext cx="18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88000" y="4437000"/>
            <a:ext cx="20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88360" y="566100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843280" y="2421000"/>
            <a:ext cx="3168720" cy="1008000"/>
            <a:chOff x="2843280" y="2421000"/>
            <a:chExt cx="3168720" cy="1008000"/>
          </a:xfrm>
        </p:grpSpPr>
        <p:grpSp>
          <p:nvGrpSpPr>
            <p:cNvPr id="363" name=""/>
            <p:cNvGrpSpPr/>
            <p:nvPr/>
          </p:nvGrpSpPr>
          <p:grpSpPr>
            <a:xfrm>
              <a:off x="2843280" y="2421000"/>
              <a:ext cx="3168720" cy="979560"/>
              <a:chOff x="2843280" y="2421000"/>
              <a:chExt cx="3168720" cy="979560"/>
            </a:xfrm>
          </p:grpSpPr>
          <p:pic>
            <p:nvPicPr>
              <p:cNvPr id="364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843280" y="242100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65" name=""/>
              <p:cNvSpPr/>
              <p:nvPr/>
            </p:nvSpPr>
            <p:spPr>
              <a:xfrm>
                <a:off x="467280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3312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843280" y="242100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20"/>
                            </p:stCondLst>
                            <p:childTnLst>
                              <p:par>
                                <p:cTn id="10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120"/>
                            </p:stCondLst>
                            <p:childTnLst>
                              <p:par>
                                <p:cTn id="10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68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92360" y="836640"/>
            <a:ext cx="590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Отлично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140360" y="3429000"/>
            <a:ext cx="1131840" cy="22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0" name="">
            <a:hlinkClick r:id="" action="ppaction://hlinkshowjump?jump=endshow"/>
          </p:cNvPr>
          <p:cNvSpPr/>
          <p:nvPr/>
        </p:nvSpPr>
        <p:spPr>
          <a:xfrm>
            <a:off x="824400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5858" y="10800"/>
                </a:moveTo>
                <a:lnTo>
                  <a:pt x="5353" y="17806"/>
                </a:lnTo>
                <a:lnTo>
                  <a:pt x="5353" y="3794"/>
                </a:lnTo>
                <a:close/>
              </a:path>
              <a:path fill="darken" w="24719" h="21600">
                <a:moveTo>
                  <a:pt x="17703" y="3794"/>
                </a:moveTo>
                <a:lnTo>
                  <a:pt x="17703" y="17806"/>
                </a:lnTo>
                <a:lnTo>
                  <a:pt x="19366" y="17806"/>
                </a:lnTo>
                <a:lnTo>
                  <a:pt x="193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187308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908000" y="105264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7175e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хорошо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17175e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95640" y="3573360"/>
            <a:ext cx="10098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4" name=""/>
          <p:cNvSpPr/>
          <p:nvPr/>
        </p:nvSpPr>
        <p:spPr>
          <a:xfrm>
            <a:off x="8244000" y="59500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4768" y="10800"/>
                </a:moveTo>
                <a:lnTo>
                  <a:pt x="4263" y="17806"/>
                </a:lnTo>
                <a:lnTo>
                  <a:pt x="4263" y="3794"/>
                </a:lnTo>
                <a:close/>
              </a:path>
              <a:path fill="darken" w="22539" h="21600">
                <a:moveTo>
                  <a:pt x="16614" y="3794"/>
                </a:moveTo>
                <a:lnTo>
                  <a:pt x="16614" y="17806"/>
                </a:lnTo>
                <a:lnTo>
                  <a:pt x="18276" y="17806"/>
                </a:lnTo>
                <a:lnTo>
                  <a:pt x="1827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201636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2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Изомеры –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469080" y="2565360"/>
            <a:ext cx="62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 и раз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468000" y="3860640"/>
            <a:ext cx="84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ую молекулярную формулу и разное 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402840" y="3213000"/>
            <a:ext cx="758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467280" y="4508640"/>
            <a:ext cx="69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ые свойства и одинаковую форм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6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88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140360" y="3284640"/>
            <a:ext cx="9158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908000" y="981000"/>
            <a:ext cx="54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оцен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8" name="">
            <a:hlinkClick r:id="" action="ppaction://hlinkshowjump?jump=firstslide"/>
          </p:cNvPr>
          <p:cNvSpPr/>
          <p:nvPr/>
        </p:nvSpPr>
        <p:spPr>
          <a:xfrm>
            <a:off x="7956720" y="5805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15390" y="10800"/>
                </a:moveTo>
                <a:lnTo>
                  <a:pt x="4885" y="17806"/>
                </a:lnTo>
                <a:lnTo>
                  <a:pt x="4885" y="3794"/>
                </a:lnTo>
                <a:close/>
              </a:path>
              <a:path fill="darken" w="23783" h="21600">
                <a:moveTo>
                  <a:pt x="17235" y="3794"/>
                </a:moveTo>
                <a:lnTo>
                  <a:pt x="17235" y="17806"/>
                </a:lnTo>
                <a:lnTo>
                  <a:pt x="18898" y="17806"/>
                </a:lnTo>
                <a:lnTo>
                  <a:pt x="1889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116000" y="3630600"/>
            <a:ext cx="208764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050920" y="1125360"/>
            <a:ext cx="501192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067280" y="3429000"/>
            <a:ext cx="115236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82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18918" y="10800"/>
                </a:moveTo>
                <a:lnTo>
                  <a:pt x="8412" y="17806"/>
                </a:lnTo>
                <a:lnTo>
                  <a:pt x="8412" y="3794"/>
                </a:lnTo>
                <a:close/>
              </a:path>
              <a:path fill="darken" w="30837" h="21600">
                <a:moveTo>
                  <a:pt x="20763" y="3794"/>
                </a:moveTo>
                <a:lnTo>
                  <a:pt x="20763" y="17806"/>
                </a:lnTo>
                <a:lnTo>
                  <a:pt x="22425" y="17806"/>
                </a:lnTo>
                <a:lnTo>
                  <a:pt x="2242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17002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</a:t>
            </a: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 </a:t>
            </a: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Monotype Corsiva"/>
              </a:rPr>
              <a:t>3</a:t>
            </a:r>
            <a:br>
              <a:rPr sz="3200"/>
            </a:b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Гомологи -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41440" y="4437000"/>
            <a:ext cx="44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ое строение и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467280" y="3789360"/>
            <a:ext cx="79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ый количественный и качествен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475920" y="2421000"/>
            <a:ext cx="758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468000" y="3068640"/>
            <a:ext cx="84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ую молекулярную формулу и разное 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2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2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28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3</a:t>
            </a:r>
            <a:br>
              <a:rPr sz="3600"/>
            </a:b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Гомологи -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42160" y="3211560"/>
            <a:ext cx="43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ое строение и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539280" y="4653000"/>
            <a:ext cx="78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ый количественный и качествен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7920" y="2421000"/>
            <a:ext cx="74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540360" y="3933720"/>
            <a:ext cx="83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ую молекулярную формулу и разн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72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68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48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3</a:t>
            </a:r>
            <a:br>
              <a:rPr sz="3600"/>
            </a:br>
            <a:r>
              <a:rPr b="0" i="1" lang="ru-RU" sz="36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Гомологи -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640" y="2421000"/>
            <a:ext cx="74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11640" y="3213000"/>
            <a:ext cx="83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ую молекулярную формулу и разн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610560" y="4869000"/>
            <a:ext cx="78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ый количественный и качествен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613440" y="4005360"/>
            <a:ext cx="43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ое строение и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72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2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48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979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4</a:t>
            </a:r>
            <a:r>
              <a:rPr b="0" i="1" lang="en-US" sz="2800" spc="-1" strike="noStrike">
                <a:solidFill>
                  <a:srgbClr val="000066"/>
                </a:solidFill>
                <a:latin typeface="Monotype Corsiva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Monotype Corsiva"/>
              </a:rPr>
              <a:t>Что изображено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2703240" y="4581360"/>
            <a:ext cx="19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2702520" y="3933720"/>
            <a:ext cx="19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м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2773440" y="5157720"/>
            <a:ext cx="42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 и то же ве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340000" y="1341360"/>
            <a:ext cx="4032000" cy="2251080"/>
            <a:chOff x="2340000" y="1341360"/>
            <a:chExt cx="4032000" cy="2251080"/>
          </a:xfrm>
        </p:grpSpPr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2484360" y="1341360"/>
              <a:ext cx="38354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340000" y="1341360"/>
              <a:ext cx="40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84360" y="1846440"/>
              <a:ext cx="3816360" cy="1726920"/>
            </a:xfrm>
            <a:prstGeom prst="rect">
              <a:avLst/>
            </a:prstGeom>
            <a:solidFill>
              <a:srgbClr val="ccffff">
                <a:alpha val="4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8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3132000" y="422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3133440" y="479736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3132000" y="5300640"/>
            <a:ext cx="36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 и то ж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84360" y="1341360"/>
            <a:ext cx="4032000" cy="2251080"/>
            <a:chOff x="2484360" y="1341360"/>
            <a:chExt cx="4032000" cy="2251080"/>
          </a:xfrm>
        </p:grpSpPr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2628720" y="1341360"/>
              <a:ext cx="38354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484360" y="1341360"/>
              <a:ext cx="40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8720" y="1846440"/>
              <a:ext cx="3816360" cy="1726920"/>
            </a:xfrm>
            <a:prstGeom prst="rect">
              <a:avLst/>
            </a:prstGeom>
            <a:solidFill>
              <a:srgbClr val="ccffff">
                <a:alpha val="4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9280" y="620640"/>
            <a:ext cx="8697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Monotype Corsiva"/>
                <a:ea typeface="Arial"/>
              </a:rPr>
              <a:t>Вопрос 4</a:t>
            </a:r>
            <a:r>
              <a:rPr b="0" i="1" lang="en-US" sz="28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Что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6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8:10:40Z</dcterms:created>
  <dc:creator>слушатель</dc:creator>
  <dc:description/>
  <dc:language>en-US</dc:language>
  <cp:lastModifiedBy>User</cp:lastModifiedBy>
  <dcterms:modified xsi:type="dcterms:W3CDTF">2009-11-24T10:53:54Z</dcterms:modified>
  <cp:revision>65</cp:revision>
  <dc:subject/>
  <dc:title>Строение атома и ПСХЭ</dc:title>
</cp:coreProperties>
</file>