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4.jpeg" ContentType="image/jpeg"/>
  <Override PartName="/ppt/media/image13.gif" ContentType="image/gi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685-3107-4BED-93D8-5CA1B104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E0E-5396-4371-B587-0F52FE4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04A-B292-46E8-B9D4-D722F421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A38-72DA-443E-82FE-38DF04D9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4BA-C85D-44E8-B8C3-97A0E52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9A8-A777-4D0F-A406-C3DD3D44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DBF-0F9E-4649-B65C-D07FBA30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E46-0345-49BA-9D5C-6DA6529D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177-39D6-4A2D-9E3B-CA21ABD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C97-9716-4F30-ADD2-AC1E1E9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85D-0A9D-4C70-9EED-ADDACA1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F45-74AE-4825-81AF-7DB743B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8A8-BCA9-4E86-A26E-2EEA706993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0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2771640" y="5229360"/>
            <a:ext cx="1114560" cy="753840"/>
          </a:xfrm>
          <a:custGeom>
            <a:avLst/>
            <a:gdLst>
              <a:gd name="textAreaLeft" fmla="*/ 48600 w 1114560"/>
              <a:gd name="textAreaRight" fmla="*/ 1065960 w 111456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31931" h="21600">
                <a:moveTo>
                  <a:pt x="0" y="0"/>
                </a:moveTo>
                <a:lnTo>
                  <a:pt x="31931" y="0"/>
                </a:lnTo>
                <a:lnTo>
                  <a:pt x="31931" y="21600"/>
                </a:lnTo>
                <a:lnTo>
                  <a:pt x="0" y="21600"/>
                </a:lnTo>
                <a:close/>
              </a:path>
              <a:path fill="lightenLess" w="31931" h="21600">
                <a:moveTo>
                  <a:pt x="0" y="0"/>
                </a:moveTo>
                <a:lnTo>
                  <a:pt x="31931" y="0"/>
                </a:lnTo>
                <a:lnTo>
                  <a:pt x="30531" y="1400"/>
                </a:lnTo>
                <a:lnTo>
                  <a:pt x="1400" y="1400"/>
                </a:lnTo>
                <a:close/>
              </a:path>
              <a:path fill="darken" w="31931" h="21600">
                <a:moveTo>
                  <a:pt x="31931" y="0"/>
                </a:moveTo>
                <a:lnTo>
                  <a:pt x="31931" y="21600"/>
                </a:lnTo>
                <a:lnTo>
                  <a:pt x="30531" y="20200"/>
                </a:lnTo>
                <a:lnTo>
                  <a:pt x="30531" y="1400"/>
                </a:lnTo>
                <a:close/>
              </a:path>
              <a:path fill="darkenLess" w="31931" h="21600">
                <a:moveTo>
                  <a:pt x="31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31" y="20200"/>
                </a:lnTo>
                <a:close/>
              </a:path>
              <a:path fill="lighten" w="31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  <a:ea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5292720" y="5300640"/>
            <a:ext cx="1008000" cy="6494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3519" h="21600">
                <a:moveTo>
                  <a:pt x="0" y="0"/>
                </a:moveTo>
                <a:lnTo>
                  <a:pt x="33519" y="0"/>
                </a:lnTo>
                <a:lnTo>
                  <a:pt x="33519" y="21600"/>
                </a:lnTo>
                <a:lnTo>
                  <a:pt x="0" y="21600"/>
                </a:lnTo>
                <a:close/>
              </a:path>
              <a:path fill="lightenLess" w="33519" h="21600">
                <a:moveTo>
                  <a:pt x="0" y="0"/>
                </a:moveTo>
                <a:lnTo>
                  <a:pt x="33519" y="0"/>
                </a:lnTo>
                <a:lnTo>
                  <a:pt x="32119" y="1400"/>
                </a:lnTo>
                <a:lnTo>
                  <a:pt x="1400" y="1400"/>
                </a:lnTo>
                <a:close/>
              </a:path>
              <a:path fill="darken" w="33519" h="21600">
                <a:moveTo>
                  <a:pt x="33519" y="0"/>
                </a:moveTo>
                <a:lnTo>
                  <a:pt x="33519" y="21600"/>
                </a:lnTo>
                <a:lnTo>
                  <a:pt x="32119" y="20200"/>
                </a:lnTo>
                <a:lnTo>
                  <a:pt x="32119" y="1400"/>
                </a:lnTo>
                <a:close/>
              </a:path>
              <a:path fill="darkenLess" w="33519" h="21600">
                <a:moveTo>
                  <a:pt x="33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9" y="20200"/>
                </a:lnTo>
                <a:close/>
              </a:path>
              <a:path fill="lighten" w="33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268280"/>
            <a:ext cx="6842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оначальные понятия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ческой хими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629080" y="530208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628720" y="479736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2627640" y="4294080"/>
            <a:ext cx="35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90792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40000" y="1413000"/>
            <a:ext cx="4032000" cy="2251080"/>
            <a:chOff x="2340000" y="1413000"/>
            <a:chExt cx="4032000" cy="225108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484360" y="141300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340000" y="141300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4360" y="191808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19640" y="333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7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4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2989440" y="407664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2989080" y="465300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3059640" y="5229360"/>
            <a:ext cx="35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40000" y="1413000"/>
            <a:ext cx="4032000" cy="2251080"/>
            <a:chOff x="2340000" y="1413000"/>
            <a:chExt cx="4032000" cy="225108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2484360" y="141300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340000" y="141300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84360" y="191808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5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484360" y="4005360"/>
            <a:ext cx="42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логи и изо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2484360" y="5157720"/>
            <a:ext cx="42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меры и гом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2483640" y="4581360"/>
            <a:ext cx="43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логи и гом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2484720" y="5734080"/>
            <a:ext cx="42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меры и изо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2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2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13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18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9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8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2992320" y="4076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992320" y="5300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2992320" y="465300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991960" y="587700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9440" y="2276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4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4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67280" y="1484280"/>
            <a:ext cx="1368360" cy="2089080"/>
            <a:chOff x="5867280" y="1484280"/>
            <a:chExt cx="1368360" cy="2089080"/>
          </a:xfrm>
        </p:grpSpPr>
        <p:grpSp>
          <p:nvGrpSpPr>
            <p:cNvPr id="151" name=""/>
            <p:cNvGrpSpPr/>
            <p:nvPr/>
          </p:nvGrpSpPr>
          <p:grpSpPr>
            <a:xfrm>
              <a:off x="5867280" y="1484280"/>
              <a:ext cx="1368360" cy="2089080"/>
              <a:chOff x="5867280" y="1484280"/>
              <a:chExt cx="1368360" cy="2089080"/>
            </a:xfrm>
          </p:grpSpPr>
          <p:pic>
            <p:nvPicPr>
              <p:cNvPr id="1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728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728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586728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1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9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58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920680" y="400536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2920680" y="458136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2921040" y="522936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2920320" y="573408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2276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6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724360" y="1484280"/>
            <a:ext cx="1368360" cy="2089080"/>
            <a:chOff x="5724360" y="1484280"/>
            <a:chExt cx="1368360" cy="2089080"/>
          </a:xfrm>
        </p:grpSpPr>
        <p:grpSp>
          <p:nvGrpSpPr>
            <p:cNvPr id="171" name=""/>
            <p:cNvGrpSpPr/>
            <p:nvPr/>
          </p:nvGrpSpPr>
          <p:grpSpPr>
            <a:xfrm>
              <a:off x="5724360" y="1484280"/>
              <a:ext cx="1368360" cy="2089080"/>
              <a:chOff x="5724360" y="1484280"/>
              <a:chExt cx="1368360" cy="2089080"/>
            </a:xfrm>
          </p:grpSpPr>
          <p:pic>
            <p:nvPicPr>
              <p:cNvPr id="1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2436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2436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572436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8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86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5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3063600" y="393372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3063600" y="4508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3063960" y="573408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3063240" y="515772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18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18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1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19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18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86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3063600" y="450864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2992320" y="393372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3063960" y="580536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 и 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3063240" y="5157720"/>
            <a:ext cx="36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омеры и из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Вопрос 5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Какие пары веществ изобра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0720" y="2249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76360" y="1341360"/>
            <a:ext cx="2448000" cy="2448720"/>
            <a:chOff x="1476360" y="1341360"/>
            <a:chExt cx="2448000" cy="2448720"/>
          </a:xfrm>
        </p:grpSpPr>
        <p:grpSp>
          <p:nvGrpSpPr>
            <p:cNvPr id="202" name=""/>
            <p:cNvGrpSpPr/>
            <p:nvPr/>
          </p:nvGrpSpPr>
          <p:grpSpPr>
            <a:xfrm>
              <a:off x="1476360" y="1341360"/>
              <a:ext cx="2448000" cy="2448720"/>
              <a:chOff x="1476360" y="1341360"/>
              <a:chExt cx="2448000" cy="2448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76360" y="1341360"/>
                <a:ext cx="2446560" cy="21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07200" y="1408680"/>
                <a:ext cx="1587600" cy="88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"/>
              <p:cNvGrpSpPr/>
              <p:nvPr/>
            </p:nvGrpSpPr>
            <p:grpSpPr>
              <a:xfrm>
                <a:off x="1476360" y="2293560"/>
                <a:ext cx="2448000" cy="1496520"/>
                <a:chOff x="1476360" y="2293560"/>
                <a:chExt cx="2448000" cy="149652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2293560"/>
                  <a:ext cx="2437560" cy="142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1476360" y="2293560"/>
                  <a:ext cx="244800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76360" y="3586680"/>
                  <a:ext cx="24480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1476360" y="2421000"/>
              <a:ext cx="2448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12000" y="1484280"/>
            <a:ext cx="1368360" cy="2089080"/>
            <a:chOff x="6012000" y="1484280"/>
            <a:chExt cx="1368360" cy="2089080"/>
          </a:xfrm>
        </p:grpSpPr>
        <p:grpSp>
          <p:nvGrpSpPr>
            <p:cNvPr id="211" name=""/>
            <p:cNvGrpSpPr/>
            <p:nvPr/>
          </p:nvGrpSpPr>
          <p:grpSpPr>
            <a:xfrm>
              <a:off x="6012000" y="1484280"/>
              <a:ext cx="1368360" cy="2089080"/>
              <a:chOff x="6012000" y="1484280"/>
              <a:chExt cx="1368360" cy="20890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012000" y="1484280"/>
                <a:ext cx="136836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2000" y="2528640"/>
                <a:ext cx="1368360" cy="104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"/>
            <p:cNvSpPr/>
            <p:nvPr/>
          </p:nvSpPr>
          <p:spPr>
            <a:xfrm>
              <a:off x="6012000" y="249228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18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86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0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3998160" y="2373480"/>
            <a:ext cx="7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4069440" y="474984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3998160" y="39592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3997800" y="316692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6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997080" y="2538360"/>
            <a:ext cx="6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3926160" y="491652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3926520" y="40528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5" action="ppaction://hlinksldjump"/>
          </p:cNvPr>
          <p:cNvSpPr/>
          <p:nvPr/>
        </p:nvSpPr>
        <p:spPr>
          <a:xfrm>
            <a:off x="3926160" y="33321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6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4286880" y="232416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4357800" y="494172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4285440" y="40528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4285080" y="326088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8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6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Автор «Теории химического строения органических соединений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1620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02880" y="3213000"/>
            <a:ext cx="1890720" cy="2671560"/>
            <a:chOff x="902880" y="3213000"/>
            <a:chExt cx="1890720" cy="2671560"/>
          </a:xfrm>
        </p:grpSpPr>
        <p:pic>
          <p:nvPicPr>
            <p:cNvPr id="47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71280" y="3213000"/>
              <a:ext cx="1638360" cy="215892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48" name=""/>
            <p:cNvSpPr/>
            <p:nvPr/>
          </p:nvSpPr>
          <p:spPr>
            <a:xfrm>
              <a:off x="902880" y="5516280"/>
              <a:ext cx="18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.В.Ломонос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421080" y="2349360"/>
            <a:ext cx="1905840" cy="2671920"/>
            <a:chOff x="3421080" y="2349360"/>
            <a:chExt cx="1905840" cy="2671920"/>
          </a:xfrm>
        </p:grpSpPr>
        <p:pic>
          <p:nvPicPr>
            <p:cNvPr id="50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570480" y="2349360"/>
              <a:ext cx="1662480" cy="220212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51" name=""/>
            <p:cNvSpPr/>
            <p:nvPr/>
          </p:nvSpPr>
          <p:spPr>
            <a:xfrm>
              <a:off x="3421080" y="4653000"/>
              <a:ext cx="190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.И. Менделе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56360" y="3213000"/>
            <a:ext cx="1721880" cy="2600280"/>
            <a:chOff x="6156360" y="3213000"/>
            <a:chExt cx="1721880" cy="2600280"/>
          </a:xfrm>
        </p:grpSpPr>
        <p:pic>
          <p:nvPicPr>
            <p:cNvPr id="5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156360" y="3213000"/>
              <a:ext cx="1600200" cy="2087640"/>
            </a:xfrm>
            <a:prstGeom prst="rect">
              <a:avLst/>
            </a:prstGeom>
            <a:ln w="76320">
              <a:solidFill>
                <a:srgbClr val="80808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6158160" y="5445000"/>
              <a:ext cx="172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.М. Бутле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10160" y="260280"/>
            <a:ext cx="16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 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3997800" y="249228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069080" y="508464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3998520" y="422100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3997800" y="328464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142520" y="2468520"/>
            <a:ext cx="5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4141800" y="47721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4142520" y="397980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4140720" y="3187800"/>
            <a:ext cx="7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8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6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Вопрос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6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br>
              <a:rPr sz="3200"/>
            </a:br>
            <a:r>
              <a:rPr b="0" i="1" lang="ru-RU" sz="32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глерод в органических веществах проявляет валентност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3853800" y="2349360"/>
            <a:ext cx="4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26160" y="5229360"/>
            <a:ext cx="8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3925440" y="429408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3853800" y="3357720"/>
            <a:ext cx="6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6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1042920" y="39337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1038960" y="340524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4" action="ppaction://hlinksldjump"/>
          </p:cNvPr>
          <p:cNvSpPr/>
          <p:nvPr/>
        </p:nvSpPr>
        <p:spPr>
          <a:xfrm>
            <a:off x="966240" y="2565360"/>
            <a:ext cx="52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5" action="ppaction://hlinksldjump"/>
          </p:cNvPr>
          <p:cNvSpPr/>
          <p:nvPr/>
        </p:nvSpPr>
        <p:spPr>
          <a:xfrm>
            <a:off x="1037880" y="465300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36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80"/>
                            </p:stCondLst>
                            <p:childTnLst>
                              <p:par>
                                <p:cTn id="6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44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745920" y="242100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3" action="ppaction://hlinksldjump"/>
          </p:cNvPr>
          <p:cNvSpPr/>
          <p:nvPr/>
        </p:nvSpPr>
        <p:spPr>
          <a:xfrm>
            <a:off x="751320" y="328464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750600" y="4003560"/>
            <a:ext cx="525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5" action="ppaction://hlinksldjump"/>
          </p:cNvPr>
          <p:cNvSpPr/>
          <p:nvPr/>
        </p:nvSpPr>
        <p:spPr>
          <a:xfrm>
            <a:off x="750600" y="465120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96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8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44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1044720" y="2637000"/>
            <a:ext cx="66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1045080" y="3357720"/>
            <a:ext cx="38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>
            <a:off x="1044360" y="4076640"/>
            <a:ext cx="47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5" action="ppaction://hlinksldjump"/>
          </p:cNvPr>
          <p:cNvSpPr/>
          <p:nvPr/>
        </p:nvSpPr>
        <p:spPr>
          <a:xfrm>
            <a:off x="1042200" y="4724280"/>
            <a:ext cx="40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96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8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44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1322280" y="246708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1327680" y="318780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1326960" y="390672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5" action="ppaction://hlinksldjump"/>
          </p:cNvPr>
          <p:cNvSpPr/>
          <p:nvPr/>
        </p:nvSpPr>
        <p:spPr>
          <a:xfrm>
            <a:off x="1326960" y="4554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96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8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4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1033200" y="254016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1038960" y="326088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1037880" y="397980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5" action="ppaction://hlinksldjump"/>
          </p:cNvPr>
          <p:cNvSpPr/>
          <p:nvPr/>
        </p:nvSpPr>
        <p:spPr>
          <a:xfrm>
            <a:off x="1037880" y="462744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96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44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1033200" y="386064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1111680" y="321300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4" action="ppaction://hlinksldjump"/>
          </p:cNvPr>
          <p:cNvSpPr/>
          <p:nvPr/>
        </p:nvSpPr>
        <p:spPr>
          <a:xfrm>
            <a:off x="1110960" y="256536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5" action="ppaction://hlinksldjump"/>
          </p:cNvPr>
          <p:cNvSpPr/>
          <p:nvPr/>
        </p:nvSpPr>
        <p:spPr>
          <a:xfrm>
            <a:off x="1110960" y="4554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6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480"/>
                            </p:stCondLst>
                            <p:childTnLst>
                              <p:par>
                                <p:cTn id="7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44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опрос 7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Многообразие органических веществ объяс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1393560" y="4005360"/>
            <a:ext cx="74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атомов углерода соединяться друг с д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1399320" y="2708280"/>
            <a:ext cx="42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валент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1398240" y="3357720"/>
            <a:ext cx="52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ю соединятьс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5" action="ppaction://hlinksldjump"/>
          </p:cNvPr>
          <p:cNvSpPr/>
          <p:nvPr/>
        </p:nvSpPr>
        <p:spPr>
          <a:xfrm>
            <a:off x="1398240" y="4581360"/>
            <a:ext cx="45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активностью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12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48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44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97800" cy="9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Изомеры –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40720" y="2349360"/>
            <a:ext cx="62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ое строение и раз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39280" y="350028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547560" y="292428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538560" y="4076640"/>
            <a:ext cx="69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ые свойства и одинаковую форм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4046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Вопрос 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6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8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88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2771640" y="3500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метил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2771640" y="4221000"/>
            <a:ext cx="31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метил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2771280" y="558972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метилбутен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2771280" y="4941720"/>
            <a:ext cx="32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метилбутен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771640" y="1844640"/>
            <a:ext cx="3168720" cy="1008000"/>
            <a:chOff x="2771640" y="1844640"/>
            <a:chExt cx="3168720" cy="1008000"/>
          </a:xfrm>
        </p:grpSpPr>
        <p:grpSp>
          <p:nvGrpSpPr>
            <p:cNvPr id="286" name=""/>
            <p:cNvGrpSpPr/>
            <p:nvPr/>
          </p:nvGrpSpPr>
          <p:grpSpPr>
            <a:xfrm>
              <a:off x="2771640" y="1844640"/>
              <a:ext cx="3168720" cy="979560"/>
              <a:chOff x="2771640" y="1844640"/>
              <a:chExt cx="3168720" cy="979560"/>
            </a:xfrm>
          </p:grpSpPr>
          <p:pic>
            <p:nvPicPr>
              <p:cNvPr id="287" name="" descr=""/>
              <p:cNvPicPr/>
              <p:nvPr/>
            </p:nvPicPr>
            <p:blipFill>
              <a:blip r:embed="rId6">
                <a:alphaModFix amt="6000"/>
              </a:blip>
              <a:stretch/>
            </p:blipFill>
            <p:spPr>
              <a:xfrm>
                <a:off x="2771640" y="184464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88" name=""/>
              <p:cNvSpPr/>
              <p:nvPr/>
            </p:nvSpPr>
            <p:spPr>
              <a:xfrm>
                <a:off x="4601160" y="218088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61480" y="218088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771640" y="184464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2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8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68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133080" y="378792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132720" y="446724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203640" y="583416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204720" y="518148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71640" y="2421000"/>
            <a:ext cx="3168720" cy="1008000"/>
            <a:chOff x="2771640" y="2421000"/>
            <a:chExt cx="3168720" cy="1008000"/>
          </a:xfrm>
        </p:grpSpPr>
        <p:grpSp>
          <p:nvGrpSpPr>
            <p:cNvPr id="297" name=""/>
            <p:cNvGrpSpPr/>
            <p:nvPr/>
          </p:nvGrpSpPr>
          <p:grpSpPr>
            <a:xfrm>
              <a:off x="2771640" y="2421000"/>
              <a:ext cx="3168720" cy="979560"/>
              <a:chOff x="2771640" y="2421000"/>
              <a:chExt cx="3168720" cy="979560"/>
            </a:xfrm>
          </p:grpSpPr>
          <p:pic>
            <p:nvPicPr>
              <p:cNvPr id="298" name="" descr=""/>
              <p:cNvPicPr/>
              <p:nvPr/>
            </p:nvPicPr>
            <p:blipFill>
              <a:blip r:embed="rId6">
                <a:alphaModFix amt="6000"/>
              </a:blip>
              <a:stretch/>
            </p:blipFill>
            <p:spPr>
              <a:xfrm>
                <a:off x="277164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99" name=""/>
              <p:cNvSpPr/>
              <p:nvPr/>
            </p:nvSpPr>
            <p:spPr>
              <a:xfrm>
                <a:off x="460116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6148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77164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520"/>
                            </p:stCondLst>
                            <p:childTnLst>
                              <p:par>
                                <p:cTn id="8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80"/>
                            </p:stCondLst>
                            <p:childTnLst>
                              <p:par>
                                <p:cTn id="8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680"/>
                            </p:stCondLst>
                            <p:childTnLst>
                              <p:par>
                                <p:cTn id="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3204360" y="393228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3205800" y="461016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5977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7800" y="532908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843280" y="2565360"/>
            <a:ext cx="3168720" cy="1008000"/>
            <a:chOff x="2843280" y="2565360"/>
            <a:chExt cx="3168720" cy="1008000"/>
          </a:xfrm>
        </p:grpSpPr>
        <p:grpSp>
          <p:nvGrpSpPr>
            <p:cNvPr id="308" name=""/>
            <p:cNvGrpSpPr/>
            <p:nvPr/>
          </p:nvGrpSpPr>
          <p:grpSpPr>
            <a:xfrm>
              <a:off x="2843280" y="2565360"/>
              <a:ext cx="3168720" cy="979560"/>
              <a:chOff x="2843280" y="2565360"/>
              <a:chExt cx="3168720" cy="9795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4">
                <a:alphaModFix amt="6000"/>
              </a:blip>
              <a:stretch/>
            </p:blipFill>
            <p:spPr>
              <a:xfrm>
                <a:off x="2843280" y="256536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10" name=""/>
              <p:cNvSpPr/>
              <p:nvPr/>
            </p:nvSpPr>
            <p:spPr>
              <a:xfrm>
                <a:off x="4672800" y="2901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33120" y="2901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843280" y="256536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2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80"/>
                            </p:stCondLst>
                            <p:childTnLst>
                              <p:par>
                                <p:cTn id="9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680"/>
                            </p:stCondLst>
                            <p:childTnLst>
                              <p:par>
                                <p:cTn id="9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3080" y="386064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2720" y="45385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590544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4720" y="525780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771640" y="2421000"/>
            <a:ext cx="3168720" cy="1008000"/>
            <a:chOff x="2771640" y="2421000"/>
            <a:chExt cx="3168720" cy="1008000"/>
          </a:xfrm>
        </p:grpSpPr>
        <p:grpSp>
          <p:nvGrpSpPr>
            <p:cNvPr id="319" name=""/>
            <p:cNvGrpSpPr/>
            <p:nvPr/>
          </p:nvGrpSpPr>
          <p:grpSpPr>
            <a:xfrm>
              <a:off x="2771640" y="2421000"/>
              <a:ext cx="3168720" cy="979560"/>
              <a:chOff x="2771640" y="2421000"/>
              <a:chExt cx="3168720" cy="9795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21" name=""/>
              <p:cNvSpPr/>
              <p:nvPr/>
            </p:nvSpPr>
            <p:spPr>
              <a:xfrm>
                <a:off x="460116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6148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277164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20"/>
                            </p:stCondLst>
                            <p:childTnLst>
                              <p:par>
                                <p:cTn id="9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8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680"/>
                            </p:stCondLst>
                            <p:childTnLst>
                              <p:par>
                                <p:cTn id="9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1640" y="3860640"/>
            <a:ext cx="18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0560" y="4514760"/>
            <a:ext cx="20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1840" y="58816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2200" y="52340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771640" y="2349360"/>
            <a:ext cx="3168720" cy="1008360"/>
            <a:chOff x="2771640" y="2349360"/>
            <a:chExt cx="3168720" cy="1008360"/>
          </a:xfrm>
        </p:grpSpPr>
        <p:grpSp>
          <p:nvGrpSpPr>
            <p:cNvPr id="330" name=""/>
            <p:cNvGrpSpPr/>
            <p:nvPr/>
          </p:nvGrpSpPr>
          <p:grpSpPr>
            <a:xfrm>
              <a:off x="2771640" y="2349360"/>
              <a:ext cx="3168720" cy="979920"/>
              <a:chOff x="2771640" y="2349360"/>
              <a:chExt cx="3168720" cy="979920"/>
            </a:xfrm>
          </p:grpSpPr>
          <p:pic>
            <p:nvPicPr>
              <p:cNvPr id="331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349360"/>
                <a:ext cx="3168720" cy="97992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32" name=""/>
              <p:cNvSpPr/>
              <p:nvPr/>
            </p:nvSpPr>
            <p:spPr>
              <a:xfrm>
                <a:off x="460116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6148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771640" y="2349360"/>
              <a:ext cx="3167280" cy="100836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20"/>
                            </p:stCondLst>
                            <p:childTnLst>
                              <p:par>
                                <p:cTn id="9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80"/>
                            </p:stCondLst>
                            <p:childTnLst>
                              <p:par>
                                <p:cTn id="9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680"/>
                            </p:stCondLst>
                            <p:childTnLst>
                              <p:par>
                                <p:cTn id="9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58560" y="3716280"/>
            <a:ext cx="18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4394160"/>
            <a:ext cx="20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0200" y="57610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50846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627280" y="2421000"/>
            <a:ext cx="3168720" cy="1008000"/>
            <a:chOff x="2627280" y="2421000"/>
            <a:chExt cx="3168720" cy="1008000"/>
          </a:xfrm>
        </p:grpSpPr>
        <p:grpSp>
          <p:nvGrpSpPr>
            <p:cNvPr id="341" name=""/>
            <p:cNvGrpSpPr/>
            <p:nvPr/>
          </p:nvGrpSpPr>
          <p:grpSpPr>
            <a:xfrm>
              <a:off x="2627280" y="2421000"/>
              <a:ext cx="3168720" cy="979560"/>
              <a:chOff x="2627280" y="2421000"/>
              <a:chExt cx="3168720" cy="979560"/>
            </a:xfrm>
          </p:grpSpPr>
          <p:pic>
            <p:nvPicPr>
              <p:cNvPr id="342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62728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43" name=""/>
              <p:cNvSpPr/>
              <p:nvPr/>
            </p:nvSpPr>
            <p:spPr>
              <a:xfrm>
                <a:off x="445680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712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62728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20"/>
                            </p:stCondLst>
                            <p:childTnLst>
                              <p:par>
                                <p:cTn id="9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80"/>
                            </p:stCondLst>
                            <p:childTnLst>
                              <p:par>
                                <p:cTn id="10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68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60000" y="374508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4160" y="573408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3657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3080" y="5084640"/>
            <a:ext cx="25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771640" y="2349360"/>
            <a:ext cx="3168720" cy="1008360"/>
            <a:chOff x="2771640" y="2349360"/>
            <a:chExt cx="3168720" cy="1008360"/>
          </a:xfrm>
        </p:grpSpPr>
        <p:grpSp>
          <p:nvGrpSpPr>
            <p:cNvPr id="352" name=""/>
            <p:cNvGrpSpPr/>
            <p:nvPr/>
          </p:nvGrpSpPr>
          <p:grpSpPr>
            <a:xfrm>
              <a:off x="2771640" y="2349360"/>
              <a:ext cx="3168720" cy="979920"/>
              <a:chOff x="2771640" y="2349360"/>
              <a:chExt cx="3168720" cy="97992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771640" y="2349360"/>
                <a:ext cx="3168720" cy="97992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54" name=""/>
              <p:cNvSpPr/>
              <p:nvPr/>
            </p:nvSpPr>
            <p:spPr>
              <a:xfrm>
                <a:off x="460116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61480" y="268560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2771640" y="2349360"/>
              <a:ext cx="3167280" cy="100836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2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120"/>
                            </p:stCondLst>
                            <p:childTnLst>
                              <p:par>
                                <p:cTn id="10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720"/>
                            </p:stCondLst>
                            <p:childTnLst>
                              <p:par>
                                <p:cTn id="10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8</a:t>
            </a:r>
            <a:br>
              <a:rPr sz="32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Как называется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8360" y="3789360"/>
            <a:ext cx="17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9440" y="5084640"/>
            <a:ext cx="18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-метилпе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8000" y="4437000"/>
            <a:ext cx="20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метилбутен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8360" y="566100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-метилбутен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843280" y="2421000"/>
            <a:ext cx="3168720" cy="1008000"/>
            <a:chOff x="2843280" y="2421000"/>
            <a:chExt cx="3168720" cy="1008000"/>
          </a:xfrm>
        </p:grpSpPr>
        <p:grpSp>
          <p:nvGrpSpPr>
            <p:cNvPr id="363" name=""/>
            <p:cNvGrpSpPr/>
            <p:nvPr/>
          </p:nvGrpSpPr>
          <p:grpSpPr>
            <a:xfrm>
              <a:off x="2843280" y="2421000"/>
              <a:ext cx="3168720" cy="979560"/>
              <a:chOff x="2843280" y="2421000"/>
              <a:chExt cx="3168720" cy="979560"/>
            </a:xfrm>
          </p:grpSpPr>
          <p:pic>
            <p:nvPicPr>
              <p:cNvPr id="364" name="" descr=""/>
              <p:cNvPicPr/>
              <p:nvPr/>
            </p:nvPicPr>
            <p:blipFill>
              <a:blip r:embed="rId2">
                <a:alphaModFix amt="6000"/>
              </a:blip>
              <a:stretch/>
            </p:blipFill>
            <p:spPr>
              <a:xfrm>
                <a:off x="2843280" y="2421000"/>
                <a:ext cx="3168720" cy="9795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365" name=""/>
              <p:cNvSpPr/>
              <p:nvPr/>
            </p:nvSpPr>
            <p:spPr>
              <a:xfrm>
                <a:off x="467280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33120" y="2757240"/>
                <a:ext cx="0" cy="201600"/>
              </a:xfrm>
              <a:prstGeom prst="line">
                <a:avLst/>
              </a:prstGeom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843280" y="2421000"/>
              <a:ext cx="3167280" cy="1008000"/>
            </a:xfrm>
            <a:prstGeom prst="rect">
              <a:avLst/>
            </a:prstGeom>
            <a:solidFill>
              <a:srgbClr val="00cc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20"/>
                            </p:stCondLst>
                            <p:childTnLst>
                              <p:par>
                                <p:cTn id="1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120"/>
                            </p:stCondLst>
                            <p:childTnLst>
                              <p:par>
                                <p:cTn id="10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68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92360" y="836640"/>
            <a:ext cx="590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тлично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140360" y="3429000"/>
            <a:ext cx="1131840" cy="22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824400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5858" y="10800"/>
                </a:moveTo>
                <a:lnTo>
                  <a:pt x="5353" y="17806"/>
                </a:lnTo>
                <a:lnTo>
                  <a:pt x="5353" y="3794"/>
                </a:lnTo>
                <a:close/>
              </a:path>
              <a:path fill="darken" w="24719" h="21600">
                <a:moveTo>
                  <a:pt x="17703" y="3794"/>
                </a:moveTo>
                <a:lnTo>
                  <a:pt x="17703" y="17806"/>
                </a:lnTo>
                <a:lnTo>
                  <a:pt x="19366" y="17806"/>
                </a:lnTo>
                <a:lnTo>
                  <a:pt x="193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908000" y="105264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хорош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95640" y="3573360"/>
            <a:ext cx="1009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595008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4768" y="10800"/>
                </a:moveTo>
                <a:lnTo>
                  <a:pt x="4263" y="17806"/>
                </a:lnTo>
                <a:lnTo>
                  <a:pt x="4263" y="3794"/>
                </a:lnTo>
                <a:close/>
              </a:path>
              <a:path fill="darken" w="22539" h="21600">
                <a:moveTo>
                  <a:pt x="16614" y="3794"/>
                </a:moveTo>
                <a:lnTo>
                  <a:pt x="16614" y="17806"/>
                </a:lnTo>
                <a:lnTo>
                  <a:pt x="18276" y="17806"/>
                </a:lnTo>
                <a:lnTo>
                  <a:pt x="1827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0163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2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Изомеры –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469080" y="2565360"/>
            <a:ext cx="62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 и раз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468000" y="386064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402840" y="321300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67280" y="4508640"/>
            <a:ext cx="69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е свойства и одинаковую форм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88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140360" y="3284640"/>
            <a:ext cx="9158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908000" y="981000"/>
            <a:ext cx="54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цен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>
            <a:off x="7956720" y="5805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5390" y="10800"/>
                </a:moveTo>
                <a:lnTo>
                  <a:pt x="4885" y="17806"/>
                </a:lnTo>
                <a:lnTo>
                  <a:pt x="4885" y="3794"/>
                </a:lnTo>
                <a:close/>
              </a:path>
              <a:path fill="darken" w="23783" h="21600">
                <a:moveTo>
                  <a:pt x="17235" y="3794"/>
                </a:moveTo>
                <a:lnTo>
                  <a:pt x="17235" y="17806"/>
                </a:lnTo>
                <a:lnTo>
                  <a:pt x="18898" y="17806"/>
                </a:lnTo>
                <a:lnTo>
                  <a:pt x="1889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116000" y="3630600"/>
            <a:ext cx="208764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050920" y="1125360"/>
            <a:ext cx="50119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67280" y="3429000"/>
            <a:ext cx="1152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382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18918" y="10800"/>
                </a:moveTo>
                <a:lnTo>
                  <a:pt x="8412" y="17806"/>
                </a:lnTo>
                <a:lnTo>
                  <a:pt x="8412" y="3794"/>
                </a:lnTo>
                <a:close/>
              </a:path>
              <a:path fill="darken" w="30837" h="21600">
                <a:moveTo>
                  <a:pt x="20763" y="3794"/>
                </a:moveTo>
                <a:lnTo>
                  <a:pt x="20763" y="17806"/>
                </a:lnTo>
                <a:lnTo>
                  <a:pt x="22425" y="17806"/>
                </a:lnTo>
                <a:lnTo>
                  <a:pt x="2242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1700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</a:t>
            </a:r>
            <a:r>
              <a:rPr b="0" i="1" lang="ru-RU" sz="3200" spc="-1" strike="noStrike" u="sng">
                <a:solidFill>
                  <a:srgbClr val="000066"/>
                </a:solidFill>
                <a:uFillTx/>
                <a:latin typeface="Monotype Corsiva"/>
              </a:rPr>
              <a:t>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3</a:t>
            </a:r>
            <a:br>
              <a:rPr sz="3200"/>
            </a:b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41440" y="4437000"/>
            <a:ext cx="44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467280" y="3789360"/>
            <a:ext cx="79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75920" y="2421000"/>
            <a:ext cx="758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468000" y="3068640"/>
            <a:ext cx="84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2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2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3</a:t>
            </a:r>
            <a:br>
              <a:rPr sz="3600"/>
            </a:b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42160" y="32115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39280" y="4653000"/>
            <a:ext cx="78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7920" y="2421000"/>
            <a:ext cx="74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540360" y="3933720"/>
            <a:ext cx="83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6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4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3</a:t>
            </a:r>
            <a:br>
              <a:rPr sz="3600"/>
            </a:br>
            <a:r>
              <a:rPr b="0" i="1" lang="ru-RU" sz="36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Гомологи - это вещества, име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640" y="2421000"/>
            <a:ext cx="74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ое строение, отличаются на группу -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11640" y="3213000"/>
            <a:ext cx="83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ую молекулярную формулу и раз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610560" y="4869000"/>
            <a:ext cx="78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аков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613440" y="40053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е строение и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7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2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48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</a:rPr>
              <a:t>Что изображено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703240" y="4581360"/>
            <a:ext cx="19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м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2702520" y="3933720"/>
            <a:ext cx="19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2773440" y="5157720"/>
            <a:ext cx="42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 и то же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40000" y="1341360"/>
            <a:ext cx="4032000" cy="2251080"/>
            <a:chOff x="2340000" y="1341360"/>
            <a:chExt cx="4032000" cy="225108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484360" y="134136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40000" y="134136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4360" y="184644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8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132000" y="422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м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133440" y="479736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132000" y="5300640"/>
            <a:ext cx="36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 и то ж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84360" y="1341360"/>
            <a:ext cx="4032000" cy="2251080"/>
            <a:chOff x="2484360" y="1341360"/>
            <a:chExt cx="4032000" cy="225108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2628720" y="1341360"/>
              <a:ext cx="38354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84360" y="1341360"/>
              <a:ext cx="40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8720" y="1846440"/>
              <a:ext cx="3816360" cy="1726920"/>
            </a:xfrm>
            <a:prstGeom prst="rect">
              <a:avLst/>
            </a:prstGeom>
            <a:solidFill>
              <a:srgbClr val="ccffff">
                <a:alpha val="4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9280" y="620640"/>
            <a:ext cx="869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Monotype Corsiva"/>
                <a:ea typeface="Arial"/>
              </a:rPr>
              <a:t>Вопрос 4</a:t>
            </a: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Что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6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8:10:40Z</dcterms:created>
  <dc:creator>слушатель</dc:creator>
  <dc:description/>
  <dc:language>en-US</dc:language>
  <cp:lastModifiedBy>User</cp:lastModifiedBy>
  <dcterms:modified xsi:type="dcterms:W3CDTF">2009-11-24T10:53:54Z</dcterms:modified>
  <cp:revision>65</cp:revision>
  <dc:subject/>
  <dc:title>Строение атома и ПСХЭ</dc:title>
</cp:coreProperties>
</file>