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F3A2C-DD77-401D-8F22-7A35523F0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ACA47-08BD-40F3-B32B-42A86F01B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BF58-3F2C-432D-A4F1-E9A7CEB88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EAD0-B66E-4368-AAE4-326E4E13F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95AC-7CFD-43E9-AA9E-EA8ECAAE4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33AB-76E6-47E1-9337-C058D2BDE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461B-850B-4B92-9FE6-D40CA7584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6AA3-B3E8-49AE-B8E7-311A31892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1D90-9E8B-4EAA-9E31-1815B3152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2D5F-8796-4050-B3C6-07AF80A3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D162-F01A-48CA-A5DD-B9D1738B1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95CF-773D-4DAA-A15C-BAC91E713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32F0-52D8-4398-8509-0C41880C4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654F-5F37-4094-9CFC-E3707D824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182A-8EDE-4F12-ADA3-325882E528F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mabox.ru/wp-content/uploads/2012/12/book.png" TargetMode="External"/><Relationship Id="rId3" Type="http://schemas.openxmlformats.org/officeDocument/2006/relationships/hyperlink" Target="http://www.nlr.ru/fonds/manuscripts/images/rus/63_2.jpg" TargetMode="External"/><Relationship Id="rId4" Type="http://schemas.openxmlformats.org/officeDocument/2006/relationships/hyperlink" Target="http://ic.pics.livejournal.com/bookclubby/44285133/28139/28139_original.jpg" TargetMode="External"/><Relationship Id="rId5" Type="http://schemas.openxmlformats.org/officeDocument/2006/relationships/hyperlink" Target="http://content.foto.mail.ru/mail/makhrakova5/_answers/i-5268.jpg" TargetMode="External"/><Relationship Id="rId6" Type="http://schemas.openxmlformats.org/officeDocument/2006/relationships/hyperlink" Target="http://imworld.ru/wp-content/uploads/2014/06/Samaya-malenkaya-kniga.jpg" TargetMode="External"/><Relationship Id="rId7" Type="http://schemas.openxmlformats.org/officeDocument/2006/relationships/hyperlink" Target="http://img-fotki.yandex.ru/get/4113/kozak56.1/0_23168_53854150_L.jpg" TargetMode="External"/><Relationship Id="rId8" Type="http://schemas.openxmlformats.org/officeDocument/2006/relationships/hyperlink" Target="http://www.pravoslavie.ru/sas/image/100842/84267.b.jpg" TargetMode="External"/><Relationship Id="rId9" Type="http://schemas.openxmlformats.org/officeDocument/2006/relationships/hyperlink" Target="http://pechatnyj-dvor.su/print/00000259.jpg" TargetMode="External"/><Relationship Id="rId10" Type="http://schemas.openxmlformats.org/officeDocument/2006/relationships/hyperlink" Target="https://encrypted-tbn3.gstatic.com/images?q=tbn:ANd9GcQorDQDY0DIFx2_RaF5oZvYkQDMPsNReO9mqxnSBJThb0n3SvJn" TargetMode="External"/><Relationship Id="rId11" Type="http://schemas.openxmlformats.org/officeDocument/2006/relationships/hyperlink" Target="https://encrypted-tbn1.gstatic.com/images?q=tbn:ANd9GcT4NApXmVC9lNH44f_7tZGzrYsIRzMZZOGFE5u6mXScdN8rOsYP5w" TargetMode="External"/><Relationship Id="rId12" Type="http://schemas.openxmlformats.org/officeDocument/2006/relationships/hyperlink" Target="https://encrypted-tbn2.gstatic.com/images?q=tbn:ANd9GcSu_Rqdq_9pkUMc-B31e86Mas-CgUG_6hznJXthVZ919-oruIC4Jg" TargetMode="External"/><Relationship Id="rId13" Type="http://schemas.openxmlformats.org/officeDocument/2006/relationships/hyperlink" Target="https://encrypted-tbn3.gstatic.com/images?q=tbn:ANd9GcTvstGKSIoeUfcuHoW3L7Lqpyypsn40lbNaDL7ng8c1QZLN0Wm0" TargetMode="External"/><Relationship Id="rId14" Type="http://schemas.openxmlformats.org/officeDocument/2006/relationships/hyperlink" Target="https://encrypted-tbn3.gstatic.com/images?q=tbn:ANd9GcSFk0VPYmtKyWajZmsF60D8W96vs2_txo4_6IMNJOzKcQEMlqLBAQ" TargetMode="Externa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ypsy.dp.ua/media/k2/items/cache/0d0c19531d6e29f793ed165732978408_XL.jpg" TargetMode="External"/><Relationship Id="rId3" Type="http://schemas.openxmlformats.org/officeDocument/2006/relationships/hyperlink" Target="http://www.eroshka.ru/e107_files/public/1327500858_562_FT4246_animacija_26.gif" TargetMode="External"/><Relationship Id="rId4" Type="http://schemas.openxmlformats.org/officeDocument/2006/relationships/hyperlink" Target="http://www.eroshka.ru/e107_files/public/1327500858_562_FT4246_animacija_26.gif" TargetMode="External"/><Relationship Id="rId5" Type="http://schemas.openxmlformats.org/officeDocument/2006/relationships/hyperlink" Target="http://www.eroshka.ru/e107_files/public/1327500858_562_FT4246_animacija_26.gif" TargetMode="External"/><Relationship Id="rId6" Type="http://schemas.openxmlformats.org/officeDocument/2006/relationships/hyperlink" Target="http://www.eroshka.ru/e107_files/public/1327500858_562_FT4246_animacija_26.gif" TargetMode="External"/><Relationship Id="rId7" Type="http://schemas.openxmlformats.org/officeDocument/2006/relationships/hyperlink" Target="http://www.eroshka.ru/e107_files/public/1327500858_562_FT4246_animacija_26.gif" TargetMode="External"/><Relationship Id="rId8" Type="http://schemas.openxmlformats.org/officeDocument/2006/relationships/hyperlink" Target="http://www.eroshka.ru/e107_files/public/1327500858_562_FT4246_animacija_26.gif" TargetMode="External"/><Relationship Id="rId9" Type="http://schemas.openxmlformats.org/officeDocument/2006/relationships/hyperlink" Target="http://static.eva.ru/eva/180000-190000/181645/channel/1519122366432637.png" TargetMode="External"/><Relationship Id="rId10" Type="http://schemas.openxmlformats.org/officeDocument/2006/relationships/hyperlink" Target="http://static.eva.ru/eva/180000-190000/181645/channel/1519122366432637.png" TargetMode="External"/><Relationship Id="rId11" Type="http://schemas.openxmlformats.org/officeDocument/2006/relationships/hyperlink" Target="http://static.eva.ru/eva/180000-190000/181645/channel/1519122366432637.png" TargetMode="External"/><Relationship Id="rId12" Type="http://schemas.openxmlformats.org/officeDocument/2006/relationships/hyperlink" Target="http://static.eva.ru/eva/180000-190000/181645/channel/1519122366432637.png" TargetMode="External"/><Relationship Id="rId13" Type="http://schemas.openxmlformats.org/officeDocument/2006/relationships/hyperlink" Target="http://static.eva.ru/eva/180000-190000/181645/channel/1519122366432637.png" TargetMode="External"/><Relationship Id="rId14" Type="http://schemas.openxmlformats.org/officeDocument/2006/relationships/hyperlink" Target="http://static.eva.ru/eva/180000-190000/181645/channel/1519122366432637.png" TargetMode="External"/><Relationship Id="rId15" Type="http://schemas.openxmlformats.org/officeDocument/2006/relationships/hyperlink" Target="http://static.eva.ru/eva/180000-190000/181645/channel/1519122366432637.png" TargetMode="External"/><Relationship Id="rId16" Type="http://schemas.openxmlformats.org/officeDocument/2006/relationships/hyperlink" Target="http://static.eva.ru/eva/180000-190000/181645/channel/1519122366432637.png" TargetMode="External"/><Relationship Id="rId17" Type="http://schemas.openxmlformats.org/officeDocument/2006/relationships/hyperlink" Target="https://encrypted-tbn0.gstatic.com/images?q=tbn:ANd9GcTTOdwiSVdkTXA2o_3EjRxm5zEOB5e_QB2jooUmOhZvTuydVUZ4mw" TargetMode="External"/><Relationship Id="rId18" Type="http://schemas.openxmlformats.org/officeDocument/2006/relationships/hyperlink" Target="https://encrypted-tbn0.gstatic.com/images?q=tbn:ANd9GcTTOdwiSVdkTXA2o_3EjRxm5zEOB5e_QB2jooUmOhZvTuydVUZ4mw" TargetMode="External"/><Relationship Id="rId19" Type="http://schemas.openxmlformats.org/officeDocument/2006/relationships/hyperlink" Target="https://encrypted-tbn0.gstatic.com/images?q=tbn:ANd9GcTTOdwiSVdkTXA2o_3EjRxm5zEOB5e_QB2jooUmOhZvTuydVUZ4mw" TargetMode="External"/><Relationship Id="rId20" Type="http://schemas.openxmlformats.org/officeDocument/2006/relationships/hyperlink" Target="http://game4kid.ru/sites/default/files/images/kubiki.jpg" TargetMode="External"/><Relationship Id="rId21" Type="http://schemas.openxmlformats.org/officeDocument/2006/relationships/hyperlink" Target="http://1.bp.blogspot.com/-zJrJCiKEYZ4/UAfR11mkZkI/AAAAAAAAEgg/ObFhkHB9B3A/s640/7407003.jpg" TargetMode="External"/><Relationship Id="rId22" Type="http://schemas.openxmlformats.org/officeDocument/2006/relationships/hyperlink" Target="http://ykdom.ru/wp-content/uploads/2013/01/kniga_1.jpg" TargetMode="External"/><Relationship Id="rId23" Type="http://schemas.openxmlformats.org/officeDocument/2006/relationships/hyperlink" Target="https://encrypted-tbn2.gstatic.com/images?q=tbn:ANd9GcSVXvLl9H2P9eoPEOkXfApRWL-cxh1b0-uIKszG1mQ7dP0T2D1r" TargetMode="External"/><Relationship Id="rId24" Type="http://schemas.openxmlformats.org/officeDocument/2006/relationships/hyperlink" Target="https://encrypted-tbn3.gstatic.com/images?q=tbn:ANd9GcRZUDfaFBI_bM9OaMXDgziICcWlAD7iI_fWUOoYYdPRCI9ekNZnPQ" TargetMode="External"/><Relationship Id="rId25" Type="http://schemas.openxmlformats.org/officeDocument/2006/relationships/hyperlink" Target="https://encrypted-tbn3.gstatic.com/images?q=tbn:ANd9GcQIxZMOy8dxqkyGxPCITP2xDTOPW8mdhcW_jrLZgH1YAs9c3kAE1w" TargetMode="External"/><Relationship Id="rId26" Type="http://schemas.openxmlformats.org/officeDocument/2006/relationships/hyperlink" Target="https://encrypted-tbn3.gstatic.com/images?q=tbn:ANd9GcS_HUJ-ZmEIHSB05StGogM8pC9xWH7MllL0dLCmfAx1OJyNQQp7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" y="101520"/>
            <a:ext cx="88776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1378080"/>
            <a:ext cx="7772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mamabox.ru/wp-content/uploads/2012/12/book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nlr.ru/fonds/manuscripts/images/rus/63_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c.pics.livejournal.com/bookclubby/44285133/28139/28139_origina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ontent.foto.mail.ru/mail/makhrakova5/_answers/i-526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imworld.ru/wp-content/uploads/2014/06/Samaya-malenkaya-knig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g-fotki.yandex.ru/get/4113/kozak56.1/0_23168_53854150_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pravoslavie.ru/sas/image/100842/84267.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pechatnyj-dvor.su/print/0000025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s://encrypted-tbn3.gstatic.com/images?q=tbn:ANd9GcQorDQDY0DIFx2_RaF5oZvYkQDMPsNReO9mqxnSBJThb0n3Sv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s://encrypted-tbn1.gstatic.com/images?q=tbn:ANd9GcT4NApXmVC9lNH44f_7tZGzrYsIRzMZZOGFE5u6mXScdN8rOsYP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s://encrypted-tbn2.gstatic.com/images?q=tbn:ANd9GcSu_Rqdq_9pkUMc-B31e86Mas-CgUG_6hznJXthVZ919-oruIC4J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s://encrypted-tbn3.gstatic.com/images?q=tbn:ANd9GcTvstGKSIoeUfcuHoW3L7Lqpyypsn40lbNaDL7ng8c1QZLN0Wm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s://encrypted-tbn3.gstatic.com/images?q=tbn:ANd9GcSFk0VPYmtKyWajZmsF60D8W96vs2_txo4_6IMNJOzKcQEMlqLB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http://s54.radikal.ru/i143/1108/82/45486bcfe260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http://englishgu.ru/wp-content/uploads/lingvisticheskaya-olimpiad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http://1.bp.blogspot.com/-300EkgkfvL8/UKKU3_p53vI/AAAAAAAAALc/0kUwxp-bh_A/s1600/323919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1s1.hsmedia.ru/e9/05/d3/e905d35b61e31dffaa96aac6e51e8679/494x326_0xc0a8393c_453821619137046628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.bp.blogspot.com/-8FDuO2AHuls/Ua-KF2JtS3I/AAAAAAAAAC8/HX6qc4DG_u4/s1600/1313162004_kniga-lubov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g0.liveinternet.ru/images/attach/c/10/112/207/112207504_tancuyuschiy_stul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36720" y="4416480"/>
            <a:ext cx="2819160" cy="2711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21859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533520"/>
            <a:ext cx="5257800" cy="1828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лассный  ча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320040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Урок Мир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533520" y="2057400"/>
            <a:ext cx="7900920" cy="3494160"/>
            <a:chOff x="533520" y="2057400"/>
            <a:chExt cx="7900920" cy="34941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7900920" cy="34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520" y="2057400"/>
              <a:ext cx="7900920" cy="34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2971800" y="22860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257800" y="152388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91320" y="274320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81280" y="358128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28954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19320" y="16002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02920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86200" y="487692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жб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24480" y="4267080"/>
            <a:ext cx="19814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п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0" y="586728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638680" y="5867280"/>
            <a:ext cx="19814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76520" y="38088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тегия "Ассоциации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057400" y="380880"/>
            <a:ext cx="51055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вор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12952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2952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295280"/>
            <a:ext cx="8384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12952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133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1337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1337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2133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21337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9718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2971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971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9718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971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809880"/>
            <a:ext cx="8384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809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09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809880"/>
            <a:ext cx="8384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809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648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4648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648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648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4648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267080"/>
            <a:ext cx="1371600" cy="1800"/>
          </a:xfrm>
          <a:custGeom>
            <a:avLst/>
            <a:gdLst/>
            <a:ahLst/>
            <a:rect l="l" t="t" r="r" b="b"/>
            <a:pathLst>
              <a:path w="3811" h="6">
                <a:moveTo>
                  <a:pt x="0" y="0"/>
                </a:moveTo>
                <a:lnTo>
                  <a:pt x="3810" y="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4267080"/>
            <a:ext cx="1440" cy="990720"/>
          </a:xfrm>
          <a:custGeom>
            <a:avLst/>
            <a:gdLst/>
            <a:ahLst/>
            <a:rect l="l" t="t" r="r" b="b"/>
            <a:pathLst>
              <a:path w="5" h="2753">
                <a:moveTo>
                  <a:pt x="0" y="0"/>
                </a:moveTo>
                <a:lnTo>
                  <a:pt x="4" y="2752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828800"/>
            <a:ext cx="1218960" cy="1440"/>
          </a:xfrm>
          <a:custGeom>
            <a:avLst/>
            <a:gdLst/>
            <a:ahLst/>
            <a:rect l="l" t="t" r="r" b="b"/>
            <a:pathLst>
              <a:path w="3387" h="5">
                <a:moveTo>
                  <a:pt x="0" y="0"/>
                </a:moveTo>
                <a:lnTo>
                  <a:pt x="3386" y="4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1828800"/>
            <a:ext cx="1800" cy="3352680"/>
          </a:xfrm>
          <a:custGeom>
            <a:avLst/>
            <a:gdLst/>
            <a:ahLst/>
            <a:rect l="l" t="t" r="r" b="b"/>
            <a:pathLst>
              <a:path w="6" h="9314">
                <a:moveTo>
                  <a:pt x="0" y="0"/>
                </a:moveTo>
                <a:lnTo>
                  <a:pt x="5" y="9313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181480"/>
            <a:ext cx="838440" cy="1800"/>
          </a:xfrm>
          <a:custGeom>
            <a:avLst/>
            <a:gdLst/>
            <a:ahLst/>
            <a:rect l="l" t="t" r="r" b="b"/>
            <a:pathLst>
              <a:path w="2330" h="6">
                <a:moveTo>
                  <a:pt x="0" y="0"/>
                </a:moveTo>
                <a:lnTo>
                  <a:pt x="2329" y="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54864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4864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54864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648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809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971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1337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4864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4864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864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952880"/>
            <a:ext cx="3504960" cy="1800"/>
          </a:xfrm>
          <a:custGeom>
            <a:avLst/>
            <a:gdLst/>
            <a:ahLst/>
            <a:rect l="l" t="t" r="r" b="b"/>
            <a:pathLst>
              <a:path w="9737" h="6">
                <a:moveTo>
                  <a:pt x="0" y="0"/>
                </a:moveTo>
                <a:lnTo>
                  <a:pt x="9736" y="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276720"/>
            <a:ext cx="1800" cy="1066680"/>
          </a:xfrm>
          <a:custGeom>
            <a:avLst/>
            <a:gdLst/>
            <a:ahLst/>
            <a:rect l="l" t="t" r="r" b="b"/>
            <a:pathLst>
              <a:path w="6" h="2964">
                <a:moveTo>
                  <a:pt x="0" y="0"/>
                </a:moveTo>
                <a:lnTo>
                  <a:pt x="5" y="2963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343400"/>
            <a:ext cx="1676520" cy="1440"/>
          </a:xfrm>
          <a:custGeom>
            <a:avLst/>
            <a:gdLst/>
            <a:ahLst/>
            <a:rect l="l" t="t" r="r" b="b"/>
            <a:pathLst>
              <a:path w="4658" h="5">
                <a:moveTo>
                  <a:pt x="0" y="0"/>
                </a:moveTo>
                <a:lnTo>
                  <a:pt x="4657" y="4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349800"/>
            <a:ext cx="1440" cy="996840"/>
          </a:xfrm>
          <a:custGeom>
            <a:avLst/>
            <a:gdLst/>
            <a:ahLst/>
            <a:rect l="l" t="t" r="r" b="b"/>
            <a:pathLst>
              <a:path w="5" h="2770">
                <a:moveTo>
                  <a:pt x="0" y="2769"/>
                </a:moveTo>
                <a:lnTo>
                  <a:pt x="4" y="0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352680"/>
            <a:ext cx="2209680" cy="1800"/>
          </a:xfrm>
          <a:custGeom>
            <a:avLst/>
            <a:gdLst/>
            <a:ahLst/>
            <a:rect l="l" t="t" r="r" b="b"/>
            <a:pathLst>
              <a:path w="6139" h="6">
                <a:moveTo>
                  <a:pt x="0" y="0"/>
                </a:moveTo>
                <a:lnTo>
                  <a:pt x="6138" y="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2760" y="5943600"/>
            <a:ext cx="3740040" cy="1440"/>
          </a:xfrm>
          <a:custGeom>
            <a:avLst/>
            <a:gdLst/>
            <a:ahLst/>
            <a:rect l="l" t="t" r="r" b="b"/>
            <a:pathLst>
              <a:path w="10390" h="5">
                <a:moveTo>
                  <a:pt x="10389" y="0"/>
                </a:moveTo>
                <a:lnTo>
                  <a:pt x="0" y="4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295280"/>
            <a:ext cx="8384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2952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673280"/>
            <a:ext cx="1440" cy="1987560"/>
          </a:xfrm>
          <a:custGeom>
            <a:avLst/>
            <a:gdLst/>
            <a:ahLst/>
            <a:rect l="l" t="t" r="r" b="b"/>
            <a:pathLst>
              <a:path w="5" h="5522">
                <a:moveTo>
                  <a:pt x="0" y="5521"/>
                </a:moveTo>
                <a:lnTo>
                  <a:pt x="4" y="0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676520"/>
            <a:ext cx="990720" cy="1440"/>
          </a:xfrm>
          <a:custGeom>
            <a:avLst/>
            <a:gdLst/>
            <a:ahLst/>
            <a:rect l="l" t="t" r="r" b="b"/>
            <a:pathLst>
              <a:path w="2753" h="5">
                <a:moveTo>
                  <a:pt x="0" y="0"/>
                </a:moveTo>
                <a:lnTo>
                  <a:pt x="2752" y="4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1676520"/>
            <a:ext cx="1440" cy="1143000"/>
          </a:xfrm>
          <a:custGeom>
            <a:avLst/>
            <a:gdLst/>
            <a:ahLst/>
            <a:rect l="l" t="t" r="r" b="b"/>
            <a:pathLst>
              <a:path w="5" h="3176">
                <a:moveTo>
                  <a:pt x="0" y="0"/>
                </a:moveTo>
                <a:lnTo>
                  <a:pt x="4" y="317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666880"/>
            <a:ext cx="1066680" cy="1800"/>
          </a:xfrm>
          <a:custGeom>
            <a:avLst/>
            <a:gdLst/>
            <a:ahLst/>
            <a:rect l="l" t="t" r="r" b="b"/>
            <a:pathLst>
              <a:path w="2964" h="6">
                <a:moveTo>
                  <a:pt x="0" y="0"/>
                </a:moveTo>
                <a:lnTo>
                  <a:pt x="2963" y="5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521000"/>
            <a:ext cx="76320" cy="1149120"/>
          </a:xfrm>
          <a:custGeom>
            <a:avLst/>
            <a:gdLst/>
            <a:ahLst/>
            <a:rect l="l" t="t" r="r" b="b"/>
            <a:pathLst>
              <a:path w="213" h="3193">
                <a:moveTo>
                  <a:pt x="0" y="3192"/>
                </a:moveTo>
                <a:lnTo>
                  <a:pt x="212" y="0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1600200"/>
            <a:ext cx="1600200" cy="1440"/>
          </a:xfrm>
          <a:custGeom>
            <a:avLst/>
            <a:gdLst/>
            <a:ahLst/>
            <a:rect l="l" t="t" r="r" b="b"/>
            <a:pathLst>
              <a:path w="4446" h="5">
                <a:moveTo>
                  <a:pt x="0" y="0"/>
                </a:moveTo>
                <a:lnTo>
                  <a:pt x="4445" y="4"/>
                </a:lnTo>
              </a:path>
            </a:pathLst>
          </a:custGeom>
          <a:noFill/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0360" y="214200"/>
            <a:ext cx="4032360" cy="3314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87920" y="212760"/>
            <a:ext cx="4167000" cy="3243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60360" y="3527280"/>
            <a:ext cx="4032360" cy="309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680000" y="3478320"/>
            <a:ext cx="4176720" cy="30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4440" y="685800"/>
            <a:ext cx="7000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2000" y="1152360"/>
            <a:ext cx="748836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609480"/>
            <a:ext cx="605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7640" y="1011240"/>
            <a:ext cx="770436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28600" y="304920"/>
            <a:ext cx="709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28520"/>
            <a:ext cx="82296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 всем мире – мечт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люди живут, как одна сем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ольше не будет войн и оруд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двери откроют в домах повсю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 и доверие – это по м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ир бесконечный – всей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38280" y="30492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066680"/>
            <a:ext cx="853416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ое сопровождение - R.Claydeman_Mariage d'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mypsy.dp.ua/media/k2/items/cache/0d0c19531d6e29f793ed165732978408_XL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eroshka.ru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e107_files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ublic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1327500858_562_FT4246_animacija_26.g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static.eva.ru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eva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/180000-190000/181645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hannel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1519122366432637.p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s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://encrypted-tbn0.gstatic.com/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images?q=tbn:ANd9GcTTOdwiSVdkTXA2o_3EjRxm5zEOB5e_QB2jooUmOhZvTuydVUZ4m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game4kid.ru/sites/default/files/images/kubiki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1.bp.blogspot.com/-zJrJCiKEYZ4/UAfR11mkZkI/AAAAAAAAEgg/ObFhkHB9B3A/s640/7407003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ykdom.ru/wp-content/uploads/2013/01/kniga_1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s://encrypted-tbn2.gstatic.com/images?q=tbn:ANd9GcSVXvLl9H2P9eoPEOkXfApRWL-cxh1b0-uIKszG1mQ7dP0T2D1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s://encrypted-tbn3.gstatic.com/images?q=tbn:ANd9GcRZUDfaFBI_bM9OaMXDgziICcWlAD7iI_fWUOoYYdPRCI9ekNZnPQ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s://encrypted-tbn3.gstatic.com/images?q=tbn:ANd9GcQIxZMOy8dxqkyGxPCITP2xDTOPW8mdhcW_jrLZgH1YAs9c3kAE1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s://encrypted-tbn3.gstatic.com/images?q=tbn:ANd9GcS_HUJ-ZmEIHSB05StGogM8pC9xWH7MllL0dLCmfAx1OJyNQQp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Пользователь Windows</cp:lastModifiedBy>
  <dcterms:modified xsi:type="dcterms:W3CDTF">2017-08-31T19:53:1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