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055D-D341-45AC-A3D9-F84B429D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AB81-403F-4EDF-9E5B-EECA019F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218-3BA2-4862-8008-984CA1CE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1401-DEAB-408F-8CC5-D27C4FBE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63F0-09E8-4CB3-8C71-54388CD1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06C4-097B-4C6C-9877-FE82F62D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A76E-9663-435C-AB10-2DA74C2A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44A8-AAC6-47F5-B3B5-41A4BB5F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942F-4391-4938-B69C-43AE5596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12B0-306B-42B5-8455-AD882BBB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68ED-1701-47C6-9553-447761F0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5D47-5C05-4F5C-8531-A03D5E78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184E-6AE2-406E-842B-EF6229D46E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66ff"/>
                </a:solidFill>
                <a:latin typeface="Arial"/>
              </a:rPr>
              <a:t>Виктор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1636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ff"/>
                </a:solidFill>
                <a:latin typeface="Arial"/>
              </a:rPr>
              <a:t>«Народная мудр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66ff"/>
                </a:solidFill>
                <a:latin typeface="Arial"/>
              </a:rPr>
              <a:t>о труд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Ваня с топором"/>
          <p:cNvPicPr/>
          <p:nvPr/>
        </p:nvPicPr>
        <p:blipFill>
          <a:blip r:embed="rId1"/>
          <a:stretch/>
        </p:blipFill>
        <p:spPr>
          <a:xfrm>
            <a:off x="395280" y="2276640"/>
            <a:ext cx="267804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Arial"/>
              </a:rPr>
              <a:t>Конкурс «Отгадай послови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манда «Мальч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ципа"/>
          <p:cNvPicPr/>
          <p:nvPr/>
        </p:nvPicPr>
        <p:blipFill>
          <a:blip r:embed="rId1"/>
          <a:stretch/>
        </p:blipFill>
        <p:spPr>
          <a:xfrm>
            <a:off x="2843280" y="2997360"/>
            <a:ext cx="2520720" cy="2315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ципа"/>
          <p:cNvPicPr/>
          <p:nvPr/>
        </p:nvPicPr>
        <p:blipFill>
          <a:blip r:embed="rId2"/>
          <a:stretch/>
        </p:blipFill>
        <p:spPr>
          <a:xfrm>
            <a:off x="5076720" y="2025720"/>
            <a:ext cx="2664000" cy="244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ципа"/>
          <p:cNvPicPr/>
          <p:nvPr/>
        </p:nvPicPr>
        <p:blipFill>
          <a:blip r:embed="rId3"/>
          <a:stretch/>
        </p:blipFill>
        <p:spPr>
          <a:xfrm>
            <a:off x="539640" y="2205000"/>
            <a:ext cx="2622600" cy="24098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1642320" y="5734080"/>
            <a:ext cx="55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«Цыплят по осени считаю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Arial"/>
              </a:rPr>
              <a:t>Конкурс «Отгадай послови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манда «Девоч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хлеб"/>
          <p:cNvPicPr/>
          <p:nvPr/>
        </p:nvPicPr>
        <p:blipFill>
          <a:blip r:embed="rId1"/>
          <a:stretch/>
        </p:blipFill>
        <p:spPr>
          <a:xfrm>
            <a:off x="1835280" y="2565360"/>
            <a:ext cx="5153040" cy="22716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2338920" y="52293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Хлеб- всему голов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Arial"/>
              </a:rPr>
              <a:t>Конкурс «Отгадай послови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манда «Мальч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журавль"/>
          <p:cNvPicPr/>
          <p:nvPr/>
        </p:nvPicPr>
        <p:blipFill>
          <a:blip r:embed="rId1"/>
          <a:stretch/>
        </p:blipFill>
        <p:spPr>
          <a:xfrm>
            <a:off x="971640" y="2421000"/>
            <a:ext cx="2473200" cy="345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синица с названи"/>
          <p:cNvPicPr/>
          <p:nvPr/>
        </p:nvPicPr>
        <p:blipFill>
          <a:blip r:embed="rId2"/>
          <a:stretch/>
        </p:blipFill>
        <p:spPr>
          <a:xfrm>
            <a:off x="4859280" y="2492280"/>
            <a:ext cx="3051360" cy="33879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540000" y="5921280"/>
            <a:ext cx="84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Лучше синица в руке, чем журавль в неб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Arial"/>
              </a:rPr>
              <a:t>Конкурс «Отгадай послови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манда «Девоч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ноги"/>
          <p:cNvPicPr/>
          <p:nvPr/>
        </p:nvPicPr>
        <p:blipFill>
          <a:blip r:embed="rId1"/>
          <a:stretch/>
        </p:blipFill>
        <p:spPr>
          <a:xfrm>
            <a:off x="611280" y="2349360"/>
            <a:ext cx="3252600" cy="2984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1752840" y="5734080"/>
            <a:ext cx="56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Ноги носят, а руки кормя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рука"/>
          <p:cNvPicPr/>
          <p:nvPr/>
        </p:nvPicPr>
        <p:blipFill>
          <a:blip r:embed="rId2"/>
          <a:stretch/>
        </p:blipFill>
        <p:spPr>
          <a:xfrm>
            <a:off x="5796000" y="2276640"/>
            <a:ext cx="1116000" cy="2987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рука"/>
          <p:cNvPicPr/>
          <p:nvPr/>
        </p:nvPicPr>
        <p:blipFill>
          <a:blip r:embed="rId3"/>
          <a:stretch/>
        </p:blipFill>
        <p:spPr>
          <a:xfrm>
            <a:off x="6877080" y="2276640"/>
            <a:ext cx="111600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Конкурс</a:t>
            </a:r>
            <a:br>
              <a:rPr sz="3600"/>
            </a:b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«Пантомим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5736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Изобразите пословицу с помощью мимики и жес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79280" y="386064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«Что посеешь, то и            пожнеш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3848400" y="5084640"/>
            <a:ext cx="473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«Труд человека корм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 лень порти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Конкурс «Угадайка».</a:t>
            </a:r>
            <a:br>
              <a:rPr sz="3600"/>
            </a:b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В каких случаях мы так говори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52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манда «Мальч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1.«Откладывать в долгий ящи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2.«Знать как свои пять пальце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манда «Девоч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1. «Быть на седьмом неб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2. «Встать с левой ног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Конкурс «Разминка»</a:t>
            </a:r>
            <a:br>
              <a:rPr sz="3600"/>
            </a:br>
            <a:r>
              <a:rPr b="1" lang="ru-RU" sz="2500" spc="-1" strike="noStrike">
                <a:solidFill>
                  <a:srgbClr val="002060"/>
                </a:solidFill>
                <a:latin typeface="Arial"/>
              </a:rPr>
              <a:t>Используя поговорки, опишите трудолюбивого человек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56624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астер на все ру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ьет баклуш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ма пала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росает слова на вете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ертится как белка в колес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ворачивается спин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е бросает слов на ветер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Знает себе цену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 Смотрит в об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мальчик строит будку"/>
          <p:cNvPicPr/>
          <p:nvPr/>
        </p:nvPicPr>
        <p:blipFill>
          <a:blip r:embed="rId1"/>
          <a:stretch/>
        </p:blipFill>
        <p:spPr>
          <a:xfrm>
            <a:off x="6156360" y="2565360"/>
            <a:ext cx="255600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Arial"/>
              </a:rPr>
              <a:t>Конкурс «Найди ошибк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манда «Мальч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1.Ус хорошо, а два- луч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2.Трус кормит, а лень порт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3.Машу маслом не испорти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4.Мученье и прут –все перетр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Команда «Девоч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.Не зная броду, не суйся в м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.Крутиться как булка в коле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.Мелу время- потехи ч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.От скуки бери тело в ру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Arial"/>
              </a:rPr>
              <a:t>Конкурс «Отгадай послови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манда «Мальч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курица"/>
          <p:cNvPicPr/>
          <p:nvPr/>
        </p:nvPicPr>
        <p:blipFill>
          <a:blip r:embed="rId1"/>
          <a:stretch/>
        </p:blipFill>
        <p:spPr>
          <a:xfrm>
            <a:off x="826920" y="2276640"/>
            <a:ext cx="2824200" cy="287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яйцо"/>
          <p:cNvPicPr/>
          <p:nvPr/>
        </p:nvPicPr>
        <p:blipFill>
          <a:blip r:embed="rId2"/>
          <a:stretch/>
        </p:blipFill>
        <p:spPr>
          <a:xfrm>
            <a:off x="5148360" y="2276640"/>
            <a:ext cx="2844720" cy="2881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2124000" y="55897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«Яйца курицу не уча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Arial"/>
              </a:rPr>
              <a:t>Конкурс «Отгадай послови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манда «Девоч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заяц"/>
          <p:cNvPicPr/>
          <p:nvPr/>
        </p:nvPicPr>
        <p:blipFill>
          <a:blip r:embed="rId1"/>
          <a:stretch/>
        </p:blipFill>
        <p:spPr>
          <a:xfrm>
            <a:off x="2690640" y="2637000"/>
            <a:ext cx="2486160" cy="252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заяц"/>
          <p:cNvPicPr/>
          <p:nvPr/>
        </p:nvPicPr>
        <p:blipFill>
          <a:blip r:embed="rId2"/>
          <a:stretch/>
        </p:blipFill>
        <p:spPr>
          <a:xfrm>
            <a:off x="4067280" y="2637000"/>
            <a:ext cx="2489040" cy="2520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560240" y="5157720"/>
            <a:ext cx="645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«За двумя зайцами погонишьс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ни одного не поймаеш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Arial"/>
              </a:rPr>
              <a:t>Конкурс «Отгадай послови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манда «Мальч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Untitled-2"/>
          <p:cNvPicPr/>
          <p:nvPr/>
        </p:nvPicPr>
        <p:blipFill>
          <a:blip r:embed="rId1"/>
          <a:stretch/>
        </p:blipFill>
        <p:spPr>
          <a:xfrm>
            <a:off x="3059280" y="2637000"/>
            <a:ext cx="2550960" cy="2566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701360" y="5013360"/>
            <a:ext cx="579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«Не плюй в колодец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пригодится воды напиться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Arial"/>
              </a:rPr>
              <a:t>Конкурс «Отгадай послови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манда «Девоч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Untitled-4"/>
          <p:cNvPicPr/>
          <p:nvPr/>
        </p:nvPicPr>
        <p:blipFill>
          <a:blip r:embed="rId1"/>
          <a:stretch/>
        </p:blipFill>
        <p:spPr>
          <a:xfrm>
            <a:off x="1619280" y="2781360"/>
            <a:ext cx="5629320" cy="18320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258120" y="5157720"/>
            <a:ext cx="84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«Без труда не вытащишь и рыбку из пруд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Arial"/>
              </a:rPr>
              <a:t>Конкурс «Отгадай послови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манда «Мальч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0015871"/>
          <p:cNvPicPr/>
          <p:nvPr/>
        </p:nvPicPr>
        <p:blipFill>
          <a:blip r:embed="rId1"/>
          <a:stretch/>
        </p:blipFill>
        <p:spPr>
          <a:xfrm>
            <a:off x="2808360" y="2492280"/>
            <a:ext cx="3527280" cy="2573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1712880" y="5589720"/>
            <a:ext cx="58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Пчела мала, а и та работае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Arial"/>
              </a:rPr>
              <a:t>Конкурс «Отгадай послови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манда «Девоч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сани"/>
          <p:cNvPicPr/>
          <p:nvPr/>
        </p:nvPicPr>
        <p:blipFill>
          <a:blip r:embed="rId1"/>
          <a:stretch/>
        </p:blipFill>
        <p:spPr>
          <a:xfrm rot="3454200">
            <a:off x="2743200" y="2233440"/>
            <a:ext cx="2482560" cy="3289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281160" y="5589720"/>
            <a:ext cx="85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«Любишь кататься- люби и саночки возит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0:50:46Z</dcterms:created>
  <dc:creator>gorenko</dc:creator>
  <dc:description/>
  <dc:language>en-US</dc:language>
  <cp:lastModifiedBy>Наталья</cp:lastModifiedBy>
  <dcterms:modified xsi:type="dcterms:W3CDTF">2017-09-03T12:30:53Z</dcterms:modified>
  <cp:revision>6</cp:revision>
  <dc:subject/>
  <dc:title>Викторина</dc:title>
</cp:coreProperties>
</file>