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EB3-84EF-45D3-A1E1-FAA095E9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7D8-8EBB-4A0C-9A1D-28B520E1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AD4-763F-486B-9E49-208A0B21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69B-2B69-492F-9729-52504B9A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FD6-9EA2-4B80-BCCC-C5C33872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350-C353-4298-8D32-C37BE66D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EF5-B8A3-410D-B502-7598CF7D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197-2389-415C-B3FA-7C02E757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4C5-B338-4DE7-A793-C1728B3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04E-7689-43ED-A0EC-C7F90DB2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DA9-4EF1-4FA9-BE98-05EF12E5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FF6-1723-4DB4-999A-CD9A5BEE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5F24-0C5C-43BB-9AEB-9CA623EAE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36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Arial"/>
              </a:rPr>
              <a:t>«Народная мудр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66ff"/>
                </a:solidFill>
                <a:latin typeface="Arial"/>
              </a:rPr>
              <a:t>о труд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Ваня с топором"/>
          <p:cNvPicPr/>
          <p:nvPr/>
        </p:nvPicPr>
        <p:blipFill>
          <a:blip r:embed="rId1"/>
          <a:stretch/>
        </p:blipFill>
        <p:spPr>
          <a:xfrm>
            <a:off x="395280" y="2276640"/>
            <a:ext cx="26780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ципа"/>
          <p:cNvPicPr/>
          <p:nvPr/>
        </p:nvPicPr>
        <p:blipFill>
          <a:blip r:embed="rId1"/>
          <a:stretch/>
        </p:blipFill>
        <p:spPr>
          <a:xfrm>
            <a:off x="2843280" y="2997360"/>
            <a:ext cx="2520720" cy="2315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ципа"/>
          <p:cNvPicPr/>
          <p:nvPr/>
        </p:nvPicPr>
        <p:blipFill>
          <a:blip r:embed="rId2"/>
          <a:stretch/>
        </p:blipFill>
        <p:spPr>
          <a:xfrm>
            <a:off x="5076720" y="2025720"/>
            <a:ext cx="2664000" cy="24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ципа"/>
          <p:cNvPicPr/>
          <p:nvPr/>
        </p:nvPicPr>
        <p:blipFill>
          <a:blip r:embed="rId3"/>
          <a:stretch/>
        </p:blipFill>
        <p:spPr>
          <a:xfrm>
            <a:off x="539640" y="2205000"/>
            <a:ext cx="2622600" cy="2409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1642320" y="5734080"/>
            <a:ext cx="55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Цыплят по осени считаю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хлеб"/>
          <p:cNvPicPr/>
          <p:nvPr/>
        </p:nvPicPr>
        <p:blipFill>
          <a:blip r:embed="rId1"/>
          <a:stretch/>
        </p:blipFill>
        <p:spPr>
          <a:xfrm>
            <a:off x="1835280" y="2565360"/>
            <a:ext cx="5153040" cy="22716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2338920" y="5229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Хлеб- всему голо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журавль"/>
          <p:cNvPicPr/>
          <p:nvPr/>
        </p:nvPicPr>
        <p:blipFill>
          <a:blip r:embed="rId1"/>
          <a:stretch/>
        </p:blipFill>
        <p:spPr>
          <a:xfrm>
            <a:off x="971640" y="2421000"/>
            <a:ext cx="2473200" cy="345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синица с названи"/>
          <p:cNvPicPr/>
          <p:nvPr/>
        </p:nvPicPr>
        <p:blipFill>
          <a:blip r:embed="rId2"/>
          <a:stretch/>
        </p:blipFill>
        <p:spPr>
          <a:xfrm>
            <a:off x="4859280" y="2492280"/>
            <a:ext cx="3051360" cy="33879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40000" y="5921280"/>
            <a:ext cx="84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Лучше синица в руке, чем журавль в неб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ноги"/>
          <p:cNvPicPr/>
          <p:nvPr/>
        </p:nvPicPr>
        <p:blipFill>
          <a:blip r:embed="rId1"/>
          <a:stretch/>
        </p:blipFill>
        <p:spPr>
          <a:xfrm>
            <a:off x="611280" y="2349360"/>
            <a:ext cx="3252600" cy="2984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752840" y="573408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Ноги носят, а руки кормя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рука"/>
          <p:cNvPicPr/>
          <p:nvPr/>
        </p:nvPicPr>
        <p:blipFill>
          <a:blip r:embed="rId2"/>
          <a:stretch/>
        </p:blipFill>
        <p:spPr>
          <a:xfrm>
            <a:off x="5796000" y="2276640"/>
            <a:ext cx="1116000" cy="298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рука"/>
          <p:cNvPicPr/>
          <p:nvPr/>
        </p:nvPicPr>
        <p:blipFill>
          <a:blip r:embed="rId3"/>
          <a:stretch/>
        </p:blipFill>
        <p:spPr>
          <a:xfrm>
            <a:off x="6877080" y="2276640"/>
            <a:ext cx="11160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Конкурс</a:t>
            </a:r>
            <a:br>
              <a:rPr sz="3600"/>
            </a:b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«Пантомим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5736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Изобразите пословицу с помощью мимики и же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79280" y="386064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«Что посеешь, то и            пожнеш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848400" y="5084640"/>
            <a:ext cx="473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«Труд человека кор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 лень порти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Конкурс «Угадайка».</a:t>
            </a:r>
            <a:br>
              <a:rPr sz="3600"/>
            </a:b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В каких случаях мы так говор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1.«Откладывать в долгий ящи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2.«Знать как свои пять пальце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1. «Быть на седьмом неб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2. «Встать с левой ног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Конкурс «Разминка»</a:t>
            </a:r>
            <a:br>
              <a:rPr sz="3600"/>
            </a:br>
            <a:r>
              <a:rPr b="1" lang="ru-RU" sz="2500" spc="-1" strike="noStrike">
                <a:solidFill>
                  <a:srgbClr val="002060"/>
                </a:solidFill>
                <a:latin typeface="Arial"/>
              </a:rPr>
              <a:t>Используя поговорки, опишите трудолюбивого человек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5662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стер на все ру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ьет баклуш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ма пала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росает слова на вет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ертится как белка в колес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ворачивается спи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е бросает слов на ветер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нает себе цен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Смотрит в об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мальчик строит будку"/>
          <p:cNvPicPr/>
          <p:nvPr/>
        </p:nvPicPr>
        <p:blipFill>
          <a:blip r:embed="rId1"/>
          <a:stretch/>
        </p:blipFill>
        <p:spPr>
          <a:xfrm>
            <a:off x="6156360" y="2565360"/>
            <a:ext cx="2556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Найди ошибк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1.Ус хорошо, а два- луч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2.Трус кормит, а лень пор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3.Машу маслом не испорт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4.Мученье и прут –все перетр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Не зная броду, не суйся в м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Крутиться как булка в коле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Мелу время- потехи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.От скуки бери тело в ру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курица"/>
          <p:cNvPicPr/>
          <p:nvPr/>
        </p:nvPicPr>
        <p:blipFill>
          <a:blip r:embed="rId1"/>
          <a:stretch/>
        </p:blipFill>
        <p:spPr>
          <a:xfrm>
            <a:off x="826920" y="2276640"/>
            <a:ext cx="282420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яйцо"/>
          <p:cNvPicPr/>
          <p:nvPr/>
        </p:nvPicPr>
        <p:blipFill>
          <a:blip r:embed="rId2"/>
          <a:stretch/>
        </p:blipFill>
        <p:spPr>
          <a:xfrm>
            <a:off x="5148360" y="2276640"/>
            <a:ext cx="2844720" cy="2881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2124000" y="5589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Яйца курицу не уча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заяц"/>
          <p:cNvPicPr/>
          <p:nvPr/>
        </p:nvPicPr>
        <p:blipFill>
          <a:blip r:embed="rId1"/>
          <a:stretch/>
        </p:blipFill>
        <p:spPr>
          <a:xfrm>
            <a:off x="2690640" y="2637000"/>
            <a:ext cx="2486160" cy="252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заяц"/>
          <p:cNvPicPr/>
          <p:nvPr/>
        </p:nvPicPr>
        <p:blipFill>
          <a:blip r:embed="rId2"/>
          <a:stretch/>
        </p:blipFill>
        <p:spPr>
          <a:xfrm>
            <a:off x="4067280" y="2637000"/>
            <a:ext cx="2489040" cy="2520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560240" y="5157720"/>
            <a:ext cx="645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За двумя зайцами погонишьс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ни одного не поймаеш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Untitled-2"/>
          <p:cNvPicPr/>
          <p:nvPr/>
        </p:nvPicPr>
        <p:blipFill>
          <a:blip r:embed="rId1"/>
          <a:stretch/>
        </p:blipFill>
        <p:spPr>
          <a:xfrm>
            <a:off x="3059280" y="2637000"/>
            <a:ext cx="2550960" cy="2566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701360" y="5013360"/>
            <a:ext cx="579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Не плюй в колодец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пригодится воды напитьс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Untitled-4"/>
          <p:cNvPicPr/>
          <p:nvPr/>
        </p:nvPicPr>
        <p:blipFill>
          <a:blip r:embed="rId1"/>
          <a:stretch/>
        </p:blipFill>
        <p:spPr>
          <a:xfrm>
            <a:off x="1619280" y="2781360"/>
            <a:ext cx="5629320" cy="1832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58120" y="515772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Без труда не вытащишь и рыбку из пру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0015871"/>
          <p:cNvPicPr/>
          <p:nvPr/>
        </p:nvPicPr>
        <p:blipFill>
          <a:blip r:embed="rId1"/>
          <a:stretch/>
        </p:blipFill>
        <p:spPr>
          <a:xfrm>
            <a:off x="2808360" y="2492280"/>
            <a:ext cx="3527280" cy="2573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712880" y="5589720"/>
            <a:ext cx="58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Пчела мала, а и та работа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сани"/>
          <p:cNvPicPr/>
          <p:nvPr/>
        </p:nvPicPr>
        <p:blipFill>
          <a:blip r:embed="rId1"/>
          <a:stretch/>
        </p:blipFill>
        <p:spPr>
          <a:xfrm rot="3454200">
            <a:off x="2743200" y="2233440"/>
            <a:ext cx="2482560" cy="3289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81160" y="5589720"/>
            <a:ext cx="85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Любишь кататься- люби и саночки вози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0:50:46Z</dcterms:created>
  <dc:creator>gorenko</dc:creator>
  <dc:description/>
  <dc:language>en-US</dc:language>
  <cp:lastModifiedBy>Наталья</cp:lastModifiedBy>
  <dcterms:modified xsi:type="dcterms:W3CDTF">2017-09-03T12:30:53Z</dcterms:modified>
  <cp:revision>6</cp:revision>
  <dc:subject/>
  <dc:title>Викторина</dc:title>
</cp:coreProperties>
</file>