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093-A37C-4497-B735-3DE08454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9F0-D33E-46AF-9497-CFD45AC8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519-1194-483D-889C-2C02B096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2DA-A43C-4B9D-BB5A-3927C1D9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1BA0-1C8F-4FF1-A29D-F0FDB2A0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990E-3629-44C3-BF16-AC15B26E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1D75-2396-41C6-9EC3-6F23E0AD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26FB-70E4-42C5-BBB9-12A986CA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D10F-0433-4959-8CC1-A51190A6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8DDD-6864-4534-A2C5-3DEDDBE9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C795-4680-42D7-AD79-E79B1B60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CA3-4A0B-4A5D-9915-7ABCA2B6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7BE9-CC28-4012-9B42-6AAFF8EA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8922-D1D2-4312-805D-82CBB48A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B447-7272-47C2-82E3-E04541D9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D58D-36CD-4F86-B6FF-743A619D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B6CA-21D7-476C-99C9-60EC7B7D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3E464-80E2-463D-AD05-73AA265A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BEA1-6A11-4DCB-87EF-3C8B196A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F7E3-CAFF-46C9-AB15-173D671E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E8A25-8FE3-49DC-A2F8-7F5C5E3A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8C76-4212-4952-8543-BA644882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E18-AE15-4173-9198-EAECBE5D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48B5-7DB0-4AA2-A0DC-E0DCC95B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07B6-C2A5-40EF-ACE0-C07C5EEE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DC8A-E82C-4D70-A87B-FAB828AE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8C78-21FC-4F6C-80C2-637772FB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8D1A-019A-405D-A961-D501A341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56D4-010F-4CC0-B5B7-E71FE4F0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477D2-3D68-44D4-90B7-1081F5F0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6C579-9FC0-42B9-8B32-5E6C55D3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533E-E2D8-4201-818B-88B6F907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3C417-EACA-4382-B538-88FE38BA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152-155F-4E1A-8E71-6B983DE4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39A80-2204-4AAE-87E3-94DB9D55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C5234-B6C7-4C64-81EC-552D910F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B7C2D-2B8E-4D56-A4AE-C0416FA3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A6366-D8E0-4D73-BB99-F68B4F18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C4244-A289-4DBD-B9BA-AD1F730B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0CC50-D946-46D5-AC83-50573128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75036-1B24-481E-A3CF-FD7A3B5A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A747D-E857-43D1-9651-0355C2F9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7FB69-8631-438F-85CA-EA6F9AC5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6EED9-5FA1-489B-ADBE-B94BF5B3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978-0D69-44BD-8936-8A29DDD3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795E9-1D2B-45EC-AF54-15455A2B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4BE3D-1778-4B13-A64F-F771F06A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B42B8-2F85-4E40-A303-E898F9D3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F2521-40F5-4CFC-9505-B5002113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AF464-7AE4-46DB-83C3-4B8E7784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1F834-E808-4D0B-87A7-737B8869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903E4-EE56-4592-A623-2480486D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1B547-77BE-4FB6-9039-138E4CB6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C7AD4-861D-4245-B786-1E8C71EE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B5973-75D8-4658-B4E3-D94D4352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60A-C8FD-4C35-AFAA-DB62232A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22E27-62FA-4003-AB1A-E9763052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8EFE9-51D8-4742-8F19-DE18D2CA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FC30C-75E4-4E99-955E-8D8D1F0B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05D17-B8B9-40A3-8A60-49B15B44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B21FB-FB5F-4B81-80BD-00654088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C9838-0C72-4AA4-8772-DB671EAC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BD876-5C8D-4311-AAC1-017D46F2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17A2B-398E-44B6-BC17-35C76F5E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CC662-269B-4601-8918-7FEEFAB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BA1E4-CFDF-45C2-A7C7-1760BDEA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328-8E93-421B-8C69-7E2D4555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3F996-1F54-4870-8C1D-4B9D25BF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F98D0-CF1D-4AA1-9D0D-AF3B8470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E2948-1E08-4F5E-A023-D1B1057B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95F0A-5ABD-4851-A463-0501110D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01B76-03F8-4EED-B6A4-14F5E269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C8BA4-8F70-474C-AA78-8F552BFD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B9AF5-EAE0-40F2-A8E2-FA918E48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8CBD3-142C-42D6-A924-8A86707E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02315-E8E1-449A-B5B3-66196531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3C671-5100-4DBA-AC1A-EF26C6A7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224-DA3E-49B6-A61F-29DE2372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221BD-44EA-46D2-9FC8-FC85C61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8A154-EE22-44C5-95C9-90C28E5E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A32C1-1BEF-4592-8A40-BD67125E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F8824-CA3C-4002-9F78-755B5047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52B78-EEAD-4213-8D7A-260189D3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7E2-E4C1-4AD0-B225-47E08B27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c5d1d7"/>
                </a:solidFill>
                <a:latin typeface="Georg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C88C-CF60-4B4A-B009-89961FFAEDAD}" type="slidenum">
              <a:rPr b="0" lang="uk-UA" sz="1200" spc="-1" strike="noStrike">
                <a:solidFill>
                  <a:srgbClr val="c5d1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c5d1d7"/>
                </a:solidFill>
                <a:latin typeface="Georg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6F66-BE23-441D-9E40-5FA6048D40E3}" type="slidenum">
              <a:rPr b="0" lang="uk-UA" sz="1200" spc="-1" strike="noStrike">
                <a:solidFill>
                  <a:srgbClr val="c5d1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ccb40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ccb40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67729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67729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6772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c5d1d7"/>
                </a:solidFill>
                <a:latin typeface="Georg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A8AD-C649-4993-A637-FA429CF27F89}" type="slidenum">
              <a:rPr b="0" lang="uk-UA" sz="1200" spc="-1" strike="noStrike">
                <a:solidFill>
                  <a:srgbClr val="c5d1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c5d1d7"/>
                </a:solidFill>
                <a:latin typeface="Georg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4B80-2266-4251-AD85-B96794921280}" type="slidenum">
              <a:rPr b="0" lang="uk-UA" sz="1200" spc="-1" strike="noStrike">
                <a:solidFill>
                  <a:srgbClr val="c5d1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6772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c5d1d7"/>
                </a:solidFill>
                <a:latin typeface="Georg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B1E1-3DDC-4E21-B9E4-D9D670E40AB9}" type="slidenum">
              <a:rPr b="0" lang="uk-UA" sz="1200" spc="-1" strike="noStrike">
                <a:solidFill>
                  <a:srgbClr val="c5d1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c5d1d7"/>
                </a:solidFill>
                <a:latin typeface="Georg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AD4D-E8F5-4DED-BB69-85E6006D3983}" type="slidenum">
              <a:rPr b="0" lang="uk-UA" sz="1200" spc="-1" strike="noStrike">
                <a:solidFill>
                  <a:srgbClr val="c5d1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c5d1d7"/>
                </a:solidFill>
                <a:latin typeface="Georg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5d1d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DC19-57DE-497F-AB2D-E1F4ACD83AC5}" type="slidenum">
              <a:rPr b="0" lang="uk-UA" sz="1200" spc="-1" strike="noStrike">
                <a:solidFill>
                  <a:srgbClr val="c5d1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853920" y="1030320"/>
            <a:ext cx="7783560" cy="500544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4"/>
          <p:cNvSpPr/>
          <p:nvPr/>
        </p:nvSpPr>
        <p:spPr>
          <a:xfrm>
            <a:off x="4716360" y="5805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иуллова Рамзия Адизя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914400" y="571320"/>
            <a:ext cx="777240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Какое количество вещества (в молях) и сколько (в граммах) получится каждого продукта при проведении следующих превращений: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ПРОПАН  → 2-ХЛОРПРОПАН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      </a:t>
            </a:r>
            <a:r>
              <a:rPr b="0" lang="ru-RU" sz="3200" spc="-1" strike="noStrike">
                <a:solidFill>
                  <a:srgbClr val="00b0f0"/>
                </a:solidFill>
                <a:latin typeface="Georgia"/>
              </a:rPr>
              <a:t>ПРОПАНОЛ-2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если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пропан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был взят массой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22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г 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cxnSp>
        <p:nvCxnSpPr>
          <p:cNvPr id="405" name="Прямая со стрелкой 5"/>
          <p:cNvCxnSpPr/>
          <p:nvPr/>
        </p:nvCxnSpPr>
        <p:spPr>
          <a:xfrm flipH="1">
            <a:off x="5857560" y="3642840"/>
            <a:ext cx="2160" cy="500760"/>
          </a:xfrm>
          <a:prstGeom prst="straightConnector1">
            <a:avLst/>
          </a:prstGeom>
          <a:ln w="11880">
            <a:solidFill>
              <a:srgbClr val="00b0f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28400" y="571320"/>
            <a:ext cx="871524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Какое количество вещества (в молях) и сколько (в граммах) получится каждого продукта при проведении следующих превращений: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Georgia"/>
              </a:rPr>
              <a:t>ПРОПАН →2-ХЛОРПРОПАН → ПРОПАНОЛ-2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если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пропан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был взят массой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22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г 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407" name="Скругленный прямоугольник 3"/>
          <p:cNvGrpSpPr/>
          <p:nvPr/>
        </p:nvGrpSpPr>
        <p:grpSpPr>
          <a:xfrm>
            <a:off x="414360" y="2840040"/>
            <a:ext cx="1816200" cy="677880"/>
            <a:chOff x="414360" y="2840040"/>
            <a:chExt cx="1816200" cy="677880"/>
          </a:xfrm>
        </p:grpSpPr>
        <p:pic>
          <p:nvPicPr>
            <p:cNvPr id="408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414360" y="2840040"/>
              <a:ext cx="18162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523800" y="295272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0,5  м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0" name="Скругленный прямоугольник 4"/>
          <p:cNvGrpSpPr/>
          <p:nvPr/>
        </p:nvGrpSpPr>
        <p:grpSpPr>
          <a:xfrm>
            <a:off x="3127320" y="2840040"/>
            <a:ext cx="1816200" cy="677880"/>
            <a:chOff x="3127320" y="2840040"/>
            <a:chExt cx="1816200" cy="677880"/>
          </a:xfrm>
        </p:grpSpPr>
        <p:pic>
          <p:nvPicPr>
            <p:cNvPr id="411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127320" y="2840040"/>
              <a:ext cx="18162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3238560" y="295272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0,5 м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Скругленный прямоугольник 6"/>
          <p:cNvGrpSpPr/>
          <p:nvPr/>
        </p:nvGrpSpPr>
        <p:grpSpPr>
          <a:xfrm>
            <a:off x="6272280" y="2840040"/>
            <a:ext cx="1817640" cy="677880"/>
            <a:chOff x="6272280" y="2840040"/>
            <a:chExt cx="1817640" cy="677880"/>
          </a:xfrm>
        </p:grpSpPr>
        <p:pic>
          <p:nvPicPr>
            <p:cNvPr id="414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6272280" y="2840040"/>
              <a:ext cx="181764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6381720" y="295272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0,5 м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Скругленный прямоугольник 7"/>
          <p:cNvGrpSpPr/>
          <p:nvPr/>
        </p:nvGrpSpPr>
        <p:grpSpPr>
          <a:xfrm>
            <a:off x="6272280" y="4127400"/>
            <a:ext cx="1817640" cy="669960"/>
            <a:chOff x="6272280" y="4127400"/>
            <a:chExt cx="1817640" cy="669960"/>
          </a:xfrm>
        </p:grpSpPr>
        <p:pic>
          <p:nvPicPr>
            <p:cNvPr id="417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6272280" y="4127400"/>
              <a:ext cx="181764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6381720" y="423864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000000"/>
                  </a:solidFill>
                  <a:latin typeface="Georgia"/>
                </a:rPr>
                <a:t>30 г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Скругленный прямоугольник 8"/>
          <p:cNvGrpSpPr/>
          <p:nvPr/>
        </p:nvGrpSpPr>
        <p:grpSpPr>
          <a:xfrm>
            <a:off x="3127320" y="4127400"/>
            <a:ext cx="1816200" cy="669960"/>
            <a:chOff x="3127320" y="4127400"/>
            <a:chExt cx="1816200" cy="669960"/>
          </a:xfrm>
        </p:grpSpPr>
        <p:pic>
          <p:nvPicPr>
            <p:cNvPr id="420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3127320" y="4127400"/>
              <a:ext cx="18162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3238560" y="423864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000000"/>
                  </a:solidFill>
                  <a:latin typeface="Georgia"/>
                </a:rPr>
                <a:t>39,25 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Скругленный прямоугольник 9"/>
          <p:cNvGrpSpPr/>
          <p:nvPr/>
        </p:nvGrpSpPr>
        <p:grpSpPr>
          <a:xfrm>
            <a:off x="414360" y="4127400"/>
            <a:ext cx="1816200" cy="669960"/>
            <a:chOff x="414360" y="4127400"/>
            <a:chExt cx="1816200" cy="669960"/>
          </a:xfrm>
        </p:grpSpPr>
        <p:pic>
          <p:nvPicPr>
            <p:cNvPr id="423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14360" y="4127400"/>
              <a:ext cx="18162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523800" y="423864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000000"/>
                  </a:solidFill>
                  <a:latin typeface="Georgia"/>
                </a:rPr>
                <a:t>22 г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bcd4e0"/>
                </a:solidFill>
                <a:latin typeface="Georgia"/>
              </a:rPr>
              <a:t>Самостоятельная работа</a:t>
            </a:r>
            <a:endParaRPr b="0" lang="en-US" sz="4000" spc="-1" strike="noStrike">
              <a:solidFill>
                <a:srgbClr val="bcd4e0"/>
              </a:solidFill>
              <a:latin typeface="Georg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14264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1.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пишите уравнения реакций, с помощью которых можно осуществить следующие превращения: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метан →ацетилен →уксусный альдегид → этиловый спирт → этановая кислота.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Укажите условия протекания реакций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eorgia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947"/>
                </a:solidFill>
                <a:latin typeface="Georgia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пишите структурную формулу вещества состава 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0" lang="ru-RU" sz="2000" spc="-1" strike="noStrike" baseline="-25000">
                <a:solidFill>
                  <a:srgbClr val="ffff00"/>
                </a:solidFill>
                <a:latin typeface="Georgia"/>
              </a:rPr>
              <a:t>3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0" lang="ru-RU" sz="2000" spc="-1" strike="noStrike" baseline="-25000">
                <a:solidFill>
                  <a:srgbClr val="ffff00"/>
                </a:solidFill>
                <a:latin typeface="Georgia"/>
              </a:rPr>
              <a:t>6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О</a:t>
            </a:r>
            <a:r>
              <a:rPr b="0" lang="ru-RU" sz="20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если известно, что оно взаимодействует с 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натрие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с выделением 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водорода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а с 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гидроксидом меди (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II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бразует вещество ярко-синей окраски. Назовите вещество, составьте уравнение реакции, с помощью которой это вещество можно получить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eorgia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947"/>
                </a:solidFill>
                <a:latin typeface="Georgia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акое количество вещества (в молях) и сколько (в граммах) получится   каждого продукта при проведении следующих превращений</a:t>
            </a:r>
            <a:r>
              <a:rPr b="0" lang="ru-RU" sz="2000" spc="-1" strike="noStrike">
                <a:solidFill>
                  <a:srgbClr val="ffe947"/>
                </a:solidFill>
                <a:latin typeface="Georgia"/>
              </a:rPr>
              <a:t>: БЕНЗОЛ → ХЛОРБЕНЗОЛ → ФЕНОЛ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если бензол был взят массой </a:t>
            </a:r>
            <a:r>
              <a:rPr b="0" lang="ru-RU" sz="2000" spc="-1" strike="noStrike">
                <a:solidFill>
                  <a:srgbClr val="ffe947"/>
                </a:solidFill>
                <a:latin typeface="Georgia"/>
              </a:rPr>
              <a:t>156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г?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57160" y="21384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82320" indent="-31860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пишите уравнения реакций, с помощью которых можно осуществить следующие превращения: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82320" indent="-31860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МЕТАН → ХЛОРМЕТАН → МЕТАНОЛ →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ФОРМАЛЬДЕГИД → МУРАВЬИНАЯ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КИСЛОТА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82320" indent="-31860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82320" indent="-31860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Укажите условия протекания реакций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857160" y="21384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пишите уравнения реакций, с помощью которых можно осуществить следующие превращения: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МЕТАН → ХЛОРМЕТАН → МЕТАНОЛ →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ФОРМАЛЬДЕГИД → МУРАВЬИНАЯ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КИСЛОТА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2" name="Овал 3"/>
          <p:cNvSpPr/>
          <p:nvPr/>
        </p:nvSpPr>
        <p:spPr>
          <a:xfrm>
            <a:off x="1785960" y="2286000"/>
            <a:ext cx="1643040" cy="500040"/>
          </a:xfrm>
          <a:prstGeom prst="ellipse">
            <a:avLst/>
          </a:prstGeom>
          <a:solidFill>
            <a:srgbClr val="ffe947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Cl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Овал 5"/>
          <p:cNvSpPr/>
          <p:nvPr/>
        </p:nvSpPr>
        <p:spPr>
          <a:xfrm>
            <a:off x="5000760" y="2286000"/>
            <a:ext cx="1214280" cy="500040"/>
          </a:xfrm>
          <a:prstGeom prst="ellipse">
            <a:avLst/>
          </a:prstGeom>
          <a:solidFill>
            <a:srgbClr val="ffe947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Овал 6"/>
          <p:cNvSpPr/>
          <p:nvPr/>
        </p:nvSpPr>
        <p:spPr>
          <a:xfrm>
            <a:off x="714240" y="3429000"/>
            <a:ext cx="1143000" cy="500040"/>
          </a:xfrm>
          <a:prstGeom prst="ellipse">
            <a:avLst/>
          </a:prstGeom>
          <a:solidFill>
            <a:srgbClr val="ffe947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4643280" y="3429000"/>
            <a:ext cx="1357560" cy="500040"/>
          </a:xfrm>
          <a:prstGeom prst="ellipse">
            <a:avLst/>
          </a:prstGeom>
          <a:solidFill>
            <a:srgbClr val="ffe947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+А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857160" y="785520"/>
            <a:ext cx="77724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пишите уравнения реакций, с помощью которых можно осуществить следующие превращения: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АЦЕТИЛЕН → ЭТИЛЕН → ЭТАНОЛ →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→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АЦЕТАЛЬДЕГИД → УКСУСНАЯ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КИСЛОТА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Укажите условия протекания реакций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28800" y="7142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пишите уравнения реакций, с помощью которых можно осуществить следующие превращения: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АЦЕТИЛЕН → ЭТИЛЕН → ЭТАНОЛ →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→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АЦЕТАЛЬДЕГИД → УКСУСНАЯ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КИСЛОТА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Овал 2"/>
          <p:cNvSpPr/>
          <p:nvPr/>
        </p:nvSpPr>
        <p:spPr>
          <a:xfrm>
            <a:off x="2786040" y="2500200"/>
            <a:ext cx="1486080" cy="642960"/>
          </a:xfrm>
          <a:prstGeom prst="ellipse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2700000"/>
          </a:gra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Овал 3"/>
          <p:cNvSpPr/>
          <p:nvPr/>
        </p:nvSpPr>
        <p:spPr>
          <a:xfrm>
            <a:off x="4929120" y="2500200"/>
            <a:ext cx="1571760" cy="642960"/>
          </a:xfrm>
          <a:prstGeom prst="ellipse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2700000"/>
          </a:gra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Овал 4"/>
          <p:cNvSpPr/>
          <p:nvPr/>
        </p:nvSpPr>
        <p:spPr>
          <a:xfrm>
            <a:off x="7286760" y="2571840"/>
            <a:ext cx="1485720" cy="642960"/>
          </a:xfrm>
          <a:prstGeom prst="ellipse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2700000"/>
          </a:gra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[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Овал 5"/>
          <p:cNvSpPr/>
          <p:nvPr/>
        </p:nvSpPr>
        <p:spPr>
          <a:xfrm>
            <a:off x="4214880" y="3786120"/>
            <a:ext cx="1485720" cy="642960"/>
          </a:xfrm>
          <a:prstGeom prst="ellipse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2700000"/>
          </a:gra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[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99680" y="142920"/>
            <a:ext cx="81867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15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Напишите структурную формулу вещества состава </a:t>
            </a: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0" lang="ru-RU" sz="2800" spc="-1" strike="noStrike" baseline="-25000">
                <a:solidFill>
                  <a:srgbClr val="ffff00"/>
                </a:solidFill>
                <a:latin typeface="Georgia"/>
              </a:rPr>
              <a:t>5</a:t>
            </a: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0" lang="ru-RU" sz="2800" spc="-1" strike="noStrike" baseline="-25000">
                <a:solidFill>
                  <a:srgbClr val="ffff00"/>
                </a:solidFill>
                <a:latin typeface="Georgia"/>
              </a:rPr>
              <a:t>10</a:t>
            </a: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, если известно, что оно присоединяет </a:t>
            </a: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водород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в присутствии    катализатора,    а    при    нагревании    со свежеприготовленным </a:t>
            </a: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гидроксидом меди (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II</a:t>
            </a: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бразует красный осадок.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98520" indent="-332280">
              <a:lnSpc>
                <a:spcPct val="15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Назовите вещество, составьте уравнение реакции, с помощью которой это вещество можно получить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99680" y="213840"/>
            <a:ext cx="8201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14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пишите структурную формулу вещества состава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 С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Georgia"/>
              </a:rPr>
              <a:t>3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Georgia"/>
              </a:rPr>
              <a:t>6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О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если известно, что его водный раствор изменяет окраску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 лакмуса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в красный цвет. С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хлором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это вещество образует соединение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Georgia"/>
              </a:rPr>
              <a:t>3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Georgia"/>
              </a:rPr>
              <a:t>5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l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О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, а при нагревании его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натриевой соли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с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 гидроксидом натрия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образуется </a:t>
            </a:r>
            <a:r>
              <a:rPr b="0" lang="ru-RU" sz="3000" spc="-1" strike="noStrike">
                <a:solidFill>
                  <a:srgbClr val="ffff00"/>
                </a:solidFill>
                <a:latin typeface="Georgia"/>
              </a:rPr>
              <a:t>этан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74040" indent="-311760">
              <a:lnSpc>
                <a:spcPct val="14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зовите вещество, составьте уравнение реакции, с помощью которой это вещество можно получить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914400" y="500040"/>
            <a:ext cx="777240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Какое количество вещества (в молях) и сколько (в граммах) получится каждого продукта при проведении следующих превращений: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БРОМЭТАН →ЭТАНОЛ → ЭТАНОВАЯ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     КИСЛОТА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если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бромэтан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был взят массой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218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г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914400" y="500040"/>
            <a:ext cx="777240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Какое количество вещества (в молях) и сколько (в граммах) получится каждого продукта при проведении следующих превращений: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02840" indent="-3355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БРОМЭТАН →ЭТАНОЛ → ЭТАНОВАЯ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     КИСЛОТА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если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бромэтан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был взят массой </a:t>
            </a:r>
            <a:r>
              <a:rPr b="0" lang="ru-RU" sz="3000" spc="-1" strike="noStrike">
                <a:solidFill>
                  <a:srgbClr val="00b0f0"/>
                </a:solidFill>
                <a:latin typeface="Georgia"/>
              </a:rPr>
              <a:t>218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г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386" name="Скругленный прямоугольник 2"/>
          <p:cNvGrpSpPr/>
          <p:nvPr/>
        </p:nvGrpSpPr>
        <p:grpSpPr>
          <a:xfrm>
            <a:off x="1200240" y="2341440"/>
            <a:ext cx="1811160" cy="669960"/>
            <a:chOff x="1200240" y="2341440"/>
            <a:chExt cx="1811160" cy="669960"/>
          </a:xfrm>
        </p:grpSpPr>
        <p:pic>
          <p:nvPicPr>
            <p:cNvPr id="387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00240" y="2341440"/>
              <a:ext cx="18111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1309680" y="245268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2 м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Скругленный прямоугольник 3"/>
          <p:cNvGrpSpPr/>
          <p:nvPr/>
        </p:nvGrpSpPr>
        <p:grpSpPr>
          <a:xfrm>
            <a:off x="5986440" y="2341440"/>
            <a:ext cx="1816200" cy="669960"/>
            <a:chOff x="5986440" y="2341440"/>
            <a:chExt cx="1816200" cy="669960"/>
          </a:xfrm>
        </p:grpSpPr>
        <p:pic>
          <p:nvPicPr>
            <p:cNvPr id="390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5986440" y="2341440"/>
              <a:ext cx="18162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095880" y="245268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2 м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Скругленный прямоугольник 4"/>
          <p:cNvGrpSpPr/>
          <p:nvPr/>
        </p:nvGrpSpPr>
        <p:grpSpPr>
          <a:xfrm>
            <a:off x="3700440" y="2341440"/>
            <a:ext cx="1816200" cy="669960"/>
            <a:chOff x="3700440" y="2341440"/>
            <a:chExt cx="1816200" cy="669960"/>
          </a:xfrm>
        </p:grpSpPr>
        <p:pic>
          <p:nvPicPr>
            <p:cNvPr id="393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700440" y="2341440"/>
              <a:ext cx="18162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809880" y="2452680"/>
              <a:ext cx="1595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2 м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Скругленный прямоугольник 5"/>
          <p:cNvGrpSpPr/>
          <p:nvPr/>
        </p:nvGrpSpPr>
        <p:grpSpPr>
          <a:xfrm>
            <a:off x="1127160" y="3913200"/>
            <a:ext cx="1817640" cy="671400"/>
            <a:chOff x="1127160" y="3913200"/>
            <a:chExt cx="1817640" cy="671400"/>
          </a:xfrm>
        </p:grpSpPr>
        <p:pic>
          <p:nvPicPr>
            <p:cNvPr id="39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127160" y="3913200"/>
              <a:ext cx="181764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238400" y="4024440"/>
              <a:ext cx="15951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218 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Скругленный прямоугольник 6"/>
          <p:cNvGrpSpPr/>
          <p:nvPr/>
        </p:nvGrpSpPr>
        <p:grpSpPr>
          <a:xfrm>
            <a:off x="3627360" y="3913200"/>
            <a:ext cx="1816200" cy="671400"/>
            <a:chOff x="3627360" y="3913200"/>
            <a:chExt cx="1816200" cy="671400"/>
          </a:xfrm>
        </p:grpSpPr>
        <p:pic>
          <p:nvPicPr>
            <p:cNvPr id="399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627360" y="3913200"/>
              <a:ext cx="18162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738600" y="4024440"/>
              <a:ext cx="15955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92 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Скругленный прямоугольник 7"/>
          <p:cNvGrpSpPr/>
          <p:nvPr/>
        </p:nvGrpSpPr>
        <p:grpSpPr>
          <a:xfrm>
            <a:off x="5986440" y="3913200"/>
            <a:ext cx="1816200" cy="671400"/>
            <a:chOff x="5986440" y="3913200"/>
            <a:chExt cx="1816200" cy="671400"/>
          </a:xfrm>
        </p:grpSpPr>
        <p:pic>
          <p:nvPicPr>
            <p:cNvPr id="402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5986440" y="3913200"/>
              <a:ext cx="18162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095880" y="4024440"/>
              <a:ext cx="15955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Georgia"/>
                </a:rPr>
                <a:t>120 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9:50:56Z</dcterms:created>
  <dc:creator>Аня</dc:creator>
  <dc:description/>
  <dc:language>en-US</dc:language>
  <cp:lastModifiedBy>пользователь</cp:lastModifiedBy>
  <dcterms:modified xsi:type="dcterms:W3CDTF">2009-11-24T18:56:23Z</dcterms:modified>
  <cp:revision>19</cp:revision>
  <dc:subject/>
  <dc:title>Взаимосвязь  между углеводородами, спиртами, альдегидами и карбоновыми кислотами</dc:title>
</cp:coreProperties>
</file>