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B41-397A-4389-8ADA-569F5417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CA7-013D-43A4-BD62-98B2A965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B61-FBDA-4324-B21B-603FB1A7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4F2-018A-4A4F-B7D8-2B8C38EB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298-0BF3-4A41-9FDD-AD65855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FE67-8C68-409C-9DCF-49BB19A7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B1E4-458E-4AA2-9909-3B6198D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43B9-44FB-4370-9CEC-4FC2514F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7C5E-AFAB-4909-98FF-F6E78C3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105D-1B49-4C36-BD17-F1BC863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86BD-2782-48D9-9102-88492B3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D0E-8FCB-4D9E-916B-B34B11E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57D-FCAA-40E7-8444-580654E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C10-02C2-476C-9C5D-1783337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D49-FE06-4AF9-9F8F-B7179A3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AAAF-3417-4265-B01B-80CCB5BC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41BA-555B-4BE7-A626-88AF6A96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51C3-265F-4B79-B96E-CA73620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7C13-6BE9-4E44-A2A9-0CADE98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7D87-B833-4DD8-8AE8-3805BD82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A35D-8401-464D-8850-A46B5986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DFAA-2954-4708-A2F8-1E216AEB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E7C-47A8-4A85-B805-57735341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0597-6B2F-448B-A0DE-141594DF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E1C6-6094-4C93-982E-DAA2F3C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DB15-26F1-4972-BC75-AE6FD67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E673-6B88-4C58-9A9B-A73BA30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5D50-AF1A-4B97-AC90-86C42E81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2410-85AE-439B-94B2-682B4809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5714-8BE9-44B6-AF66-DC7F04CC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9160-C9E7-458D-BC27-3C220F2D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260F-48F3-40E3-9051-2B6CCA9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32E5-3AAF-45F2-B6E2-4E029E2D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D98-6BD2-451C-AF46-8D879E73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FD20-DF70-4265-B99D-786A3A8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F59F-061E-4FB0-84D9-70C4146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1250-B99C-4013-82C3-BF48151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7391-D73E-42E3-AD8C-1ED7C78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9DC0-2023-4FE9-8F48-DDDB8F1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CD1A-3262-4355-B8C1-97EDF21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E768-5616-4A96-B7C7-A2D6C147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549B-8907-4AC1-85B2-FD104EF1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1CCE-F55B-4A06-A166-7B2505F3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3C96-A183-4961-8C91-78225A77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751-2DAC-4FAB-9684-3548590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4F01-5628-434D-AF8D-9F3EBBD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8F98-D1FE-41D1-8922-96177FAD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8903-CFBF-49C2-AC3F-C73DD24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4831-253F-46A7-882C-F928A38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F1A7-6F7D-4061-8D41-365C253D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74EC-2B64-495C-8480-06FA19F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F03E-B49A-4465-9B83-60C0D8E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AFE7-FC54-4887-9DF6-47C5367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A932-12C6-465C-ABE7-D37CEB5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F6CB-7CD3-4A00-AB4C-E28F15E3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FAE-9404-4545-931B-9A01F0B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9975-098B-4735-BA1B-609DE1B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F06A-25B0-4786-B9CE-52CCB13D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C53F-AFCA-4C4B-97CE-08A9490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6C42-E4B7-4206-B146-0AB67641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FAE6-3C18-47E8-8A05-EC97FB5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574C-3E4E-4E2A-8FB4-DFA3064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2B38-E7D0-45D5-8445-5076DFD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4A87-9AF7-41BF-B7B8-3763DFB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1819-E1DB-470E-8D22-189332A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EBE9-3077-47B4-8913-DB7DF90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055-7FE6-427E-992E-CC9D471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8625-DCEF-42CD-907B-50ED1C8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FEBA-4F21-4A44-A472-AD03A5CA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B74C-B904-4BA0-B654-89ADB60F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99E8-3025-4272-A44F-A4E407F3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5DBE-83E8-42BE-BEFD-25C04DD7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66650-CE65-41C1-A6CC-B0B1CD1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6124-5806-499D-859C-A4D0B59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3EDF-2067-48B3-8E50-1E7FD95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A1D4-6313-465C-AEC4-E1B63DF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40F7-B932-43D7-9E6E-19DB978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22C-C2D9-49FC-A86A-B7FCBE6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0224-6C07-4099-9128-327416B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CD16-1CC8-4585-A2E1-08C061D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3F4EA-EB0C-4A2D-BB97-186712C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7546-B446-4266-97E0-65810172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7790-BAC1-4446-95B3-3EC9EC09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DD2-5D33-40CB-B539-B363295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7C52-BAEE-42E2-828C-AD92D4347925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4ED7-C151-46B4-83DE-013C390D1A16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75B-FB61-4F6F-8A99-D084B4F1B01B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B617-481E-4DFC-8647-58FD8ACE3D5C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E25-F050-4E0A-873F-C51A1E31530D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22A-DED2-474B-A10B-258737D6C428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0AB4-6232-4D6C-A9D6-AD071DCD55BB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853920" y="1030320"/>
            <a:ext cx="7783560" cy="50054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471636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иуллова Рамзия Адизя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571320"/>
            <a:ext cx="777240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ПРОПАН  → 2-ХЛОРПРОПАН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ПРОПАНОЛ-2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проп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 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cxnSp>
        <p:nvCxnSpPr>
          <p:cNvPr id="405" name="Прямая со стрелкой 5"/>
          <p:cNvCxnSpPr/>
          <p:nvPr/>
        </p:nvCxnSpPr>
        <p:spPr>
          <a:xfrm flipH="1">
            <a:off x="5857560" y="3642840"/>
            <a:ext cx="2160" cy="500760"/>
          </a:xfrm>
          <a:prstGeom prst="straightConnector1">
            <a:avLst/>
          </a:prstGeom>
          <a:ln w="1188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400" y="571320"/>
            <a:ext cx="87152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Georgia"/>
              </a:rPr>
              <a:t>ПРОПАН →2-ХЛОРПРОПАН → ПРОПАНОЛ-2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проп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 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407" name="Скругленный прямоугольник 3"/>
          <p:cNvGrpSpPr/>
          <p:nvPr/>
        </p:nvGrpSpPr>
        <p:grpSpPr>
          <a:xfrm>
            <a:off x="414360" y="2840040"/>
            <a:ext cx="1816200" cy="677880"/>
            <a:chOff x="414360" y="2840040"/>
            <a:chExt cx="1816200" cy="677880"/>
          </a:xfrm>
        </p:grpSpPr>
        <p:pic>
          <p:nvPicPr>
            <p:cNvPr id="40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14360" y="2840040"/>
              <a:ext cx="18162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2380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Скругленный прямоугольник 4"/>
          <p:cNvGrpSpPr/>
          <p:nvPr/>
        </p:nvGrpSpPr>
        <p:grpSpPr>
          <a:xfrm>
            <a:off x="3127320" y="2840040"/>
            <a:ext cx="1816200" cy="677880"/>
            <a:chOff x="3127320" y="2840040"/>
            <a:chExt cx="1816200" cy="677880"/>
          </a:xfrm>
        </p:grpSpPr>
        <p:pic>
          <p:nvPicPr>
            <p:cNvPr id="411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127320" y="2840040"/>
              <a:ext cx="18162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23856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Скругленный прямоугольник 6"/>
          <p:cNvGrpSpPr/>
          <p:nvPr/>
        </p:nvGrpSpPr>
        <p:grpSpPr>
          <a:xfrm>
            <a:off x="6272280" y="2840040"/>
            <a:ext cx="1817640" cy="677880"/>
            <a:chOff x="6272280" y="2840040"/>
            <a:chExt cx="1817640" cy="677880"/>
          </a:xfrm>
        </p:grpSpPr>
        <p:pic>
          <p:nvPicPr>
            <p:cNvPr id="41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272280" y="2840040"/>
              <a:ext cx="18176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8172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Скругленный прямоугольник 7"/>
          <p:cNvGrpSpPr/>
          <p:nvPr/>
        </p:nvGrpSpPr>
        <p:grpSpPr>
          <a:xfrm>
            <a:off x="6272280" y="4127400"/>
            <a:ext cx="1817640" cy="669960"/>
            <a:chOff x="6272280" y="4127400"/>
            <a:chExt cx="1817640" cy="669960"/>
          </a:xfrm>
        </p:grpSpPr>
        <p:pic>
          <p:nvPicPr>
            <p:cNvPr id="417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272280" y="4127400"/>
              <a:ext cx="18176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638172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00"/>
                  </a:solidFill>
                  <a:latin typeface="Georgia"/>
                </a:rPr>
                <a:t>30 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Скругленный прямоугольник 8"/>
          <p:cNvGrpSpPr/>
          <p:nvPr/>
        </p:nvGrpSpPr>
        <p:grpSpPr>
          <a:xfrm>
            <a:off x="3127320" y="4127400"/>
            <a:ext cx="1816200" cy="669960"/>
            <a:chOff x="3127320" y="4127400"/>
            <a:chExt cx="1816200" cy="669960"/>
          </a:xfrm>
        </p:grpSpPr>
        <p:pic>
          <p:nvPicPr>
            <p:cNvPr id="420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127320" y="412740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23856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Georgia"/>
                </a:rPr>
                <a:t>39,25 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Скругленный прямоугольник 9"/>
          <p:cNvGrpSpPr/>
          <p:nvPr/>
        </p:nvGrpSpPr>
        <p:grpSpPr>
          <a:xfrm>
            <a:off x="414360" y="4127400"/>
            <a:ext cx="1816200" cy="669960"/>
            <a:chOff x="414360" y="4127400"/>
            <a:chExt cx="1816200" cy="669960"/>
          </a:xfrm>
        </p:grpSpPr>
        <p:pic>
          <p:nvPicPr>
            <p:cNvPr id="423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14360" y="412740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2380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00"/>
                  </a:solidFill>
                  <a:latin typeface="Georgia"/>
                </a:rPr>
                <a:t>22 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bcd4e0"/>
                </a:solidFill>
                <a:latin typeface="Georgia"/>
              </a:rPr>
              <a:t>Самостоятельная работа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метан →ацетилен →уксусный альдегид → этиловый спирт → этановая кислота.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6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если известно, что оно взаимодействует с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атр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с выделением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водорода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а с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гидроксидом меди (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разует вещество ярко-синей окраски. Назовите вещество, составьте уравнение реакции, с помощью которой это вещество можно получить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947"/>
                </a:solidFill>
                <a:latin typeface="Georgia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кое количество вещества (в молях) и сколько (в граммах) получится   каждого продукта при проведении следующих превращений</a:t>
            </a: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: БЕНЗОЛ → ХЛОРБЕНЗОЛ → ФЕНОЛ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если бензол был взят массой </a:t>
            </a: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156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57160" y="21384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МЕТАН → ХЛОРМЕТАН → МЕТАНОЛ →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ФОРМАЛЬДЕГИД → МУРАВЬИНА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57160" y="21384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МЕТАН → ХЛОРМЕТАН → МЕТАНОЛ →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ФОРМАЛЬДЕГИД → МУРАВЬИНА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Овал 3"/>
          <p:cNvSpPr/>
          <p:nvPr/>
        </p:nvSpPr>
        <p:spPr>
          <a:xfrm>
            <a:off x="1785960" y="2286000"/>
            <a:ext cx="164304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Cl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Овал 5"/>
          <p:cNvSpPr/>
          <p:nvPr/>
        </p:nvSpPr>
        <p:spPr>
          <a:xfrm>
            <a:off x="5000760" y="2286000"/>
            <a:ext cx="121428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Овал 6"/>
          <p:cNvSpPr/>
          <p:nvPr/>
        </p:nvSpPr>
        <p:spPr>
          <a:xfrm>
            <a:off x="714240" y="3429000"/>
            <a:ext cx="114300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4643280" y="3429000"/>
            <a:ext cx="135756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+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57160" y="78552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ИЛЕН → ЭТИЛЕН → ЭТАНОЛ →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→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АЛЬДЕГИД → УКСУСН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2880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ИЛЕН → ЭТИЛЕН → ЭТАНОЛ →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→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АЛЬДЕГИД → УКСУСН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Овал 2"/>
          <p:cNvSpPr/>
          <p:nvPr/>
        </p:nvSpPr>
        <p:spPr>
          <a:xfrm>
            <a:off x="2786040" y="2500200"/>
            <a:ext cx="148608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Овал 3"/>
          <p:cNvSpPr/>
          <p:nvPr/>
        </p:nvSpPr>
        <p:spPr>
          <a:xfrm>
            <a:off x="4929120" y="2500200"/>
            <a:ext cx="157176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Овал 4"/>
          <p:cNvSpPr/>
          <p:nvPr/>
        </p:nvSpPr>
        <p:spPr>
          <a:xfrm>
            <a:off x="7286760" y="2571840"/>
            <a:ext cx="148572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[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 5"/>
          <p:cNvSpPr/>
          <p:nvPr/>
        </p:nvSpPr>
        <p:spPr>
          <a:xfrm>
            <a:off x="4214880" y="3786120"/>
            <a:ext cx="148572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[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99680" y="142920"/>
            <a:ext cx="8186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15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Georgia"/>
              </a:rPr>
              <a:t>5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Georgia"/>
              </a:rPr>
              <a:t>10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, если известно, что оно присоединяет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водород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в присутствии    катализатора,    а    при    нагревании    со свежеприготовленным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гидроксидом меди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бразует красный осадок.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lnSpc>
                <a:spcPct val="15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зовите вещество, составьте уравнение реакции, с помощью которой это вещество можно получить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99680" y="213840"/>
            <a:ext cx="8201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14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С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известно, что его водный раствор изменяет окраску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лакмуса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в красный цвет. С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хлором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это вещество образует соединение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5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l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, а при нагревании его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атриевой соли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гидроксидом натрия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образуетс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74040" indent="-311760">
              <a:lnSpc>
                <a:spcPct val="14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зовите вещество, составьте уравнение реакции, с помощью которой это вещество можно получить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 →ЭТАНОЛ → ЭТАНОВ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     КИСЛОТА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18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 →ЭТАНОЛ → ЭТАНОВ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     КИСЛОТА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18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386" name="Скругленный прямоугольник 2"/>
          <p:cNvGrpSpPr/>
          <p:nvPr/>
        </p:nvGrpSpPr>
        <p:grpSpPr>
          <a:xfrm>
            <a:off x="1200240" y="2341440"/>
            <a:ext cx="1811160" cy="669960"/>
            <a:chOff x="1200240" y="2341440"/>
            <a:chExt cx="1811160" cy="669960"/>
          </a:xfrm>
        </p:grpSpPr>
        <p:pic>
          <p:nvPicPr>
            <p:cNvPr id="38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00240" y="2341440"/>
              <a:ext cx="1811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3096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3"/>
          <p:cNvGrpSpPr/>
          <p:nvPr/>
        </p:nvGrpSpPr>
        <p:grpSpPr>
          <a:xfrm>
            <a:off x="5986440" y="2341440"/>
            <a:ext cx="1816200" cy="669960"/>
            <a:chOff x="5986440" y="2341440"/>
            <a:chExt cx="1816200" cy="669960"/>
          </a:xfrm>
        </p:grpSpPr>
        <p:pic>
          <p:nvPicPr>
            <p:cNvPr id="39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986440" y="234144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958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Скругленный прямоугольник 4"/>
          <p:cNvGrpSpPr/>
          <p:nvPr/>
        </p:nvGrpSpPr>
        <p:grpSpPr>
          <a:xfrm>
            <a:off x="3700440" y="2341440"/>
            <a:ext cx="1816200" cy="669960"/>
            <a:chOff x="3700440" y="2341440"/>
            <a:chExt cx="1816200" cy="669960"/>
          </a:xfrm>
        </p:grpSpPr>
        <p:pic>
          <p:nvPicPr>
            <p:cNvPr id="39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700440" y="234144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8098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Скругленный прямоугольник 5"/>
          <p:cNvGrpSpPr/>
          <p:nvPr/>
        </p:nvGrpSpPr>
        <p:grpSpPr>
          <a:xfrm>
            <a:off x="1127160" y="3913200"/>
            <a:ext cx="1817640" cy="671400"/>
            <a:chOff x="1127160" y="3913200"/>
            <a:chExt cx="1817640" cy="671400"/>
          </a:xfrm>
        </p:grpSpPr>
        <p:pic>
          <p:nvPicPr>
            <p:cNvPr id="39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127160" y="3913200"/>
              <a:ext cx="18176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238400" y="4024440"/>
              <a:ext cx="1595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18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Скругленный прямоугольник 6"/>
          <p:cNvGrpSpPr/>
          <p:nvPr/>
        </p:nvGrpSpPr>
        <p:grpSpPr>
          <a:xfrm>
            <a:off x="3627360" y="3913200"/>
            <a:ext cx="1816200" cy="671400"/>
            <a:chOff x="3627360" y="3913200"/>
            <a:chExt cx="1816200" cy="671400"/>
          </a:xfrm>
        </p:grpSpPr>
        <p:pic>
          <p:nvPicPr>
            <p:cNvPr id="39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627360" y="3913200"/>
              <a:ext cx="18162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738600" y="4024440"/>
              <a:ext cx="15955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92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7"/>
          <p:cNvGrpSpPr/>
          <p:nvPr/>
        </p:nvGrpSpPr>
        <p:grpSpPr>
          <a:xfrm>
            <a:off x="5986440" y="3913200"/>
            <a:ext cx="1816200" cy="671400"/>
            <a:chOff x="5986440" y="3913200"/>
            <a:chExt cx="1816200" cy="671400"/>
          </a:xfrm>
        </p:grpSpPr>
        <p:pic>
          <p:nvPicPr>
            <p:cNvPr id="402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986440" y="3913200"/>
              <a:ext cx="18162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095880" y="4024440"/>
              <a:ext cx="15955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120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9:50:56Z</dcterms:created>
  <dc:creator>Аня</dc:creator>
  <dc:description/>
  <dc:language>en-US</dc:language>
  <cp:lastModifiedBy>пользователь</cp:lastModifiedBy>
  <dcterms:modified xsi:type="dcterms:W3CDTF">2009-11-24T18:56:23Z</dcterms:modified>
  <cp:revision>19</cp:revision>
  <dc:subject/>
  <dc:title>Взаимосвязь  между углеводородами, спиртами, альдегидами и карбоновыми кислотами</dc:title>
</cp:coreProperties>
</file>