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E887-4F3A-48F3-B718-9608BD153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E2C6-BEB9-4A22-9EB7-4427831CE9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B559-3D1A-46CF-8D89-AA6217556F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7200" y="152280"/>
            <a:ext cx="3228840" cy="13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ы классного коллектива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05320" y="1519200"/>
            <a:ext cx="2438280" cy="305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яты обучающимися 5а класса МКОУ «Школа№37» в 2016 году.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ный руководитель Новикова Н.А.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7777"/>
                </a:solidFill>
                <a:latin typeface="Microsoft Sans Serif"/>
              </a:rPr>
              <a:t>ЗАКОНЫ КЛАССНОГО КОЛЛЕКТИВА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28440" y="1828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кон правды.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гавши один раз, не жди, что тебе поверят в другой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омни, правда нужна не только тебе, но и окружающим тебя людям. Будь правдив!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омни, правда нужна не только тебе, но и окружающим тебя людям. Будь правдив!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 добра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ь добр к ближнему, и добро вернётся к тебе. 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 заботы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жде чем требовать внимание к себе, прояви его к окружающим людям. Помни об их интересах, нуждах, потребностях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 милосердия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бе сегодня хорошо, но рядом могут быть люди, у которых слёзы на глазах. Не забывай о них!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 уважения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чешь, чтобы тебя уважали, уважай человеческое достоинство других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 смелости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чера ты струсил, но сегодня ты у нас в коллективе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ь смел!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 свободы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ый человек хочет быть свободен. Отстаивая свою свободу, не забывай о свободе другого человека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 чести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поминай о своей физической силе только наедине с собой. Помни о своей духовной силе, долге, благородстве, достоинстве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Наталья</cp:lastModifiedBy>
  <dcterms:modified xsi:type="dcterms:W3CDTF">2017-09-03T10:54:50Z</dcterms:modified>
  <cp:revision>180</cp:revision>
  <dc:subject/>
  <dc:title>Name of presentation</dc:title>
</cp:coreProperties>
</file>