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5107-63BB-4BB0-A3BA-CF9E1810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226C-6D88-4828-9B81-52409AEB0B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154-A2BA-4B3F-8DE1-E829FDCCB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7200" y="152280"/>
            <a:ext cx="3228840" cy="13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ы классного коллектив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05320" y="1519200"/>
            <a:ext cx="2438280" cy="305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ы обучающимися 5а класса МКОУ «Школа№37» в 2016 году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руководитель Новикова Н.А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7777"/>
                </a:solidFill>
                <a:latin typeface="Microsoft Sans Serif"/>
              </a:rPr>
              <a:t>ЗАКОНЫ КЛАССНОГО КОЛЛЕКТИВ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кон правды.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гавши один раз, не жди, что тебе поверят в другой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, правда нужна не только тебе, но и окружающим тебя людям. Будь правдив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, правда нужна не только тебе, но и окружающим тебя людям. Будь правдив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добра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 добр к ближнему, и добро вернётся к тебе.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заботы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чем требовать внимание к себе, прояви его к окружающим людям. Помни об их интересах, нуждах, потребностях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милосерд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бе сегодня хорошо, но рядом могут быть люди, у которых слёзы на глазах. Не забывай о них!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уважен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чешь, чтобы тебя уважали, уважай человеческое достоинство других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смелост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чера ты струсил, но сегодня ты у нас в коллективе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 смел!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свободы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человек хочет быть свободен. Отстаивая свою свободу, не забывай о свободе другого человека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 чест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инай о своей физической силе только наедине с собой. Помни о своей духовной силе, долге, благородстве, достоинстве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Наталья</cp:lastModifiedBy>
  <dcterms:modified xsi:type="dcterms:W3CDTF">2017-09-03T10:54:50Z</dcterms:modified>
  <cp:revision>180</cp:revision>
  <dc:subject/>
  <dc:title>Name of presentation</dc:title>
</cp:coreProperties>
</file>