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88C-EA4D-4F0C-BBBA-3D0587F9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AC-106A-4AB2-88BD-77B02952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E99-DBBF-434B-A35D-031975FC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2F1-F380-4C73-8835-302F5051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039-07C7-4C5C-9B7C-E1CFEE1C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39B-6B2F-46A1-8758-3FC4321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02D-D9C8-441E-A4E4-829477A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43C-BA5D-4A2F-BD4E-B605229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602-9767-45AF-A5EC-A4B164AA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7AE-E0FD-4889-B4D6-C419C7C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C33-4A00-4504-9BAA-316881A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0B0-C732-4BA7-9C0B-1E0E1F5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AC3F-05A2-40C2-B17D-EEFE8EB5E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95280" y="476280"/>
            <a:ext cx="8497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ДОУ ИРМО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тский с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ого в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овые методы и приемы артикуляционной гимнастики, как средство формирования звуковой культуры речи дошкольник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 работы логоп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докимовой И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39528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е пособие «Волшебные кубы»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DSC02527.JPG"/>
          <p:cNvPicPr/>
          <p:nvPr/>
        </p:nvPicPr>
        <p:blipFill>
          <a:blip r:embed="rId2"/>
          <a:stretch/>
        </p:blipFill>
        <p:spPr>
          <a:xfrm>
            <a:off x="1547640" y="1665360"/>
            <a:ext cx="56883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39528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для самостоятельного выполнения артикуляционных упражнений ребенком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Admin\Desktop\фото логопед\IMG_2520.JPG"/>
          <p:cNvPicPr/>
          <p:nvPr/>
        </p:nvPicPr>
        <p:blipFill>
          <a:blip r:embed="rId2"/>
          <a:stretch/>
        </p:blipFill>
        <p:spPr>
          <a:xfrm>
            <a:off x="539640" y="2060640"/>
            <a:ext cx="397044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Admin\Desktop\фото логопед\IMG_2526.JPG"/>
          <p:cNvPicPr/>
          <p:nvPr/>
        </p:nvPicPr>
        <p:blipFill>
          <a:blip r:embed="rId3"/>
          <a:stretch/>
        </p:blipFill>
        <p:spPr>
          <a:xfrm>
            <a:off x="4859280" y="2060640"/>
            <a:ext cx="388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250920" y="549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мультимедийных презент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Admin\Desktop\фото логопед\IMG_2531.JPG"/>
          <p:cNvPicPr/>
          <p:nvPr/>
        </p:nvPicPr>
        <p:blipFill>
          <a:blip r:embed="rId2"/>
          <a:stretch/>
        </p:blipFill>
        <p:spPr>
          <a:xfrm>
            <a:off x="684360" y="2440080"/>
            <a:ext cx="3743280" cy="298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Admin\Desktop\фото логопед\IMG_2546.JPG"/>
          <p:cNvPicPr/>
          <p:nvPr/>
        </p:nvPicPr>
        <p:blipFill>
          <a:blip r:embed="rId3"/>
          <a:stretch/>
        </p:blipFill>
        <p:spPr>
          <a:xfrm>
            <a:off x="5003640" y="903240"/>
            <a:ext cx="3384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-6192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395280" y="4762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комплексы артикуляционных упражнений по лексическим темам</a:t>
            </a:r>
            <a:br>
              <a:rPr sz="23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C:\Users\Admin\Desktop\фото логопед\IMG_2535.JPG"/>
          <p:cNvPicPr/>
          <p:nvPr/>
        </p:nvPicPr>
        <p:blipFill>
          <a:blip r:embed="rId2"/>
          <a:stretch/>
        </p:blipFill>
        <p:spPr>
          <a:xfrm>
            <a:off x="3492360" y="4508640"/>
            <a:ext cx="280836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:\Users\Admin\Desktop\фото логопед\IMG_2537.JPG"/>
          <p:cNvPicPr/>
          <p:nvPr/>
        </p:nvPicPr>
        <p:blipFill>
          <a:blip r:embed="rId3"/>
          <a:stretch/>
        </p:blipFill>
        <p:spPr>
          <a:xfrm>
            <a:off x="4721400" y="1574640"/>
            <a:ext cx="3720960" cy="279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C:\Users\Admin\Desktop\фото логопед\IMG_2539.JPG"/>
          <p:cNvPicPr/>
          <p:nvPr/>
        </p:nvPicPr>
        <p:blipFill>
          <a:blip r:embed="rId4"/>
          <a:stretch/>
        </p:blipFill>
        <p:spPr>
          <a:xfrm>
            <a:off x="611280" y="1574640"/>
            <a:ext cx="37209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е пособие «Колобо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3" descr="DSC02514.JPG"/>
          <p:cNvPicPr/>
          <p:nvPr/>
        </p:nvPicPr>
        <p:blipFill>
          <a:blip r:embed="rId2"/>
          <a:stretch/>
        </p:blipFill>
        <p:spPr>
          <a:xfrm>
            <a:off x="2484360" y="1895400"/>
            <a:ext cx="3743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-541440" y="54936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ые упражнения         «Качел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сики»</a:t>
            </a:r>
            <a:br>
              <a:rPr sz="33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DSC02518.JPG"/>
          <p:cNvPicPr/>
          <p:nvPr/>
        </p:nvPicPr>
        <p:blipFill>
          <a:blip r:embed="rId2"/>
          <a:stretch/>
        </p:blipFill>
        <p:spPr>
          <a:xfrm>
            <a:off x="690480" y="1712880"/>
            <a:ext cx="4097520" cy="384804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3" descr="DSC02522.JPG"/>
          <p:cNvPicPr/>
          <p:nvPr/>
        </p:nvPicPr>
        <p:blipFill>
          <a:blip r:embed="rId3"/>
          <a:stretch/>
        </p:blipFill>
        <p:spPr>
          <a:xfrm>
            <a:off x="5003640" y="2924280"/>
            <a:ext cx="37497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с ложко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DSC0257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адкая заряд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DSC02587.JPG"/>
          <p:cNvPicPr/>
          <p:nvPr/>
        </p:nvPicPr>
        <p:blipFill>
          <a:blip r:embed="rId2"/>
          <a:stretch/>
        </p:blipFill>
        <p:spPr>
          <a:xfrm>
            <a:off x="1547640" y="1600200"/>
            <a:ext cx="5616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1"/>
          <p:cNvSpPr/>
          <p:nvPr/>
        </p:nvSpPr>
        <p:spPr>
          <a:xfrm>
            <a:off x="539640" y="854640"/>
            <a:ext cx="80647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биоэнергопла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энергопла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дружественное взаимодействие руки и языка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лизуется мышечный тонус органов артик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руются двигательные функции артикуляцион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ивизируется речевая 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ается работ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C:\Users\Admin\Desktop\карт. для презентаций\20160706_939622.gif"/>
          <p:cNvPicPr/>
          <p:nvPr/>
        </p:nvPicPr>
        <p:blipFill>
          <a:blip r:embed="rId2"/>
          <a:stretch/>
        </p:blipFill>
        <p:spPr>
          <a:xfrm>
            <a:off x="5867280" y="4162320"/>
            <a:ext cx="26528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Admin\Desktop\фото логопед\IMG_2512.JPG"/>
          <p:cNvPicPr/>
          <p:nvPr/>
        </p:nvPicPr>
        <p:blipFill>
          <a:blip r:embed="rId2"/>
          <a:stretch/>
        </p:blipFill>
        <p:spPr>
          <a:xfrm>
            <a:off x="324000" y="2060640"/>
            <a:ext cx="4203720" cy="33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Admin\Desktop\фото логопед\IMG_2513.JPG"/>
          <p:cNvPicPr/>
          <p:nvPr/>
        </p:nvPicPr>
        <p:blipFill>
          <a:blip r:embed="rId3"/>
          <a:stretch/>
        </p:blipFill>
        <p:spPr>
          <a:xfrm>
            <a:off x="4716360" y="2914560"/>
            <a:ext cx="4054680" cy="31784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61128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дружественных движений кисти руки и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обия «варежка-языч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258920" y="1312920"/>
            <a:ext cx="70581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зык есть машина, и не следует допускать, чтобы пружины её скрипели».    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а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Описание: J:\Мама - !!!!!\анимашки\скачанные файлы.jpg"/>
          <p:cNvPicPr/>
          <p:nvPr/>
        </p:nvPicPr>
        <p:blipFill>
          <a:blip r:embed="rId2"/>
          <a:stretch/>
        </p:blipFill>
        <p:spPr>
          <a:xfrm>
            <a:off x="5651640" y="4005360"/>
            <a:ext cx="3313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3" descr="DSC02571.JPG"/>
          <p:cNvPicPr/>
          <p:nvPr/>
        </p:nvPicPr>
        <p:blipFill>
          <a:blip r:embed="rId2"/>
          <a:stretch/>
        </p:blipFill>
        <p:spPr>
          <a:xfrm>
            <a:off x="395280" y="1916280"/>
            <a:ext cx="3889440" cy="374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DSC02575.JPG"/>
          <p:cNvPicPr/>
          <p:nvPr/>
        </p:nvPicPr>
        <p:blipFill>
          <a:blip r:embed="rId3"/>
          <a:stretch/>
        </p:blipFill>
        <p:spPr>
          <a:xfrm>
            <a:off x="4572000" y="1916280"/>
            <a:ext cx="4032360" cy="37447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1332000" y="836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е перчатк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39528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«Веселого язы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Admin\Desktop\фото логопед\IMG_2487.JPG"/>
          <p:cNvPicPr/>
          <p:nvPr/>
        </p:nvPicPr>
        <p:blipFill>
          <a:blip r:embed="rId2"/>
          <a:stretch/>
        </p:blipFill>
        <p:spPr>
          <a:xfrm>
            <a:off x="1619280" y="1628640"/>
            <a:ext cx="5761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44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4962600" y="15840"/>
            <a:ext cx="3538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р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с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:\Users\Admin\Desktop\фото логопед\IMG_2485.JPG"/>
          <p:cNvPicPr/>
          <p:nvPr/>
        </p:nvPicPr>
        <p:blipFill>
          <a:blip r:embed="rId2"/>
          <a:stretch/>
        </p:blipFill>
        <p:spPr>
          <a:xfrm>
            <a:off x="4572000" y="2306520"/>
            <a:ext cx="4321080" cy="349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Admin\Desktop\фото логопед\IMG_2477.JPG"/>
          <p:cNvPicPr/>
          <p:nvPr/>
        </p:nvPicPr>
        <p:blipFill>
          <a:blip r:embed="rId3"/>
          <a:stretch/>
        </p:blipFill>
        <p:spPr>
          <a:xfrm>
            <a:off x="611280" y="1052640"/>
            <a:ext cx="38401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1"/>
          <p:cNvSpPr/>
          <p:nvPr/>
        </p:nvSpPr>
        <p:spPr>
          <a:xfrm>
            <a:off x="1062000" y="1131840"/>
            <a:ext cx="7201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вестибулярн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общей координации дв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артикуляционной и тон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ые и голосовы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развитие фонематического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-38160" y="-206280"/>
            <a:ext cx="9220320" cy="7022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Admin\Desktop\фото логопед\IMG_2440.JPG"/>
          <p:cNvPicPr/>
          <p:nvPr/>
        </p:nvPicPr>
        <p:blipFill>
          <a:blip r:embed="rId2"/>
          <a:stretch/>
        </p:blipFill>
        <p:spPr>
          <a:xfrm>
            <a:off x="403200" y="936720"/>
            <a:ext cx="4205160" cy="315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Admin\Desktop\фото логопед\IMG_2442.JPG"/>
          <p:cNvPicPr/>
          <p:nvPr/>
        </p:nvPicPr>
        <p:blipFill>
          <a:blip r:embed="rId3"/>
          <a:stretch/>
        </p:blipFill>
        <p:spPr>
          <a:xfrm>
            <a:off x="4809960" y="3233880"/>
            <a:ext cx="393876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Заголовок 1"/>
          <p:cNvSpPr/>
          <p:nvPr/>
        </p:nvSpPr>
        <p:spPr>
          <a:xfrm>
            <a:off x="4809960" y="662040"/>
            <a:ext cx="4154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о-голосовое упражнение «Ракета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5105520" y="836640"/>
            <a:ext cx="309564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лыб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окод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Admin\Desktop\фото логопед\IMG_2444.JPG"/>
          <p:cNvPicPr/>
          <p:nvPr/>
        </p:nvPicPr>
        <p:blipFill>
          <a:blip r:embed="rId2"/>
          <a:stretch/>
        </p:blipFill>
        <p:spPr>
          <a:xfrm>
            <a:off x="250920" y="620640"/>
            <a:ext cx="4106880" cy="307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Admin\Desktop\фото логопед\IMG_2451.JPG"/>
          <p:cNvPicPr/>
          <p:nvPr/>
        </p:nvPicPr>
        <p:blipFill>
          <a:blip r:embed="rId3"/>
          <a:stretch/>
        </p:blipFill>
        <p:spPr>
          <a:xfrm>
            <a:off x="4545000" y="3002040"/>
            <a:ext cx="42163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Заголовок 1"/>
          <p:cNvSpPr/>
          <p:nvPr/>
        </p:nvSpPr>
        <p:spPr>
          <a:xfrm>
            <a:off x="5105520" y="260280"/>
            <a:ext cx="309564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 развитие слухового внимания и фонематического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Admin\Desktop\фото логопед\IMG_2452.JPG"/>
          <p:cNvPicPr/>
          <p:nvPr/>
        </p:nvPicPr>
        <p:blipFill>
          <a:blip r:embed="rId2"/>
          <a:stretch/>
        </p:blipFill>
        <p:spPr>
          <a:xfrm>
            <a:off x="755640" y="836640"/>
            <a:ext cx="3816360" cy="3386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Admin\Desktop\фото логопед\IMG_2453.JPG"/>
          <p:cNvPicPr/>
          <p:nvPr/>
        </p:nvPicPr>
        <p:blipFill>
          <a:blip r:embed="rId3"/>
          <a:stretch/>
        </p:blipFill>
        <p:spPr>
          <a:xfrm>
            <a:off x="4716360" y="2852640"/>
            <a:ext cx="4192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1"/>
          <p:cNvSpPr/>
          <p:nvPr/>
        </p:nvSpPr>
        <p:spPr>
          <a:xfrm>
            <a:off x="684360" y="919800"/>
            <a:ext cx="777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гровых методов проведения артикуляционной гимнаст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формированию у детей устойчивого интереса к выполнению артикуляционных упражнений, повышению  мотивации, работ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положительную динамику в развитии артикуляционной и пальчиков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успешность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C:\Users\Admin\Desktop\карт. для презентаций\20160706_939616.png"/>
          <p:cNvPicPr/>
          <p:nvPr/>
        </p:nvPicPr>
        <p:blipFill>
          <a:blip r:embed="rId2"/>
          <a:stretch/>
        </p:blipFill>
        <p:spPr>
          <a:xfrm>
            <a:off x="5148360" y="3913200"/>
            <a:ext cx="34560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719280" y="395280"/>
            <a:ext cx="770544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жиленко Е. А. «Артикуляционная гимнастика» Изд-во: Каро,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ищенкова Е. С. «Артикуляционная гимнастика для развития речи дошкольников». Издательство: АСТ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оваленко С. В. и Коноваленко В. В.,  Нетрадиционные приемы коррекционной логопедической работы с детьми «Хлоп-топ» и «Хлоп-топ-2». Гном. 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раузе Е. Логопедический массаж и артикуляционная гимнастика. — СПб. : Корона принт,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ихотворно-игровые комплексы для дошкольников с недостатками речи журнал «Логопед». — № 2. —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собия по развитию речи // журнал «Логопед». — № 6. —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.А.Куликовская «Артикуляционная гимнастика» в считалоч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. А. Поваляева «Сказки о Весёлом Языч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«Тра-ля-ля для язычка. Артикуляционная гимнастика. Для детей 2-4 лет». Издательство: Карапуз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стыгина В. «Бу-Бу-Бу. Артикуляционная гимнастика (2-4 года)». Издательство: Карапуз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719280" y="1570320"/>
            <a:ext cx="7813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5" descr="Описание: J:\Мама - !!!!!\анимашки\скачанные файлы.jpg"/>
          <p:cNvPicPr/>
          <p:nvPr/>
        </p:nvPicPr>
        <p:blipFill>
          <a:blip r:embed="rId2"/>
          <a:stretch/>
        </p:blipFill>
        <p:spPr>
          <a:xfrm>
            <a:off x="5076720" y="3357720"/>
            <a:ext cx="3311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84360" y="666360"/>
            <a:ext cx="7775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е условие успешного обучения в школе - хорошо сформированная реч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ый фонематический 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простыми формами языкового анализа и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ый словар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 правильная связная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звукопроиз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Users\Admin\Desktop\карт. для презентаций\80409229.png"/>
          <p:cNvPicPr/>
          <p:nvPr/>
        </p:nvPicPr>
        <p:blipFill>
          <a:blip r:embed="rId2"/>
          <a:stretch/>
        </p:blipFill>
        <p:spPr>
          <a:xfrm>
            <a:off x="6227640" y="3573360"/>
            <a:ext cx="2232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539640" y="403560"/>
            <a:ext cx="8353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 одно из основных эффективных средств формирования правильного звукопроизношения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ая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ость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интереса к организован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уменьшению эффективности выполнения артикуляционны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Users\Admin\Desktop\карт. для презентаций\74688674.jpg"/>
          <p:cNvPicPr/>
          <p:nvPr/>
        </p:nvPicPr>
        <p:blipFill>
          <a:blip r:embed="rId2"/>
          <a:stretch/>
        </p:blipFill>
        <p:spPr>
          <a:xfrm>
            <a:off x="7380360" y="5013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50920" y="47628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гровой мотивации, развитие интереса к работе по формированию правильного звукопроизношения путём использования игровых приемов и  нетрадиционных методов артикуляционной гимна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етрадиционных методов и приёмов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Admin\Desktop\карт. для презентаций\Detskie-ruki-na-belom-fone.jpg"/>
          <p:cNvPicPr/>
          <p:nvPr/>
        </p:nvPicPr>
        <p:blipFill>
          <a:blip r:embed="rId2"/>
          <a:stretch/>
        </p:blipFill>
        <p:spPr>
          <a:xfrm>
            <a:off x="6084720" y="4869000"/>
            <a:ext cx="256716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900000" y="689040"/>
            <a:ext cx="7417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истеме педагогической работы, направленной на формирование звукопроизношения дошкольников, активно использовать артикуляционную гимнастику в игровых и нетрадиционных методах и приёмах, то это более эффективно скажется на развитии правильного звукопроизношения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:\Users\Admin\Desktop\карт. для презентаций\20160706_939616.png"/>
          <p:cNvPicPr/>
          <p:nvPr/>
        </p:nvPicPr>
        <p:blipFill>
          <a:blip r:embed="rId2"/>
          <a:stretch/>
        </p:blipFill>
        <p:spPr>
          <a:xfrm>
            <a:off x="6012000" y="4292640"/>
            <a:ext cx="2814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«Гусен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\Desktop\фото логопед\IMG_2498.JPG"/>
          <p:cNvPicPr/>
          <p:nvPr/>
        </p:nvPicPr>
        <p:blipFill>
          <a:blip r:embed="rId2"/>
          <a:stretch/>
        </p:blipFill>
        <p:spPr>
          <a:xfrm>
            <a:off x="900000" y="2205000"/>
            <a:ext cx="7726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«Веселая гимнас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Admin\Desktop\фото логопед\IMG_2464.JPG"/>
          <p:cNvPicPr/>
          <p:nvPr/>
        </p:nvPicPr>
        <p:blipFill>
          <a:blip r:embed="rId2"/>
          <a:stretch/>
        </p:blipFill>
        <p:spPr>
          <a:xfrm>
            <a:off x="1908000" y="158760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116000" y="2771640"/>
            <a:ext cx="6912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Admin\Desktop\фото логопед\IMG_2469.JPG"/>
          <p:cNvPicPr/>
          <p:nvPr/>
        </p:nvPicPr>
        <p:blipFill>
          <a:blip r:embed="rId2"/>
          <a:stretch/>
        </p:blipFill>
        <p:spPr>
          <a:xfrm>
            <a:off x="198360" y="907920"/>
            <a:ext cx="4129200" cy="309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Admin\Desktop\фото логопед\IMG_2472.JPG"/>
          <p:cNvPicPr/>
          <p:nvPr/>
        </p:nvPicPr>
        <p:blipFill>
          <a:blip r:embed="rId3"/>
          <a:stretch/>
        </p:blipFill>
        <p:spPr>
          <a:xfrm>
            <a:off x="4643280" y="2637000"/>
            <a:ext cx="42102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13:37Z</dcterms:created>
  <dc:creator>NFS</dc:creator>
  <dc:description/>
  <dc:language>en-US</dc:language>
  <cp:lastModifiedBy>Admin</cp:lastModifiedBy>
  <dcterms:modified xsi:type="dcterms:W3CDTF">2017-09-04T12:28:05Z</dcterms:modified>
  <cp:revision>89</cp:revision>
  <dc:subject/>
  <dc:title>Слайд 1</dc:title>
</cp:coreProperties>
</file>