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25B-AE2C-45FC-923A-7AACF08D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659-95F1-47EB-B16E-8DE4CB5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539-3AC9-4CA5-A8BE-5A27EF4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062-D2EA-43AE-96EC-44D56CED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475-F1EC-411A-B2BF-FE752490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1C2-77CC-4785-BF4D-187431A9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9BD-725E-48FC-9B71-002621A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F4F-BCFD-48FA-A702-312303A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7B0-7C45-42C0-9434-B119DDF2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3D7-D5C1-4D28-88A4-2667EEF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95A-EB05-4835-802A-3E6370D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697-B0B9-4B8B-80A2-82E44D8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3B70-5308-4BD5-852D-EDC687FE8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" Target="slide3.xm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39680" y="450720"/>
            <a:ext cx="8864640" cy="3664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4011480" y="4700520"/>
            <a:ext cx="1517760" cy="4017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4"/>
          <a:stretch/>
        </p:blipFill>
        <p:spPr>
          <a:xfrm>
            <a:off x="1616040" y="4121280"/>
            <a:ext cx="51926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2"/>
          <a:stretch/>
        </p:blipFill>
        <p:spPr>
          <a:xfrm>
            <a:off x="103320" y="49320"/>
            <a:ext cx="9047160" cy="888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179280" y="907920"/>
            <a:ext cx="856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я на сайте детского сада: консультации, новости, фотографии с  различных мероприя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ео заня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фрагмен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233280" y="174960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вышение эффективности процесса об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вышение уровня профессионального мастерства и самооценк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Активизация познавательной деятельност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Создание единой информацион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вышение интеллектуального уровня развития ребенка посредством использования информационно-коммуникативных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468360" y="549360"/>
            <a:ext cx="842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ение ИКТ позволяет добиться следующих  результатов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395280" y="76500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спользование ИКТ в музыкальном   воспитании дошкольников -это только средство для реализации целей и задач, поставленных перед педаго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лавенствующая роль в музыкальном воспитании всегда останется за музыкальным руководител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8"/>
          <p:cNvSpPr/>
          <p:nvPr/>
        </p:nvSpPr>
        <p:spPr>
          <a:xfrm>
            <a:off x="179280" y="40464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едства ИКТ в детском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0" y="90792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Компьютер   Принтер   Телевизор    Фотоап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5364000" y="1989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Мультимедийный 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557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идеомагнитофон  Интерактивная доска Видеока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250920" y="2060640"/>
            <a:ext cx="4033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Магнитоф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(музыкальный цен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287280" y="292428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муникационные  технологи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324000" y="350028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рнет        Компьютерные программы Электронная поч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1547640" y="436572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ециальные музыка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4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79280" y="549360"/>
            <a:ext cx="8785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КТ В РАБОТЕ МУЗЫКАЛЬНОГО РУКОВОД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     Подбор иллюстративного материала к занятиям и для оформления стен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     Подбор дополнительного познавательного материала к занят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     Обмен опытом, знакомство с периодикой, наработками других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     Оформление документации, отч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     Создание презентаций, видео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286000" y="8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24720" y="285264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Информационная емкость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855680" y="479736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мпак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550880" y="530064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Доступность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0920" y="357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глядность и эмоциональная привлек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5515560" y="278136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0920" y="4149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2498040" y="4149720"/>
            <a:ext cx="39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ногофункциональность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17928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зможности применения ИКТ  в музыкальном воспитании дошкольников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611280" y="83664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1859c"/>
                </a:solidFill>
                <a:uFillTx/>
                <a:latin typeface="Monotype Corsiva"/>
              </a:rPr>
              <a:t>Мультимедиа презентации </a:t>
            </a:r>
            <a:r>
              <a:rPr b="1" lang="ru-RU" sz="2400" spc="-1" strike="noStrike">
                <a:solidFill>
                  <a:srgbClr val="31859c"/>
                </a:solidFill>
                <a:latin typeface="Monotype Corsiva"/>
              </a:rPr>
              <a:t>– электронные диафильмы, включающие в себя анимацию, аудио- и видеофрагменты, элементы интерактивности (реакцию на действия пользователя)  - наиболее распространённый вид представления демонстрацион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51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840360" y="3573360"/>
            <a:ext cx="23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еоряд иллюстр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муз. произведениям, репродукции произведений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2215080" y="7650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Восприятие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Рисунок10.jpg"/>
          <p:cNvPicPr/>
          <p:nvPr/>
        </p:nvPicPr>
        <p:blipFill>
          <a:blip r:embed="rId2"/>
          <a:stretch/>
        </p:blipFill>
        <p:spPr>
          <a:xfrm>
            <a:off x="0" y="4292640"/>
            <a:ext cx="207324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1982880" y="4941720"/>
            <a:ext cx="169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ком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творч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ози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250920" y="38606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комство с симфоническим оркест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4211640" y="609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комство с жан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fs.nashaucheba.ru/tw_files2/urls_3/1740/d-1739312/1739312_html_m615e7948.gif"/>
          <p:cNvPicPr/>
          <p:nvPr/>
        </p:nvPicPr>
        <p:blipFill>
          <a:blip r:embed="rId3"/>
          <a:stretch/>
        </p:blipFill>
        <p:spPr>
          <a:xfrm>
            <a:off x="4284720" y="4365720"/>
            <a:ext cx="234000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tsaf.friendsonfire.ru/media/upload/performer/NASO_Rinkevicius.jpg"/>
          <p:cNvPicPr/>
          <p:nvPr/>
        </p:nvPicPr>
        <p:blipFill>
          <a:blip r:embed="rId4"/>
          <a:stretch/>
        </p:blipFill>
        <p:spPr>
          <a:xfrm>
            <a:off x="250920" y="1268280"/>
            <a:ext cx="583380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лена\Desktop\музыкальная угадайка\картинки\к музыке\0_8eb91_bb593c39_orig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907920"/>
            <a:ext cx="2092320" cy="26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3029040" cy="3057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6191280" y="544500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фрагменты художественных и документальных фильмов о жизни и творчестве компози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4356000" y="267840"/>
            <a:ext cx="151128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  <a:ea typeface="Calibri"/>
              </a:rPr>
              <a:t>Знакомство с творческими коллективами Красноярского края, культурой народов Красноярского кр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279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78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friedmann-agentur.de/sites/default/files/Nussknacker.jpg"/>
          <p:cNvPicPr/>
          <p:nvPr/>
        </p:nvPicPr>
        <p:blipFill>
          <a:blip r:embed="rId4"/>
          <a:stretch/>
        </p:blipFill>
        <p:spPr>
          <a:xfrm>
            <a:off x="395280" y="2852640"/>
            <a:ext cx="2232000" cy="2871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3419640" y="335772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дбо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лассической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 те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зык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бо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5657760"/>
            <a:ext cx="31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фрагменты из опер, бале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музыкальных сказ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онцертов класс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s://mmedia.ozone.ru/multimedia/person_photo/w190/1004771935.jpg"/>
          <p:cNvPicPr/>
          <p:nvPr/>
        </p:nvPicPr>
        <p:blipFill>
          <a:blip r:embed="rId5"/>
          <a:stretch/>
        </p:blipFill>
        <p:spPr>
          <a:xfrm>
            <a:off x="6804000" y="2924280"/>
            <a:ext cx="202572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-176040" y="225360"/>
            <a:ext cx="4906800" cy="121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82840" cy="285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2305080" cy="2228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6732720" y="1268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Monotype Corsiva"/>
              </a:rPr>
              <a:t>Разминки и заря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pp.vk.me/c623316/v623316818/42cc4/X45_qZ5fZds.jpg"/>
          <p:cNvPicPr/>
          <p:nvPr/>
        </p:nvPicPr>
        <p:blipFill>
          <a:blip r:embed="rId4"/>
          <a:stretch/>
        </p:blipFill>
        <p:spPr>
          <a:xfrm>
            <a:off x="4643280" y="335772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8" descr=""/>
          <p:cNvPicPr/>
          <p:nvPr/>
        </p:nvPicPr>
        <p:blipFill>
          <a:blip r:embed="rId5"/>
          <a:stretch/>
        </p:blipFill>
        <p:spPr>
          <a:xfrm>
            <a:off x="536400" y="5132520"/>
            <a:ext cx="3754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1" descr=""/>
          <p:cNvPicPr/>
          <p:nvPr/>
        </p:nvPicPr>
        <p:blipFill>
          <a:blip r:embed="rId2"/>
          <a:stretch/>
        </p:blipFill>
        <p:spPr>
          <a:xfrm>
            <a:off x="244440" y="444600"/>
            <a:ext cx="8906040" cy="72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im7-tub-ru.yandex.net/i?id=369695760-53-72&amp;n=21"/>
          <p:cNvPicPr/>
          <p:nvPr/>
        </p:nvPicPr>
        <p:blipFill>
          <a:blip r:embed="rId3"/>
          <a:stretch/>
        </p:blipFill>
        <p:spPr>
          <a:xfrm rot="21013800">
            <a:off x="4846320" y="1944360"/>
            <a:ext cx="3965400" cy="273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i066.radikal.ru/1103/8d/8f21007d6272.jpg"/>
          <p:cNvPicPr/>
          <p:nvPr/>
        </p:nvPicPr>
        <p:blipFill>
          <a:blip r:embed="rId4"/>
          <a:stretch/>
        </p:blipFill>
        <p:spPr>
          <a:xfrm rot="21047400">
            <a:off x="525600" y="1644120"/>
            <a:ext cx="4019400" cy="283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netnado.ru/pravila-polezovaniya-pirotehnikoj-priobretate-sleduet-toleko-s/9329_html_m6ef71612.jpg"/>
          <p:cNvPicPr/>
          <p:nvPr/>
        </p:nvPicPr>
        <p:blipFill>
          <a:blip r:embed="rId1"/>
          <a:stretch/>
        </p:blipFill>
        <p:spPr>
          <a:xfrm>
            <a:off x="179280" y="112536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netnado.ru/pravila-polezovaniya-pirotehnikoj-priobretate-sleduet-toleko-s/9329_html_m6ef71612.jpg"/>
          <p:cNvPicPr/>
          <p:nvPr/>
        </p:nvPicPr>
        <p:blipFill>
          <a:blip r:embed="rId2"/>
          <a:stretch/>
        </p:blipFill>
        <p:spPr>
          <a:xfrm>
            <a:off x="1476360" y="119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netnado.ru/pravila-polezovaniya-pirotehnikoj-priobretate-sleduet-toleko-s/9329_html_m6ef71612.jpg"/>
          <p:cNvPicPr/>
          <p:nvPr/>
        </p:nvPicPr>
        <p:blipFill>
          <a:blip r:embed="rId3"/>
          <a:stretch/>
        </p:blipFill>
        <p:spPr>
          <a:xfrm>
            <a:off x="2627280" y="692280"/>
            <a:ext cx="1979640" cy="187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netnado.ru/pravila-polezovaniya-pirotehnikoj-priobretate-sleduet-toleko-s/9329_html_m6ef71612.jpg"/>
          <p:cNvPicPr/>
          <p:nvPr/>
        </p:nvPicPr>
        <p:blipFill>
          <a:blip r:embed="rId4"/>
          <a:stretch/>
        </p:blipFill>
        <p:spPr>
          <a:xfrm>
            <a:off x="4643280" y="112536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netnado.ru/pravila-polezovaniya-pirotehnikoj-priobretate-sleduet-toleko-s/9329_html_m6ef71612.jpg"/>
          <p:cNvPicPr/>
          <p:nvPr/>
        </p:nvPicPr>
        <p:blipFill>
          <a:blip r:embed="rId5"/>
          <a:stretch/>
        </p:blipFill>
        <p:spPr>
          <a:xfrm>
            <a:off x="5940360" y="112536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netnado.ru/pravila-polezovaniya-pirotehnikoj-priobretate-sleduet-toleko-s/9329_html_m6ef71612.jpg"/>
          <p:cNvPicPr/>
          <p:nvPr/>
        </p:nvPicPr>
        <p:blipFill>
          <a:blip r:embed="rId6"/>
          <a:stretch/>
        </p:blipFill>
        <p:spPr>
          <a:xfrm>
            <a:off x="7164360" y="836640"/>
            <a:ext cx="197964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7"/>
          <a:stretch/>
        </p:blipFill>
        <p:spPr>
          <a:xfrm>
            <a:off x="3635280" y="2492280"/>
            <a:ext cx="172404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netnado.ru/pravila-polezovaniya-pirotehnikoj-priobretate-sleduet-toleko-s/9329_html_m6ef71612.jpg"/>
          <p:cNvPicPr/>
          <p:nvPr/>
        </p:nvPicPr>
        <p:blipFill>
          <a:blip r:embed="rId8"/>
          <a:stretch/>
        </p:blipFill>
        <p:spPr>
          <a:xfrm>
            <a:off x="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netnado.ru/pravila-polezovaniya-pirotehnikoj-priobretate-sleduet-toleko-s/9329_html_m6ef71612.jpg"/>
          <p:cNvPicPr/>
          <p:nvPr/>
        </p:nvPicPr>
        <p:blipFill>
          <a:blip r:embed="rId9"/>
          <a:stretch/>
        </p:blipFill>
        <p:spPr>
          <a:xfrm>
            <a:off x="1258920" y="443700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netnado.ru/pravila-polezovaniya-pirotehnikoj-priobretate-sleduet-toleko-s/9329_html_m6ef71612.jpg"/>
          <p:cNvPicPr/>
          <p:nvPr/>
        </p:nvPicPr>
        <p:blipFill>
          <a:blip r:embed="rId10"/>
          <a:stretch/>
        </p:blipFill>
        <p:spPr>
          <a:xfrm>
            <a:off x="248436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netnado.ru/pravila-polezovaniya-pirotehnikoj-priobretate-sleduet-toleko-s/9329_html_m6ef71612.jpg"/>
          <p:cNvPicPr/>
          <p:nvPr/>
        </p:nvPicPr>
        <p:blipFill>
          <a:blip r:embed="rId11"/>
          <a:stretch/>
        </p:blipFill>
        <p:spPr>
          <a:xfrm>
            <a:off x="370836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netnado.ru/pravila-polezovaniya-pirotehnikoj-priobretate-sleduet-toleko-s/9329_html_m6ef71612.jpg"/>
          <p:cNvPicPr/>
          <p:nvPr/>
        </p:nvPicPr>
        <p:blipFill>
          <a:blip r:embed="rId12"/>
          <a:stretch/>
        </p:blipFill>
        <p:spPr>
          <a:xfrm>
            <a:off x="493236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netnado.ru/pravila-polezovaniya-pirotehnikoj-priobretate-sleduet-toleko-s/9329_html_m6ef71612.jpg"/>
          <p:cNvPicPr/>
          <p:nvPr/>
        </p:nvPicPr>
        <p:blipFill>
          <a:blip r:embed="rId13"/>
          <a:stretch/>
        </p:blipFill>
        <p:spPr>
          <a:xfrm>
            <a:off x="6084720" y="4437000"/>
            <a:ext cx="1141560" cy="107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netnado.ru/pravila-polezovaniya-pirotehnikoj-priobretate-sleduet-toleko-s/9329_html_m6ef71612.jpg"/>
          <p:cNvPicPr/>
          <p:nvPr/>
        </p:nvPicPr>
        <p:blipFill>
          <a:blip r:embed="rId14"/>
          <a:stretch/>
        </p:blipFill>
        <p:spPr>
          <a:xfrm>
            <a:off x="7164360" y="4005360"/>
            <a:ext cx="1979640" cy="18716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6"/>
          <p:cNvSpPr/>
          <p:nvPr/>
        </p:nvSpPr>
        <p:spPr>
          <a:xfrm>
            <a:off x="0" y="602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onotype Corsiva"/>
              </a:rPr>
              <a:t>Игра на детских музыкальных инструмен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4T06:55:44Z</dcterms:created>
  <dc:creator>лена</dc:creator>
  <dc:description/>
  <dc:language>en-US</dc:language>
  <cp:lastModifiedBy>лена</cp:lastModifiedBy>
  <dcterms:modified xsi:type="dcterms:W3CDTF">2017-09-04T06:57:59Z</dcterms:modified>
  <cp:revision>2</cp:revision>
  <dc:subject/>
  <dc:title>Слайд 1</dc:title>
</cp:coreProperties>
</file>