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B1AE-73B2-4380-993B-42E108E55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C500-4E45-467F-B2DF-49D4B2045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F857-881E-4B18-9890-D6D001A77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9D70-3671-446E-8613-02FD62373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8473-2C4B-41DD-A5D9-4754D6881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C280-8E60-4FBA-9C94-F2EB5A2E0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9B18-93A4-481A-A55C-8B1F755E0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F12C-19FF-43B3-B7A9-EEFE02E09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9665-65AF-4895-917D-40D616CB6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A9A9-6AAC-467B-8E22-D20EA1B96D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4A76-61A4-433C-8D0B-97AFF82B6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EB7E-A9E3-4EF4-AAA3-B8252E127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BDB-D127-4B25-B3A8-B40AD603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F4B-1E27-4FCC-92F5-72FD94DA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427-20A9-4898-811E-85081A4A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345-6B60-4727-962C-E600D1B8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4B5D-CFD5-46FF-89C8-D1D06D4B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66F7-3821-49EB-80AE-0CA4F432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6412-BBBF-4C33-9413-47DF1584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0803-2C2C-47E2-BD99-C04582A0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D87E-1AA8-449D-8C01-A7AE86E0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2B13-119A-4170-B2FD-CC40B5FA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89DF-D2BF-446C-BF05-AAE8DD2B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ECF-66E7-43E9-ACB1-D39B5E5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1483-E635-4BEE-9A17-4CAECD42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5B5-D02E-4AA7-BE15-7A11756F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D171-2449-483A-870B-9427C0E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C352-EFD1-421E-9531-469FD95B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4226-FEC5-4F56-AB53-BE152BF4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0BB-7B0C-4A78-8BD8-3736F895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D5F-BD78-4018-B4F8-6080B0EA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356-8616-4AFF-A6D1-32B77ED5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A21-5A6F-44DF-ACFD-B1C2D02A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0AB-8EB9-4DC0-9D4C-E7A58E1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582-5F97-4957-B1D8-81CFE46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3E5-105D-4EFA-BEA2-E0F5CD1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331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b6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21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138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1121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138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6FF1-696F-4AE4-8C2A-F3C542A11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331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1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b6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21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138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1121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138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4521-D6C4-4ED5-B4D3-CE5871D46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76360" y="2852640"/>
            <a:ext cx="59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АДРАТНЫЕ  УРАВНЕНИ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55640" y="5084640"/>
            <a:ext cx="784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87280" y="1484280"/>
            <a:ext cx="65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                      Одинцовская средняя общеобразовательная школа №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116000" y="58770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инцово,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450864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циус Анастасия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11"/>
          <p:cNvSpPr txBox="1"/>
          <p:nvPr/>
        </p:nvSpPr>
        <p:spPr>
          <a:xfrm>
            <a:off x="539640" y="1557360"/>
            <a:ext cx="7345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ормулы корней  кавдратного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68360" y="2565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о квадратное уравнение не имеет корн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3"/>
              <p:cNvSpPr txBox="1"/>
              <p:nvPr/>
            </p:nvSpPr>
            <p:spPr>
              <a:xfrm>
                <a:off x="684360" y="3429000"/>
                <a:ext cx="1439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Text Box 14"/>
          <p:cNvSpPr/>
          <p:nvPr/>
        </p:nvSpPr>
        <p:spPr>
          <a:xfrm>
            <a:off x="468360" y="3068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0, то квадратное уравнение имеет один корен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68360" y="4437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, то квадратное уравнение имеет два корн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9"/>
              <p:cNvSpPr txBox="1"/>
              <p:nvPr/>
            </p:nvSpPr>
            <p:spPr>
              <a:xfrm>
                <a:off x="789120" y="5013360"/>
                <a:ext cx="1804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0"/>
              <p:cNvSpPr txBox="1"/>
              <p:nvPr/>
            </p:nvSpPr>
            <p:spPr>
              <a:xfrm>
                <a:off x="3335400" y="4941720"/>
                <a:ext cx="1830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21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50"/>
                            </p:stCondLst>
                            <p:childTnLst>
                              <p:par>
                                <p:cTn id="3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2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700"/>
                            </p:stCondLst>
                            <p:childTnLst>
                              <p:par>
                                <p:cTn id="3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25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75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8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407880" y="2565360"/>
            <a:ext cx="4876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138f"/>
              </a:buClr>
              <a:buFont typeface="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138f"/>
                </a:solidFill>
                <a:latin typeface="SchoolBook"/>
              </a:rPr>
              <a:t>Найдем дискриминант </a:t>
            </a:r>
            <a:r>
              <a:rPr b="1" lang="en-US" sz="1600" spc="-1" strike="noStrike">
                <a:solidFill>
                  <a:srgbClr val="33138f"/>
                </a:solidFill>
                <a:latin typeface="SchoolBook"/>
              </a:rPr>
              <a:t>D</a:t>
            </a:r>
            <a:r>
              <a:rPr b="1" lang="ru-RU" sz="1600" spc="-1" strike="noStrike">
                <a:solidFill>
                  <a:srgbClr val="33138f"/>
                </a:solidFill>
                <a:latin typeface="SchoolBoo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 = b – 4*a*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= 3, c = -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468360" y="206064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х – 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21"/>
          <p:cNvSpPr txBox="1"/>
          <p:nvPr/>
        </p:nvSpPr>
        <p:spPr>
          <a:xfrm>
            <a:off x="468360" y="1413000"/>
            <a:ext cx="792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 решения квадратного уравнения по формул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79520" y="3284640"/>
            <a:ext cx="747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ставив значе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формулу , получ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D =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3</a:t>
            </a:r>
            <a:r>
              <a:rPr b="1" lang="ru-RU" sz="16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– 4*2*(- 5) = 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50920" y="4005360"/>
            <a:ext cx="5029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9999ff"/>
                </a:solidFill>
                <a:latin typeface="Times New Roman"/>
              </a:rPr>
              <a:t>2.  </a:t>
            </a:r>
            <a:r>
              <a:rPr b="1" lang="ru-RU" sz="1600" spc="-1" strike="noStrike">
                <a:solidFill>
                  <a:srgbClr val="33138f"/>
                </a:solidFill>
                <a:latin typeface="Times New Roman"/>
              </a:rPr>
              <a:t>Определим число корней уравн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99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 &gt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0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ит уравнение име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 кор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95280" y="48690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33138f"/>
                </a:solidFill>
                <a:latin typeface="Times New Roman"/>
              </a:rPr>
              <a:t>. Найдем корни уравнения, используя формул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755640" y="5156280"/>
            <a:ext cx="2057400" cy="446760"/>
            <a:chOff x="755640" y="5156280"/>
            <a:chExt cx="2057400" cy="446760"/>
          </a:xfrm>
        </p:grpSpPr>
        <p:grpSp>
          <p:nvGrpSpPr>
            <p:cNvPr id="206" name="Group 26"/>
            <p:cNvGrpSpPr/>
            <p:nvPr/>
          </p:nvGrpSpPr>
          <p:grpSpPr>
            <a:xfrm>
              <a:off x="755640" y="5156280"/>
              <a:ext cx="1295280" cy="446760"/>
              <a:chOff x="755640" y="5156280"/>
              <a:chExt cx="1295280" cy="446760"/>
            </a:xfrm>
          </p:grpSpPr>
          <mc:AlternateContent>
            <mc:Choice xmlns:a14="http://schemas.microsoft.com/office/drawing/2010/main" Requires="a14">
              <p:sp>
                <p:nvSpPr>
                  <p:cNvPr id="207" name="Object 27"/>
                  <p:cNvSpPr txBox="1"/>
                  <p:nvPr/>
                </p:nvSpPr>
                <p:spPr>
                  <a:xfrm>
                    <a:off x="1288800" y="5156280"/>
                    <a:ext cx="64800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Text Box 28"/>
              <p:cNvSpPr/>
              <p:nvPr/>
            </p:nvSpPr>
            <p:spPr>
              <a:xfrm>
                <a:off x="755640" y="5232240"/>
                <a:ext cx="12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29"/>
            <p:cNvSpPr/>
            <p:nvPr/>
          </p:nvSpPr>
          <p:spPr>
            <a:xfrm>
              <a:off x="1974600" y="523224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30"/>
          <p:cNvGrpSpPr/>
          <p:nvPr/>
        </p:nvGrpSpPr>
        <p:grpSpPr>
          <a:xfrm>
            <a:off x="5148360" y="4797360"/>
            <a:ext cx="1003320" cy="431640"/>
            <a:chOff x="5148360" y="4797360"/>
            <a:chExt cx="1003320" cy="431640"/>
          </a:xfrm>
        </p:grpSpPr>
        <mc:AlternateContent>
          <mc:Choice xmlns:a14="http://schemas.microsoft.com/office/drawing/2010/main" Requires="a14">
            <p:sp>
              <p:nvSpPr>
                <p:cNvPr id="211" name="Object 31"/>
                <p:cNvSpPr txBox="1"/>
                <p:nvPr/>
              </p:nvSpPr>
              <p:spPr>
                <a:xfrm>
                  <a:off x="5529240" y="4797360"/>
                  <a:ext cx="6224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Text Box 32"/>
            <p:cNvSpPr/>
            <p:nvPr/>
          </p:nvSpPr>
          <p:spPr>
            <a:xfrm>
              <a:off x="5148360" y="4873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 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3"/>
          <p:cNvGrpSpPr/>
          <p:nvPr/>
        </p:nvGrpSpPr>
        <p:grpSpPr>
          <a:xfrm>
            <a:off x="2771640" y="5156280"/>
            <a:ext cx="2590920" cy="507960"/>
            <a:chOff x="2771640" y="5156280"/>
            <a:chExt cx="2590920" cy="507960"/>
          </a:xfrm>
        </p:grpSpPr>
        <p:grpSp>
          <p:nvGrpSpPr>
            <p:cNvPr id="214" name="Group 34"/>
            <p:cNvGrpSpPr/>
            <p:nvPr/>
          </p:nvGrpSpPr>
          <p:grpSpPr>
            <a:xfrm>
              <a:off x="2771640" y="5156280"/>
              <a:ext cx="1181160" cy="507960"/>
              <a:chOff x="2771640" y="5156280"/>
              <a:chExt cx="1181160" cy="507960"/>
            </a:xfrm>
          </p:grpSpPr>
          <mc:AlternateContent>
            <mc:Choice xmlns:a14="http://schemas.microsoft.com/office/drawing/2010/main" Requires="a14">
              <p:sp>
                <p:nvSpPr>
                  <p:cNvPr id="215" name="Object 35"/>
                  <p:cNvSpPr txBox="1"/>
                  <p:nvPr/>
                </p:nvSpPr>
                <p:spPr>
                  <a:xfrm>
                    <a:off x="3305160" y="5232600"/>
                    <a:ext cx="64764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6" name="Text Box 36"/>
              <p:cNvSpPr/>
              <p:nvPr/>
            </p:nvSpPr>
            <p:spPr>
              <a:xfrm>
                <a:off x="2771640" y="5156280"/>
                <a:ext cx="9144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37"/>
            <p:cNvSpPr/>
            <p:nvPr/>
          </p:nvSpPr>
          <p:spPr>
            <a:xfrm>
              <a:off x="4067280" y="52326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- 2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8"/>
          <p:cNvSpPr/>
          <p:nvPr/>
        </p:nvSpPr>
        <p:spPr>
          <a:xfrm>
            <a:off x="826920" y="58770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138f"/>
                </a:solidFill>
                <a:latin typeface="Times New Roman"/>
              </a:rPr>
              <a:t>4. </a:t>
            </a:r>
            <a:r>
              <a:rPr b="1" lang="en-US" sz="1600" spc="-1" strike="noStrike">
                <a:solidFill>
                  <a:srgbClr val="33138f"/>
                </a:solidFill>
                <a:latin typeface="Arial"/>
                <a:ea typeface="Times New Roman"/>
              </a:rPr>
              <a:t>Ответ:</a:t>
            </a:r>
            <a:r>
              <a:rPr b="1" lang="en-US" sz="1600" spc="-1" strike="noStrike">
                <a:solidFill>
                  <a:srgbClr val="9999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2,5; 1</a:t>
            </a: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684360" y="55897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- 2,5 и 1 – корни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1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2"/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400"/>
                            </p:stCondLst>
                            <p:childTnLst>
                              <p:par>
                                <p:cTn id="3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600"/>
                            </p:stCondLst>
                            <p:childTnLst>
                              <p:par>
                                <p:cTn id="3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200"/>
                            </p:stCondLst>
                            <p:childTnLst>
                              <p:par>
                                <p:cTn id="3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37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42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47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200"/>
                            </p:stCondLst>
                            <p:childTnLst>
                              <p:par>
                                <p:cTn id="3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7300"/>
                            </p:stCondLst>
                            <p:childTnLst>
                              <p:par>
                                <p:cTn id="4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468360" y="1413000"/>
            <a:ext cx="792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шение квадратных уравнений по формул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4572000" y="213372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разец записи реш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6" name="Group 12"/>
          <p:cNvGrpSpPr/>
          <p:nvPr/>
        </p:nvGrpSpPr>
        <p:grpSpPr>
          <a:xfrm>
            <a:off x="4572000" y="2637000"/>
            <a:ext cx="3671640" cy="3446640"/>
            <a:chOff x="4572000" y="2637000"/>
            <a:chExt cx="3671640" cy="3446640"/>
          </a:xfrm>
        </p:grpSpPr>
        <p:sp>
          <p:nvSpPr>
            <p:cNvPr id="227" name="Comment 8"/>
            <p:cNvSpPr/>
            <p:nvPr/>
          </p:nvSpPr>
          <p:spPr>
            <a:xfrm>
              <a:off x="4572000" y="2637000"/>
              <a:ext cx="3671640" cy="344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х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+ 3х – 5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 = b – 4*a*c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 =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3 – 4*2*(- 5) = 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 &gt;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0, 2 кор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      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    = - 2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 2,5 и 1 – корни уравн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вет: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 2,5; 1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9"/>
                <p:cNvSpPr txBox="1"/>
                <p:nvPr/>
              </p:nvSpPr>
              <p:spPr>
                <a:xfrm>
                  <a:off x="5290920" y="4076280"/>
                  <a:ext cx="62388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10"/>
                <p:cNvSpPr txBox="1"/>
                <p:nvPr/>
              </p:nvSpPr>
              <p:spPr>
                <a:xfrm>
                  <a:off x="5364000" y="4436640"/>
                  <a:ext cx="65088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9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11"/>
                <p:cNvSpPr txBox="1"/>
                <p:nvPr/>
              </p:nvSpPr>
              <p:spPr>
                <a:xfrm>
                  <a:off x="5364000" y="4868640"/>
                  <a:ext cx="65088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9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WordArt 13"/>
          <p:cNvSpPr txBox="1"/>
          <p:nvPr/>
        </p:nvSpPr>
        <p:spPr>
          <a:xfrm>
            <a:off x="539640" y="213372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реш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Comment 15"/>
          <p:cNvSpPr/>
          <p:nvPr/>
        </p:nvSpPr>
        <p:spPr>
          <a:xfrm>
            <a:off x="611280" y="2862360"/>
            <a:ext cx="3671640" cy="19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ти дискримин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ить число корней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ти корни уравнения по формул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писать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0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1"/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4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900"/>
                            </p:stCondLst>
                            <p:childTnLst>
                              <p:par>
                                <p:cTn id="4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468360" y="1557360"/>
            <a:ext cx="3524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11280" y="2205000"/>
            <a:ext cx="6192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1" action="ppaction://hlinksldjump"/>
              </a:rPr>
              <a:t>Определение квадратного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2" action="ppaction://hlinksldjump"/>
              </a:rPr>
              <a:t>Решение квадратного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3" action="ppaction://hlinksldjump"/>
              </a:rPr>
              <a:t>Виды квадратных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4" action="ppaction://hlinksldjump"/>
              </a:rPr>
              <a:t>Примеры решения неполных квадратных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5" action="ppaction://hlinksldjump"/>
              </a:rPr>
              <a:t>Дискрими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6" action="ppaction://hlinksldjump"/>
              </a:rPr>
              <a:t>Формулы корней квадратного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7" action="ppaction://hlinksldjump"/>
              </a:rPr>
              <a:t>Пример решения квадратного уравнения по форму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8" action="ppaction://hlinksldjump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19280" y="265428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95280" y="207792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вадратным 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уравнение ви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причем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0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542880" y="1527120"/>
            <a:ext cx="352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714760" y="2511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010040" y="25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5133960" y="25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55640" y="380700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старший коэффициен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55640" y="4670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торой коэффициен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755640" y="553572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свободный чл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4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AutoShape 15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6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7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25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25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25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75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75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75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25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25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225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8"/>
          <p:cNvSpPr/>
          <p:nvPr/>
        </p:nvSpPr>
        <p:spPr>
          <a:xfrm>
            <a:off x="905184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21"/>
          <p:cNvSpPr txBox="1"/>
          <p:nvPr/>
        </p:nvSpPr>
        <p:spPr>
          <a:xfrm>
            <a:off x="538200" y="1382760"/>
            <a:ext cx="61214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шение кавдратного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95280" y="2357280"/>
            <a:ext cx="806436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Корнем квадратного уравн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= 0 называют всякое значение переменно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котором квадратный трехчлен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бращается в ну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68360" y="4662360"/>
            <a:ext cx="80643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1215"/>
                </a:solidFill>
                <a:latin typeface="Arial"/>
              </a:rPr>
              <a:t>Решить  квадратное уравнени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значит найти все его корни или установить, что корней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4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AutoShape 25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6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7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50"/>
                            </p:stCondLst>
                            <p:childTnLst>
                              <p:par>
                                <p:cTn id="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5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68360" y="2276640"/>
            <a:ext cx="8064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Полным   квадратным 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уравнение вида 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а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x</a:t>
            </a:r>
            <a:r>
              <a:rPr b="0" i="1" lang="ru-RU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= 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торого коэффициенты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с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отличны от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468360" y="1382760"/>
            <a:ext cx="61214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кавдратных уравн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468360" y="376560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84360" y="44118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5х – 7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492360" y="4411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6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5х – 7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11280" y="5059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6х - 3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8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635280" y="50356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 + 4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- 3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5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1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6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6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6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468360" y="1527120"/>
            <a:ext cx="61214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кавдратных уравн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95280" y="2421000"/>
            <a:ext cx="8064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Приведенным  квадратным 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уравнение вида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x</a:t>
            </a:r>
            <a:r>
              <a:rPr b="0" i="1" lang="ru-RU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= 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торого старший коэффициент равен 1 (а =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12"/>
          <p:cNvSpPr txBox="1"/>
          <p:nvPr/>
        </p:nvSpPr>
        <p:spPr>
          <a:xfrm>
            <a:off x="468360" y="412416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68360" y="4843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5х – 7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419640" y="48434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 + 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3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084720" y="4843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 + 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2х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8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1"/>
          <p:cNvSpPr/>
          <p:nvPr/>
        </p:nvSpPr>
        <p:spPr>
          <a:xfrm>
            <a:off x="1116000" y="4508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04292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7 + 3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71636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2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4716360" y="5157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х + 2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5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468360" y="2349360"/>
            <a:ext cx="8064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Неполным   квадратным 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уравнение вида 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а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x</a:t>
            </a:r>
            <a:r>
              <a:rPr b="0" i="1" lang="ru-RU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= 0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а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x</a:t>
            </a:r>
            <a:r>
              <a:rPr b="0" i="1" lang="ru-RU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= 0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  котором  присутствуют не все слагаем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468360" y="1527120"/>
            <a:ext cx="61214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кавдратных уравн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539640" y="371628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AutoShape 19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539640" y="1527120"/>
            <a:ext cx="7848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ы решения неполных кавдратных уравн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25401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84360" y="30448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84360" y="34765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14 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84360" y="39798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84360" y="45561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1547640" y="4484520"/>
                <a:ext cx="576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7" name="Text Box 11"/>
          <p:cNvSpPr/>
          <p:nvPr/>
        </p:nvSpPr>
        <p:spPr>
          <a:xfrm>
            <a:off x="611280" y="51325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3"/>
              <p:cNvSpPr txBox="1"/>
              <p:nvPr/>
            </p:nvSpPr>
            <p:spPr>
              <a:xfrm>
                <a:off x="2050920" y="5018040"/>
                <a:ext cx="898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9" name="Text Box 14"/>
          <p:cNvSpPr/>
          <p:nvPr/>
        </p:nvSpPr>
        <p:spPr>
          <a:xfrm>
            <a:off x="5364000" y="2611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364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(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4356000" y="37638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 = 0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500720" y="41241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 = 0 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4500720" y="44845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6516720" y="41958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500720" y="5060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  0;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21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AutoShape 22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4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539640" y="1557360"/>
            <a:ext cx="47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скримина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95280" y="2421000"/>
            <a:ext cx="806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11215"/>
                </a:solidFill>
                <a:latin typeface="Arial"/>
              </a:rPr>
              <a:t>Дискриминантом</a:t>
            </a: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вадратного уравн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величину, которая обозначается буквой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и находится по формуле </a:t>
            </a:r>
            <a:r>
              <a:rPr b="1" i="1" lang="en-US" sz="2200" spc="-1" strike="noStrike">
                <a:solidFill>
                  <a:srgbClr val="111215"/>
                </a:solidFill>
                <a:latin typeface="Arial"/>
              </a:rPr>
              <a:t>b</a:t>
            </a:r>
            <a:r>
              <a:rPr b="1" i="1" lang="en-US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1" i="1" lang="en-US" sz="2200" spc="-1" strike="noStrike">
                <a:solidFill>
                  <a:srgbClr val="111215"/>
                </a:solidFill>
                <a:latin typeface="Arial"/>
              </a:rPr>
              <a:t> – 4ac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755640" y="522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скриминант служит для определения количества корней квадратного урав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100"/>
                            </p:stCondLst>
                            <p:childTnLst>
                              <p:par>
                                <p:cTn id="2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20:32:56Z</dcterms:created>
  <dc:creator>Mama</dc:creator>
  <dc:description/>
  <dc:language>en-US</dc:language>
  <cp:lastModifiedBy>Анастасия</cp:lastModifiedBy>
  <dcterms:modified xsi:type="dcterms:W3CDTF">2017-06-18T00:34:53Z</dcterms:modified>
  <cp:revision>9</cp:revision>
  <dc:subject/>
  <dc:title>Слайд 1</dc:title>
</cp:coreProperties>
</file>