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C435-03D2-48C4-8EB9-00EA39F3AE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C5EA-0D17-416A-8462-738232732B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B217-FE08-4874-A6B2-0C98D7915C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694C-3600-43B7-A250-CF774A39A1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BC0-EC15-4520-BB06-DC67E24E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A00-6EF4-4BC1-AA38-9E1077C4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E45-D48C-4F5B-BBCE-17ACCCAF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67D-9755-4A34-94A1-300A13AD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7FB22-EC11-4E70-B30A-BD5AD63D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2A317-CF99-4C2D-8FA1-3141A26F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6DD1B-0813-4DF8-8DC8-19F3F7C0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F48B8-815A-4543-934E-BA0FE4CC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F9ABC-BBDE-4613-B699-E41F6FB1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2D572-976F-4AD5-8A27-BB3090BB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8B085-9249-435C-B96C-B55F065C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419-55BF-4DD6-9010-E03732AF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D6ABE-864D-4F9F-B2FF-8BD27AC9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EF15A-CB04-4785-9D55-949DA25E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B647C-F7E5-4C4D-80BF-64909EE2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F29F2-391A-4C2B-9A6A-D6865E30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2D938-965A-41F1-A880-202B5DB5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7F5-C979-49BF-9B17-103480D5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1E2-1407-4E43-8182-0B921A0C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68F-6C23-45A7-8A90-280AD025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8DD-28DC-4525-99E2-10B05708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764-7515-4025-8850-A152A651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1F9-8BD7-4706-939A-4AAAC251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BEE-9454-4734-A90B-0702D3EC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8DE6-C23B-4B34-A5B2-F32E7311AE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31FA-C546-42BB-87AD-3B69B5B207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9152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3e3ff"/>
                </a:solidFill>
                <a:latin typeface="Arial"/>
              </a:rPr>
              <a:t>Исследование математических ребусов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94920" y="3933720"/>
            <a:ext cx="8064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 : Татова И., ученица 9 «А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тель: Ковалева Е.Д.., учитель матема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15/2016уч.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Ребусы в стихах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елый клоун Нибумбу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годня мрачен и угрю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огорчает Нибумбум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 решал он восемь раз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каждый раз другая сумм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чальный случай! (А у вас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решеньи не забудь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В том-то вся и четкость смысла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инаковые буквы - одинаковые цифры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+ КО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ет: 56350 + 56350 + 56350 = 169050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7350 + 57350 + 57350 = 17205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Ребусы в стихах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435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А ОЧЕНЬ НЕПРОСТ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ЙТИ НЕ КАЖДЫЙ СМОЖ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МУ РАВНЯЕТСЯ ЗВЕЗД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ЛОСИПЕД И ЁЖИ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ЛОСИПЕД          ЕЖИК              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ВЕЗДА                 ЕЖИК               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6                    ВЕЛОСИПЕД     ЕЖ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 ВЕЛОСИПЕД                0                ЗВЕЗД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ет: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27 + 324+ 652 =150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Ребусы с ключевыми словами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) просвещать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3564   3548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вес     ов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345657809 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644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34                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ьесс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7124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пщп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7192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сп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932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имое – провес, 1235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итель – овса, 354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осстать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вет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пета                                     трудолюбие            блюдо    тру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щщвт                                                         1234567890                 блуб         ю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вет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ул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пть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щспс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елимое – блюдо, 867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стст                                                  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елитель – труд, 12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ппр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араь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евв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щ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имое – восстать 534498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итель – свет 4569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6"/>
          <p:cNvSpPr/>
          <p:nvPr/>
        </p:nvSpPr>
        <p:spPr>
          <a:xfrm>
            <a:off x="1692360" y="278136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7"/>
          <p:cNvSpPr/>
          <p:nvPr/>
        </p:nvSpPr>
        <p:spPr>
          <a:xfrm>
            <a:off x="1692360" y="3068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179280" y="476280"/>
            <a:ext cx="6264360" cy="216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32"/>
          <p:cNvSpPr/>
          <p:nvPr/>
        </p:nvSpPr>
        <p:spPr>
          <a:xfrm>
            <a:off x="179280" y="2708280"/>
            <a:ext cx="3529080" cy="367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4572000" y="2997360"/>
            <a:ext cx="4248000" cy="187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34"/>
          <p:cNvSpPr/>
          <p:nvPr/>
        </p:nvSpPr>
        <p:spPr>
          <a:xfrm>
            <a:off x="8028000" y="31417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35"/>
          <p:cNvSpPr/>
          <p:nvPr/>
        </p:nvSpPr>
        <p:spPr>
          <a:xfrm>
            <a:off x="8028000" y="3357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21844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e3e3ff"/>
                </a:solidFill>
                <a:latin typeface="Arial"/>
              </a:rPr>
              <a:t>    </a:t>
            </a:r>
            <a:br>
              <a:rPr sz="1600"/>
            </a:b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DONALD                   526485                        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FIN (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один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(нем)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    821            </a:t>
            </a:r>
            <a:br>
              <a:rPr sz="1800"/>
            </a:b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   + </a:t>
            </a:r>
            <a:r>
              <a:rPr b="1" lang="en-US" sz="1800" spc="-1" strike="noStrike" u="sng">
                <a:solidFill>
                  <a:srgbClr val="e3e3ff"/>
                </a:solidFill>
                <a:uFillTx/>
                <a:latin typeface="Arial"/>
              </a:rPr>
              <a:t>GERALD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D = 5       + </a:t>
            </a:r>
            <a:r>
              <a:rPr b="1" lang="en-US" sz="1800" spc="-1" strike="noStrike" u="sng">
                <a:solidFill>
                  <a:srgbClr val="e3e3ff"/>
                </a:solidFill>
                <a:uFillTx/>
                <a:latin typeface="Arial"/>
              </a:rPr>
              <a:t>197485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                       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FIN                            821</a:t>
            </a:r>
            <a:br>
              <a:rPr sz="1800"/>
            </a:b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 ROBERT              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723970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+ FIN                     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+ 821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                                                                                    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en-US" sz="1800" spc="-1" strike="noStrike" u="sng">
                <a:solidFill>
                  <a:srgbClr val="e3e3ff"/>
                </a:solidFill>
                <a:uFillTx/>
                <a:latin typeface="Arial"/>
              </a:rPr>
              <a:t>FIN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                   </a:t>
            </a:r>
            <a:r>
              <a:rPr b="1" lang="en-US" sz="1800" spc="-1" strike="noStrike" u="sng">
                <a:solidFill>
                  <a:srgbClr val="e3e3ff"/>
                </a:solidFill>
                <a:uFillTx/>
                <a:latin typeface="Arial"/>
              </a:rPr>
              <a:t>821</a:t>
            </a:r>
            <a:br>
              <a:rPr sz="1800"/>
            </a:b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VINGT        94581            HUIT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(фр)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      8253       VIER (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четыре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)      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3284</a:t>
            </a:r>
            <a:br>
              <a:rPr sz="1800"/>
            </a:b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+ CING       + 6483         + </a:t>
            </a:r>
            <a:r>
              <a:rPr b="1" lang="en-US" sz="1800" spc="-1" strike="noStrike" u="sng">
                <a:solidFill>
                  <a:srgbClr val="e3e3ff"/>
                </a:solidFill>
                <a:uFillTx/>
                <a:latin typeface="Arial"/>
              </a:rPr>
              <a:t>HUIT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+ </a:t>
            </a:r>
            <a:r>
              <a:rPr b="1" lang="en-US" sz="1800" spc="-1" strike="noStrike" u="sng">
                <a:solidFill>
                  <a:srgbClr val="e3e3ff"/>
                </a:solidFill>
                <a:uFillTx/>
                <a:latin typeface="Arial"/>
              </a:rPr>
              <a:t>8253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                          </a:t>
            </a:r>
            <a:br>
              <a:rPr sz="1800"/>
            </a:br>
            <a:r>
              <a:rPr b="1" lang="en-US" sz="1800" spc="-1" strike="noStrike" u="sng">
                <a:solidFill>
                  <a:srgbClr val="e3e3ff"/>
                </a:solidFill>
                <a:uFillTx/>
                <a:latin typeface="Arial"/>
              </a:rPr>
              <a:t>    CING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1800" spc="-1" strike="noStrike" u="sng">
                <a:solidFill>
                  <a:srgbClr val="e3e3ff"/>
                </a:solidFill>
                <a:uFillTx/>
                <a:latin typeface="Arial"/>
              </a:rPr>
              <a:t>  6483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         SEIZE  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 16506             SEPT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(фр)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 9834 PENTE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                                                                       + SEPT        +  9834 </a:t>
            </a:r>
            <a:br>
              <a:rPr sz="1800"/>
            </a:b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lang="en-US" sz="1800" spc="-1" strike="noStrike" u="sng">
                <a:solidFill>
                  <a:srgbClr val="e3e3ff"/>
                </a:solidFill>
                <a:uFillTx/>
                <a:latin typeface="Arial"/>
              </a:rPr>
              <a:t>    SIX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            </a:t>
            </a:r>
            <a:r>
              <a:rPr b="1" lang="en-US" sz="1800" spc="-1" strike="noStrike" u="sng">
                <a:solidFill>
                  <a:srgbClr val="e3e3ff"/>
                </a:solidFill>
                <a:uFillTx/>
                <a:latin typeface="Arial"/>
              </a:rPr>
              <a:t>906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</a:t>
            </a:r>
            <a:br>
              <a:rPr sz="1800"/>
            </a:b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ankylose * ny = neoneoneo                                         VINGT 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20574 </a:t>
            </a:r>
            <a:br>
              <a:rPr sz="1800"/>
            </a:b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12345679 * 24 = 296296296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                               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 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THIS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       4379                         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LEONARD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(нем)      12345678</a:t>
            </a: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*</a:t>
            </a:r>
            <a:r>
              <a:rPr b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         </a:t>
            </a:r>
            <a:r>
              <a:rPr b="1" lang="en-US" sz="1800" spc="-1" strike="noStrike" u="sng">
                <a:solidFill>
                  <a:srgbClr val="e3e3ff"/>
                </a:solidFill>
                <a:uFillTx/>
                <a:latin typeface="Arial"/>
              </a:rPr>
              <a:t>IS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*     79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- 1 2 3 2 5551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      </a:t>
            </a:r>
            <a:r>
              <a:rPr b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 -12325551</a:t>
            </a: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.  .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TOO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     39411</a:t>
            </a: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                              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EULER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              20127</a:t>
            </a:r>
            <a:br>
              <a:rPr sz="1800"/>
            </a:b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1" lang="en-US" sz="1800" spc="-1" strike="noStrike" u="sng">
                <a:solidFill>
                  <a:srgbClr val="e3e3ff"/>
                </a:solidFill>
                <a:uFillTx/>
                <a:latin typeface="Arial"/>
              </a:rPr>
              <a:t>HARD </a:t>
            </a:r>
            <a:r>
              <a:rPr b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.   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  </a:t>
            </a:r>
            <a:r>
              <a:rPr b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 30653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.  .  .  .  .  .            345941 </a:t>
            </a:r>
            <a:br>
              <a:rPr sz="1800"/>
            </a:b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</a:t>
            </a:r>
            <a:br>
              <a:rPr sz="1800"/>
            </a:b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                  </a:t>
            </a:r>
            <a:endParaRPr b="0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-360"/>
            <a:ext cx="814716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бусы различных вид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5292720" y="450864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684360" y="112536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684360" y="2133720"/>
            <a:ext cx="35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2"/>
          <p:cNvSpPr/>
          <p:nvPr/>
        </p:nvSpPr>
        <p:spPr>
          <a:xfrm flipV="1">
            <a:off x="4211640" y="112500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3"/>
          <p:cNvSpPr/>
          <p:nvPr/>
        </p:nvSpPr>
        <p:spPr>
          <a:xfrm flipH="1">
            <a:off x="684360" y="1125360"/>
            <a:ext cx="35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>
            <a:off x="5724360" y="2708280"/>
            <a:ext cx="295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 flipV="1">
            <a:off x="8675640" y="112500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 flipH="1">
            <a:off x="5724360" y="1125360"/>
            <a:ext cx="295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Freeform 19"/>
          <p:cNvSpPr/>
          <p:nvPr/>
        </p:nvSpPr>
        <p:spPr>
          <a:xfrm>
            <a:off x="465120" y="2235240"/>
            <a:ext cx="2235240" cy="1440"/>
          </a:xfrm>
          <a:custGeom>
            <a:avLst/>
            <a:gdLst>
              <a:gd name="textAreaLeft" fmla="*/ 0 w 2235240"/>
              <a:gd name="textAreaRight" fmla="*/ 2235600 w 2235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408" h="1">
                <a:moveTo>
                  <a:pt x="0" y="0"/>
                </a:moveTo>
                <a:lnTo>
                  <a:pt x="1408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Freeform 20"/>
          <p:cNvSpPr/>
          <p:nvPr/>
        </p:nvSpPr>
        <p:spPr>
          <a:xfrm>
            <a:off x="2700360" y="2235240"/>
            <a:ext cx="1440" cy="1233360"/>
          </a:xfrm>
          <a:custGeom>
            <a:avLst/>
            <a:gdLst>
              <a:gd name="textAreaLeft" fmla="*/ 0 w 1440"/>
              <a:gd name="textAreaRight" fmla="*/ 1800 w 144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w="1" h="777">
                <a:moveTo>
                  <a:pt x="0" y="0"/>
                </a:moveTo>
                <a:lnTo>
                  <a:pt x="0" y="777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reeform 21"/>
          <p:cNvSpPr/>
          <p:nvPr/>
        </p:nvSpPr>
        <p:spPr>
          <a:xfrm>
            <a:off x="479520" y="3468600"/>
            <a:ext cx="2220840" cy="180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399" h="1">
                <a:moveTo>
                  <a:pt x="139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reeform 22"/>
          <p:cNvSpPr/>
          <p:nvPr/>
        </p:nvSpPr>
        <p:spPr>
          <a:xfrm>
            <a:off x="465120" y="2235240"/>
            <a:ext cx="1440" cy="1219320"/>
          </a:xfrm>
          <a:custGeom>
            <a:avLst/>
            <a:gdLst>
              <a:gd name="textAreaLeft" fmla="*/ 0 w 1440"/>
              <a:gd name="textAreaRight" fmla="*/ 1800 w 14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1" h="768">
                <a:moveTo>
                  <a:pt x="0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24"/>
          <p:cNvSpPr/>
          <p:nvPr/>
        </p:nvSpPr>
        <p:spPr>
          <a:xfrm>
            <a:off x="3059280" y="220500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25"/>
          <p:cNvSpPr/>
          <p:nvPr/>
        </p:nvSpPr>
        <p:spPr>
          <a:xfrm>
            <a:off x="3059280" y="3284640"/>
            <a:ext cx="25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26"/>
          <p:cNvSpPr/>
          <p:nvPr/>
        </p:nvSpPr>
        <p:spPr>
          <a:xfrm flipV="1">
            <a:off x="5580000" y="220464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27"/>
          <p:cNvSpPr/>
          <p:nvPr/>
        </p:nvSpPr>
        <p:spPr>
          <a:xfrm flipH="1">
            <a:off x="3059280" y="2205000"/>
            <a:ext cx="25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65120" y="4165560"/>
            <a:ext cx="3105000" cy="1800"/>
          </a:xfrm>
          <a:custGeom>
            <a:avLst/>
            <a:gdLst>
              <a:gd name="textAreaLeft" fmla="*/ 0 w 3105000"/>
              <a:gd name="textAreaRight" fmla="*/ 3105360 w 31050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956" h="1">
                <a:moveTo>
                  <a:pt x="0" y="0"/>
                </a:moveTo>
                <a:lnTo>
                  <a:pt x="19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reeform 30"/>
          <p:cNvSpPr/>
          <p:nvPr/>
        </p:nvSpPr>
        <p:spPr>
          <a:xfrm>
            <a:off x="3565440" y="3500280"/>
            <a:ext cx="4680" cy="650880"/>
          </a:xfrm>
          <a:custGeom>
            <a:avLst/>
            <a:gdLst>
              <a:gd name="textAreaLeft" fmla="*/ 0 w 4680"/>
              <a:gd name="textAreaRight" fmla="*/ 5040 w 46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" h="410">
                <a:moveTo>
                  <a:pt x="3" y="41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31"/>
          <p:cNvSpPr/>
          <p:nvPr/>
        </p:nvSpPr>
        <p:spPr>
          <a:xfrm flipH="1">
            <a:off x="468000" y="3500280"/>
            <a:ext cx="30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4"/>
          <p:cNvSpPr/>
          <p:nvPr/>
        </p:nvSpPr>
        <p:spPr>
          <a:xfrm flipV="1">
            <a:off x="5724360" y="112500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37"/>
          <p:cNvSpPr/>
          <p:nvPr/>
        </p:nvSpPr>
        <p:spPr>
          <a:xfrm>
            <a:off x="5724360" y="278136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8"/>
          <p:cNvSpPr/>
          <p:nvPr/>
        </p:nvSpPr>
        <p:spPr>
          <a:xfrm>
            <a:off x="5724360" y="2781360"/>
            <a:ext cx="295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39"/>
          <p:cNvSpPr/>
          <p:nvPr/>
        </p:nvSpPr>
        <p:spPr>
          <a:xfrm>
            <a:off x="5724360" y="3933720"/>
            <a:ext cx="295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 flipV="1">
            <a:off x="8675640" y="278100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Freeform 43"/>
          <p:cNvSpPr/>
          <p:nvPr/>
        </p:nvSpPr>
        <p:spPr>
          <a:xfrm>
            <a:off x="465120" y="3500280"/>
            <a:ext cx="3240" cy="679680"/>
          </a:xfrm>
          <a:custGeom>
            <a:avLst/>
            <a:gdLst>
              <a:gd name="textAreaLeft" fmla="*/ 0 w 3240"/>
              <a:gd name="textAreaRight" fmla="*/ 3600 w 324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2" h="428">
                <a:moveTo>
                  <a:pt x="2" y="0"/>
                </a:moveTo>
                <a:lnTo>
                  <a:pt x="0" y="428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44"/>
          <p:cNvSpPr/>
          <p:nvPr/>
        </p:nvSpPr>
        <p:spPr>
          <a:xfrm>
            <a:off x="468360" y="4365720"/>
            <a:ext cx="30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45"/>
          <p:cNvSpPr/>
          <p:nvPr/>
        </p:nvSpPr>
        <p:spPr>
          <a:xfrm>
            <a:off x="468360" y="436572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46"/>
          <p:cNvSpPr/>
          <p:nvPr/>
        </p:nvSpPr>
        <p:spPr>
          <a:xfrm>
            <a:off x="468360" y="5877000"/>
            <a:ext cx="30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47"/>
          <p:cNvSpPr/>
          <p:nvPr/>
        </p:nvSpPr>
        <p:spPr>
          <a:xfrm flipV="1">
            <a:off x="3564000" y="436572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53"/>
          <p:cNvSpPr/>
          <p:nvPr/>
        </p:nvSpPr>
        <p:spPr>
          <a:xfrm>
            <a:off x="4716360" y="4365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54"/>
          <p:cNvSpPr/>
          <p:nvPr/>
        </p:nvSpPr>
        <p:spPr>
          <a:xfrm>
            <a:off x="4716360" y="5373720"/>
            <a:ext cx="374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55"/>
          <p:cNvSpPr/>
          <p:nvPr/>
        </p:nvSpPr>
        <p:spPr>
          <a:xfrm flipV="1">
            <a:off x="8459640" y="4365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56"/>
          <p:cNvSpPr/>
          <p:nvPr/>
        </p:nvSpPr>
        <p:spPr>
          <a:xfrm flipH="1">
            <a:off x="4716360" y="4365720"/>
            <a:ext cx="374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Числовые ребусы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БК    :   НК     =   НК         961    :   31   =   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             х               +          -             х           +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ИЕ   +  КН     =  ВЕ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257    +   13  = 27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ЛП  -  ПЛН    =  НЛК       704   -  403   = 30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Б   + ЛДП  =  ПЛФ     37    +  182  =  2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           -          +            х            -         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К   х   Ф     =  ЛП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4   х    9   =   126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ЛД - ЛБА  =  АКР       518  -  173  = 3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468360" y="1557360"/>
            <a:ext cx="4895640" cy="172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7280" y="3860640"/>
            <a:ext cx="4465440" cy="172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РАН + УРАН = НАУ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шение подобных задач достигается не механическим перебо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риантов, а строго логически. Можно рассуждать, напри­мер, та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мма двух четырехзначных чисел равна пятизначному. Это возможн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буква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значает 1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Р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ит, букв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значает цифру 2:       + 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Р2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2УК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6Р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лее, буква У обозначает цифру 6: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6Р21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26К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им образом, букв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значает цифру 3, букв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К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ифру 4.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632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ончательн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+ 632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264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шение единственно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СПОСОБЫ РЕШЕНИЯ НЕКОТОРЫХ РЕБУСОВ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14716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Результаты исследования школьной олимпиады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    Задание            Общее  кол-во      Кол-во учащихся,   Решили прави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стников               выбравш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ипториф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 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ОДИН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5                              15                               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ИН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Д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а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ШКА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1                              11                        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+ КОШ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б       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КОШКА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10                              10                                 9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 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СПОРТ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2                              12                             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ПОР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КРОСС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                              14                               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БУ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 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*             С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                                7                                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СССС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Freeform 4"/>
          <p:cNvSpPr/>
          <p:nvPr/>
        </p:nvSpPr>
        <p:spPr>
          <a:xfrm>
            <a:off x="1044720" y="838080"/>
            <a:ext cx="1440" cy="4899240"/>
          </a:xfrm>
          <a:custGeom>
            <a:avLst/>
            <a:gdLst>
              <a:gd name="textAreaLeft" fmla="*/ 0 w 1440"/>
              <a:gd name="textAreaRight" fmla="*/ 1800 w 1440"/>
              <a:gd name="textAreaTop" fmla="*/ 0 h 4899240"/>
              <a:gd name="textAreaBottom" fmla="*/ 4899600 h 4899240"/>
            </a:gdLst>
            <a:ahLst/>
            <a:rect l="textAreaLeft" t="textAreaTop" r="textAreaRight" b="textAreaBottom"/>
            <a:pathLst>
              <a:path w="1" h="3086">
                <a:moveTo>
                  <a:pt x="0" y="0"/>
                </a:moveTo>
                <a:lnTo>
                  <a:pt x="0" y="3086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5"/>
          <p:cNvSpPr/>
          <p:nvPr/>
        </p:nvSpPr>
        <p:spPr>
          <a:xfrm>
            <a:off x="2438280" y="838080"/>
            <a:ext cx="41400" cy="4894560"/>
          </a:xfrm>
          <a:custGeom>
            <a:avLst/>
            <a:gdLst>
              <a:gd name="textAreaLeft" fmla="*/ 0 w 41400"/>
              <a:gd name="textAreaRight" fmla="*/ 41760 w 4140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26" h="3083">
                <a:moveTo>
                  <a:pt x="26" y="0"/>
                </a:moveTo>
                <a:lnTo>
                  <a:pt x="0" y="3083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Freeform 6"/>
          <p:cNvSpPr/>
          <p:nvPr/>
        </p:nvSpPr>
        <p:spPr>
          <a:xfrm>
            <a:off x="4645080" y="835200"/>
            <a:ext cx="1440" cy="4897440"/>
          </a:xfrm>
          <a:custGeom>
            <a:avLst/>
            <a:gdLst>
              <a:gd name="textAreaLeft" fmla="*/ 0 w 1440"/>
              <a:gd name="textAreaRight" fmla="*/ 1800 w 1440"/>
              <a:gd name="textAreaTop" fmla="*/ 0 h 4897440"/>
              <a:gd name="textAreaBottom" fmla="*/ 4897800 h 4897440"/>
            </a:gdLst>
            <a:ahLst/>
            <a:rect l="textAreaLeft" t="textAreaTop" r="textAreaRight" b="textAreaBottom"/>
            <a:pathLst>
              <a:path w="1" h="3085">
                <a:moveTo>
                  <a:pt x="0" y="0"/>
                </a:moveTo>
                <a:lnTo>
                  <a:pt x="0" y="3085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reeform 7"/>
          <p:cNvSpPr/>
          <p:nvPr/>
        </p:nvSpPr>
        <p:spPr>
          <a:xfrm>
            <a:off x="6807240" y="838080"/>
            <a:ext cx="1440" cy="4896000"/>
          </a:xfrm>
          <a:custGeom>
            <a:avLst/>
            <a:gdLst>
              <a:gd name="textAreaLeft" fmla="*/ 0 w 1440"/>
              <a:gd name="textAreaRight" fmla="*/ 1800 w 1440"/>
              <a:gd name="textAreaTop" fmla="*/ 0 h 4896000"/>
              <a:gd name="textAreaBottom" fmla="*/ 4896360 h 4896000"/>
            </a:gdLst>
            <a:ahLst/>
            <a:rect l="textAreaLeft" t="textAreaTop" r="textAreaRight" b="textAreaBottom"/>
            <a:pathLst>
              <a:path w="1" h="3084">
                <a:moveTo>
                  <a:pt x="0" y="0"/>
                </a:moveTo>
                <a:lnTo>
                  <a:pt x="0" y="3084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8"/>
          <p:cNvSpPr/>
          <p:nvPr/>
        </p:nvSpPr>
        <p:spPr>
          <a:xfrm>
            <a:off x="160200" y="836640"/>
            <a:ext cx="19080" cy="4896000"/>
          </a:xfrm>
          <a:custGeom>
            <a:avLst/>
            <a:gdLst>
              <a:gd name="textAreaLeft" fmla="*/ 0 w 19080"/>
              <a:gd name="textAreaRight" fmla="*/ 19440 w 19080"/>
              <a:gd name="textAreaTop" fmla="*/ 0 h 4896000"/>
              <a:gd name="textAreaBottom" fmla="*/ 4896360 h 4896000"/>
            </a:gdLst>
            <a:ahLst/>
            <a:rect l="textAreaLeft" t="textAreaTop" r="textAreaRight" b="textAreaBottom"/>
            <a:pathLst>
              <a:path w="12" h="3084">
                <a:moveTo>
                  <a:pt x="12" y="0"/>
                </a:moveTo>
                <a:lnTo>
                  <a:pt x="0" y="3084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9"/>
          <p:cNvSpPr/>
          <p:nvPr/>
        </p:nvSpPr>
        <p:spPr>
          <a:xfrm>
            <a:off x="144360" y="1784520"/>
            <a:ext cx="8802720" cy="1440"/>
          </a:xfrm>
          <a:custGeom>
            <a:avLst/>
            <a:gdLst>
              <a:gd name="textAreaLeft" fmla="*/ 0 w 8802720"/>
              <a:gd name="textAreaRight" fmla="*/ 8803080 w 8802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545" h="1">
                <a:moveTo>
                  <a:pt x="0" y="1"/>
                </a:moveTo>
                <a:lnTo>
                  <a:pt x="5545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Freeform 10"/>
          <p:cNvSpPr/>
          <p:nvPr/>
        </p:nvSpPr>
        <p:spPr>
          <a:xfrm>
            <a:off x="8928000" y="844560"/>
            <a:ext cx="25560" cy="4892760"/>
          </a:xfrm>
          <a:custGeom>
            <a:avLst/>
            <a:gdLst>
              <a:gd name="textAreaLeft" fmla="*/ 0 w 25560"/>
              <a:gd name="textAreaRight" fmla="*/ 25920 w 25560"/>
              <a:gd name="textAreaTop" fmla="*/ 0 h 4892760"/>
              <a:gd name="textAreaBottom" fmla="*/ 4893120 h 4892760"/>
            </a:gdLst>
            <a:ahLst/>
            <a:rect l="textAreaLeft" t="textAreaTop" r="textAreaRight" b="textAreaBottom"/>
            <a:pathLst>
              <a:path w="16" h="3082">
                <a:moveTo>
                  <a:pt x="16" y="0"/>
                </a:moveTo>
                <a:lnTo>
                  <a:pt x="0" y="3082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11"/>
          <p:cNvSpPr/>
          <p:nvPr/>
        </p:nvSpPr>
        <p:spPr>
          <a:xfrm>
            <a:off x="174600" y="2739960"/>
            <a:ext cx="8769240" cy="3240"/>
          </a:xfrm>
          <a:custGeom>
            <a:avLst/>
            <a:gdLst>
              <a:gd name="textAreaLeft" fmla="*/ 0 w 8769240"/>
              <a:gd name="textAreaRight" fmla="*/ 8769600 w 8769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5524" h="2">
                <a:moveTo>
                  <a:pt x="0" y="2"/>
                </a:moveTo>
                <a:lnTo>
                  <a:pt x="552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reeform 12"/>
          <p:cNvSpPr/>
          <p:nvPr/>
        </p:nvSpPr>
        <p:spPr>
          <a:xfrm>
            <a:off x="179280" y="836640"/>
            <a:ext cx="8775720" cy="4680"/>
          </a:xfrm>
          <a:custGeom>
            <a:avLst/>
            <a:gdLst>
              <a:gd name="textAreaLeft" fmla="*/ 0 w 8775720"/>
              <a:gd name="textAreaRight" fmla="*/ 8776080 w 87757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528" h="3">
                <a:moveTo>
                  <a:pt x="0" y="0"/>
                </a:moveTo>
                <a:lnTo>
                  <a:pt x="5528" y="3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Freeform 17"/>
          <p:cNvSpPr/>
          <p:nvPr/>
        </p:nvSpPr>
        <p:spPr>
          <a:xfrm>
            <a:off x="2467080" y="4383000"/>
            <a:ext cx="6459480" cy="1800"/>
          </a:xfrm>
          <a:custGeom>
            <a:avLst/>
            <a:gdLst>
              <a:gd name="textAreaLeft" fmla="*/ 0 w 6459480"/>
              <a:gd name="textAreaRight" fmla="*/ 6459840 w 64594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069" h="1">
                <a:moveTo>
                  <a:pt x="0" y="0"/>
                </a:moveTo>
                <a:lnTo>
                  <a:pt x="4069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Freeform 18"/>
          <p:cNvSpPr/>
          <p:nvPr/>
        </p:nvSpPr>
        <p:spPr>
          <a:xfrm>
            <a:off x="2481120" y="3235320"/>
            <a:ext cx="6459840" cy="1440"/>
          </a:xfrm>
          <a:custGeom>
            <a:avLst/>
            <a:gdLst>
              <a:gd name="textAreaLeft" fmla="*/ 0 w 6459840"/>
              <a:gd name="textAreaRight" fmla="*/ 6460200 w 6459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069" h="1">
                <a:moveTo>
                  <a:pt x="0" y="1"/>
                </a:moveTo>
                <a:lnTo>
                  <a:pt x="4069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Freeform 19"/>
          <p:cNvSpPr/>
          <p:nvPr/>
        </p:nvSpPr>
        <p:spPr>
          <a:xfrm>
            <a:off x="160200" y="3976560"/>
            <a:ext cx="8766360" cy="1800"/>
          </a:xfrm>
          <a:custGeom>
            <a:avLst/>
            <a:gdLst>
              <a:gd name="textAreaLeft" fmla="*/ 0 w 8766360"/>
              <a:gd name="textAreaRight" fmla="*/ 8766360 w 8766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5522" h="1">
                <a:moveTo>
                  <a:pt x="0" y="0"/>
                </a:moveTo>
                <a:lnTo>
                  <a:pt x="5522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20"/>
          <p:cNvSpPr/>
          <p:nvPr/>
        </p:nvSpPr>
        <p:spPr>
          <a:xfrm flipH="1">
            <a:off x="178920" y="4292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Freeform 21"/>
          <p:cNvSpPr/>
          <p:nvPr/>
        </p:nvSpPr>
        <p:spPr>
          <a:xfrm>
            <a:off x="174600" y="3222720"/>
            <a:ext cx="855720" cy="1440"/>
          </a:xfrm>
          <a:custGeom>
            <a:avLst/>
            <a:gdLst>
              <a:gd name="textAreaLeft" fmla="*/ 0 w 855720"/>
              <a:gd name="textAreaRight" fmla="*/ 856080 w 855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39" h="1">
                <a:moveTo>
                  <a:pt x="53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reeform 22"/>
          <p:cNvSpPr/>
          <p:nvPr/>
        </p:nvSpPr>
        <p:spPr>
          <a:xfrm>
            <a:off x="158760" y="5730840"/>
            <a:ext cx="8766000" cy="3240"/>
          </a:xfrm>
          <a:custGeom>
            <a:avLst/>
            <a:gdLst>
              <a:gd name="textAreaLeft" fmla="*/ 0 w 8766000"/>
              <a:gd name="textAreaRight" fmla="*/ 8766360 w 87660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5522" h="2">
                <a:moveTo>
                  <a:pt x="0" y="2"/>
                </a:moveTo>
                <a:lnTo>
                  <a:pt x="5522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Freeform 23"/>
          <p:cNvSpPr/>
          <p:nvPr/>
        </p:nvSpPr>
        <p:spPr>
          <a:xfrm>
            <a:off x="2444760" y="5010120"/>
            <a:ext cx="6486480" cy="3240"/>
          </a:xfrm>
          <a:custGeom>
            <a:avLst/>
            <a:gdLst>
              <a:gd name="textAreaLeft" fmla="*/ 0 w 6486480"/>
              <a:gd name="textAreaRight" fmla="*/ 6486840 w 6486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086" h="2">
                <a:moveTo>
                  <a:pt x="0" y="2"/>
                </a:moveTo>
                <a:lnTo>
                  <a:pt x="408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4"/>
          <p:cNvSpPr/>
          <p:nvPr/>
        </p:nvSpPr>
        <p:spPr>
          <a:xfrm flipH="1">
            <a:off x="178920" y="5013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, представленные в занимательной форме, очень интересны. Их хочется решать, они увлекают своей необычностью, неочевидностью ответа. Появляется желание совершить пусть даже нелёгкий путь поиска решения. Занимательность и строгость вполне совместимы. Каждое самостоятельно решенное задание – это возможно, небольшая, но всё же побе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68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68" fill="hold"/>
                                        <p:tgtEl>
                                          <p:spTgt spid="3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68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68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териал данной работы может быть использован на уроках, на занятиях математического кружка и для подготовки к олимпиадам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5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одержание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математических ребус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ж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чит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нож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бусы в стих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бусы с ключевыми слов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бусы различных вид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собы решения некоторых ребу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зультаты исследования школьной олимпиа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люч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Предмет «математика» настолько серьёзен, что полезно не упускать возможности сделать его более занимательным. </a:t>
            </a:r>
            <a:br>
              <a:rPr sz="4800"/>
            </a:b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                                                </a:t>
            </a:r>
            <a:br>
              <a:rPr sz="4800"/>
            </a:b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                    Блез Паскаль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57337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Organization Chart 11"/>
          <p:cNvGrpSpPr/>
          <p:nvPr/>
        </p:nvGrpSpPr>
        <p:grpSpPr>
          <a:xfrm>
            <a:off x="431640" y="260280"/>
            <a:ext cx="8208360" cy="6335280"/>
            <a:chOff x="431640" y="260280"/>
            <a:chExt cx="8208360" cy="6335280"/>
          </a:xfrm>
        </p:grpSpPr>
        <p:cxnSp>
          <p:nvCxnSpPr>
            <p:cNvPr id="138" name="_s1028"/>
            <p:cNvCxnSpPr>
              <a:stCxn id="139" idx="0"/>
              <a:endCxn id="140" idx="2"/>
            </p:cNvCxnSpPr>
            <p:nvPr/>
          </p:nvCxnSpPr>
          <p:spPr>
            <a:xfrm flipV="1" rot="16200000">
              <a:off x="5338440" y="1990440"/>
              <a:ext cx="1267560" cy="2873520"/>
            </a:xfrm>
            <a:prstGeom prst="bentConnector3">
              <a:avLst>
                <a:gd name="adj1" fmla="val 127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1" name="_s1029"/>
            <p:cNvCxnSpPr>
              <a:stCxn id="142" idx="0"/>
              <a:endCxn id="140" idx="2"/>
            </p:cNvCxnSpPr>
            <p:nvPr/>
          </p:nvCxnSpPr>
          <p:spPr>
            <a:xfrm flipV="1">
              <a:off x="4536000" y="2793600"/>
              <a:ext cx="3600" cy="126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3" name="_s1030"/>
            <p:cNvCxnSpPr>
              <a:stCxn id="144" idx="0"/>
              <a:endCxn id="140" idx="2"/>
            </p:cNvCxnSpPr>
            <p:nvPr/>
          </p:nvCxnSpPr>
          <p:spPr>
            <a:xfrm flipH="1" flipV="1" rot="5400000">
              <a:off x="2465640" y="1990800"/>
              <a:ext cx="1267560" cy="2873520"/>
            </a:xfrm>
            <a:prstGeom prst="bentConnector3">
              <a:avLst>
                <a:gd name="adj1" fmla="val 127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0" name="_s1031"/>
            <p:cNvSpPr/>
            <p:nvPr/>
          </p:nvSpPr>
          <p:spPr>
            <a:xfrm>
              <a:off x="3304440" y="260280"/>
              <a:ext cx="2462400" cy="253404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534040"/>
                <a:gd name="textAreaBottom" fmla="*/ 2414160 h 2534040"/>
              </a:gdLst>
              <a:ahLst/>
              <a:rect l="textAreaLeft" t="textAreaTop" r="textAreaRight" b="textAreaBottom"/>
              <a:pathLst>
                <a:path w="21600" h="22228">
                  <a:moveTo>
                    <a:pt x="3600" y="0"/>
                  </a:moveTo>
                  <a:arcTo wR="3600" hR="3600" stAng="16200000" swAng="-5400000"/>
                  <a:lnTo>
                    <a:pt x="0" y="18628"/>
                  </a:lnTo>
                  <a:arcTo wR="3600" hR="3600" stAng="10800000" swAng="-5400000"/>
                  <a:lnTo>
                    <a:pt x="18000" y="222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Цели 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задачи работы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032"/>
            <p:cNvSpPr/>
            <p:nvPr/>
          </p:nvSpPr>
          <p:spPr>
            <a:xfrm>
              <a:off x="431640" y="4061520"/>
              <a:ext cx="2462400" cy="253404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534040"/>
                <a:gd name="textAreaBottom" fmla="*/ 2414160 h 2534040"/>
              </a:gdLst>
              <a:ahLst/>
              <a:rect l="textAreaLeft" t="textAreaTop" r="textAreaRight" b="textAreaBottom"/>
              <a:pathLst>
                <a:path w="21600" h="22228">
                  <a:moveTo>
                    <a:pt x="3600" y="0"/>
                  </a:moveTo>
                  <a:arcTo wR="3600" hR="3600" stAng="16200000" swAng="-5400000"/>
                  <a:lnTo>
                    <a:pt x="0" y="18628"/>
                  </a:lnTo>
                  <a:arcTo wR="3600" hR="3600" stAng="10800000" swAng="-5400000"/>
                  <a:lnTo>
                    <a:pt x="18000" y="222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Найт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заниматель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математически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ребусы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различных видов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3304440" y="4061520"/>
              <a:ext cx="2462400" cy="253404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534040"/>
                <a:gd name="textAreaBottom" fmla="*/ 2414160 h 2534040"/>
              </a:gdLst>
              <a:ahLst/>
              <a:rect l="textAreaLeft" t="textAreaTop" r="textAreaRight" b="textAreaBottom"/>
              <a:pathLst>
                <a:path w="21600" h="22228">
                  <a:moveTo>
                    <a:pt x="3600" y="0"/>
                  </a:moveTo>
                  <a:arcTo wR="3600" hR="3600" stAng="16200000" swAng="-5400000"/>
                  <a:lnTo>
                    <a:pt x="0" y="18628"/>
                  </a:lnTo>
                  <a:arcTo wR="3600" hR="3600" stAng="10800000" swAng="-5400000"/>
                  <a:lnTo>
                    <a:pt x="18000" y="222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Исследоват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возмож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ути решения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ребусов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6177600" y="4061520"/>
              <a:ext cx="2462400" cy="253404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534040"/>
                <a:gd name="textAreaBottom" fmla="*/ 2414160 h 2534040"/>
              </a:gdLst>
              <a:ahLst/>
              <a:rect l="textAreaLeft" t="textAreaTop" r="textAreaRight" b="textAreaBottom"/>
              <a:pathLst>
                <a:path w="21600" h="22228">
                  <a:moveTo>
                    <a:pt x="3600" y="0"/>
                  </a:moveTo>
                  <a:arcTo wR="3600" hR="3600" stAng="16200000" swAng="-5400000"/>
                  <a:lnTo>
                    <a:pt x="0" y="18628"/>
                  </a:lnTo>
                  <a:arcTo wR="3600" hR="3600" stAng="10800000" swAng="-5400000"/>
                  <a:lnTo>
                    <a:pt x="18000" y="222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овест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исследован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школьного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тура олимпиады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о математик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Diagram 6"/>
          <p:cNvGrpSpPr/>
          <p:nvPr/>
        </p:nvGrpSpPr>
        <p:grpSpPr>
          <a:xfrm>
            <a:off x="277200" y="174240"/>
            <a:ext cx="8160840" cy="6677280"/>
            <a:chOff x="277200" y="174240"/>
            <a:chExt cx="8160840" cy="6677280"/>
          </a:xfrm>
        </p:grpSpPr>
        <p:sp>
          <p:nvSpPr>
            <p:cNvPr id="148" name="_s2052"/>
            <p:cNvSpPr/>
            <p:nvPr/>
          </p:nvSpPr>
          <p:spPr>
            <a:xfrm flipH="1" flipV="1">
              <a:off x="2383560" y="2674440"/>
              <a:ext cx="992160" cy="424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2053"/>
            <p:cNvSpPr/>
            <p:nvPr/>
          </p:nvSpPr>
          <p:spPr>
            <a:xfrm>
              <a:off x="277200" y="1429560"/>
              <a:ext cx="2265840" cy="16668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Знания об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арифметическ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действия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2054"/>
            <p:cNvSpPr/>
            <p:nvPr/>
          </p:nvSpPr>
          <p:spPr>
            <a:xfrm flipH="1">
              <a:off x="2383200" y="3929400"/>
              <a:ext cx="995400" cy="41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2055"/>
            <p:cNvSpPr/>
            <p:nvPr/>
          </p:nvSpPr>
          <p:spPr>
            <a:xfrm>
              <a:off x="277200" y="3931560"/>
              <a:ext cx="2265840" cy="16668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мекалка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2056"/>
            <p:cNvSpPr/>
            <p:nvPr/>
          </p:nvSpPr>
          <p:spPr>
            <a:xfrm>
              <a:off x="4354560" y="4341600"/>
              <a:ext cx="2880" cy="84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2057"/>
            <p:cNvSpPr/>
            <p:nvPr/>
          </p:nvSpPr>
          <p:spPr>
            <a:xfrm>
              <a:off x="3222720" y="5184000"/>
              <a:ext cx="2265840" cy="16675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Терпен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2058"/>
            <p:cNvSpPr/>
            <p:nvPr/>
          </p:nvSpPr>
          <p:spPr>
            <a:xfrm>
              <a:off x="5333040" y="3926520"/>
              <a:ext cx="991440" cy="422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2059"/>
            <p:cNvSpPr/>
            <p:nvPr/>
          </p:nvSpPr>
          <p:spPr>
            <a:xfrm>
              <a:off x="6172200" y="3931560"/>
              <a:ext cx="2265840" cy="16668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Настойчив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2060"/>
            <p:cNvSpPr/>
            <p:nvPr/>
          </p:nvSpPr>
          <p:spPr>
            <a:xfrm flipV="1">
              <a:off x="5333040" y="2676600"/>
              <a:ext cx="991440" cy="41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2061"/>
            <p:cNvSpPr/>
            <p:nvPr/>
          </p:nvSpPr>
          <p:spPr>
            <a:xfrm>
              <a:off x="6172200" y="1427040"/>
              <a:ext cx="2265840" cy="16668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Логическо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мышл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2062"/>
            <p:cNvSpPr/>
            <p:nvPr/>
          </p:nvSpPr>
          <p:spPr>
            <a:xfrm flipV="1">
              <a:off x="4354560" y="1838880"/>
              <a:ext cx="0" cy="842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2063"/>
            <p:cNvSpPr/>
            <p:nvPr/>
          </p:nvSpPr>
          <p:spPr>
            <a:xfrm>
              <a:off x="3222720" y="174240"/>
              <a:ext cx="2265840" cy="16675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мен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хорошо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ычислять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2064"/>
            <p:cNvSpPr/>
            <p:nvPr/>
          </p:nvSpPr>
          <p:spPr>
            <a:xfrm>
              <a:off x="3222720" y="2681640"/>
              <a:ext cx="2265840" cy="16675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азгадыван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математическ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ебусов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ОЗОРНИК       4748253                     РЕШИ          9382                СПОРТ          43972</a:t>
            </a:r>
            <a:br>
              <a:rPr sz="1600"/>
            </a:b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   ЗОРНИК         748253                 +  </a:t>
            </a:r>
            <a:r>
              <a:rPr b="1" lang="ru-RU" sz="1600" spc="-1" strike="noStrike" u="sng">
                <a:solidFill>
                  <a:srgbClr val="e3e3ff"/>
                </a:solidFill>
                <a:uFillTx/>
                <a:latin typeface="Arial"/>
              </a:rPr>
              <a:t>ЕСЛИ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+</a:t>
            </a:r>
            <a:r>
              <a:rPr b="1" lang="ru-RU" sz="1600" spc="-1" strike="noStrike" u="sng">
                <a:solidFill>
                  <a:srgbClr val="e3e3ff"/>
                </a:solidFill>
                <a:uFillTx/>
                <a:latin typeface="Arial"/>
              </a:rPr>
              <a:t> 3152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     + </a:t>
            </a:r>
            <a:r>
              <a:rPr b="1" lang="ru-RU" sz="1600" spc="-1" strike="noStrike" u="sng">
                <a:solidFill>
                  <a:srgbClr val="e3e3ff"/>
                </a:solidFill>
                <a:uFillTx/>
                <a:latin typeface="Arial"/>
              </a:rPr>
              <a:t>СПОРТ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+ </a:t>
            </a:r>
            <a:r>
              <a:rPr b="1" lang="ru-RU" sz="1600" spc="-1" strike="noStrike" u="sng">
                <a:solidFill>
                  <a:srgbClr val="e3e3ff"/>
                </a:solidFill>
                <a:uFillTx/>
                <a:latin typeface="Arial"/>
              </a:rPr>
              <a:t>43972</a:t>
            </a:r>
            <a:br>
              <a:rPr sz="1600"/>
            </a:b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     ОРНИК           48253                   СИЛЁН        12534                 КРОСС          97944</a:t>
            </a:r>
            <a:br>
              <a:rPr sz="1600"/>
            </a:b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+       РНИК    +       8253</a:t>
            </a:r>
            <a:br>
              <a:rPr sz="1600"/>
            </a:b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           НИК               253          ТУЗИК                               ОДИН   (этот ребус имеет 13 </a:t>
            </a:r>
            <a:br>
              <a:rPr sz="1600"/>
            </a:b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              ИК                 53      + </a:t>
            </a:r>
            <a:r>
              <a:rPr b="1" lang="ru-RU" sz="1600" spc="-1" strike="noStrike" u="sng">
                <a:solidFill>
                  <a:srgbClr val="e3e3ff"/>
                </a:solidFill>
                <a:uFillTx/>
                <a:latin typeface="Arial"/>
              </a:rPr>
              <a:t>ТУЗИК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                   + </a:t>
            </a:r>
            <a:r>
              <a:rPr b="1" lang="ru-RU" sz="1600" spc="-1" strike="noStrike" u="sng">
                <a:solidFill>
                  <a:srgbClr val="e3e3ff"/>
                </a:solidFill>
                <a:uFillTx/>
                <a:latin typeface="Arial"/>
              </a:rPr>
              <a:t>ОДИН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вариантов решений!)    </a:t>
            </a:r>
            <a:br>
              <a:rPr sz="1600"/>
            </a:b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1" lang="ru-RU" sz="1600" spc="-1" strike="noStrike" u="sng">
                <a:solidFill>
                  <a:srgbClr val="e3e3ff"/>
                </a:solidFill>
                <a:uFillTx/>
                <a:latin typeface="Arial"/>
              </a:rPr>
              <a:t>                 К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1" lang="ru-RU" sz="1600" spc="-1" strike="noStrike" u="sng">
                <a:solidFill>
                  <a:srgbClr val="e3e3ff"/>
                </a:solidFill>
                <a:uFillTx/>
                <a:latin typeface="Arial"/>
              </a:rPr>
              <a:t>             3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КАРТУЗ                               ИДВА         </a:t>
            </a:r>
            <a:br>
              <a:rPr sz="1600"/>
            </a:b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5 5 5 3 3 2 1       5553321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         СТОЛ                           ТРАССА              БУЛОК        87130   </a:t>
            </a:r>
            <a:br>
              <a:rPr sz="1600"/>
            </a:b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      + </a:t>
            </a:r>
            <a:r>
              <a:rPr b="1" lang="ru-RU" sz="1600" spc="-1" strike="noStrike" u="sng">
                <a:solidFill>
                  <a:srgbClr val="e3e3ff"/>
                </a:solidFill>
                <a:uFillTx/>
                <a:latin typeface="Arial"/>
              </a:rPr>
              <a:t>СТУЛ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у=5              + </a:t>
            </a:r>
            <a:r>
              <a:rPr b="1" lang="ru-RU" sz="1600" spc="-1" strike="noStrike" u="sng">
                <a:solidFill>
                  <a:srgbClr val="e3e3ff"/>
                </a:solidFill>
                <a:uFillTx/>
                <a:latin typeface="Arial"/>
              </a:rPr>
              <a:t>ТРАССА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 + </a:t>
            </a:r>
            <a:r>
              <a:rPr b="1" lang="ru-RU" sz="1600" spc="-1" strike="noStrike" u="sng">
                <a:solidFill>
                  <a:srgbClr val="e3e3ff"/>
                </a:solidFill>
                <a:uFillTx/>
                <a:latin typeface="Arial"/>
              </a:rPr>
              <a:t>   БЫЛО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+</a:t>
            </a:r>
            <a:r>
              <a:rPr b="1" lang="ru-RU" sz="1600" spc="-1" strike="noStrike" u="sng">
                <a:solidFill>
                  <a:srgbClr val="e3e3ff"/>
                </a:solidFill>
                <a:uFillTx/>
                <a:latin typeface="Arial"/>
              </a:rPr>
              <a:t>  8213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</a:t>
            </a:r>
            <a:br>
              <a:rPr sz="1600"/>
            </a:b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      ДОСКА                           КОСМОС              МНОГО       95343</a:t>
            </a:r>
            <a:r>
              <a:rPr b="0" lang="ru-RU" sz="14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1400"/>
            </a:br>
            <a:r>
              <a:rPr b="1" lang="ru-RU" sz="1400" spc="-1" strike="noStrike">
                <a:solidFill>
                  <a:srgbClr val="e3e3ff"/>
                </a:solidFill>
                <a:latin typeface="Arial"/>
              </a:rPr>
              <a:t>                                                                                        </a:t>
            </a:r>
            <a:br>
              <a:rPr sz="1400"/>
            </a:b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СНЕГ          5324               МОРЕ         5324</a:t>
            </a:r>
            <a:br>
              <a:rPr sz="1600"/>
            </a:b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    + </a:t>
            </a:r>
            <a:r>
              <a:rPr b="1" lang="ru-RU" sz="1600" spc="-1" strike="noStrike" u="sng">
                <a:solidFill>
                  <a:srgbClr val="e3e3ff"/>
                </a:solidFill>
                <a:uFillTx/>
                <a:latin typeface="Arial"/>
              </a:rPr>
              <a:t>СНЕГ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+ </a:t>
            </a:r>
            <a:r>
              <a:rPr b="1" lang="ru-RU" sz="1600" spc="-1" strike="noStrike" u="sng">
                <a:solidFill>
                  <a:srgbClr val="e3e3ff"/>
                </a:solidFill>
                <a:uFillTx/>
                <a:latin typeface="Arial"/>
              </a:rPr>
              <a:t>5324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   + </a:t>
            </a:r>
            <a:r>
              <a:rPr b="1" lang="ru-RU" sz="1600" spc="-1" strike="noStrike" u="sng">
                <a:solidFill>
                  <a:srgbClr val="e3e3ff"/>
                </a:solidFill>
                <a:uFillTx/>
                <a:latin typeface="Arial"/>
              </a:rPr>
              <a:t>МОРЕ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+ </a:t>
            </a:r>
            <a:r>
              <a:rPr b="1" lang="ru-RU" sz="1600" spc="-1" strike="noStrike" u="sng">
                <a:solidFill>
                  <a:srgbClr val="e3e3ff"/>
                </a:solidFill>
                <a:uFillTx/>
                <a:latin typeface="Arial"/>
              </a:rPr>
              <a:t>5324</a:t>
            </a: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     </a:t>
            </a:r>
            <a:br>
              <a:rPr sz="1600"/>
            </a:b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          ВЬЮГА        10648            ОКЕАН       10648               </a:t>
            </a:r>
            <a:br>
              <a:rPr sz="1600"/>
            </a:br>
            <a:endParaRPr b="0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ы математических ребус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одинаковые буквы одинаковые цифры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24000" y="2060640"/>
            <a:ext cx="2808000" cy="208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708360" y="2060640"/>
            <a:ext cx="208908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372360" y="2060640"/>
            <a:ext cx="208908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572000" y="4292640"/>
            <a:ext cx="208908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5148360" y="3141720"/>
            <a:ext cx="367344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203640" y="3141720"/>
            <a:ext cx="180180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2411280" y="4292640"/>
            <a:ext cx="208944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324000" y="4292640"/>
            <a:ext cx="201600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611280" y="5300640"/>
            <a:ext cx="201600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3132000" y="5300640"/>
            <a:ext cx="201636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6012000" y="5300640"/>
            <a:ext cx="112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+ лет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п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7525440" y="4365720"/>
            <a:ext cx="1131840" cy="15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х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х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+ мух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6084720" y="5300640"/>
            <a:ext cx="1008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0"/>
          <p:cNvSpPr/>
          <p:nvPr/>
        </p:nvSpPr>
        <p:spPr>
          <a:xfrm>
            <a:off x="7524720" y="4365720"/>
            <a:ext cx="1008000" cy="158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ТРИ          769          ПОДАЙ           10652           ПЯТЬ        1273                                              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- </a:t>
            </a:r>
            <a:r>
              <a:rPr b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ДВА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-</a:t>
            </a:r>
            <a:r>
              <a:rPr b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 504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  - </a:t>
            </a:r>
            <a:r>
              <a:rPr b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ВОДЫ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  - </a:t>
            </a:r>
            <a:r>
              <a:rPr b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9067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   - </a:t>
            </a:r>
            <a:r>
              <a:rPr b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ТРИ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 -  </a:t>
            </a:r>
            <a:r>
              <a:rPr b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769 </a:t>
            </a:r>
            <a:br>
              <a:rPr sz="1800"/>
            </a:b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ЯРД          265            ПАША            1585             ДВА           504</a:t>
            </a: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     </a:t>
            </a:r>
            <a:br>
              <a:rPr sz="1800"/>
            </a:b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ИДВА                                                ОКЕАН      10648     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- </a:t>
            </a:r>
            <a:r>
              <a:rPr b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ОДИН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(этот ребус имеет 13      </a:t>
            </a:r>
            <a:r>
              <a:rPr b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- МОРЕ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       5324      </a:t>
            </a:r>
            <a:br>
              <a:rPr sz="1800"/>
            </a:br>
            <a:r>
              <a:rPr b="1" lang="ru-RU" sz="16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ОДИН   вариантов решений!)        МОРЕ        5324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чит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826920" y="2276640"/>
            <a:ext cx="2160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3132000" y="2276640"/>
            <a:ext cx="251964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6012000" y="2276640"/>
            <a:ext cx="1944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468360" y="3429000"/>
            <a:ext cx="35989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4211640" y="3429000"/>
            <a:ext cx="208908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1115280" y="4869000"/>
            <a:ext cx="108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е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ому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7"/>
          <p:cNvSpPr/>
          <p:nvPr/>
        </p:nvSpPr>
        <p:spPr>
          <a:xfrm>
            <a:off x="1187280" y="4869000"/>
            <a:ext cx="1008360" cy="107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8"/>
          <p:cNvSpPr/>
          <p:nvPr/>
        </p:nvSpPr>
        <p:spPr>
          <a:xfrm>
            <a:off x="3059280" y="4941720"/>
            <a:ext cx="110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хаха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ха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хох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9"/>
          <p:cNvSpPr/>
          <p:nvPr/>
        </p:nvSpPr>
        <p:spPr>
          <a:xfrm>
            <a:off x="3059280" y="4869000"/>
            <a:ext cx="1150920" cy="107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0"/>
          <p:cNvSpPr/>
          <p:nvPr/>
        </p:nvSpPr>
        <p:spPr>
          <a:xfrm>
            <a:off x="5004360" y="4941720"/>
            <a:ext cx="9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а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д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да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5003640" y="4869000"/>
            <a:ext cx="1008360" cy="107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2"/>
          <p:cNvSpPr/>
          <p:nvPr/>
        </p:nvSpPr>
        <p:spPr>
          <a:xfrm>
            <a:off x="6948720" y="4843440"/>
            <a:ext cx="61812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-  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6877080" y="4869000"/>
            <a:ext cx="71928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Умножение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ВА            209               ТРИ            153                  ГГГГ                222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В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*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209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*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ТРИ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*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153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*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ГГГ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*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22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ЛЛО         1881               СРО            459                АААА                444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+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ЧО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+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418__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ПАР              765           +  АААА            +  444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ИСЛО         43681      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ТРИ___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153__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АААА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444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ИСЛО        23409          АБВВГДА            49328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БУС          79365                ЛОСИ                     5291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          С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*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         5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*    ИКС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*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 189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ССССС         555555               ПАРИС                   47619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+  ПОТОК                 + 423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ЛОСИ___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52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ССССС               9999999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395280" y="1484280"/>
            <a:ext cx="2232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2771640" y="1484280"/>
            <a:ext cx="208764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5003640" y="1484280"/>
            <a:ext cx="2808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826920" y="3573360"/>
            <a:ext cx="237672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348000" y="3573360"/>
            <a:ext cx="3024360" cy="194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590880" y="3573360"/>
            <a:ext cx="10432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наука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ffff"/>
                </a:solidFill>
                <a:uFillTx/>
                <a:latin typeface="Arial"/>
              </a:rPr>
              <a:t>*        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жизн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6516720" y="3573360"/>
            <a:ext cx="1224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Деление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1)ТОКИО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  ИО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2)  ББВЖ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  АВ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3) ДЫМКА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   КА__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4) .  .  .  .  .  .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  .  .  .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ТОН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КИО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ВД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ВГД       -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ДАР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МАК       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.  .  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.  .  .  . , .  .  . 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И                          ЕВ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ЯМК                            .  . 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 -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ДГ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КА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.  . 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ИО                      ЕЖ                         АМА                            .  . 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ТИ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-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ЕЖ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 -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АМА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 .  . 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 . 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.  .  ._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 .  . 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.  .  . 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5) АБСД  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Д_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6)     3 .  .  . 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. 3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Д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ВСД                  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.  3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7)    НННЧН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 НН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                                       .  .                                             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НЧ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ДЕ__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.  .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НЧ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Д                                  .  3  .                                              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ЧЧ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ВСД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ЧЧ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. . . .                                                                                    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ЧЧ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. . . . .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. . . .                                                                   Ч – четные цифр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. . . .                                                                    Н – нечетные циф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 : 5) 3125 : 25 = 125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Freeform 4"/>
          <p:cNvSpPr/>
          <p:nvPr/>
        </p:nvSpPr>
        <p:spPr>
          <a:xfrm>
            <a:off x="6134040" y="1190520"/>
            <a:ext cx="1800" cy="324000"/>
          </a:xfrm>
          <a:custGeom>
            <a:avLst/>
            <a:gdLst>
              <a:gd name="textAreaLeft" fmla="*/ 0 w 1800"/>
              <a:gd name="textAreaRight" fmla="*/ 2160 w 18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1" h="204">
                <a:moveTo>
                  <a:pt x="0" y="0"/>
                </a:moveTo>
                <a:lnTo>
                  <a:pt x="0" y="204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4500720" y="112536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3132000" y="112536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7"/>
          <p:cNvSpPr/>
          <p:nvPr/>
        </p:nvSpPr>
        <p:spPr>
          <a:xfrm>
            <a:off x="1835280" y="112536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8"/>
          <p:cNvSpPr/>
          <p:nvPr/>
        </p:nvSpPr>
        <p:spPr>
          <a:xfrm>
            <a:off x="1476360" y="2997360"/>
            <a:ext cx="9720" cy="314280"/>
          </a:xfrm>
          <a:custGeom>
            <a:avLst/>
            <a:gdLst>
              <a:gd name="textAreaLeft" fmla="*/ 0 w 9720"/>
              <a:gd name="textAreaRight" fmla="*/ 10080 w 972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6" h="198">
                <a:moveTo>
                  <a:pt x="6" y="0"/>
                </a:moveTo>
                <a:lnTo>
                  <a:pt x="0" y="198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Freeform 9"/>
          <p:cNvSpPr/>
          <p:nvPr/>
        </p:nvSpPr>
        <p:spPr>
          <a:xfrm>
            <a:off x="3276720" y="2997360"/>
            <a:ext cx="7920" cy="322200"/>
          </a:xfrm>
          <a:custGeom>
            <a:avLst/>
            <a:gdLst>
              <a:gd name="textAreaLeft" fmla="*/ 0 w 7920"/>
              <a:gd name="textAreaRight" fmla="*/ 8280 w 792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5" h="203">
                <a:moveTo>
                  <a:pt x="0" y="0"/>
                </a:moveTo>
                <a:lnTo>
                  <a:pt x="5" y="203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5724360" y="3141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1042920" y="1052640"/>
            <a:ext cx="0" cy="129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1042920" y="1052640"/>
            <a:ext cx="122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2268360" y="1052640"/>
            <a:ext cx="0" cy="129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H="1">
            <a:off x="1042920" y="2349360"/>
            <a:ext cx="122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2340000" y="1052640"/>
            <a:ext cx="0" cy="129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2340000" y="234936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7"/>
          <p:cNvSpPr/>
          <p:nvPr/>
        </p:nvSpPr>
        <p:spPr>
          <a:xfrm flipV="1">
            <a:off x="3492360" y="1052640"/>
            <a:ext cx="0" cy="129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8"/>
          <p:cNvSpPr/>
          <p:nvPr/>
        </p:nvSpPr>
        <p:spPr>
          <a:xfrm flipH="1">
            <a:off x="2339640" y="105264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3564000" y="1052640"/>
            <a:ext cx="0" cy="129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3564000" y="2349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1"/>
          <p:cNvSpPr/>
          <p:nvPr/>
        </p:nvSpPr>
        <p:spPr>
          <a:xfrm flipV="1">
            <a:off x="5003640" y="1052640"/>
            <a:ext cx="0" cy="129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2"/>
          <p:cNvSpPr/>
          <p:nvPr/>
        </p:nvSpPr>
        <p:spPr>
          <a:xfrm flipH="1">
            <a:off x="3563640" y="105264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>
            <a:off x="5076720" y="1052640"/>
            <a:ext cx="0" cy="20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24"/>
          <p:cNvSpPr/>
          <p:nvPr/>
        </p:nvSpPr>
        <p:spPr>
          <a:xfrm>
            <a:off x="5076720" y="306864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25"/>
          <p:cNvSpPr/>
          <p:nvPr/>
        </p:nvSpPr>
        <p:spPr>
          <a:xfrm flipV="1">
            <a:off x="7308720" y="1052640"/>
            <a:ext cx="0" cy="20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26"/>
          <p:cNvSpPr/>
          <p:nvPr/>
        </p:nvSpPr>
        <p:spPr>
          <a:xfrm flipH="1">
            <a:off x="5076720" y="105264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27"/>
          <p:cNvSpPr/>
          <p:nvPr/>
        </p:nvSpPr>
        <p:spPr>
          <a:xfrm>
            <a:off x="684360" y="29242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8"/>
          <p:cNvSpPr/>
          <p:nvPr/>
        </p:nvSpPr>
        <p:spPr>
          <a:xfrm>
            <a:off x="684360" y="4869000"/>
            <a:ext cx="136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9"/>
          <p:cNvSpPr/>
          <p:nvPr/>
        </p:nvSpPr>
        <p:spPr>
          <a:xfrm flipV="1">
            <a:off x="2050920" y="29242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 flipH="1">
            <a:off x="684360" y="2924280"/>
            <a:ext cx="136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2340000" y="285264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2"/>
          <p:cNvSpPr/>
          <p:nvPr/>
        </p:nvSpPr>
        <p:spPr>
          <a:xfrm>
            <a:off x="2340000" y="407664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3"/>
          <p:cNvSpPr/>
          <p:nvPr/>
        </p:nvSpPr>
        <p:spPr>
          <a:xfrm flipV="1">
            <a:off x="3635280" y="285264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 flipH="1">
            <a:off x="2340000" y="285264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4356000" y="3141720"/>
            <a:ext cx="1944720" cy="172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08:24:09Z</dcterms:created>
  <dc:creator>gena</dc:creator>
  <dc:description/>
  <dc:language>en-US</dc:language>
  <cp:lastModifiedBy>N.Waliar</cp:lastModifiedBy>
  <dcterms:modified xsi:type="dcterms:W3CDTF">2017-09-04T18:28:35Z</dcterms:modified>
  <cp:revision>55</cp:revision>
  <dc:subject/>
  <dc:title>МАТЕМАТИЧЕСКИЕ РЕБУСЫ                                                                                       </dc:title>
</cp:coreProperties>
</file>