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jpeg" ContentType="image/jpeg"/>
  <Override PartName="/ppt/media/image11.jpeg" ContentType="image/jpeg"/>
  <Override PartName="/ppt/media/image9.gif" ContentType="image/gif"/>
  <Override PartName="/ppt/media/image7.png" ContentType="image/png"/>
  <Override PartName="/ppt/media/image1.jpeg" ContentType="image/jpeg"/>
  <Override PartName="/ppt/media/image6.gif" ContentType="image/gif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8.gif" ContentType="image/gif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07B-99E2-431C-9BF5-EA42822F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7E9-DAB7-4556-B19D-92FE73B8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95F-4C15-45CB-95BB-73678590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DAA-A014-4840-8660-03CCC04C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7EB5-7FB0-42DA-82C7-B7B0BA8D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A96B-AAC1-4357-B8B4-1D3E950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968F-F762-4524-897B-C5E73D25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7A33-794C-48F5-9AC7-6854F2EA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31B0-2049-403D-9735-4F735ED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3256-9CF9-4129-84FB-16ED5C72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BA0D-4BA4-4FE9-99D0-EFB36C09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7AE-5273-4731-977D-62163A19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246B-6B1D-47C9-8AED-8CCAE18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288E-8261-4C77-8EB5-90067291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9CF8-B9F9-4D9C-843D-5634677C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BDB6-8891-42FA-A144-803536A9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7778-9D9B-42AE-83E2-5817D86A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05A-4250-4F7C-BDB2-5425E030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EB0-045F-4771-BF80-1CFA36CB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09B-C857-4D9B-AABF-9D35A225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73C-187E-4C72-B698-F778467E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BB9-DDDC-4D01-B834-05551731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FAE-4F3B-471F-B5D2-08D28EAC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323-84A6-455D-88D3-70642C39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93E6-69FF-4026-8397-20DB9A468E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AF67-6740-4A43-89D0-6EE815C485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fizika-class.narod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3c145"/>
                </a:solidFill>
                <a:latin typeface="Tahoma"/>
              </a:rPr>
              <a:t>Материальная точка. Система отсче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словия, при которых тело можно считать материальной точко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его </a:t>
            </a:r>
            <a:r>
              <a:rPr b="0" lang="ru-RU" sz="3600" spc="-1" strike="noStrike">
                <a:solidFill>
                  <a:srgbClr val="a3c145"/>
                </a:solidFill>
                <a:latin typeface="Tahoma"/>
              </a:rPr>
              <a:t>размеры малы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a3c145"/>
                </a:solidFill>
                <a:latin typeface="Tahoma"/>
              </a:rPr>
              <a:t>по сравнению с расстоянием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, которое оно проходит.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если оно </a:t>
            </a:r>
            <a:r>
              <a:rPr b="0" lang="ru-RU" sz="3600" spc="-1" strike="noStrike">
                <a:solidFill>
                  <a:srgbClr val="a3c145"/>
                </a:solidFill>
                <a:latin typeface="Tahoma"/>
              </a:rPr>
              <a:t>движется поступательно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 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3c145"/>
                </a:solidFill>
                <a:latin typeface="Tahoma"/>
              </a:rPr>
              <a:t>Наприме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материальную точку очень часто рассматривают Землю, если исследуют её движение вокруг Солн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Picture 10" descr="Вращение-Земли-вокруг-Солнца-300x225"/>
          <p:cNvPicPr/>
          <p:nvPr/>
        </p:nvPicPr>
        <p:blipFill>
          <a:blip r:embed="rId1"/>
          <a:stretch/>
        </p:blipFill>
        <p:spPr>
          <a:xfrm>
            <a:off x="4343400" y="1523880"/>
            <a:ext cx="4800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3c145"/>
                </a:solidFill>
                <a:latin typeface="Tahoma"/>
              </a:rPr>
              <a:t>Наприме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если мы решаем задачу связанную с суточным вращением планет, то нужно обязательно учесть форму и размер планеты. Например, если требуется определить </a:t>
            </a:r>
            <a:r>
              <a:rPr b="0" lang="ru-RU" sz="2800" spc="-1" strike="noStrike">
                <a:solidFill>
                  <a:srgbClr val="a3c145"/>
                </a:solidFill>
                <a:latin typeface="Tahoma"/>
              </a:rPr>
              <a:t>время восхода Солнц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разных местах земного ша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9" descr="Восход солнца над землей"/>
          <p:cNvPicPr/>
          <p:nvPr/>
        </p:nvPicPr>
        <p:blipFill>
          <a:blip r:embed="rId1"/>
          <a:stretch/>
        </p:blipFill>
        <p:spPr>
          <a:xfrm>
            <a:off x="4419720" y="1828800"/>
            <a:ext cx="4422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3c145"/>
                </a:solidFill>
                <a:latin typeface="Tahoma"/>
              </a:rPr>
              <a:t>Ответим на вопро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Picture 5" descr="MP900422729[1]"/>
          <p:cNvPicPr/>
          <p:nvPr/>
        </p:nvPicPr>
        <p:blipFill>
          <a:blip r:embed="rId1"/>
          <a:stretch/>
        </p:blipFill>
        <p:spPr>
          <a:xfrm>
            <a:off x="5657760" y="1600200"/>
            <a:ext cx="2173320" cy="21733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аких случаях автомобиль можно считать материальной точко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ь движется  из Новосибирска в Томс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ится заправка бензином автомобил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ь совершает обг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7" descr="MC900431985[1]"/>
          <p:cNvPicPr/>
          <p:nvPr/>
        </p:nvPicPr>
        <p:blipFill>
          <a:blip r:embed="rId2"/>
          <a:stretch/>
        </p:blipFill>
        <p:spPr>
          <a:xfrm>
            <a:off x="1484280" y="1773360"/>
            <a:ext cx="18273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ветим на вопро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ких случаях самолет можно считать материальной точ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лет летит из Москвы в Новосибирс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лет выруливает на взлетную полос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дит посадка пассажиров в самол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5" descr="MP900442499[1]"/>
          <p:cNvPicPr/>
          <p:nvPr/>
        </p:nvPicPr>
        <p:blipFill>
          <a:blip r:embed="rId1"/>
          <a:stretch/>
        </p:blipFill>
        <p:spPr>
          <a:xfrm>
            <a:off x="3200400" y="4495680"/>
            <a:ext cx="32367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такое </a:t>
            </a:r>
            <a:r>
              <a:rPr b="0" lang="ru-RU" sz="4000" spc="-1" strike="noStrike">
                <a:solidFill>
                  <a:srgbClr val="a3c145"/>
                </a:solidFill>
                <a:latin typeface="Tahoma"/>
              </a:rPr>
              <a:t>поступательное движени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Тело движется поступательно, если все его точки движутся одинако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и</a:t>
            </a:r>
            <a:br>
              <a:rPr sz="3200"/>
            </a:b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Тело движется поступательно, если прямая, проведенная через две точки этого тела, при его перемещении смещается параллельно своему первоначальному полож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имеры поступательного дви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упательно движется кабина лиф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упательно движется кабина колеса обозр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6" descr="Современный лифт"/>
          <p:cNvPicPr/>
          <p:nvPr/>
        </p:nvPicPr>
        <p:blipFill>
          <a:blip r:embed="rId1"/>
          <a:stretch/>
        </p:blipFill>
        <p:spPr>
          <a:xfrm>
            <a:off x="4732200" y="1600200"/>
            <a:ext cx="4046760" cy="2911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Колесо обозрения"/>
          <p:cNvPicPr/>
          <p:nvPr/>
        </p:nvPicPr>
        <p:blipFill>
          <a:blip r:embed="rId2"/>
          <a:stretch/>
        </p:blipFill>
        <p:spPr>
          <a:xfrm>
            <a:off x="5334120" y="4800600"/>
            <a:ext cx="32763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бы определить положение тела (материальной точки) в пространстве надо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ть тело отсчет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ыбрать систему координат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меть прибор для отсчёта времени (часы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Picture 7" descr="система отсчета"/>
          <p:cNvPicPr/>
          <p:nvPr/>
        </p:nvPicPr>
        <p:blipFill>
          <a:blip r:embed="rId1"/>
          <a:stretch/>
        </p:blipFill>
        <p:spPr>
          <a:xfrm>
            <a:off x="4651200" y="2589120"/>
            <a:ext cx="41911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3c145"/>
                </a:solidFill>
                <a:latin typeface="Tahoma"/>
              </a:rPr>
              <a:t>Тело отсчета, связанная с ним система координат и часы для отсчета времени движения образуют систему отсчета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a3c145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то такое тело отсчета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3c145"/>
                </a:solidFill>
                <a:latin typeface="Tahoma"/>
              </a:rPr>
              <a:t>Тело отсчёта - это тело, относительно которого определяется положение других (движущихся) т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ример, это может быть </a:t>
            </a:r>
            <a:r>
              <a:rPr b="0" lang="ru-RU" sz="2400" spc="-1" strike="noStrike">
                <a:solidFill>
                  <a:srgbClr val="a3c145"/>
                </a:solidFill>
                <a:latin typeface="Tahoma"/>
              </a:rPr>
              <a:t>дере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гда рассматриваем движение автобуса, или </a:t>
            </a:r>
            <a:r>
              <a:rPr b="0" lang="ru-RU" sz="2400" spc="-1" strike="noStrike">
                <a:solidFill>
                  <a:srgbClr val="a3c145"/>
                </a:solidFill>
                <a:latin typeface="Tahoma"/>
              </a:rPr>
              <a:t>Зем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ри расчёте движения рак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Picture 9" descr="тело отсчета"/>
          <p:cNvPicPr/>
          <p:nvPr/>
        </p:nvPicPr>
        <p:blipFill>
          <a:blip r:embed="rId1"/>
          <a:stretch/>
        </p:blipFill>
        <p:spPr>
          <a:xfrm>
            <a:off x="4651200" y="1827360"/>
            <a:ext cx="4191120" cy="17175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тело отсчета"/>
          <p:cNvPicPr/>
          <p:nvPr/>
        </p:nvPicPr>
        <p:blipFill>
          <a:blip r:embed="rId2"/>
          <a:stretch/>
        </p:blipFill>
        <p:spPr>
          <a:xfrm>
            <a:off x="5780160" y="3924360"/>
            <a:ext cx="19335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3c145"/>
                </a:solidFill>
                <a:latin typeface="Tahoma"/>
              </a:rPr>
              <a:t>Движение – любое изменение, происходящее в окружающем мир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Picture 6" descr="Мы живем в мире движущихся объектов"/>
          <p:cNvPicPr/>
          <p:nvPr/>
        </p:nvPicPr>
        <p:blipFill>
          <a:blip r:embed="rId1"/>
          <a:stretch/>
        </p:blipFill>
        <p:spPr>
          <a:xfrm>
            <a:off x="1447920" y="2332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стема координа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жение тела в пространстве можно определить с помощью 2 координат (двумерная система координа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жение тела в пространстве можно определить с помощью 3 координат (трехмерная система координа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Двухмерная сист координатjpg"/>
          <p:cNvPicPr/>
          <p:nvPr/>
        </p:nvPicPr>
        <p:blipFill>
          <a:blip r:embed="rId1"/>
          <a:stretch/>
        </p:blipFill>
        <p:spPr>
          <a:xfrm>
            <a:off x="5600880" y="1905120"/>
            <a:ext cx="2055600" cy="1589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9" descr="тело отсчета"/>
          <p:cNvPicPr/>
          <p:nvPr/>
        </p:nvPicPr>
        <p:blipFill>
          <a:blip r:embed="rId2"/>
          <a:stretch/>
        </p:blipFill>
        <p:spPr>
          <a:xfrm>
            <a:off x="4343400" y="3962520"/>
            <a:ext cx="1865160" cy="2187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Трехмерная система координат"/>
          <p:cNvPicPr/>
          <p:nvPr/>
        </p:nvPicPr>
        <p:blipFill>
          <a:blip r:embed="rId3"/>
          <a:stretch/>
        </p:blipFill>
        <p:spPr>
          <a:xfrm>
            <a:off x="6324480" y="3962520"/>
            <a:ext cx="266724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рямолинейном движении тела достаточно одной координатной о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21" descr="тело отсчета"/>
          <p:cNvPicPr/>
          <p:nvPr/>
        </p:nvPicPr>
        <p:blipFill>
          <a:blip r:embed="rId1"/>
          <a:stretch/>
        </p:blipFill>
        <p:spPr>
          <a:xfrm>
            <a:off x="4651200" y="2990880"/>
            <a:ext cx="41911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3c145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ое понимание трехмерности окружающего пространства появилось в 17 веке, когда </a:t>
            </a:r>
            <a:r>
              <a:rPr b="0" lang="ru-RU" sz="2400" spc="-1" strike="noStrike">
                <a:solidFill>
                  <a:srgbClr val="a3c145"/>
                </a:solidFill>
                <a:latin typeface="Tahoma"/>
              </a:rPr>
              <a:t>Декарт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обрел прямоугольную систему координат. В древности понятие размерности пространства не применялось, т.к. отсутствовало понятие координа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Picture 13" descr="Декартова система координат"/>
          <p:cNvPicPr/>
          <p:nvPr/>
        </p:nvPicPr>
        <p:blipFill>
          <a:blip r:embed="rId1"/>
          <a:stretch/>
        </p:blipFill>
        <p:spPr>
          <a:xfrm>
            <a:off x="5442120" y="2511360"/>
            <a:ext cx="23716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втори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механическое движ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 материальная точ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аких случаях тело можно считать материальной точк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е движение называется поступатель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система отсчет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§ 1,  устно ответить на вопросы после параграфа, упр.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ышкин А. В. Физика. 9 кл.: Учебник для  общеобразовательных учебных заведений/ А. В. Перышкин, Е. М. Гутник– М.: Дрофа,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fizika-class.narod.ru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ртинки со страниц свободного доступа сети  интерн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иболее простым видом движения является </a:t>
            </a:r>
            <a:r>
              <a:rPr b="0" lang="ru-RU" sz="4000" spc="-1" strike="noStrike">
                <a:solidFill>
                  <a:srgbClr val="a3c145"/>
                </a:solidFill>
                <a:latin typeface="Tahoma"/>
              </a:rPr>
              <a:t>механическое движени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Picture 9" descr="Движение бегуна"/>
          <p:cNvPicPr/>
          <p:nvPr/>
        </p:nvPicPr>
        <p:blipFill>
          <a:blip r:embed="rId1"/>
          <a:stretch/>
        </p:blipFill>
        <p:spPr>
          <a:xfrm>
            <a:off x="776160" y="2206800"/>
            <a:ext cx="2695680" cy="2652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Движение автомобиля"/>
          <p:cNvPicPr/>
          <p:nvPr/>
        </p:nvPicPr>
        <p:blipFill>
          <a:blip r:embed="rId2"/>
          <a:stretch/>
        </p:blipFill>
        <p:spPr>
          <a:xfrm>
            <a:off x="838080" y="5334120"/>
            <a:ext cx="2181240" cy="1377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Движение поезда"/>
          <p:cNvPicPr/>
          <p:nvPr/>
        </p:nvPicPr>
        <p:blipFill>
          <a:blip r:embed="rId3"/>
          <a:stretch/>
        </p:blipFill>
        <p:spPr>
          <a:xfrm>
            <a:off x="4572000" y="4846680"/>
            <a:ext cx="3100320" cy="2011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7" descr="Движение велосипедиста"/>
          <p:cNvPicPr/>
          <p:nvPr/>
        </p:nvPicPr>
        <p:blipFill>
          <a:blip r:embed="rId4"/>
          <a:stretch/>
        </p:blipFill>
        <p:spPr>
          <a:xfrm>
            <a:off x="5362560" y="2359080"/>
            <a:ext cx="2963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втори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механическое движ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Механическое движение - это изменение положения тел в пространстве относительно друг друга с течением времени.</a:t>
            </a:r>
            <a:br>
              <a:rPr sz="3200"/>
            </a:b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4" descr="улитка"/>
          <p:cNvPicPr/>
          <p:nvPr/>
        </p:nvPicPr>
        <p:blipFill>
          <a:blip r:embed="rId1"/>
          <a:stretch/>
        </p:blipFill>
        <p:spPr>
          <a:xfrm>
            <a:off x="609480" y="502920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улитка"/>
          <p:cNvPicPr/>
          <p:nvPr/>
        </p:nvPicPr>
        <p:blipFill>
          <a:blip r:embed="rId2"/>
          <a:stretch/>
        </p:blipFill>
        <p:spPr>
          <a:xfrm>
            <a:off x="4572000" y="403848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еханическое движение может быть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ямолинейным или криволинейным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вномерным или неравномерным.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9" descr="Движение спутника вокруг Земли"/>
          <p:cNvPicPr/>
          <p:nvPr/>
        </p:nvPicPr>
        <p:blipFill>
          <a:blip r:embed="rId1"/>
          <a:stretch/>
        </p:blipFill>
        <p:spPr>
          <a:xfrm>
            <a:off x="5649840" y="4214880"/>
            <a:ext cx="2193840" cy="1592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auto движется"/>
          <p:cNvPicPr/>
          <p:nvPr/>
        </p:nvPicPr>
        <p:blipFill>
          <a:blip r:embed="rId2"/>
          <a:stretch/>
        </p:blipFill>
        <p:spPr>
          <a:xfrm>
            <a:off x="4737240" y="2462040"/>
            <a:ext cx="4019400" cy="446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человечек движется"/>
          <p:cNvPicPr/>
          <p:nvPr/>
        </p:nvPicPr>
        <p:blipFill>
          <a:blip r:embed="rId3"/>
          <a:stretch/>
        </p:blipFill>
        <p:spPr>
          <a:xfrm>
            <a:off x="1905120" y="56386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и решении задач, связанных с механическим движением, необходимо определить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екторию движ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движ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уть пройденный тел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жение тела в пространстве в любой момент врем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егодня мы ответим на вопросы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материальная точ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гда ли можно применять понятие материальная точ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система отсчё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чего состоит система отсчёт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виды систем отсчёта существу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перемещ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то такое материальная точка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сто при движении тела можно не учитывать его собственные размеры, т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ть считать точк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риальных точек нет в природе, но это понятие упрощает решение многих зада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3c145"/>
                </a:solidFill>
                <a:latin typeface="Tahoma"/>
              </a:rPr>
              <a:t>Материальной точкой называется </a:t>
            </a:r>
            <a:r>
              <a:rPr b="0" lang="ru-RU" sz="4000" spc="-1" strike="noStrike">
                <a:solidFill>
                  <a:srgbClr val="a3c145"/>
                </a:solidFill>
                <a:latin typeface="Tahoma"/>
              </a:rPr>
              <a:t>тело, размерами которого в условиях решаемой задачи можно пренебреч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имназия 20</dc:creator>
  <dc:description/>
  <dc:language>en-US</dc:language>
  <cp:lastModifiedBy>Гимназия 20</cp:lastModifiedBy>
  <dcterms:modified xsi:type="dcterms:W3CDTF">2017-09-04T12:53:3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