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6.jpeg" ContentType="image/jpeg"/>
  <Override PartName="/ppt/media/image28.jpeg" ContentType="image/jpeg"/>
  <Override PartName="/ppt/media/image13.jpeg" ContentType="image/jpeg"/>
  <Override PartName="/ppt/media/image23.png" ContentType="image/png"/>
  <Override PartName="/ppt/media/image5.png" ContentType="image/png"/>
  <Override PartName="/ppt/media/image29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1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F07F-0321-4C7D-9A29-8F97509FB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9B77-9FF1-4CE6-A3A9-94262458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6320-B1F4-4013-82CE-818AEC3D2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F005-79B6-4371-8C9A-1352DDE4C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37FE-C68C-419A-9BAB-3BBD389C3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65FC-CC1B-4468-BCB1-22C41BC2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0822-C3FB-47B8-BE03-1897F0E9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DE25-6A1B-4F30-8388-B2420C1A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AE8F-39BB-48E9-8107-4336CF98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656B-4C7E-4019-816E-6BC3CFB4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4890-7A83-4FB8-A172-5D7839E4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6F63-70DF-4F8C-B868-A424C529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1215-FE1D-41B6-ACE5-D5AA3DD7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6609-B3C7-4B0D-827C-6A226AA4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DFB3-53E1-44CE-8366-6BC89F80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CB53-4989-4566-85E3-A04F8C69E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D5D2-42EA-4CC7-8CF4-04065D6C5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931B7-7087-4BF2-AE8E-BC3F5F26E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7D90E-DA03-4B0E-B6FB-D444735F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C4120-BB20-4D9D-B2A6-6B8D05B6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E7C25-0B86-4716-88E6-3394C88A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63C33-FF41-493E-89DC-2F704C7F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D389-2E98-4AC4-A4AC-640D1251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14211-FC1C-4A4E-ACCF-96A8FA99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6B1F5-F284-4D2F-AF5B-007A1AC1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F803C-7F1F-42E9-A77A-4FC38FE6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2F91A-FB09-4E7F-957A-C1502107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0D2DC-09BC-4376-8578-860726C8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E0B1E-24DF-4E90-8FCA-725A7B145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35B0C-C3D9-40EE-BC33-9C252129E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DB10B-05B9-4D9F-859F-F69494769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C8383-CB1E-49FB-A6BA-8C6B7DFA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1A02D-2978-4325-8865-0C9EA922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2277-686E-491C-9AA0-15514FE6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0DCD9-34DD-4EC1-B7F7-2310F5CA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316DA-D47F-4D87-915A-B6886DD6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230D0-010C-4606-8B78-24504BC5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11A3A-4927-4F9B-8402-1B2A99F4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C9379-B54F-4E59-8434-632AAE1A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DA8C5-4143-4F27-9CCE-4DBB1CD4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ABC46-8A8A-467A-8310-FEE12B17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7A666-5FC2-4377-839C-26D9B4A4D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5354F-8504-4B42-A5C2-C9E6B2CB9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31D2F-BECE-47BA-B146-D874FE19A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AD8B-AC07-4E3E-8AB7-686B58FF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B67FF-7BF2-4C82-9FC2-8D173E6B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86FD1-E9EF-4906-BB39-2DF66A56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0FE68-E715-4C21-8B7A-D905363C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5786D-EBD8-48A7-92E0-40F545BA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7DE5F-4E24-452E-84BB-C2D6F33B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3F51B-69E8-42ED-A2F0-63D08DA2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E7EB7-6674-402D-9F38-1D03C6E4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5F2D1-CA25-43A8-9E7A-88F009B6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527A6-1BC5-4E37-B276-7095B08A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CF22B-F1C5-4311-B619-32985BC83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2075-DC79-4707-8938-9D31EE27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82F7F-0BF7-4ADD-893E-5C5A97840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77B8C-222D-451A-9DBB-2419BDC3A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22201-2F26-4D15-A476-7C0DDB53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12D3E-392F-4D46-8289-64A6404F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FB0D1-8011-47AE-B179-6460F863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44C66-248D-47CD-848D-9F4C59A4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6DAFA-7A0E-47C0-8114-2513D68E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6B944-3283-46DC-8382-44657AC4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5CC73-D82E-41E5-BE8A-021835B7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BC949-EE59-4CC9-AACA-CCA636A6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72A5-2B22-4566-BD86-CE8CCE74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D4B16-2D26-4053-9A22-C0566621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99101-D2C9-481A-B8E0-5481DDC6E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DC2FB-45C9-4442-9540-0149EB2D4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BAE9-E6DC-42EA-8DC5-ADB45B03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7C99-E891-40C5-9BF2-6449C0A0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8AEC-F6BE-4BA8-A747-EAA38FF1B0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3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5632-DE6D-4EDF-BA31-8F97C901D7D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88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2FA6-A790-4C48-9012-38F09C79140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33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C277-0648-4509-A0E9-D9A4FAAAFC5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A418-AA05-40CB-8D1B-B00070BE96F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E9B6-715F-4C8E-AD86-26A0E06C23D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jpeg"/><Relationship Id="rId3" Type="http://schemas.openxmlformats.org/officeDocument/2006/relationships/image" Target="../media/image18.jpeg"/><Relationship Id="rId4" Type="http://schemas.openxmlformats.org/officeDocument/2006/relationships/image" Target="../media/image14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5.jpeg"/><Relationship Id="rId3" Type="http://schemas.openxmlformats.org/officeDocument/2006/relationships/image" Target="../media/image23.png"/><Relationship Id="rId4" Type="http://schemas.openxmlformats.org/officeDocument/2006/relationships/image" Target="../media/image7.png"/><Relationship Id="rId5" Type="http://schemas.openxmlformats.org/officeDocument/2006/relationships/image" Target="../media/image26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3.jpeg"/><Relationship Id="rId3" Type="http://schemas.openxmlformats.org/officeDocument/2006/relationships/image" Target="../media/image25.jpeg"/><Relationship Id="rId4" Type="http://schemas.openxmlformats.org/officeDocument/2006/relationships/image" Target="../media/image28.jpeg"/><Relationship Id="rId5" Type="http://schemas.openxmlformats.org/officeDocument/2006/relationships/image" Target="../media/image23.pn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Прямоугольник 4" descr=""/>
          <p:cNvPicPr/>
          <p:nvPr/>
        </p:nvPicPr>
        <p:blipFill>
          <a:blip r:embed="rId1"/>
          <a:stretch/>
        </p:blipFill>
        <p:spPr>
          <a:xfrm>
            <a:off x="463680" y="1335240"/>
            <a:ext cx="83325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8" descr=""/>
          <p:cNvPicPr/>
          <p:nvPr/>
        </p:nvPicPr>
        <p:blipFill>
          <a:blip r:embed="rId1"/>
          <a:stretch/>
        </p:blipFill>
        <p:spPr>
          <a:xfrm>
            <a:off x="2411280" y="765000"/>
            <a:ext cx="2195640" cy="34909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0" descr="http://www.shropshiremusicservice.org.uk/userfiles/images/Double-Bass.jpg"/>
          <p:cNvPicPr/>
          <p:nvPr/>
        </p:nvPicPr>
        <p:blipFill>
          <a:blip r:embed="rId2"/>
          <a:stretch/>
        </p:blipFill>
        <p:spPr>
          <a:xfrm>
            <a:off x="4284720" y="1844640"/>
            <a:ext cx="2976480" cy="4470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2" descr="http://images.spasibovsem.ru/catalog/original/skripka-otzyvy-1462473499.gif"/>
          <p:cNvPicPr/>
          <p:nvPr/>
        </p:nvPicPr>
        <p:blipFill>
          <a:blip r:embed="rId3"/>
          <a:stretch/>
        </p:blipFill>
        <p:spPr>
          <a:xfrm>
            <a:off x="0" y="928800"/>
            <a:ext cx="2119320" cy="25923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"/>
          <p:cNvPicPr/>
          <p:nvPr/>
        </p:nvPicPr>
        <p:blipFill>
          <a:blip r:embed="rId4"/>
          <a:stretch/>
        </p:blipFill>
        <p:spPr>
          <a:xfrm>
            <a:off x="6372360" y="620640"/>
            <a:ext cx="2409840" cy="4124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"/>
          <p:cNvPicPr/>
          <p:nvPr/>
        </p:nvPicPr>
        <p:blipFill>
          <a:blip r:embed="rId5"/>
          <a:stretch/>
        </p:blipFill>
        <p:spPr>
          <a:xfrm rot="1075800">
            <a:off x="1122120" y="3406320"/>
            <a:ext cx="138096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0" y="2000160"/>
            <a:ext cx="9144000" cy="3929040"/>
          </a:xfrm>
          <a:prstGeom prst="rect">
            <a:avLst/>
          </a:prstGeom>
          <a:ln w="0">
            <a:noFill/>
          </a:ln>
        </p:spPr>
      </p:pic>
      <p:pic>
        <p:nvPicPr>
          <p:cNvPr id="268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517680"/>
            <a:ext cx="915696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http://www.elist10.com/wp-content/uploads/2013/10/trumpet.jpg"/>
          <p:cNvPicPr/>
          <p:nvPr/>
        </p:nvPicPr>
        <p:blipFill>
          <a:blip r:embed="rId1"/>
          <a:stretch/>
        </p:blipFill>
        <p:spPr>
          <a:xfrm>
            <a:off x="395280" y="692280"/>
            <a:ext cx="3357720" cy="19983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" descr=""/>
          <p:cNvPicPr/>
          <p:nvPr/>
        </p:nvPicPr>
        <p:blipFill>
          <a:blip r:embed="rId2"/>
          <a:stretch/>
        </p:blipFill>
        <p:spPr>
          <a:xfrm>
            <a:off x="6719760" y="3743280"/>
            <a:ext cx="2424240" cy="31147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7" descr=""/>
          <p:cNvPicPr/>
          <p:nvPr/>
        </p:nvPicPr>
        <p:blipFill>
          <a:blip r:embed="rId3"/>
          <a:stretch/>
        </p:blipFill>
        <p:spPr>
          <a:xfrm>
            <a:off x="3429000" y="2786040"/>
            <a:ext cx="2638440" cy="19908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6" descr="http://www.musiciansbuy.com/core/media/media.nl?id=7659&amp;c=1209167&amp;h=611feeb445f37daf1b90&amp;resized=-1"/>
          <p:cNvPicPr/>
          <p:nvPr/>
        </p:nvPicPr>
        <p:blipFill>
          <a:blip r:embed="rId4"/>
          <a:stretch/>
        </p:blipFill>
        <p:spPr>
          <a:xfrm rot="3950400">
            <a:off x="6351120" y="536760"/>
            <a:ext cx="2022480" cy="2997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http://vchecherin.ru/qckrmme/skachat_zombie_vs_plants_3d_na_kompyuter_besplatno_4131_100.jpg"/>
          <p:cNvPicPr/>
          <p:nvPr/>
        </p:nvPicPr>
        <p:blipFill>
          <a:blip r:embed="rId5"/>
          <a:stretch/>
        </p:blipFill>
        <p:spPr>
          <a:xfrm>
            <a:off x="500040" y="4856040"/>
            <a:ext cx="4143240" cy="20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Прямоугольник 2" descr=""/>
          <p:cNvPicPr/>
          <p:nvPr/>
        </p:nvPicPr>
        <p:blipFill>
          <a:blip r:embed="rId1"/>
          <a:stretch/>
        </p:blipFill>
        <p:spPr>
          <a:xfrm>
            <a:off x="103320" y="444600"/>
            <a:ext cx="9156600" cy="6220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http://www.elist10.com/wp-content/uploads/2013/10/trumpet.jpg"/>
          <p:cNvPicPr/>
          <p:nvPr/>
        </p:nvPicPr>
        <p:blipFill>
          <a:blip r:embed="rId2"/>
          <a:stretch/>
        </p:blipFill>
        <p:spPr>
          <a:xfrm>
            <a:off x="0" y="1643040"/>
            <a:ext cx="3357720" cy="19987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http://www.musiciansbuy.com/core/media/media.nl?id=7659&amp;c=1209167&amp;h=611feeb445f37daf1b90&amp;resized=-1"/>
          <p:cNvPicPr/>
          <p:nvPr/>
        </p:nvPicPr>
        <p:blipFill>
          <a:blip r:embed="rId3"/>
          <a:stretch/>
        </p:blipFill>
        <p:spPr>
          <a:xfrm rot="3596400">
            <a:off x="5784840" y="3129840"/>
            <a:ext cx="2413080" cy="35766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7" descr=""/>
          <p:cNvPicPr/>
          <p:nvPr/>
        </p:nvPicPr>
        <p:blipFill>
          <a:blip r:embed="rId4"/>
          <a:stretch/>
        </p:blipFill>
        <p:spPr>
          <a:xfrm>
            <a:off x="3857760" y="2143080"/>
            <a:ext cx="2638440" cy="19908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http://vchecherin.ru/qckrmme/skachat_zombie_vs_plants_3d_na_kompyuter_besplatno_4131_100.jpg"/>
          <p:cNvPicPr/>
          <p:nvPr/>
        </p:nvPicPr>
        <p:blipFill>
          <a:blip r:embed="rId5"/>
          <a:stretch/>
        </p:blipFill>
        <p:spPr>
          <a:xfrm>
            <a:off x="714240" y="4643280"/>
            <a:ext cx="4143600" cy="20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4" descr="https://tatzilbert.ru/wp-content/uploads/2014/03/fleyta.png"/>
          <p:cNvPicPr/>
          <p:nvPr/>
        </p:nvPicPr>
        <p:blipFill>
          <a:blip r:embed="rId1"/>
          <a:stretch/>
        </p:blipFill>
        <p:spPr>
          <a:xfrm rot="20677200">
            <a:off x="760320" y="2557080"/>
            <a:ext cx="4673520" cy="28447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6" descr="http://fs.nashaucheba.ru/tw_files2/urls_3/1527/d-1526920/1526920_html_m3726cf14.png"/>
          <p:cNvPicPr/>
          <p:nvPr/>
        </p:nvPicPr>
        <p:blipFill>
          <a:blip r:embed="rId2"/>
          <a:stretch/>
        </p:blipFill>
        <p:spPr>
          <a:xfrm>
            <a:off x="4572000" y="549360"/>
            <a:ext cx="3616200" cy="26240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8" descr="https://upload.wikimedia.org/wikipedia/commons/2/20/Clarinet-rotate.png"/>
          <p:cNvPicPr/>
          <p:nvPr/>
        </p:nvPicPr>
        <p:blipFill>
          <a:blip r:embed="rId3"/>
          <a:stretch/>
        </p:blipFill>
        <p:spPr>
          <a:xfrm>
            <a:off x="0" y="404640"/>
            <a:ext cx="3214800" cy="33084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0" descr="http://overgraph.ru/images/842236_bassoon.jpg"/>
          <p:cNvPicPr/>
          <p:nvPr/>
        </p:nvPicPr>
        <p:blipFill>
          <a:blip r:embed="rId4"/>
          <a:stretch/>
        </p:blipFill>
        <p:spPr>
          <a:xfrm>
            <a:off x="4643280" y="3500280"/>
            <a:ext cx="2157480" cy="32148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2" descr="http://cdn.shopify.com/s/files/1/0475/6953/products/triangle-instrument-large_medium.png?v=1410809660"/>
          <p:cNvPicPr/>
          <p:nvPr/>
        </p:nvPicPr>
        <p:blipFill>
          <a:blip r:embed="rId5"/>
          <a:stretch/>
        </p:blipFill>
        <p:spPr>
          <a:xfrm>
            <a:off x="6858000" y="428616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4" descr="https://tatzilbert.ru/wp-content/uploads/2014/03/fleyta.png"/>
          <p:cNvPicPr/>
          <p:nvPr/>
        </p:nvPicPr>
        <p:blipFill>
          <a:blip r:embed="rId1"/>
          <a:stretch/>
        </p:blipFill>
        <p:spPr>
          <a:xfrm rot="20677200">
            <a:off x="793800" y="2997000"/>
            <a:ext cx="4673520" cy="28447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6" descr="http://fs.nashaucheba.ru/tw_files2/urls_3/1527/d-1526920/1526920_html_m3726cf14.png"/>
          <p:cNvPicPr/>
          <p:nvPr/>
        </p:nvPicPr>
        <p:blipFill>
          <a:blip r:embed="rId2"/>
          <a:stretch/>
        </p:blipFill>
        <p:spPr>
          <a:xfrm>
            <a:off x="5000760" y="1428840"/>
            <a:ext cx="3616200" cy="26240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8" descr="https://upload.wikimedia.org/wikipedia/commons/2/20/Clarinet-rotate.png"/>
          <p:cNvPicPr/>
          <p:nvPr/>
        </p:nvPicPr>
        <p:blipFill>
          <a:blip r:embed="rId3"/>
          <a:stretch/>
        </p:blipFill>
        <p:spPr>
          <a:xfrm>
            <a:off x="428760" y="1500120"/>
            <a:ext cx="3214440" cy="33084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0" descr="http://overgraph.ru/images/842236_bassoon.jpg"/>
          <p:cNvPicPr/>
          <p:nvPr/>
        </p:nvPicPr>
        <p:blipFill>
          <a:blip r:embed="rId4"/>
          <a:stretch/>
        </p:blipFill>
        <p:spPr>
          <a:xfrm>
            <a:off x="4643280" y="3500280"/>
            <a:ext cx="2157480" cy="3214800"/>
          </a:xfrm>
          <a:prstGeom prst="rect">
            <a:avLst/>
          </a:prstGeom>
          <a:ln w="0">
            <a:noFill/>
          </a:ln>
        </p:spPr>
      </p:pic>
      <p:pic>
        <p:nvPicPr>
          <p:cNvPr id="288" name="Прямоугольник 13" descr=""/>
          <p:cNvPicPr/>
          <p:nvPr/>
        </p:nvPicPr>
        <p:blipFill>
          <a:blip r:embed="rId5"/>
          <a:stretch/>
        </p:blipFill>
        <p:spPr>
          <a:xfrm>
            <a:off x="-6480" y="444600"/>
            <a:ext cx="915696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2423880" cy="31147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4" descr="http://www.woodbrass.com/images/woodbrass/PAISTE+SYMPHONIC+HEAVY.JPG"/>
          <p:cNvPicPr/>
          <p:nvPr/>
        </p:nvPicPr>
        <p:blipFill>
          <a:blip r:embed="rId2"/>
          <a:stretch/>
        </p:blipFill>
        <p:spPr>
          <a:xfrm>
            <a:off x="3564000" y="620640"/>
            <a:ext cx="1712880" cy="1548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2" descr="http://cdn.shopify.com/s/files/1/0475/6953/products/triangle-instrument-large_medium.png?v=1410809660"/>
          <p:cNvPicPr/>
          <p:nvPr/>
        </p:nvPicPr>
        <p:blipFill>
          <a:blip r:embed="rId3"/>
          <a:stretch/>
        </p:blipFill>
        <p:spPr>
          <a:xfrm>
            <a:off x="6572160" y="14288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2" descr="http://images.spasibovsem.ru/catalog/original/skripka-otzyvy-1462473499.gif"/>
          <p:cNvPicPr/>
          <p:nvPr/>
        </p:nvPicPr>
        <p:blipFill>
          <a:blip r:embed="rId4"/>
          <a:stretch/>
        </p:blipFill>
        <p:spPr>
          <a:xfrm>
            <a:off x="1714680" y="3929040"/>
            <a:ext cx="2118960" cy="25923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4" descr="https://pbs.twimg.com/media/C3uOqQ5WIAAgwHZ.jpg"/>
          <p:cNvPicPr/>
          <p:nvPr/>
        </p:nvPicPr>
        <p:blipFill>
          <a:blip r:embed="rId5"/>
          <a:stretch/>
        </p:blipFill>
        <p:spPr>
          <a:xfrm>
            <a:off x="5214960" y="3857760"/>
            <a:ext cx="2643120" cy="26431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https://pbs.twimg.com/media/C3uOqQ5WIAAgwHZ.jpg"/>
          <p:cNvPicPr/>
          <p:nvPr/>
        </p:nvPicPr>
        <p:blipFill>
          <a:blip r:embed="rId6"/>
          <a:stretch/>
        </p:blipFill>
        <p:spPr>
          <a:xfrm>
            <a:off x="5214960" y="3857760"/>
            <a:ext cx="264312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Прямоугольник 2" descr=""/>
          <p:cNvPicPr/>
          <p:nvPr/>
        </p:nvPicPr>
        <p:blipFill>
          <a:blip r:embed="rId1"/>
          <a:stretch/>
        </p:blipFill>
        <p:spPr>
          <a:xfrm>
            <a:off x="103320" y="298440"/>
            <a:ext cx="9156600" cy="6224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" descr=""/>
          <p:cNvPicPr/>
          <p:nvPr/>
        </p:nvPicPr>
        <p:blipFill>
          <a:blip r:embed="rId2"/>
          <a:stretch/>
        </p:blipFill>
        <p:spPr>
          <a:xfrm>
            <a:off x="6719760" y="3191040"/>
            <a:ext cx="2424240" cy="31143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http://www.woodbrass.com/images/woodbrass/PAISTE+SYMPHONIC+HEAVY.JPG"/>
          <p:cNvPicPr/>
          <p:nvPr/>
        </p:nvPicPr>
        <p:blipFill>
          <a:blip r:embed="rId3"/>
          <a:stretch/>
        </p:blipFill>
        <p:spPr>
          <a:xfrm>
            <a:off x="357120" y="976320"/>
            <a:ext cx="1712880" cy="15476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0" descr="http://psudoterad.ru/img/picture/Nov/12/30ad53edda1391ac40b910456f782702/4.jpg"/>
          <p:cNvPicPr/>
          <p:nvPr/>
        </p:nvPicPr>
        <p:blipFill>
          <a:blip r:embed="rId4"/>
          <a:stretch/>
        </p:blipFill>
        <p:spPr>
          <a:xfrm>
            <a:off x="6572160" y="1476360"/>
            <a:ext cx="2214720" cy="13842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2" descr="http://cdn.shopify.com/s/files/1/0475/6953/products/triangle-instrument-large_medium.png?v=1410809660"/>
          <p:cNvPicPr/>
          <p:nvPr/>
        </p:nvPicPr>
        <p:blipFill>
          <a:blip r:embed="rId5"/>
          <a:stretch/>
        </p:blipFill>
        <p:spPr>
          <a:xfrm>
            <a:off x="2143080" y="161928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6" descr="https://skybeat.ru/upload/iblock/39d/39da896635ee7a0d5effefb32dfe3c61.jpg"/>
          <p:cNvPicPr/>
          <p:nvPr/>
        </p:nvPicPr>
        <p:blipFill>
          <a:blip r:embed="rId6"/>
          <a:stretch/>
        </p:blipFill>
        <p:spPr>
          <a:xfrm>
            <a:off x="2643120" y="3548160"/>
            <a:ext cx="3822840" cy="30621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8" descr="http://www.baza-shop.ru/data/products/images/3/3/stagg_cas_wt_original.jpg"/>
          <p:cNvPicPr/>
          <p:nvPr/>
        </p:nvPicPr>
        <p:blipFill>
          <a:blip r:embed="rId7"/>
          <a:stretch/>
        </p:blipFill>
        <p:spPr>
          <a:xfrm>
            <a:off x="4572000" y="1976400"/>
            <a:ext cx="1558800" cy="16588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" descr="https://pbs.twimg.com/media/C3uOqQ5WIAAgwHZ.jpg"/>
          <p:cNvPicPr/>
          <p:nvPr/>
        </p:nvPicPr>
        <p:blipFill>
          <a:blip r:embed="rId8"/>
          <a:stretch/>
        </p:blipFill>
        <p:spPr>
          <a:xfrm>
            <a:off x="285840" y="3833640"/>
            <a:ext cx="22143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0T13:37:24Z</dcterms:created>
  <dc:creator>liza</dc:creator>
  <dc:description/>
  <dc:language>en-US</dc:language>
  <cp:lastModifiedBy>лена</cp:lastModifiedBy>
  <dcterms:modified xsi:type="dcterms:W3CDTF">2017-09-04T06:15:41Z</dcterms:modified>
  <cp:revision>92</cp:revision>
  <dc:subject/>
  <dc:title>Презентация PowerPoint</dc:title>
</cp:coreProperties>
</file>