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8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98A-391C-4FC9-B277-FCC65C9C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087-92E1-4B06-8FBE-3B59CE1B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0E6-30F8-430F-BA21-03906B0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FEC-B8C3-4DBD-94E5-CE3C759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F3F-74E7-4D03-9EA6-DBD0ABC3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E35-C0C8-4CCE-BE9D-D4C18FA8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BD9-3456-4D5A-A3F9-C1BA01C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058-EC58-4E9B-AF2A-A6273D4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E51F-4A10-476F-B59E-B64E919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A203-C1F7-476C-8504-9E01E4C0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86F1-279C-4F3A-87B5-4DF51A20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C43-8C41-40F1-A0FB-A411BC0B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A83-BA9C-4443-A69A-2E69F3A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290-CD51-4B90-9A46-CA0622F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3F9E-1E80-44B5-BAF5-2315173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915-810B-490F-B9AF-CAC5D1BF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2A34-437A-45BE-8A95-784306F2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9F91-FA35-4856-B260-48C7A685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738C-033E-43F9-91EF-736BF2C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9C99-D3BA-400B-A059-A7D3E0F9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86C6-4E3E-4202-B292-E60842B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82B3-26C2-4AF3-A2E3-5AB8823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04A-C382-4E6D-BA69-86932DD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C0AD-10AB-42EB-8466-E48037E2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4371-F0EC-4BD9-87F4-366440B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3EB5-CE28-44E5-B1E7-C3AE1BC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CA2B-5FD4-46D9-A30E-CF824B6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972F-B9E9-43A0-B0EE-41D6613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45D4-C178-4BC3-A89C-0488BE67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38C2-777D-4261-95C1-D8788761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82CF-4F96-4C2E-9216-9ADC6F81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B0DB-26EA-4BDF-A3E1-8583B22A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224C-4ACE-43E0-A164-C6599F58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366-CF66-4030-A102-E28EB85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CE95-0280-4BEE-9371-50EC61B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A1F5-35B2-4DE9-95EE-70E4B51E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9E4A-5928-4A41-94BC-B396C3F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938C-C538-4526-9DC3-212FF05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543E-250E-455B-A7A3-035F990B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D9EA-C10E-41B8-8F62-61C238F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AF28-29BC-4CB8-AC65-EE01B3A7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5996-EE73-45C6-9F24-4DECBA8D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8E5B-D1E2-4820-AEEC-F19D7D41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2E7F-4643-4DBC-B0E8-8D5A3D91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A28-1B84-4356-9AC0-880AC0B6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69DF-8B4E-40D2-A6EC-3C8EA51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6B6D-407E-4AA6-BDD7-5B071DC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0E7B-4CFC-4D7A-BEB4-3D18AA9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76CA-7FD0-441B-A24C-7563F3C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EEBD-3944-489D-8022-00B4B97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E976-A24C-4B3C-9BEC-A04A4C3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F3EF-1211-4C83-83EE-AD3B987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37AF-75FE-406D-80DB-7E5C027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A5FA-F1F1-4F1D-863C-61C6266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4267-5F9B-489D-83DB-4EC2636D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40C-F5BD-452A-8E70-6ECAC593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169C-0CFC-4487-9F8D-FD57A850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2AC8-36A0-40A3-A3F1-C4580E48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CE512-8B1F-434F-8655-D38BD1E0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8D16-4240-4796-B3E2-C0425DBF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E2C8-9734-4896-BA77-E22F96DF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D24B-7B49-4E7A-8742-AF8B51D7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FE2B-3DCE-4C51-A626-6C505F6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9BF69-35BF-423B-92E3-8CCE5E3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AFEB-D31C-43E2-9C27-600E18A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892F-CA66-474D-9A0E-05FA0FB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D7C-D3F8-4F59-B606-BCBDA3E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3A38-ABAF-4686-B294-6D63995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B7B9-118B-4FC3-9271-FD63E48D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7F4EA-CC01-49EF-8E54-FF01A424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EBD-FEF2-4DCE-B92F-82368C9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1D4-9DEB-4002-833A-7862F12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CB2-5FC9-4B99-8C08-134C7DD74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6DF-D8AD-4315-8033-2AF9AA69D7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D93-76BC-460B-B72A-B4B13AFEA9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7C66-6444-47CD-818E-E966354DC3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75F-5D65-4F2A-ADE1-AD41DDCF88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ABB-E93F-4567-B93B-CDE977BDE4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jpeg"/><Relationship Id="rId3" Type="http://schemas.openxmlformats.org/officeDocument/2006/relationships/image" Target="../media/image25.jpeg"/><Relationship Id="rId4" Type="http://schemas.openxmlformats.org/officeDocument/2006/relationships/image" Target="../media/image28.jpeg"/><Relationship Id="rId5" Type="http://schemas.openxmlformats.org/officeDocument/2006/relationships/image" Target="../media/image23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4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8332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2195640" cy="349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http://www.shropshiremusicservice.org.uk/userfiles/images/Double-Bass.jpg"/>
          <p:cNvPicPr/>
          <p:nvPr/>
        </p:nvPicPr>
        <p:blipFill>
          <a:blip r:embed="rId2"/>
          <a:stretch/>
        </p:blipFill>
        <p:spPr>
          <a:xfrm>
            <a:off x="4284720" y="1844640"/>
            <a:ext cx="2976480" cy="447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ttp://images.spasibovsem.ru/catalog/original/skripka-otzyvy-1462473499.gif"/>
          <p:cNvPicPr/>
          <p:nvPr/>
        </p:nvPicPr>
        <p:blipFill>
          <a:blip r:embed="rId3"/>
          <a:stretch/>
        </p:blipFill>
        <p:spPr>
          <a:xfrm>
            <a:off x="0" y="928800"/>
            <a:ext cx="2119320" cy="2592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2409840" cy="4124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5"/>
          <a:stretch/>
        </p:blipFill>
        <p:spPr>
          <a:xfrm rot="1075800">
            <a:off x="1122120" y="3406320"/>
            <a:ext cx="1380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39290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17680"/>
            <a:ext cx="91569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www.elist10.com/wp-content/uploads/2013/10/trumpet.jpg"/>
          <p:cNvPicPr/>
          <p:nvPr/>
        </p:nvPicPr>
        <p:blipFill>
          <a:blip r:embed="rId1"/>
          <a:stretch/>
        </p:blipFill>
        <p:spPr>
          <a:xfrm>
            <a:off x="395280" y="692280"/>
            <a:ext cx="3357720" cy="199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6719760" y="3743280"/>
            <a:ext cx="2424240" cy="311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3"/>
          <a:stretch/>
        </p:blipFill>
        <p:spPr>
          <a:xfrm>
            <a:off x="3429000" y="2786040"/>
            <a:ext cx="2638440" cy="1990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www.musiciansbuy.com/core/media/media.nl?id=7659&amp;c=1209167&amp;h=611feeb445f37daf1b90&amp;resized=-1"/>
          <p:cNvPicPr/>
          <p:nvPr/>
        </p:nvPicPr>
        <p:blipFill>
          <a:blip r:embed="rId4"/>
          <a:stretch/>
        </p:blipFill>
        <p:spPr>
          <a:xfrm rot="3950400">
            <a:off x="6351120" y="536760"/>
            <a:ext cx="2022480" cy="2997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://vchecherin.ru/qckrmme/skachat_zombie_vs_plants_3d_na_kompyuter_besplatno_4131_100.jpg"/>
          <p:cNvPicPr/>
          <p:nvPr/>
        </p:nvPicPr>
        <p:blipFill>
          <a:blip r:embed="rId5"/>
          <a:stretch/>
        </p:blipFill>
        <p:spPr>
          <a:xfrm>
            <a:off x="500040" y="4856040"/>
            <a:ext cx="41432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9156600" cy="622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elist10.com/wp-content/uploads/2013/10/trumpet.jpg"/>
          <p:cNvPicPr/>
          <p:nvPr/>
        </p:nvPicPr>
        <p:blipFill>
          <a:blip r:embed="rId2"/>
          <a:stretch/>
        </p:blipFill>
        <p:spPr>
          <a:xfrm>
            <a:off x="0" y="1643040"/>
            <a:ext cx="3357720" cy="1998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musiciansbuy.com/core/media/media.nl?id=7659&amp;c=1209167&amp;h=611feeb445f37daf1b90&amp;resized=-1"/>
          <p:cNvPicPr/>
          <p:nvPr/>
        </p:nvPicPr>
        <p:blipFill>
          <a:blip r:embed="rId3"/>
          <a:stretch/>
        </p:blipFill>
        <p:spPr>
          <a:xfrm rot="3596400">
            <a:off x="5784840" y="3129840"/>
            <a:ext cx="2413080" cy="3576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2638440" cy="199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vchecherin.ru/qckrmme/skachat_zombie_vs_plants_3d_na_kompyuter_besplatno_4131_100.jpg"/>
          <p:cNvPicPr/>
          <p:nvPr/>
        </p:nvPicPr>
        <p:blipFill>
          <a:blip r:embed="rId5"/>
          <a:stretch/>
        </p:blipFill>
        <p:spPr>
          <a:xfrm>
            <a:off x="714240" y="4643280"/>
            <a:ext cx="41436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https://tatzilbert.ru/wp-content/uploads/2014/03/fleyta.png"/>
          <p:cNvPicPr/>
          <p:nvPr/>
        </p:nvPicPr>
        <p:blipFill>
          <a:blip r:embed="rId1"/>
          <a:stretch/>
        </p:blipFill>
        <p:spPr>
          <a:xfrm rot="20677200">
            <a:off x="760320" y="255708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fs.nashaucheba.ru/tw_files2/urls_3/1527/d-1526920/1526920_html_m3726cf14.png"/>
          <p:cNvPicPr/>
          <p:nvPr/>
        </p:nvPicPr>
        <p:blipFill>
          <a:blip r:embed="rId2"/>
          <a:stretch/>
        </p:blipFill>
        <p:spPr>
          <a:xfrm>
            <a:off x="4572000" y="549360"/>
            <a:ext cx="3616200" cy="2624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s://upload.wikimedia.org/wikipedia/commons/2/20/Clarinet-rotate.png"/>
          <p:cNvPicPr/>
          <p:nvPr/>
        </p:nvPicPr>
        <p:blipFill>
          <a:blip r:embed="rId3"/>
          <a:stretch/>
        </p:blipFill>
        <p:spPr>
          <a:xfrm>
            <a:off x="0" y="404640"/>
            <a:ext cx="3214800" cy="3308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overgraph.ru/images/842236_bassoon.jpg"/>
          <p:cNvPicPr/>
          <p:nvPr/>
        </p:nvPicPr>
        <p:blipFill>
          <a:blip r:embed="rId4"/>
          <a:stretch/>
        </p:blipFill>
        <p:spPr>
          <a:xfrm>
            <a:off x="4643280" y="3500280"/>
            <a:ext cx="2157480" cy="3214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http://cdn.shopify.com/s/files/1/0475/6953/products/triangle-instrument-large_medium.png?v=1410809660"/>
          <p:cNvPicPr/>
          <p:nvPr/>
        </p:nvPicPr>
        <p:blipFill>
          <a:blip r:embed="rId5"/>
          <a:stretch/>
        </p:blipFill>
        <p:spPr>
          <a:xfrm>
            <a:off x="6858000" y="4286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https://tatzilbert.ru/wp-content/uploads/2014/03/fleyta.png"/>
          <p:cNvPicPr/>
          <p:nvPr/>
        </p:nvPicPr>
        <p:blipFill>
          <a:blip r:embed="rId1"/>
          <a:stretch/>
        </p:blipFill>
        <p:spPr>
          <a:xfrm rot="20677200">
            <a:off x="793800" y="299700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http://fs.nashaucheba.ru/tw_files2/urls_3/1527/d-1526920/1526920_html_m3726cf14.png"/>
          <p:cNvPicPr/>
          <p:nvPr/>
        </p:nvPicPr>
        <p:blipFill>
          <a:blip r:embed="rId2"/>
          <a:stretch/>
        </p:blipFill>
        <p:spPr>
          <a:xfrm>
            <a:off x="5000760" y="1428840"/>
            <a:ext cx="3616200" cy="2624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https://upload.wikimedia.org/wikipedia/commons/2/20/Clarinet-rotate.png"/>
          <p:cNvPicPr/>
          <p:nvPr/>
        </p:nvPicPr>
        <p:blipFill>
          <a:blip r:embed="rId3"/>
          <a:stretch/>
        </p:blipFill>
        <p:spPr>
          <a:xfrm>
            <a:off x="428760" y="1500120"/>
            <a:ext cx="3214440" cy="330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0" descr="http://overgraph.ru/images/842236_bassoon.jpg"/>
          <p:cNvPicPr/>
          <p:nvPr/>
        </p:nvPicPr>
        <p:blipFill>
          <a:blip r:embed="rId4"/>
          <a:stretch/>
        </p:blipFill>
        <p:spPr>
          <a:xfrm>
            <a:off x="4643280" y="3500280"/>
            <a:ext cx="2157480" cy="3214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3" descr=""/>
          <p:cNvPicPr/>
          <p:nvPr/>
        </p:nvPicPr>
        <p:blipFill>
          <a:blip r:embed="rId5"/>
          <a:stretch/>
        </p:blipFill>
        <p:spPr>
          <a:xfrm>
            <a:off x="-6480" y="444600"/>
            <a:ext cx="91569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423880" cy="3114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http://www.woodbrass.com/images/woodbrass/PAISTE+SYMPHONIC+HEAVY.JPG"/>
          <p:cNvPicPr/>
          <p:nvPr/>
        </p:nvPicPr>
        <p:blipFill>
          <a:blip r:embed="rId2"/>
          <a:stretch/>
        </p:blipFill>
        <p:spPr>
          <a:xfrm>
            <a:off x="3564000" y="620640"/>
            <a:ext cx="1712880" cy="154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http://cdn.shopify.com/s/files/1/0475/6953/products/triangle-instrument-large_medium.png?v=1410809660"/>
          <p:cNvPicPr/>
          <p:nvPr/>
        </p:nvPicPr>
        <p:blipFill>
          <a:blip r:embed="rId3"/>
          <a:stretch/>
        </p:blipFill>
        <p:spPr>
          <a:xfrm>
            <a:off x="6572160" y="1428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http://images.spasibovsem.ru/catalog/original/skripka-otzyvy-1462473499.gif"/>
          <p:cNvPicPr/>
          <p:nvPr/>
        </p:nvPicPr>
        <p:blipFill>
          <a:blip r:embed="rId4"/>
          <a:stretch/>
        </p:blipFill>
        <p:spPr>
          <a:xfrm>
            <a:off x="1714680" y="3929040"/>
            <a:ext cx="2118960" cy="259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s://pbs.twimg.com/media/C3uOqQ5WIAAgwHZ.jpg"/>
          <p:cNvPicPr/>
          <p:nvPr/>
        </p:nvPicPr>
        <p:blipFill>
          <a:blip r:embed="rId5"/>
          <a:stretch/>
        </p:blipFill>
        <p:spPr>
          <a:xfrm>
            <a:off x="5214960" y="385776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https://pbs.twimg.com/media/C3uOqQ5WIAAgwHZ.jpg"/>
          <p:cNvPicPr/>
          <p:nvPr/>
        </p:nvPicPr>
        <p:blipFill>
          <a:blip r:embed="rId6"/>
          <a:stretch/>
        </p:blipFill>
        <p:spPr>
          <a:xfrm>
            <a:off x="5214960" y="385776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2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9156600" cy="622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6719760" y="3191040"/>
            <a:ext cx="2424240" cy="3114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www.woodbrass.com/images/woodbrass/PAISTE+SYMPHONIC+HEAVY.JPG"/>
          <p:cNvPicPr/>
          <p:nvPr/>
        </p:nvPicPr>
        <p:blipFill>
          <a:blip r:embed="rId3"/>
          <a:stretch/>
        </p:blipFill>
        <p:spPr>
          <a:xfrm>
            <a:off x="357120" y="976320"/>
            <a:ext cx="1712880" cy="1547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http://psudoterad.ru/img/picture/Nov/12/30ad53edda1391ac40b910456f782702/4.jpg"/>
          <p:cNvPicPr/>
          <p:nvPr/>
        </p:nvPicPr>
        <p:blipFill>
          <a:blip r:embed="rId4"/>
          <a:stretch/>
        </p:blipFill>
        <p:spPr>
          <a:xfrm>
            <a:off x="6572160" y="1476360"/>
            <a:ext cx="2214720" cy="138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http://cdn.shopify.com/s/files/1/0475/6953/products/triangle-instrument-large_medium.png?v=1410809660"/>
          <p:cNvPicPr/>
          <p:nvPr/>
        </p:nvPicPr>
        <p:blipFill>
          <a:blip r:embed="rId5"/>
          <a:stretch/>
        </p:blipFill>
        <p:spPr>
          <a:xfrm>
            <a:off x="2143080" y="16192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https://skybeat.ru/upload/iblock/39d/39da896635ee7a0d5effefb32dfe3c61.jpg"/>
          <p:cNvPicPr/>
          <p:nvPr/>
        </p:nvPicPr>
        <p:blipFill>
          <a:blip r:embed="rId6"/>
          <a:stretch/>
        </p:blipFill>
        <p:spPr>
          <a:xfrm>
            <a:off x="2643120" y="3548160"/>
            <a:ext cx="3822840" cy="3062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8" descr="http://www.baza-shop.ru/data/products/images/3/3/stagg_cas_wt_original.jpg"/>
          <p:cNvPicPr/>
          <p:nvPr/>
        </p:nvPicPr>
        <p:blipFill>
          <a:blip r:embed="rId7"/>
          <a:stretch/>
        </p:blipFill>
        <p:spPr>
          <a:xfrm>
            <a:off x="4572000" y="1976400"/>
            <a:ext cx="1558800" cy="1658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https://pbs.twimg.com/media/C3uOqQ5WIAAgwHZ.jpg"/>
          <p:cNvPicPr/>
          <p:nvPr/>
        </p:nvPicPr>
        <p:blipFill>
          <a:blip r:embed="rId8"/>
          <a:stretch/>
        </p:blipFill>
        <p:spPr>
          <a:xfrm>
            <a:off x="285840" y="38336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3:37:24Z</dcterms:created>
  <dc:creator>liza</dc:creator>
  <dc:description/>
  <dc:language>en-US</dc:language>
  <cp:lastModifiedBy>лена</cp:lastModifiedBy>
  <dcterms:modified xsi:type="dcterms:W3CDTF">2017-09-04T06:15:41Z</dcterms:modified>
  <cp:revision>92</cp:revision>
  <dc:subject/>
  <dc:title>Презентация PowerPoint</dc:title>
</cp:coreProperties>
</file>