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DDD5-6C0C-4C2C-82B7-D813E9838B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A96C-2642-48AE-AAB3-490F66F7A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73A-A143-4C63-A79F-C3D3FB60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2EE-7983-42E3-9AD6-50E9A416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22809-5B84-4553-B262-DAA45D31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872FF-52CC-49F6-B014-A8139291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3EC92-09AF-4444-8BB2-76AA249C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3F71A-011C-4D01-BA15-AAD036FB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D0CAF-154C-464D-B04E-1DEE8364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EFD98-4E5B-4CDD-A23A-9FA0E826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D35D1-31BC-416F-AE93-EF2546B1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0F036-3A65-402A-AE40-1CE704A9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93E73-E3F4-4344-80CB-B6984F86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77483-4387-4A99-91E9-E7F1CB4B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2A2-9A59-4479-AA3B-8550FE93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9ACDD-345C-427C-9F4A-F5E12CAD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F7E6C-3EC2-42B5-961E-56018D3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435B8-3C35-41EE-97E1-27AB0A8E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A2C33-1A7B-446A-A164-BB8194C2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12603-086F-4686-9EDC-BFDB00E5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9AD1F-4363-4440-927A-768FE8E4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71CE1-D6F7-47E9-9DA4-28CE14CE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EC26E-4F56-4AFA-B890-686FB03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A15F1-2BF4-4CA3-9C08-C35E3B5A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278B0-7722-40B1-A32D-469D84CB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0CE-30F9-42C6-9B6B-4A8BB402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1FC49-17DC-44DD-840A-BC54770D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B5E9B-038E-4437-8808-82237562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66E73-1B9E-4AEF-BF22-F197D38D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A10B5-0A86-4B02-8FCC-B19EE429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70202-DE49-42B0-A0A0-08910E59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75D47-19FD-4BC0-A8D7-4B9FF20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F2548-F83D-464B-8209-A0C9D912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7CAF3-5026-4295-84F6-4610EB47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9D7C5-90BA-4FC6-BB2E-69BA9AB2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48F6C-4524-4621-AC57-5DBCA3BE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477D-6AF9-42CC-AC77-C144F6A2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A9CA3-FFD5-4347-8AB5-AA119AB9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0D97D-8159-482C-979E-BA7B7B67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F4682-8E8E-4F21-A1BB-99AC2142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67633-A615-4D67-AB36-0303D430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8BFCF-D208-4496-B5B8-6CFAF4E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E870A-BDE4-4F30-8EC0-3CCBCA3E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F9D42-3C74-408F-83F5-E736E097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0511A-CB3C-4490-AFB7-AA14FFE7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64EB4-3B3E-40E8-9AB0-F66D50D7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67E57-909A-4BC3-A215-FAEE61B3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5775-7BDC-4E46-99A6-B72DBBA8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67DEC-7D31-482F-81FB-6BB38B45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87F2C-A547-42B1-BB1B-E05712C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1D56B-28C8-41AB-BFC7-DBE7B026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A5169-BFE4-437A-B1C1-D1F1F7AC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53AE7-F78C-40F4-9148-8002C155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CC5B-8265-4096-8745-61238C36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8DC8-AB6D-4C85-9FD9-8A3564A7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C61F-5F78-49CE-94B3-378C63E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51CD-CB95-4CD4-8A16-9E7439E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226-88FF-4F3C-9956-BD573939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59A-C00E-4533-BB34-A9BD824E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8156-1E35-4B38-8A67-B900588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C084-D6A4-4336-8622-CD90438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75E6-B1EA-4C94-8681-593C9D0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187B-9B9C-4129-9685-5A811679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B5EA-865D-4427-AEC3-28B4CFB8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E5A0-06C9-46E2-88BB-3754E64D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BAC2-C730-483B-867F-F6DADF2A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E6F1-A36E-4FBE-8F5C-37A041E4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A4C2-BA73-46EB-ABA6-D58EABC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BE09-2AE6-4CA6-AF25-8E56982C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325-7652-47B0-A3C1-B0BBE8EB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A390-19ED-4266-AB36-DFF1D760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3C22-208D-4C2D-A449-0941CE7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A500-2454-46E4-9DA2-3009F2B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F78E-1CC3-42DE-8B72-1D539FFF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E91F-386C-4C5A-A1DD-3CCE4F60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AD52-FEE7-48D0-80EB-02132074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0ADE-8237-44C2-91E8-E41ACF54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9422-3574-42FE-8004-05498A89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B6B5-67A3-4AFF-A054-98E5C6A8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9C82-2A0D-4995-A978-85F7364C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2A5-D243-42F6-95DC-D8FFB7C2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3FF9-7381-4FAE-8F0F-5414FDF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331D-6925-4906-B2D9-105667A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CBCA-863F-404B-8624-62D828E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9C35-C05F-47E1-9DE5-AFA2CA9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8DAE-802B-461C-82DF-3C1DC09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D83E-54FD-45D7-B48C-BDF7A3D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E1FC2-E67F-4649-AA91-99100925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32ADC-EB1A-417B-A655-2E1E8949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1347-0F7A-42ED-B1B4-9027C6CC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D3312-06A5-4FC9-9279-64BDFB51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96C-DD81-4C47-A5DF-EB63766D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C4AD6-26F8-4851-8915-B367D48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A163-F6CE-43EC-AA8D-14367B2D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C5F8-DE52-42BA-940B-3D60A95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2E2B2-5BCF-4406-8CBB-FBD5218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49653-7362-4B3A-ACD9-9F6122D8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8762F-B2F0-4BB1-AD5E-719BADA1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619CB-E748-4EEE-95C7-BDD491CF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DFFC-42A2-4911-91C6-A3181BED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53102-5D1B-4378-B77F-8ACFCC6D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8557D-04AD-495C-8025-60DD7A42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0E3-0310-4E70-8A16-3A1751F1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259A1-ED5F-43AE-864E-5D1C8FFF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65E63-3BF9-450D-9E1A-A743B82D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BCDC-9034-4543-88B4-BF74D12E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599C-6CB6-4EC7-8423-79B5F09A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7896A-E33F-443A-8664-D7ED6CC8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6B43-0E26-4B3A-9359-5FBB6140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AEF6D-2858-430C-8213-8666B746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2252-7575-4F86-BF0A-A88592CA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1B9E-0ECC-4529-BEF3-CBE002FB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78C7A-A8FE-476B-A1FB-4798363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81F-B939-44F5-BAC4-F13AC200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B3D1-DE8B-40C9-8715-FF5377BF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C569C-9492-4E76-A1BA-03349C8D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7FE6-B61B-4E52-A1B6-71D7389B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EDC4-F9DF-4285-8048-258DEC07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3AA9-2F52-43FD-AC21-543468C5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B5250-06DC-415E-8D9C-AED630A3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5665D-7C91-40A6-B457-A5CBC458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FA89F-5A46-4D14-BB70-075E0386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5CCDE-7FC2-49B3-8966-2D6F8111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D9548-6D49-44B7-811C-76B25A9B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C22-EA08-429F-90D1-7AD5FD7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CEFA6-18B4-4B9E-BFD1-E74F2D07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2FB0B-6B4B-42F8-B8CA-DAFA4761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68F8D-7423-4B30-99DF-308D5977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19F6-257E-4A0A-BE3B-9F1A5835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27492-3645-4F9C-BDFC-23AE4DB5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66157-2224-4132-8A3F-AFCE96BA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5D86F-9F75-48D0-AA53-C2844E02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70581-3B22-4637-8363-F8049629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DA796-8136-4D37-815C-A62E3140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3C035-9767-422F-89B8-BF77BB27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07F-A946-4FD0-82CE-0F24CD49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0498-EA4A-453E-B6D9-61018128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B904-5C6F-4174-A8B8-AB48C28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5BC26-72A6-4B90-A9EE-9DFEF91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BD7D7-C445-4761-A722-8004C83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CCAF4-F8AB-4F9D-9C88-61EE713E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FDF6-7073-4347-8BCB-4F99BB0D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6FF42-40EF-41EA-813F-D0252294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46424-A431-42E5-AF32-A2DB6071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989E6-D9BA-48E4-A589-ADE1E694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62009-111C-48AC-849F-39F88264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7FBC-110F-46EE-A158-6109BC0663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5EA3-AC6C-41B1-8ABB-D36DD9EBA8A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EB65-B487-432A-9DE9-D5E9AEBE63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51D4-19F9-4A87-9C2A-44F294AADE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1F81-8EEF-4004-B851-0F0AE0BC83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0E2F-44F4-4C04-8D72-69DAA423ACE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25C3-4690-492B-B51C-18F93555FF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C9C5-D02A-448D-B278-BCCC05CF336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805-915D-48DB-98D2-4136F790E38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64B1-452F-4D66-B253-72967848989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8B95-1726-4D28-9D51-1A0629BE972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3FAC-D4B3-4A57-BBBA-0B8623910C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yandex.ru/images" TargetMode="External"/><Relationship Id="rId2" Type="http://schemas.openxmlformats.org/officeDocument/2006/relationships/hyperlink" Target="https://yandex.ru/images" TargetMode="External"/><Relationship Id="rId3" Type="http://schemas.openxmlformats.org/officeDocument/2006/relationships/hyperlink" Target="http://old.prosv.ru/umk/spotlight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20880"/>
            <a:ext cx="8474040" cy="429732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2"/>
          <p:cNvSpPr/>
          <p:nvPr/>
        </p:nvSpPr>
        <p:spPr>
          <a:xfrm>
            <a:off x="3594960" y="41148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ule 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3591000" y="45720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Ханты-Манси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5196600" y="563868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вакова Н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"/>
          <p:cNvPicPr/>
          <p:nvPr/>
        </p:nvPicPr>
        <p:blipFill>
          <a:blip r:embed="rId1"/>
          <a:srcRect l="2556" t="73375" r="0" b="0"/>
          <a:stretch/>
        </p:blipFill>
        <p:spPr>
          <a:xfrm>
            <a:off x="457200" y="1600200"/>
            <a:ext cx="8300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371600" y="990720"/>
          <a:ext cx="6324480" cy="4572000"/>
        </p:xfrm>
        <a:graphic>
          <a:graphicData uri="http://schemas.openxmlformats.org/drawingml/2006/table">
            <a:tbl>
              <a:tblPr/>
              <a:tblGrid>
                <a:gridCol w="1951200"/>
                <a:gridCol w="1952640"/>
                <a:gridCol w="2420640"/>
              </a:tblGrid>
              <a:tr h="253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 interesting fact about 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4"/>
          <p:cNvSpPr/>
          <p:nvPr/>
        </p:nvSpPr>
        <p:spPr>
          <a:xfrm>
            <a:off x="304920" y="9144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1.What animal is red and or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2. Where does the tiger h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3. What does the Bengal tiger h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4. What colour is the Indian co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4. Is it very danger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5. What size is the eleph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6. How do Indian people use eleph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7.What animal has only one h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8.Where does the rhino like to s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9.How many rhinoes are there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a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380880" y="228600"/>
            <a:ext cx="8305920" cy="5814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5"/>
          <p:cNvSpPr/>
          <p:nvPr/>
        </p:nvSpPr>
        <p:spPr>
          <a:xfrm>
            <a:off x="228600" y="304920"/>
            <a:ext cx="8534520" cy="106884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the sentences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"/>
          <p:cNvSpPr/>
          <p:nvPr/>
        </p:nvSpPr>
        <p:spPr>
          <a:xfrm>
            <a:off x="2609640" y="2438280"/>
            <a:ext cx="379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I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e likes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She likes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We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You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"/>
          <p:cNvSpPr/>
          <p:nvPr/>
        </p:nvSpPr>
        <p:spPr>
          <a:xfrm>
            <a:off x="609480" y="5411880"/>
            <a:ext cx="8153640" cy="52056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y to guess the rule when we should add –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307800" y="533520"/>
            <a:ext cx="8302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"/>
          <p:cNvPicPr/>
          <p:nvPr/>
        </p:nvPicPr>
        <p:blipFill>
          <a:blip r:embed="rId1"/>
          <a:srcRect l="9886" t="13664" r="9609" b="0"/>
          <a:stretch/>
        </p:blipFill>
        <p:spPr>
          <a:xfrm>
            <a:off x="1371600" y="457200"/>
            <a:ext cx="632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"/>
          <p:cNvPicPr/>
          <p:nvPr/>
        </p:nvPicPr>
        <p:blipFill>
          <a:blip r:embed="rId1"/>
          <a:srcRect l="0" t="0" r="4317" b="0"/>
          <a:stretch/>
        </p:blipFill>
        <p:spPr>
          <a:xfrm>
            <a:off x="324000" y="1066680"/>
            <a:ext cx="8439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Прямоугольник 1"/>
          <p:cNvSpPr/>
          <p:nvPr/>
        </p:nvSpPr>
        <p:spPr>
          <a:xfrm>
            <a:off x="380880" y="152388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The Bengal tiger ….(hide) in tall gr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Rhinos ……. ( eat)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The Bengal tiger …… (live)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A lion ……. (sleep) during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Crocodiles  ……. (swim) in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Elephants  …….  (like) ban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The Indian rhino …..(live)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2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t the verbs in brackets into the correc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657360" y="990720"/>
            <a:ext cx="780084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1"/>
          <p:cNvSpPr/>
          <p:nvPr/>
        </p:nvSpPr>
        <p:spPr>
          <a:xfrm>
            <a:off x="1066680" y="990720"/>
            <a:ext cx="76201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 tas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.8p 67-SB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.2, 3 p 41-W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rcRect l="0" t="0" r="0" b="84369"/>
          <a:stretch/>
        </p:blipFill>
        <p:spPr>
          <a:xfrm>
            <a:off x="228600" y="533520"/>
            <a:ext cx="8601120" cy="14000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2"/>
          <p:cNvSpPr/>
          <p:nvPr/>
        </p:nvSpPr>
        <p:spPr>
          <a:xfrm>
            <a:off x="875880" y="2666880"/>
            <a:ext cx="743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e text is about……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4"/>
          <p:cNvSpPr/>
          <p:nvPr/>
        </p:nvSpPr>
        <p:spPr>
          <a:xfrm>
            <a:off x="838080" y="18288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Используемые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https://yandex.ru/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old.prosv.ru/umk/spot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9003" r="0" b="39009"/>
          <a:stretch/>
        </p:blipFill>
        <p:spPr>
          <a:xfrm>
            <a:off x="0" y="304920"/>
            <a:ext cx="9144000" cy="20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533520" y="2971800"/>
          <a:ext cx="8229600" cy="2544840"/>
        </p:xfrm>
        <a:graphic>
          <a:graphicData uri="http://schemas.openxmlformats.org/drawingml/2006/table">
            <a:tbl>
              <a:tblPr/>
              <a:tblGrid>
                <a:gridCol w="1981080"/>
                <a:gridCol w="2133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col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TextBox 5"/>
          <p:cNvSpPr/>
          <p:nvPr/>
        </p:nvSpPr>
        <p:spPr>
          <a:xfrm>
            <a:off x="533520" y="3581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1072800" y="4038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7"/>
          <p:cNvSpPr/>
          <p:nvPr/>
        </p:nvSpPr>
        <p:spPr>
          <a:xfrm>
            <a:off x="1149120" y="44197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3357360" y="3657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9"/>
          <p:cNvSpPr/>
          <p:nvPr/>
        </p:nvSpPr>
        <p:spPr>
          <a:xfrm>
            <a:off x="3282120" y="4038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3132000" y="4419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elep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1"/>
          <p:cNvSpPr/>
          <p:nvPr/>
        </p:nvSpPr>
        <p:spPr>
          <a:xfrm>
            <a:off x="3205440" y="4800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h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3281400" y="5181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5414040" y="3657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 flipH="1">
            <a:off x="495288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5"/>
          <p:cNvSpPr/>
          <p:nvPr/>
        </p:nvSpPr>
        <p:spPr>
          <a:xfrm>
            <a:off x="5334120" y="441972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6"/>
          <p:cNvSpPr/>
          <p:nvPr/>
        </p:nvSpPr>
        <p:spPr>
          <a:xfrm>
            <a:off x="5187240" y="48006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7"/>
          <p:cNvSpPr/>
          <p:nvPr/>
        </p:nvSpPr>
        <p:spPr>
          <a:xfrm>
            <a:off x="5263920" y="51814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8"/>
          <p:cNvSpPr/>
          <p:nvPr/>
        </p:nvSpPr>
        <p:spPr>
          <a:xfrm>
            <a:off x="7471080" y="3581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9"/>
          <p:cNvSpPr/>
          <p:nvPr/>
        </p:nvSpPr>
        <p:spPr>
          <a:xfrm>
            <a:off x="7246440" y="4038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0"/>
          <p:cNvSpPr/>
          <p:nvPr/>
        </p:nvSpPr>
        <p:spPr>
          <a:xfrm>
            <a:off x="7095600" y="44197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21"/>
          <p:cNvSpPr/>
          <p:nvPr/>
        </p:nvSpPr>
        <p:spPr>
          <a:xfrm>
            <a:off x="72388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22"/>
          <p:cNvSpPr/>
          <p:nvPr/>
        </p:nvSpPr>
        <p:spPr>
          <a:xfrm>
            <a:off x="7244280" y="5181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rcRect l="15030" t="62374" r="30710" b="28008"/>
          <a:stretch/>
        </p:blipFill>
        <p:spPr>
          <a:xfrm>
            <a:off x="457200" y="1371600"/>
            <a:ext cx="8255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790960" cy="7920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Bengal tig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rcRect l="22746" t="0" r="0" b="0"/>
          <a:stretch/>
        </p:blipFill>
        <p:spPr>
          <a:xfrm>
            <a:off x="838080" y="1828800"/>
            <a:ext cx="4643640" cy="4038480"/>
          </a:xfrm>
          <a:prstGeom prst="rect">
            <a:avLst/>
          </a:prstGeom>
          <a:ln w="0">
            <a:noFill/>
          </a:ln>
        </p:spPr>
      </p:pic>
      <p:sp>
        <p:nvSpPr>
          <p:cNvPr id="642" name="TextBox 6"/>
          <p:cNvSpPr/>
          <p:nvPr/>
        </p:nvSpPr>
        <p:spPr>
          <a:xfrm>
            <a:off x="5791320" y="2209680"/>
            <a:ext cx="2666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ri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ll gr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e</a:t>
            </a: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cob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5943600" y="1828800"/>
            <a:ext cx="289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nger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C:\Users\Наталья\Desktop\Interesnye-fakty-o-kobrah.jpg"/>
          <p:cNvPicPr/>
          <p:nvPr/>
        </p:nvPicPr>
        <p:blipFill>
          <a:blip r:embed="rId1"/>
          <a:stretch/>
        </p:blipFill>
        <p:spPr>
          <a:xfrm>
            <a:off x="609480" y="1676520"/>
            <a:ext cx="50612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943600" cy="86832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elepha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TextBox 6"/>
          <p:cNvSpPr/>
          <p:nvPr/>
        </p:nvSpPr>
        <p:spPr>
          <a:xfrm>
            <a:off x="5105520" y="1447920"/>
            <a:ext cx="3809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e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u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5" descr="C:\Users\Наталья\Desktop\Indian_Elephant.jpg"/>
          <p:cNvPicPr/>
          <p:nvPr/>
        </p:nvPicPr>
        <p:blipFill>
          <a:blip r:embed="rId1"/>
          <a:stretch/>
        </p:blipFill>
        <p:spPr>
          <a:xfrm>
            <a:off x="533520" y="2057400"/>
            <a:ext cx="5143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14240" y="380520"/>
            <a:ext cx="4343400" cy="6858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rhin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TextBox 6"/>
          <p:cNvSpPr/>
          <p:nvPr/>
        </p:nvSpPr>
        <p:spPr>
          <a:xfrm>
            <a:off x="5791320" y="2209680"/>
            <a:ext cx="257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ne h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C:\Users\Наталья\Desktop\24.jpg"/>
          <p:cNvPicPr/>
          <p:nvPr/>
        </p:nvPicPr>
        <p:blipFill>
          <a:blip r:embed="rId1"/>
          <a:stretch/>
        </p:blipFill>
        <p:spPr>
          <a:xfrm>
            <a:off x="685800" y="22860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se sentences True, False or Not stated? Correct the false statements.</a:t>
            </a:r>
            <a:br>
              <a:rPr sz="30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2057040"/>
            <a:ext cx="85042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bra can be black, brown, white and yello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Usually a red female is the head of a family of tig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Snake hides in a tall grass and hunts big anim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Snakes eat mice and ra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The elephant usually lives alon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The Indian rhino likes to sit in water or mu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17-09-04T10:54:0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