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29A-A37A-40A9-B638-FFC339CF87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2D20-097C-46D1-A8BA-CC1AB771C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78C-BB87-4FB6-8A0C-65E3C7C0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94E-0372-476A-936B-43EF480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656E7-D1CA-462A-B7D4-6762F413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D90F8-B744-4721-906A-E078F6C0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6D17D-297F-434F-B033-DF4D12B6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2647A-E182-4F0C-9E2E-BAD756DD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C22BC-4C2A-44B8-B4F3-7783C579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7D347-5DBD-482B-89FA-DD1AFF31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1917B-E1B5-4035-A98B-4C3571A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07A68-81D8-49EF-8A92-60C41DF9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0C531-E3FE-4EE8-9BDE-C4C43421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0D0D5-2E52-4189-B0BB-F7C5FE61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2F6-5F0D-4017-8F46-91209B77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46753-F3BA-49D9-AFEE-46128C49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CC942-2AEE-4C30-9BA9-6BB212B6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08B8F-EDED-450C-87BE-7B9C62E2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F3628-2145-4218-8EC8-30469E1B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A969E-9285-49FB-AB3D-89DC2B4A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1FF89-1143-4DA3-BB33-52A40F0E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C69B8-B58F-4B91-9734-EB863C19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8A8C5-FEC9-4CBE-8BFE-DB08C5C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CC804-CD67-420D-A243-B1AFF716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C9542-F843-4F55-8982-A764F03A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E69-7F7C-4AD6-8D40-69FFA042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A29D0-D4C4-4843-9160-88D80450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71754-23FA-4D4E-AB9F-256C9712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0F134-4E44-43DF-A94F-41E77C0B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B78D5-7715-45CF-8676-B4295F28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E632A-6EEF-43C5-93B3-84BFE6AD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E3B10-EB5A-4E84-8A85-8ABDC3F8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1B242-AE38-4A87-B075-54C9DBEA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4F3E1-2C0C-450D-8206-8E9BA10F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A3106-9459-4352-AE1B-9F49CB30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FD727-2901-43CB-8DA6-D0293E1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B197-1C7A-42CC-B36F-0A09204C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C4649-F5D8-4E37-8771-2C7EF54C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19B7A-2E2D-4ABC-BDBB-6551DBEB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8F0A4-F206-4B0B-8070-338826B2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7D458-3A3A-4D07-B88F-158C5F2D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C2D0A-3B5B-45A6-9BC6-7A037210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DAB51-916D-4176-9980-E31AC809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1F5EC-4E25-4963-AD83-A63294F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6CA05-E2C3-43E5-BFA3-6D16344E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76771-6993-467C-8643-B598A385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B8243-3D96-4DA2-9323-967D5F0D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0A31-6A50-4E5B-8067-9EFC4B11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5961A-CB23-4E55-9409-A2F34D9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E0214-D9B8-4626-AE7B-0C5E4E17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93748-C2EF-4961-BCF5-7537468D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D1CA8-56DD-43BE-AD82-DCC369D0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6681D-773F-42E3-BAAA-F5411FD3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793F-13E4-4DC8-96E5-C74666CD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ECEE-48E3-43FE-92E8-9518C62F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679A-E4FB-4CEE-8A7F-9D8DBDB9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83E5-39A6-4055-9C89-EE935D1D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CC14-3A46-4988-8713-B33A9077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9AA-C51F-4934-832F-4D28D4ED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DFB1-2CCE-4FB8-8EB6-EEBE2760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0A7D-6D22-4A06-8606-AF8ABEE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59FF-652E-460C-87EE-23685ABA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C6C2-B92D-4323-A042-9E19A8FA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E427-9A69-4A25-B4E9-9D0494BD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1209-294A-4BC1-9519-F81FC9F8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F0A7-4192-48B2-AAED-A3E2CD8F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8F60-ABC2-45DC-B71C-89E556FB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F828-6684-47CC-AF10-41B44DB8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E37A-1074-4D57-9A71-1BC03378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225-DD8C-43A6-B083-63625DB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70A0-AE15-4763-A6AE-ACE4C41B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1347-BE04-45C2-87EF-7C59664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0AAA-39F5-42DC-8847-FE1A47E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7B445-2EC2-4364-BA1E-9DC574EB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4B71-35C6-4717-B8BC-801075A4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BE98-7BD2-4C1F-99F8-86CBA63E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47FC-83AD-4EF1-B586-292638EA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D2D6F-10D3-452D-B493-7CFB7828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65804-16B0-4ED7-BFBD-94E9C582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2A38-FDBC-473F-A03C-A5649D0F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914-5D73-4E75-8078-92BA3E8B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88AE5-F498-481C-BD5D-67330022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B787-D154-476B-99A7-702F0694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81D9E-F1B5-4107-A551-7F2BC52C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D1C0-3BA4-4E66-BB96-9827ED3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A1074-6688-4A43-8D22-7619086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0314-D645-4ED1-AFC3-4410DF39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27C82-71FF-4B36-8FF2-0FC7318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B2B6E-710C-412E-903A-AAD95FE1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7C21-1BAE-465C-BBFA-91CEC47D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5C300-D18E-4460-9F4B-F520FCE7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2A9-8101-42E9-9530-5AE18F15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95689-7219-4D45-8E51-1A02DCC8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F2AF-03A5-48BD-8B83-D8E51682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6085-D1EA-4D52-9109-E1058168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F065C-49FD-46D2-A59B-203D7EAC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3B22E-14E4-40C3-A563-EBD1F403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DCF79-B2B4-4EC2-8DA5-754AB958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CFBC-26E3-4C25-B3E8-DDE4D867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5C0FE-BC9D-4436-89C1-6C23325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0348F-4EDB-466D-86FC-2C60E01B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BDFF-54D4-4188-9733-CC8DCDBC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98F-B6FA-4F5C-8318-099F6E02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A653B-4C94-4E67-BBB2-8A0D3124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7BFDD-926E-4D60-88C5-88A9937A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4B23F-45BC-47FC-A44E-108F5BEC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00144-018C-4F46-981F-7EAFE274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8F93A-3BEC-4C8A-AC3F-385BA4FD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1B76-089B-4731-8BFF-DE4B84FF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A5CF1-3D8F-498B-B30E-31849227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B51E7-2092-4BFE-A529-340A821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06B61-A3A6-48AF-BA3B-144CA18D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BAA6-9814-44E8-9F2A-D8751709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B7C-7ED2-4CE5-920B-EA5CB505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0C688-8CF6-4752-B4DB-544DF7E3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0F1D9-E1C1-4776-8877-E099809C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4066-9C31-4CE6-A867-0B262449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65ACD-0EF3-4DA5-9B86-8A5D9507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C2B4-F6FD-48F1-9ACF-F702BBE0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3CE7C-ED81-4EA6-B13F-335DA0F8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4A8F5-A374-4A88-9425-DF9633D5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35561-2780-4841-B5B0-9BABFD1E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4BE55-C2B0-4268-A7BE-D5C71200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CA1F4-36C9-4FD0-A38E-EC1709D8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962-E591-45D8-896F-2B06C11C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1B643-986E-41CB-BF9E-0FC6E0F4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317C-8775-44E6-83AE-6CF61916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E7233-1E55-4832-9969-20A5260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03E24-3CA8-4062-ACAE-CE49D91E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CAFA2-35A7-4CE5-A506-6D03DE3F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752D4-F851-467A-AE51-7310ADAA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5E87-0955-4BC6-A8CB-105D990A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C8CF8-124B-41A4-B613-2D03A8F6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176B5-83B3-4216-99E9-3F26BC8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8251-E97E-4487-A80B-F354FE51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B83-BB1F-45A4-86CF-F02CDE1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EB44B-D34C-4623-8B1F-9D55AF70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5F0D2-D2F3-4C14-BE0E-3BC48F01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E286D-0631-413A-8FB7-BC047520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AB17-95AE-4886-9B44-657E2DF6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D2C4E-1C2E-43BF-A337-3255EF3B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2D61-3369-474B-92BA-7502E40C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C4E36-2128-4AF5-95E7-8410CA74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5096B-289E-4052-A4E3-E3187194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049AE-01FA-4C94-B8A3-2E131A84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2E1E3-7EEC-4043-B249-E0F30259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A41F-A025-4CEF-92FA-F522BD10E9C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3C8E-7748-4460-A02A-830F3793A14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19F9-5CFA-4D25-8C38-57409DC88A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B9B9-2C14-4062-A8D6-DB7368AB8ED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F5FA-72CD-46F4-A9E0-B46679F8B0B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8AC9-9F4C-44A6-9C72-E00DCC93314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DC4C-702A-4FEF-9828-EA06D725F74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704B-81C7-455E-A719-D655F7FC2DC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ED3A-9CB9-48BF-8046-8D208D916EA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4930-693C-45D0-B676-F80143E98F3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85E6-1222-479B-9260-1BFD1AD06BA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BFF6-7CB5-45AB-BB64-6233628A16D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yandex.ru/images" TargetMode="External"/><Relationship Id="rId2" Type="http://schemas.openxmlformats.org/officeDocument/2006/relationships/hyperlink" Target="https://yandex.ru/images" TargetMode="External"/><Relationship Id="rId3" Type="http://schemas.openxmlformats.org/officeDocument/2006/relationships/hyperlink" Target="http://old.prosv.ru/umk/spotlight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20880"/>
            <a:ext cx="8474040" cy="429732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2"/>
          <p:cNvSpPr/>
          <p:nvPr/>
        </p:nvSpPr>
        <p:spPr>
          <a:xfrm>
            <a:off x="3594960" y="41148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ule 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3591000" y="45720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Ханты-Манси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5196600" y="563868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вакова Н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"/>
          <p:cNvPicPr/>
          <p:nvPr/>
        </p:nvPicPr>
        <p:blipFill>
          <a:blip r:embed="rId1"/>
          <a:srcRect l="2556" t="73375" r="0" b="0"/>
          <a:stretch/>
        </p:blipFill>
        <p:spPr>
          <a:xfrm>
            <a:off x="457200" y="1600200"/>
            <a:ext cx="8300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371600" y="990720"/>
          <a:ext cx="6324480" cy="4572000"/>
        </p:xfrm>
        <a:graphic>
          <a:graphicData uri="http://schemas.openxmlformats.org/drawingml/2006/table">
            <a:tbl>
              <a:tblPr/>
              <a:tblGrid>
                <a:gridCol w="1951200"/>
                <a:gridCol w="1952640"/>
                <a:gridCol w="2420640"/>
              </a:tblGrid>
              <a:tr h="253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 interesting fact about 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4"/>
          <p:cNvSpPr/>
          <p:nvPr/>
        </p:nvSpPr>
        <p:spPr>
          <a:xfrm>
            <a:off x="304920" y="9144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1.What animal is red and or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2. Where does the tiger h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3. What does the Bengal tiger h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4. What colour is the Indian cob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4. Is it very danger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5. What size is the eleph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6. How do Indian people use eleph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7.What animal has only one ho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8.Where does the rhino like to s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9.How many rhinoes are there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a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380880" y="228600"/>
            <a:ext cx="8305920" cy="58140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5"/>
          <p:cNvSpPr/>
          <p:nvPr/>
        </p:nvSpPr>
        <p:spPr>
          <a:xfrm>
            <a:off x="228600" y="304920"/>
            <a:ext cx="8534520" cy="106884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the sentences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"/>
          <p:cNvSpPr/>
          <p:nvPr/>
        </p:nvSpPr>
        <p:spPr>
          <a:xfrm>
            <a:off x="2609640" y="2438280"/>
            <a:ext cx="379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I lik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e likes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She likes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We lik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You lik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"/>
          <p:cNvSpPr/>
          <p:nvPr/>
        </p:nvSpPr>
        <p:spPr>
          <a:xfrm>
            <a:off x="609480" y="5411880"/>
            <a:ext cx="8153640" cy="52056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y to guess the rule when we should add –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307800" y="533520"/>
            <a:ext cx="8302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"/>
          <p:cNvPicPr/>
          <p:nvPr/>
        </p:nvPicPr>
        <p:blipFill>
          <a:blip r:embed="rId1"/>
          <a:srcRect l="9886" t="13664" r="9609" b="0"/>
          <a:stretch/>
        </p:blipFill>
        <p:spPr>
          <a:xfrm>
            <a:off x="1371600" y="457200"/>
            <a:ext cx="632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"/>
          <p:cNvPicPr/>
          <p:nvPr/>
        </p:nvPicPr>
        <p:blipFill>
          <a:blip r:embed="rId1"/>
          <a:srcRect l="0" t="0" r="4317" b="0"/>
          <a:stretch/>
        </p:blipFill>
        <p:spPr>
          <a:xfrm>
            <a:off x="324000" y="1066680"/>
            <a:ext cx="8439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Прямоугольник 1"/>
          <p:cNvSpPr/>
          <p:nvPr/>
        </p:nvSpPr>
        <p:spPr>
          <a:xfrm>
            <a:off x="380880" y="152388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The Bengal tiger ….(hide) in tall gr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Rhinos ……. ( eat)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The Bengal tiger …… (live) in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A lion ……. (sleep) during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Crocodiles  ……. (swim) in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Elephants  …….  (like) ban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The Indian rhino …..(live)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2"/>
          <p:cNvSpPr/>
          <p:nvPr/>
        </p:nvSpPr>
        <p:spPr>
          <a:xfrm>
            <a:off x="457200" y="457200"/>
            <a:ext cx="8153280" cy="52056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t the verbs in brackets into the correc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657360" y="990720"/>
            <a:ext cx="780084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1"/>
          <p:cNvSpPr/>
          <p:nvPr/>
        </p:nvSpPr>
        <p:spPr>
          <a:xfrm>
            <a:off x="1066680" y="990720"/>
            <a:ext cx="76201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 tas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.8p 67-SB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.2, 3 p 41-W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rcRect l="0" t="0" r="0" b="84369"/>
          <a:stretch/>
        </p:blipFill>
        <p:spPr>
          <a:xfrm>
            <a:off x="228600" y="533520"/>
            <a:ext cx="8601120" cy="14000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2"/>
          <p:cNvSpPr/>
          <p:nvPr/>
        </p:nvSpPr>
        <p:spPr>
          <a:xfrm>
            <a:off x="875880" y="2666880"/>
            <a:ext cx="743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e text is about……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4"/>
          <p:cNvSpPr/>
          <p:nvPr/>
        </p:nvSpPr>
        <p:spPr>
          <a:xfrm>
            <a:off x="838080" y="182880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Используемые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https://yandex.ru/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old.prosv.ru/umk/spot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rcRect l="0" t="39003" r="0" b="39009"/>
          <a:stretch/>
        </p:blipFill>
        <p:spPr>
          <a:xfrm>
            <a:off x="0" y="304920"/>
            <a:ext cx="9144000" cy="20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533520" y="2971800"/>
          <a:ext cx="8229600" cy="2544840"/>
        </p:xfrm>
        <a:graphic>
          <a:graphicData uri="http://schemas.openxmlformats.org/drawingml/2006/table">
            <a:tbl>
              <a:tblPr/>
              <a:tblGrid>
                <a:gridCol w="1981080"/>
                <a:gridCol w="2133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ree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ve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ve col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ve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TextBox 5"/>
          <p:cNvSpPr/>
          <p:nvPr/>
        </p:nvSpPr>
        <p:spPr>
          <a:xfrm>
            <a:off x="533520" y="3581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1072800" y="4038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7"/>
          <p:cNvSpPr/>
          <p:nvPr/>
        </p:nvSpPr>
        <p:spPr>
          <a:xfrm>
            <a:off x="1149120" y="44197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3357360" y="3657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9"/>
          <p:cNvSpPr/>
          <p:nvPr/>
        </p:nvSpPr>
        <p:spPr>
          <a:xfrm>
            <a:off x="3282120" y="4038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3132000" y="4419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elep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1"/>
          <p:cNvSpPr/>
          <p:nvPr/>
        </p:nvSpPr>
        <p:spPr>
          <a:xfrm>
            <a:off x="3205440" y="4800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h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3281400" y="5181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5414040" y="3657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4"/>
          <p:cNvSpPr/>
          <p:nvPr/>
        </p:nvSpPr>
        <p:spPr>
          <a:xfrm flipH="1">
            <a:off x="495288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5"/>
          <p:cNvSpPr/>
          <p:nvPr/>
        </p:nvSpPr>
        <p:spPr>
          <a:xfrm>
            <a:off x="5334120" y="441972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6"/>
          <p:cNvSpPr/>
          <p:nvPr/>
        </p:nvSpPr>
        <p:spPr>
          <a:xfrm>
            <a:off x="5187240" y="48006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7"/>
          <p:cNvSpPr/>
          <p:nvPr/>
        </p:nvSpPr>
        <p:spPr>
          <a:xfrm>
            <a:off x="5263920" y="51814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8"/>
          <p:cNvSpPr/>
          <p:nvPr/>
        </p:nvSpPr>
        <p:spPr>
          <a:xfrm>
            <a:off x="7471080" y="3581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9"/>
          <p:cNvSpPr/>
          <p:nvPr/>
        </p:nvSpPr>
        <p:spPr>
          <a:xfrm>
            <a:off x="7246440" y="4038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20"/>
          <p:cNvSpPr/>
          <p:nvPr/>
        </p:nvSpPr>
        <p:spPr>
          <a:xfrm>
            <a:off x="7095600" y="44197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21"/>
          <p:cNvSpPr/>
          <p:nvPr/>
        </p:nvSpPr>
        <p:spPr>
          <a:xfrm>
            <a:off x="72388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22"/>
          <p:cNvSpPr/>
          <p:nvPr/>
        </p:nvSpPr>
        <p:spPr>
          <a:xfrm>
            <a:off x="7244280" y="5181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rcRect l="15030" t="62374" r="30710" b="28008"/>
          <a:stretch/>
        </p:blipFill>
        <p:spPr>
          <a:xfrm>
            <a:off x="457200" y="1371600"/>
            <a:ext cx="8255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790960" cy="79200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Bengal tig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rcRect l="22746" t="0" r="0" b="0"/>
          <a:stretch/>
        </p:blipFill>
        <p:spPr>
          <a:xfrm>
            <a:off x="838080" y="1828800"/>
            <a:ext cx="4643640" cy="4038480"/>
          </a:xfrm>
          <a:prstGeom prst="rect">
            <a:avLst/>
          </a:prstGeom>
          <a:ln w="0">
            <a:noFill/>
          </a:ln>
        </p:spPr>
      </p:pic>
      <p:sp>
        <p:nvSpPr>
          <p:cNvPr id="642" name="TextBox 6"/>
          <p:cNvSpPr/>
          <p:nvPr/>
        </p:nvSpPr>
        <p:spPr>
          <a:xfrm>
            <a:off x="5791320" y="2209680"/>
            <a:ext cx="2666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ri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ll gr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e</a:t>
            </a:r>
            <a:r>
              <a:rPr b="1" lang="en-US" sz="4000" spc="-1" strike="noStrike">
                <a:solidFill>
                  <a:srgbClr val="000000"/>
                </a:solidFill>
                <a:latin typeface="Agency FB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800600" cy="76212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Indian cob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5943600" y="1828800"/>
            <a:ext cx="289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nger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5" descr="C:\Users\Наталья\Desktop\Interesnye-fakty-o-kobrah.jpg"/>
          <p:cNvPicPr/>
          <p:nvPr/>
        </p:nvPicPr>
        <p:blipFill>
          <a:blip r:embed="rId1"/>
          <a:stretch/>
        </p:blipFill>
        <p:spPr>
          <a:xfrm>
            <a:off x="609480" y="1676520"/>
            <a:ext cx="50612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943600" cy="86832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Indian elepha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TextBox 6"/>
          <p:cNvSpPr/>
          <p:nvPr/>
        </p:nvSpPr>
        <p:spPr>
          <a:xfrm>
            <a:off x="5105520" y="1447920"/>
            <a:ext cx="3809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e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u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5" descr="C:\Users\Наталья\Desktop\Indian_Elephant.jpg"/>
          <p:cNvPicPr/>
          <p:nvPr/>
        </p:nvPicPr>
        <p:blipFill>
          <a:blip r:embed="rId1"/>
          <a:stretch/>
        </p:blipFill>
        <p:spPr>
          <a:xfrm>
            <a:off x="533520" y="2057400"/>
            <a:ext cx="5143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514240" y="380520"/>
            <a:ext cx="4343400" cy="68580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Indian rhin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TextBox 6"/>
          <p:cNvSpPr/>
          <p:nvPr/>
        </p:nvSpPr>
        <p:spPr>
          <a:xfrm>
            <a:off x="5791320" y="2209680"/>
            <a:ext cx="257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ne h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C:\Users\Наталья\Desktop\24.jpg"/>
          <p:cNvPicPr/>
          <p:nvPr/>
        </p:nvPicPr>
        <p:blipFill>
          <a:blip r:embed="rId1"/>
          <a:stretch/>
        </p:blipFill>
        <p:spPr>
          <a:xfrm>
            <a:off x="685800" y="22860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se sentences True, False or Not stated? Correct the false statements.</a:t>
            </a:r>
            <a:br>
              <a:rPr sz="30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2057040"/>
            <a:ext cx="85042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bra can be black, brown, white and yello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Usually a red female is the head of a family of tig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Snake hides in a tall grass and hunts big anim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Snakes eat mice and ra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The elephant usually lives alon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The Indian rhino likes to sit in water or mu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17-09-04T10:54:0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