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0C53-87BE-44A8-BD9D-7C7A607921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AA88-1895-4D35-9BF8-FE5B22EA7A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3EB-5E91-4563-A8B2-B27F2D21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2DEC-CFE2-460D-9F1E-78D633F1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10606-32DE-48BC-BA58-6585E446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FB35F-999F-45F4-8E4A-CA759664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4FD57-84BD-4D5C-84D5-FA40DD82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3487C-5BB1-4A98-900C-E3131792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DD1536-ABD4-41AE-B668-058081ED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8176B-2AC4-4791-91D2-C9642FA2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D2760-C887-4591-B12F-BBA3FAAB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B36D5-FE2F-477B-9A05-149E8A90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7ADE4-E130-4246-A8A9-6DFD8571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4A115-449D-4E49-AA73-9B24EDC1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28A4-521A-443C-B339-7E1545A0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A892E8-8961-4C73-93DE-A4917AC8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3A7082-94BB-4273-8BDE-71BD8C5D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98E718-48BD-434E-9B69-E22C4D8F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26C4B-60F5-4AA9-ACD5-961A4866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36DB6-A57C-40C8-882B-F4EFB64C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F301E-3B6D-4E9E-9BBD-D7D6C164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DD31D7-532C-400A-910B-5E1B857C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B3372-0684-48BC-976F-151998CF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1AD16-E69B-4940-A9DF-33DE5A81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08609-A8A0-43F4-B345-48DC1236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FEF7-951A-40BE-9CEE-6E3A4CA5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BA271-8E1A-4DEC-8548-CC0A26EE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B1999-DAB4-410D-880D-827E413B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D6957-1B9B-4194-A5C4-5C083CE9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F8505-E847-4B1A-B3D4-26336AD7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C057B-F3E3-41E2-8043-0352B413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1C1F9-9197-4CE5-9112-6D982758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46E63-1259-49A5-B54F-9EA013DA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06A52-8C2A-4987-BA01-906DA23D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7B60F-4315-4F00-B4A7-4764A785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B4761-9855-4F9F-995F-4FA06E89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92FD-F942-4A02-B400-9C6F23E6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D9A57-E8FF-4DF2-9B31-F65DC51E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73CA0-6BF6-4CDA-967B-C1F9E77E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569FF-2E06-4292-B115-1F8F4723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4DC37-1C65-4D15-B3FC-52708E22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093AFE-46CB-4244-9FD3-55122B9E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63D84-2A95-4107-AA53-A2822C10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2D883-7F22-4BDB-B78D-85C2F8F9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6D2A4-B3BF-42E9-B62A-5C17A914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467B8-FCCB-4EEE-A8B1-F76C9170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40BD2-6590-4999-B0A1-D275ED66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4302-D71F-4942-9650-932A7974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1C77E0-F47F-426F-B50B-650C2EC8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DEAF7F-1FE4-40FC-93F8-635AD4F1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E2CBBE-38B1-4009-8D51-9B44B7A7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25BB44-EF82-44E8-8E38-05CB28EA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4E80F-DF4F-4986-A204-DDC49586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7D3C-246B-4B83-8F93-F42A5654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8282-C9D3-4432-923E-6B89809D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5EA4-39A0-441C-9026-546E9E88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DBBA-9F71-47D2-8F7C-13F7B986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9AB6-2A44-4568-9B6D-3635FDA1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FF52-4C2C-4208-A6D7-D3176CC2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C8D0-DB9C-49E3-8A37-DA2A2429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956C-03BA-4193-8BBA-B6A0FCCB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2D9C-93DE-417A-91B3-B22792F0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08C7-A791-4B42-9166-65AB74F3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3FB4-35F3-4236-8B0B-E8A6599B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2EB54-73BB-409A-A30D-34004260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C94D1-D2FC-42A7-BD05-98298FED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E6C4B-99DB-4587-B953-77F4BEB7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F0071-7A27-48B4-8A8F-94D3B7FB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2BB1C-27D9-4BF4-94BC-0B21EBEA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AC1-D190-4281-B638-9553FAD8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DC242-DC5E-41D3-9587-DFAFC772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A69D2-2607-4AB2-B182-1EE30979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78160-FA55-472D-B875-502F58FF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5D59C-FECB-4550-B110-1D169FE6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5ECDF-4569-47A0-B8EA-7A682D6D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5AF0A-EAF1-44CD-9622-C63E610B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B44D8-C938-4BE3-9BC0-932368DE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FFA2F-6522-4005-BE2B-7961BC87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2A680-72DF-4A44-81EC-08A0E749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371CC-9E95-434C-8E8F-92F9B63D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AC1-07A1-4934-9683-78FB6657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D2AAA-A630-48CA-B0EF-71CEC65A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3713F-765A-4C11-A0AC-5C51A1C7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3433E-C0E8-444D-AA40-AC1A7602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D0D2D-BD4F-445F-A960-BA7E40AD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D654E-2796-4D15-9402-B9249062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19B08-384F-4000-AEA0-AE8821AB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F578E-6DBC-4EAB-9EC7-1854F23E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DDC42-6784-42F7-9507-ABEFE022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EB1B8-1C1F-4747-9F80-CF726C21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2588B-71F2-4E98-BFA7-21AA3D7D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176-C2F7-4DC4-8CEB-809EC7DA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1E664-9627-4C26-8EC5-3CD4BB59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DE85D-A142-454D-ACF1-2649C5D8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0E47E-EDFD-4562-B1ED-F649A387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E1BE9-C4CF-4E2E-AF26-36D53ED6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52479-5919-466F-96F0-1F8744B5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C9EA7-9D45-404A-96EB-90F1004C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F7C77-2BD1-4E0E-9498-125940BD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84C41-B86B-4767-8EF5-99739DE2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C64AB-228E-4C99-953A-BFB4DB8C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A9C63-D8C7-433E-9C98-2E66C7DC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9C2-3009-4717-B4B8-79804166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8074C-529E-46BD-A456-013C4F07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C4B52-45A4-43F6-A063-0FA4961A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83438-8505-43BB-86D7-BEEEFBA7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7D624-F413-4FD9-BB5E-394AF39F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9B556-3597-43DB-89C6-D35074EF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8E635-7FB3-4FB9-9217-EF98BC7A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35654-3C03-4DE6-B406-8A8FDD6A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9A957-5CBD-4F09-B358-5AD9BF6D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C9C02-2EF7-41E0-8057-DBE67456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C61CA-D832-4297-830C-FF6B1C0F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616-8B77-4D61-861F-48FBF2BB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1E8F4-153D-4A7D-A30C-0B3340BD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84FCB-EC45-4568-8C11-B8F9BFC5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B8780-9F11-4EA5-83FD-C2A54719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54AC2-ABEA-4B87-8608-795EF42B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59D0F-6C4F-4F3B-B2FA-29CF1F78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88635-3BEE-4FBF-A467-979A2A6F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E5758-2B2D-43C0-B227-898326B6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82D43-17BB-40A2-B087-F1E24828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727B0-DB0D-4E47-91B6-4A32E293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C0FBC-E559-483C-A1C2-F7F51224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1F0B-EA79-4524-9B7C-D372C4C1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5D2CA-3E6A-40E9-9AD4-58EF7DE5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A8E89-4CFB-4FCB-9883-703FE100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03C47-E33A-4F42-B12E-051A9320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77E67-058E-41AC-BC98-FC4E7470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AB985-50AE-45F2-91C7-CA68C116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F3D38-0E0A-438B-8A47-3596863C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6DB52-C316-41F1-82C9-97DEC41B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73030-BF2D-43C9-AE28-153DCA99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9AC1C-AEBD-4289-B892-66852B8F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8D865-C852-4826-A452-B6A5D28D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213-75A3-424E-BE29-5F492DA3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DC8E8-8E5F-46DE-9927-EAA481C9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8C3EF-B35B-425F-9E44-B87A5C11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4727B-865E-4FF5-9F29-9A22BC02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28662-C9A5-42D1-866C-D6165C01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61A73-1E0D-43A0-9067-CA0B0839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AC1B0-AEC9-4CF8-8AC9-2716A0A0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40EE2-9DF6-4A8F-8213-B127E284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565D6-BA21-4EA5-84E7-391D00C6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46A528-FC1B-4C5B-A75F-67D7798C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A8002-B11A-40E7-8B10-B27C046E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C756-3742-4A9A-8307-911445E5257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3B78-1B01-4C68-9201-D77D2845099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23E2-603E-4498-BA93-9B2D54A801A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E6E0-9E61-468D-B479-3704A43D1D3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4BA7-894C-4016-9108-EB16BD65052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FB75-E33F-4F2D-BF1C-3165624375A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89FF-A7F2-42A3-87D8-78B2D2239C1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C6CD-3DFA-4191-A9D3-6E799431D3B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1A3B-F83F-4130-8F66-2D672E5A2DF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B348-4098-4BDD-9BEC-A1AD493EA02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3134-3D38-4951-99AB-F34A61EA374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714A-C7B1-4F44-9ED4-5E1A3C48837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yandex.ru/images" TargetMode="External"/><Relationship Id="rId2" Type="http://schemas.openxmlformats.org/officeDocument/2006/relationships/hyperlink" Target="https://yandex.ru/images" TargetMode="External"/><Relationship Id="rId3" Type="http://schemas.openxmlformats.org/officeDocument/2006/relationships/hyperlink" Target="http://old.prosv.ru/umk/spotlight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Прямоугольник 1" descr=""/>
          <p:cNvPicPr/>
          <p:nvPr/>
        </p:nvPicPr>
        <p:blipFill>
          <a:blip r:embed="rId1"/>
          <a:stretch/>
        </p:blipFill>
        <p:spPr>
          <a:xfrm>
            <a:off x="450720" y="920880"/>
            <a:ext cx="8474040" cy="429732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2"/>
          <p:cNvSpPr/>
          <p:nvPr/>
        </p:nvSpPr>
        <p:spPr>
          <a:xfrm>
            <a:off x="3594960" y="41148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ule 5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3"/>
          <p:cNvSpPr/>
          <p:nvPr/>
        </p:nvSpPr>
        <p:spPr>
          <a:xfrm>
            <a:off x="3591000" y="457200"/>
            <a:ext cx="22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СОШ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Ханты-Манси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4"/>
          <p:cNvSpPr/>
          <p:nvPr/>
        </p:nvSpPr>
        <p:spPr>
          <a:xfrm>
            <a:off x="5196600" y="563868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лвакова Н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"/>
          <p:cNvPicPr/>
          <p:nvPr/>
        </p:nvPicPr>
        <p:blipFill>
          <a:blip r:embed="rId1"/>
          <a:srcRect l="2556" t="73375" r="0" b="0"/>
          <a:stretch/>
        </p:blipFill>
        <p:spPr>
          <a:xfrm>
            <a:off x="457200" y="1600200"/>
            <a:ext cx="8300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"/>
          <p:cNvGraphicFramePr/>
          <p:nvPr/>
        </p:nvGraphicFramePr>
        <p:xfrm>
          <a:off x="1371600" y="990720"/>
          <a:ext cx="6324480" cy="4572000"/>
        </p:xfrm>
        <a:graphic>
          <a:graphicData uri="http://schemas.openxmlformats.org/drawingml/2006/table">
            <a:tbl>
              <a:tblPr/>
              <a:tblGrid>
                <a:gridCol w="1951200"/>
                <a:gridCol w="1952640"/>
                <a:gridCol w="2420640"/>
              </a:tblGrid>
              <a:tr h="2539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u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e interesting fact about an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4"/>
          <p:cNvSpPr/>
          <p:nvPr/>
        </p:nvSpPr>
        <p:spPr>
          <a:xfrm>
            <a:off x="304920" y="914400"/>
            <a:ext cx="8534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1.What animal is red and or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2. Where does the tiger h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3. What does the Bengal tiger h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4. What colour is the Indian cob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4. Is it very danger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5. What size is the eleph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6. How do Indian people use eleph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7.What animal has only one ho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8.Where does the rhino like to s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9.How many rhinoes are there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ia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5"/>
          <p:cNvSpPr/>
          <p:nvPr/>
        </p:nvSpPr>
        <p:spPr>
          <a:xfrm>
            <a:off x="380880" y="228600"/>
            <a:ext cx="8305920" cy="58140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5"/>
          <p:cNvSpPr/>
          <p:nvPr/>
        </p:nvSpPr>
        <p:spPr>
          <a:xfrm>
            <a:off x="228600" y="304920"/>
            <a:ext cx="8534520" cy="106884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the sentences?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2"/>
          <p:cNvSpPr/>
          <p:nvPr/>
        </p:nvSpPr>
        <p:spPr>
          <a:xfrm>
            <a:off x="2609640" y="2438280"/>
            <a:ext cx="3792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I like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He likes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She likes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We like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You like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"/>
          <p:cNvSpPr/>
          <p:nvPr/>
        </p:nvSpPr>
        <p:spPr>
          <a:xfrm>
            <a:off x="609480" y="5411880"/>
            <a:ext cx="8153640" cy="52056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ry to guess the rule when we should add –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307800" y="533520"/>
            <a:ext cx="8302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"/>
          <p:cNvPicPr/>
          <p:nvPr/>
        </p:nvPicPr>
        <p:blipFill>
          <a:blip r:embed="rId1"/>
          <a:srcRect l="9886" t="13664" r="9609" b="0"/>
          <a:stretch/>
        </p:blipFill>
        <p:spPr>
          <a:xfrm>
            <a:off x="1371600" y="457200"/>
            <a:ext cx="6324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2" descr=""/>
          <p:cNvPicPr/>
          <p:nvPr/>
        </p:nvPicPr>
        <p:blipFill>
          <a:blip r:embed="rId1"/>
          <a:srcRect l="0" t="0" r="4317" b="0"/>
          <a:stretch/>
        </p:blipFill>
        <p:spPr>
          <a:xfrm>
            <a:off x="324000" y="1066680"/>
            <a:ext cx="8439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Прямоугольник 1"/>
          <p:cNvSpPr/>
          <p:nvPr/>
        </p:nvSpPr>
        <p:spPr>
          <a:xfrm>
            <a:off x="380880" y="1523880"/>
            <a:ext cx="8534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The Bengal tiger ….(hide) in tall gr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Rhinos ……. ( eat) pl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The Bengal tiger …… (live) in In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A lion ……. (sleep) during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Crocodiles  ……. (swim) in ri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 Elephants  …….  (like) bana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The Indian rhino …..(live)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2"/>
          <p:cNvSpPr/>
          <p:nvPr/>
        </p:nvSpPr>
        <p:spPr>
          <a:xfrm>
            <a:off x="457200" y="457200"/>
            <a:ext cx="8153280" cy="52056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t the verbs in brackets into the correc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2" descr=""/>
          <p:cNvPicPr/>
          <p:nvPr/>
        </p:nvPicPr>
        <p:blipFill>
          <a:blip r:embed="rId1"/>
          <a:stretch/>
        </p:blipFill>
        <p:spPr>
          <a:xfrm>
            <a:off x="657360" y="990720"/>
            <a:ext cx="780084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Box 1"/>
          <p:cNvSpPr/>
          <p:nvPr/>
        </p:nvSpPr>
        <p:spPr>
          <a:xfrm>
            <a:off x="1066680" y="990720"/>
            <a:ext cx="762012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ome task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x.8p 67-SB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x.2, 3 p 41-W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/>
          <a:srcRect l="0" t="0" r="0" b="84369"/>
          <a:stretch/>
        </p:blipFill>
        <p:spPr>
          <a:xfrm>
            <a:off x="228600" y="533520"/>
            <a:ext cx="8601120" cy="1400040"/>
          </a:xfrm>
          <a:prstGeom prst="rect">
            <a:avLst/>
          </a:prstGeom>
          <a:ln w="0">
            <a:noFill/>
          </a:ln>
        </p:spPr>
      </p:pic>
      <p:sp>
        <p:nvSpPr>
          <p:cNvPr id="618" name="TextBox 2"/>
          <p:cNvSpPr/>
          <p:nvPr/>
        </p:nvSpPr>
        <p:spPr>
          <a:xfrm>
            <a:off x="875880" y="2666880"/>
            <a:ext cx="743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think the text is about………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4"/>
          <p:cNvSpPr/>
          <p:nvPr/>
        </p:nvSpPr>
        <p:spPr>
          <a:xfrm>
            <a:off x="838080" y="182880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a3d6"/>
                </a:solidFill>
                <a:uFillTx/>
                <a:latin typeface="Arial"/>
                <a:hlinkClick r:id="rId1"/>
              </a:rPr>
              <a:t>Используемые 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a3d6"/>
                </a:solidFill>
                <a:uFillTx/>
                <a:latin typeface="Arial"/>
                <a:hlinkClick r:id="rId2"/>
              </a:rPr>
              <a:t>https://yandex.ru/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a3d6"/>
                </a:solidFill>
                <a:uFillTx/>
                <a:latin typeface="Arial"/>
                <a:hlinkClick r:id="rId3"/>
              </a:rPr>
              <a:t>http://old.prosv.ru/umk/spot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"/>
          <p:cNvPicPr/>
          <p:nvPr/>
        </p:nvPicPr>
        <p:blipFill>
          <a:blip r:embed="rId1"/>
          <a:srcRect l="0" t="39003" r="0" b="39009"/>
          <a:stretch/>
        </p:blipFill>
        <p:spPr>
          <a:xfrm>
            <a:off x="0" y="304920"/>
            <a:ext cx="9144000" cy="203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0" name=""/>
          <p:cNvGraphicFramePr/>
          <p:nvPr/>
        </p:nvGraphicFramePr>
        <p:xfrm>
          <a:off x="533520" y="2971800"/>
          <a:ext cx="8229600" cy="2544840"/>
        </p:xfrm>
        <a:graphic>
          <a:graphicData uri="http://schemas.openxmlformats.org/drawingml/2006/table">
            <a:tbl>
              <a:tblPr/>
              <a:tblGrid>
                <a:gridCol w="1981080"/>
                <a:gridCol w="213372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ree coun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ive anim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ive col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ive 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1" name="TextBox 5"/>
          <p:cNvSpPr/>
          <p:nvPr/>
        </p:nvSpPr>
        <p:spPr>
          <a:xfrm>
            <a:off x="533520" y="3581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6"/>
          <p:cNvSpPr/>
          <p:nvPr/>
        </p:nvSpPr>
        <p:spPr>
          <a:xfrm>
            <a:off x="1072800" y="4038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7"/>
          <p:cNvSpPr/>
          <p:nvPr/>
        </p:nvSpPr>
        <p:spPr>
          <a:xfrm>
            <a:off x="1149120" y="44197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8"/>
          <p:cNvSpPr/>
          <p:nvPr/>
        </p:nvSpPr>
        <p:spPr>
          <a:xfrm>
            <a:off x="3357360" y="3657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t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9"/>
          <p:cNvSpPr/>
          <p:nvPr/>
        </p:nvSpPr>
        <p:spPr>
          <a:xfrm>
            <a:off x="3282120" y="4038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c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10"/>
          <p:cNvSpPr/>
          <p:nvPr/>
        </p:nvSpPr>
        <p:spPr>
          <a:xfrm>
            <a:off x="3132000" y="44197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eleph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11"/>
          <p:cNvSpPr/>
          <p:nvPr/>
        </p:nvSpPr>
        <p:spPr>
          <a:xfrm>
            <a:off x="3205440" y="48006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rh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2"/>
          <p:cNvSpPr/>
          <p:nvPr/>
        </p:nvSpPr>
        <p:spPr>
          <a:xfrm>
            <a:off x="3281400" y="5181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d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3"/>
          <p:cNvSpPr/>
          <p:nvPr/>
        </p:nvSpPr>
        <p:spPr>
          <a:xfrm>
            <a:off x="5414040" y="36576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4"/>
          <p:cNvSpPr/>
          <p:nvPr/>
        </p:nvSpPr>
        <p:spPr>
          <a:xfrm flipH="1">
            <a:off x="495288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15"/>
          <p:cNvSpPr/>
          <p:nvPr/>
        </p:nvSpPr>
        <p:spPr>
          <a:xfrm>
            <a:off x="5334120" y="441972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16"/>
          <p:cNvSpPr/>
          <p:nvPr/>
        </p:nvSpPr>
        <p:spPr>
          <a:xfrm>
            <a:off x="5187240" y="48006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7"/>
          <p:cNvSpPr/>
          <p:nvPr/>
        </p:nvSpPr>
        <p:spPr>
          <a:xfrm>
            <a:off x="5263920" y="51814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18"/>
          <p:cNvSpPr/>
          <p:nvPr/>
        </p:nvSpPr>
        <p:spPr>
          <a:xfrm>
            <a:off x="7471080" y="3581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9"/>
          <p:cNvSpPr/>
          <p:nvPr/>
        </p:nvSpPr>
        <p:spPr>
          <a:xfrm>
            <a:off x="7246440" y="4038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20"/>
          <p:cNvSpPr/>
          <p:nvPr/>
        </p:nvSpPr>
        <p:spPr>
          <a:xfrm>
            <a:off x="7095600" y="44197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21"/>
          <p:cNvSpPr/>
          <p:nvPr/>
        </p:nvSpPr>
        <p:spPr>
          <a:xfrm>
            <a:off x="72388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22"/>
          <p:cNvSpPr/>
          <p:nvPr/>
        </p:nvSpPr>
        <p:spPr>
          <a:xfrm>
            <a:off x="7244280" y="5181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f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"/>
          <p:cNvPicPr/>
          <p:nvPr/>
        </p:nvPicPr>
        <p:blipFill>
          <a:blip r:embed="rId1"/>
          <a:srcRect l="15030" t="62374" r="30710" b="28008"/>
          <a:stretch/>
        </p:blipFill>
        <p:spPr>
          <a:xfrm>
            <a:off x="457200" y="1371600"/>
            <a:ext cx="8255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5790960" cy="79200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the Bengal tig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1" name="Picture 4" descr=""/>
          <p:cNvPicPr/>
          <p:nvPr/>
        </p:nvPicPr>
        <p:blipFill>
          <a:blip r:embed="rId1"/>
          <a:srcRect l="22746" t="0" r="0" b="0"/>
          <a:stretch/>
        </p:blipFill>
        <p:spPr>
          <a:xfrm>
            <a:off x="838080" y="1828800"/>
            <a:ext cx="4643640" cy="4038480"/>
          </a:xfrm>
          <a:prstGeom prst="rect">
            <a:avLst/>
          </a:prstGeom>
          <a:ln w="0">
            <a:noFill/>
          </a:ln>
        </p:spPr>
      </p:pic>
      <p:sp>
        <p:nvSpPr>
          <p:cNvPr id="642" name="TextBox 6"/>
          <p:cNvSpPr/>
          <p:nvPr/>
        </p:nvSpPr>
        <p:spPr>
          <a:xfrm>
            <a:off x="5791320" y="2209680"/>
            <a:ext cx="2666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ri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all gr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ee</a:t>
            </a:r>
            <a:r>
              <a:rPr b="1" lang="en-US" sz="4000" spc="-1" strike="noStrike">
                <a:solidFill>
                  <a:srgbClr val="000000"/>
                </a:solidFill>
                <a:latin typeface="Agency FB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800600" cy="76212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the Indian cobr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TextBox 8"/>
          <p:cNvSpPr/>
          <p:nvPr/>
        </p:nvSpPr>
        <p:spPr>
          <a:xfrm>
            <a:off x="5943600" y="1828800"/>
            <a:ext cx="2895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n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anger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5" descr="C:\Users\Наталья\Desktop\Interesnye-fakty-o-kobrah.jpg"/>
          <p:cNvPicPr/>
          <p:nvPr/>
        </p:nvPicPr>
        <p:blipFill>
          <a:blip r:embed="rId1"/>
          <a:stretch/>
        </p:blipFill>
        <p:spPr>
          <a:xfrm>
            <a:off x="609480" y="1676520"/>
            <a:ext cx="50612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943600" cy="86832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the Indian elepha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TextBox 6"/>
          <p:cNvSpPr/>
          <p:nvPr/>
        </p:nvSpPr>
        <p:spPr>
          <a:xfrm>
            <a:off x="5105520" y="1447920"/>
            <a:ext cx="3809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e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r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e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u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5" descr="C:\Users\Наталья\Desktop\Indian_Elephant.jpg"/>
          <p:cNvPicPr/>
          <p:nvPr/>
        </p:nvPicPr>
        <p:blipFill>
          <a:blip r:embed="rId1"/>
          <a:stretch/>
        </p:blipFill>
        <p:spPr>
          <a:xfrm>
            <a:off x="533520" y="2057400"/>
            <a:ext cx="5143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514240" y="380520"/>
            <a:ext cx="4343400" cy="685800"/>
          </a:xfrm>
          <a:prstGeom prst="rect">
            <a:avLst/>
          </a:prstGeom>
          <a:solidFill>
            <a:srgbClr val="bcd0b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the Indian rhin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TextBox 6"/>
          <p:cNvSpPr/>
          <p:nvPr/>
        </p:nvSpPr>
        <p:spPr>
          <a:xfrm>
            <a:off x="5791320" y="2209680"/>
            <a:ext cx="2576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un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ne ho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l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" descr="C:\Users\Наталья\Desktop\24.jpg"/>
          <p:cNvPicPr/>
          <p:nvPr/>
        </p:nvPicPr>
        <p:blipFill>
          <a:blip r:embed="rId1"/>
          <a:stretch/>
        </p:blipFill>
        <p:spPr>
          <a:xfrm>
            <a:off x="685800" y="22860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these sentences True, False or Not stated? Correct the false statements.</a:t>
            </a:r>
            <a:br>
              <a:rPr sz="30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2057040"/>
            <a:ext cx="85042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bra can be black, brown, white and yello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Usually a red female is the head of a family of tige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Snake hides in a tall grass and hunts big animal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Snakes eat mice and ra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The elephant usually lives alon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The Indian rhino likes to sit in water or mu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Наталья</cp:lastModifiedBy>
  <dcterms:modified xsi:type="dcterms:W3CDTF">2017-09-04T10:54:0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