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63D-2751-49AE-BEAD-21D005B4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F68-6005-44FD-BD9B-E68D5847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3DB-C414-4AE5-A0E5-46A0B021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0D7-58BF-423F-BD4F-2742778D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C98-B269-46EE-9D14-B42290D0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01A-5801-4282-ABA0-F27FE881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A58-C425-42F8-B7AB-6B170696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DBD-2402-429F-A96A-C8E67E1E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FDF-A8DA-4FAC-92F0-0D0C559F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A8B-5742-486B-BAD0-4EB6350C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10A-DCAF-47DE-BD1A-63110062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968-D8D1-4C93-9366-949CFF65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ell MT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ell MT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A842-08B0-4E9A-ADB5-9BFB29DBAE7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571760"/>
            <a:ext cx="7843680" cy="168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МПЕТЕНТНОСТНО-ОРИЕНТИРОВАННЫЙ УРОК РУССКОГО ЯЗЫКА  в 5 класс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тель: Югова Светлана Леонидовн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БОУ «Нердвинская средняя общеобразовательная школа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рагайский райо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928800" y="651600"/>
            <a:ext cx="7143480" cy="20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для группы.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старайтесь в своей группе дать ответ на вопрос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аком условии не с существительными пишется слитно, а при каком - раздельно?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ля этого исследуй примеры и выясни, почему в первой группе сло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существительными пишется слитно, а во втор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дельно?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8760" y="2643120"/>
          <a:ext cx="8143920" cy="114300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переди был неприятел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раг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 познаётся в несчасть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ед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еряха, нев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н  тебе не приятель, а вра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 счастье, а беда подстерегала  пут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2"/>
          <p:cNvSpPr/>
          <p:nvPr/>
        </p:nvSpPr>
        <p:spPr>
          <a:xfrm>
            <a:off x="928800" y="3792240"/>
            <a:ext cx="714348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помощь теб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поминание: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ятель-враг, несчастье-беда (это синонимы, то есть слова, близкие по значению);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ель-враг, счастье-беда (это антонимы, то есть слова с противоположным значением).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000080" y="1714680"/>
            <a:ext cx="714384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ст контро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заполняет оформитель)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существительными пишется слитно, если его можно заменить ………………….. или ………………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: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существительным пишется раздельно, если в предложении есть …………………………. с союзом ….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: 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Исследовательская работа 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Алгоритм работы в группа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2071440"/>
            <a:ext cx="82296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зад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делитесь с товарищами по группе своими мыслями по вопро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пишите ответ в «Лист контроля» (оформите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звучьте ответ группы (спикер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Удач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85840" y="895680"/>
            <a:ext cx="8572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 определяется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возрасто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ловой.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дач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бавляет ума.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вежеств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уди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вежды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0"/>
          <a:ext cx="8607240" cy="6924600"/>
        </p:xfrm>
        <a:graphic>
          <a:graphicData uri="http://schemas.openxmlformats.org/drawingml/2006/table">
            <a:tbl>
              <a:tblPr/>
              <a:tblGrid>
                <a:gridCol w="2293920"/>
                <a:gridCol w="2338200"/>
                <a:gridCol w="1346400"/>
                <a:gridCol w="2628720"/>
              </a:tblGrid>
              <a:tr h="10065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Не с существительными</a:t>
                      </a: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Алгорит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мотри, есть ли в предложении противопоставление с союзом 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не правда, а лож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невеж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говорить неправду (лож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9640" y="1413000"/>
          <a:ext cx="1578240" cy="365040"/>
        </p:xfrm>
        <a:graphic>
          <a:graphicData uri="http://schemas.openxmlformats.org/drawingml/2006/table">
            <a:tbl>
              <a:tblPr/>
              <a:tblGrid>
                <a:gridCol w="1578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985f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43280" y="1413000"/>
          <a:ext cx="5799240" cy="365040"/>
        </p:xfrm>
        <a:graphic>
          <a:graphicData uri="http://schemas.openxmlformats.org/drawingml/2006/table">
            <a:tbl>
              <a:tblPr/>
              <a:tblGrid>
                <a:gridCol w="579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79280" y="2133720"/>
          <a:ext cx="2221200" cy="365040"/>
        </p:xfrm>
        <a:graphic>
          <a:graphicData uri="http://schemas.openxmlformats.org/drawingml/2006/table">
            <a:tbl>
              <a:tblPr/>
              <a:tblGrid>
                <a:gridCol w="2221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иши раз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843280" y="2133720"/>
          <a:ext cx="5799240" cy="365040"/>
        </p:xfrm>
        <a:graphic>
          <a:graphicData uri="http://schemas.openxmlformats.org/drawingml/2006/table">
            <a:tbl>
              <a:tblPr/>
              <a:tblGrid>
                <a:gridCol w="579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отребляется ли без 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2" name="Прямая со стрелкой 9"/>
          <p:cNvCxnSpPr/>
          <p:nvPr/>
        </p:nvCxnSpPr>
        <p:spPr>
          <a:xfrm>
            <a:off x="1332000" y="1052640"/>
            <a:ext cx="10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11"/>
          <p:cNvCxnSpPr/>
          <p:nvPr/>
        </p:nvCxnSpPr>
        <p:spPr>
          <a:xfrm flipH="1">
            <a:off x="5651280" y="105264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13"/>
          <p:cNvCxnSpPr/>
          <p:nvPr/>
        </p:nvCxnSpPr>
        <p:spPr>
          <a:xfrm flipH="1">
            <a:off x="1331640" y="177336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17"/>
          <p:cNvCxnSpPr/>
          <p:nvPr/>
        </p:nvCxnSpPr>
        <p:spPr>
          <a:xfrm flipH="1">
            <a:off x="3707640" y="2492280"/>
            <a:ext cx="252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19"/>
          <p:cNvCxnSpPr/>
          <p:nvPr/>
        </p:nvCxnSpPr>
        <p:spPr>
          <a:xfrm flipH="1">
            <a:off x="6947640" y="2492280"/>
            <a:ext cx="252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21"/>
          <p:cNvCxnSpPr>
            <a:stCxn id="88" idx="2"/>
          </p:cNvCxnSpPr>
          <p:nvPr/>
        </p:nvCxnSpPr>
        <p:spPr>
          <a:xfrm>
            <a:off x="3701880" y="3276720"/>
            <a:ext cx="7200" cy="36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/>
          <p:nvPr/>
        </p:nvCxnSpPr>
        <p:spPr>
          <a:xfrm flipH="1">
            <a:off x="6947640" y="4292640"/>
            <a:ext cx="252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/>
          <p:nvPr/>
        </p:nvCxnSpPr>
        <p:spPr>
          <a:xfrm flipH="1">
            <a:off x="6947640" y="5084280"/>
            <a:ext cx="2520" cy="35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TextBox 30"/>
          <p:cNvSpPr/>
          <p:nvPr/>
        </p:nvSpPr>
        <p:spPr>
          <a:xfrm>
            <a:off x="3059280" y="2852640"/>
            <a:ext cx="128556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1" name="TextBox 31"/>
          <p:cNvSpPr/>
          <p:nvPr/>
        </p:nvSpPr>
        <p:spPr>
          <a:xfrm>
            <a:off x="6300720" y="2852640"/>
            <a:ext cx="14288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985f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2" name="TextBox 32"/>
          <p:cNvSpPr/>
          <p:nvPr/>
        </p:nvSpPr>
        <p:spPr>
          <a:xfrm>
            <a:off x="6443640" y="4653000"/>
            <a:ext cx="1143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985f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2627280" y="3645000"/>
            <a:ext cx="20718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ши слитно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4" name="TextBox 39"/>
          <p:cNvSpPr/>
          <p:nvPr/>
        </p:nvSpPr>
        <p:spPr>
          <a:xfrm>
            <a:off x="4859280" y="3645000"/>
            <a:ext cx="40006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но заменить синонимом или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изким по значению выражением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5" name="TextBox 41"/>
          <p:cNvSpPr/>
          <p:nvPr/>
        </p:nvSpPr>
        <p:spPr>
          <a:xfrm>
            <a:off x="5940360" y="5445000"/>
            <a:ext cx="1928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ши слитно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6" name="Прямая соединительная линия 43"/>
          <p:cNvSpPr/>
          <p:nvPr/>
        </p:nvSpPr>
        <p:spPr>
          <a:xfrm>
            <a:off x="1332000" y="1052640"/>
            <a:ext cx="4357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cxnSp>
        <p:nvCxnSpPr>
          <p:cNvPr id="97" name="Прямая со стрелкой 13"/>
          <p:cNvCxnSpPr/>
          <p:nvPr/>
        </p:nvCxnSpPr>
        <p:spPr>
          <a:xfrm flipH="1">
            <a:off x="5651280" y="177336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21"/>
          <p:cNvCxnSpPr/>
          <p:nvPr/>
        </p:nvCxnSpPr>
        <p:spPr>
          <a:xfrm>
            <a:off x="6948360" y="3284640"/>
            <a:ext cx="7200" cy="36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857160" y="265104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предложений упр. 695 выписать имена существительные с не. 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м образом лучше выполнить задание? 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785880" y="1428840"/>
            <a:ext cx="7729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Задание 1.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857160" y="1166760"/>
            <a:ext cx="77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е) работа сушит, а забота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е) печь кормит, а руки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увствовать (не)приязнь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казывать (не)былицы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ёзы (не)годования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е) решительность действий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е) точность в ответе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-подсказки: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 не - приставка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 не - часть корня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) не - частица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читайте предложения и словосочетания. Внимательно рассмотрите ответы-подсказки. Сформулируйте задание. 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57160" y="571680"/>
            <a:ext cx="77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Задание 2.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642960" y="1017000"/>
            <a:ext cx="7500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учить правило – стр. 234-235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выбор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упражнение 698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сочинить сказку про написание не с существительным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Тема урока: Правописание не с существительны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ели у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бразовательная: а) повторить правописание не с глаголами; б) познакомить с орфограммой «Не с существительными»; в) потренировать в умении составлять со словами на данное правило предлож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Развивающая: а) развивать внимание, память, речь, логическое мышление, коммуникативные навыки, умение сравнивать, классифицировать, делать выводы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Воспитательная: а) воспитывать речевую культуру учащихся; б) воспитывать бережное отношение к слову как духовной ценности нар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ип уро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Урок изучения и первичного закрепления новых знаний.  Проблемно-поисков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пользуемые учебники и учебные пособи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бник «Русский язык 5 класс» под ред. М.М. Разумовск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одика Г.А.Бакулиной «Интеллектуально-речевое развитие учащихся на уроках русского языка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пользуемое оборудование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ечатанные карточки (для групп), проекто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6600"/>
                </a:solidFill>
                <a:latin typeface="Arial"/>
                <a:ea typeface="Arial"/>
              </a:rPr>
              <a:t>Устный распределительный диктан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годовать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жа,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жда,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авда,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нимание,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выучить,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расслыша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ЛОВИ ОШИБКУ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87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843280" y="5589720"/>
            <a:ext cx="37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ГОДОВАТЬ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1" repeatCount="5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6600"/>
                </a:solidFill>
                <a:latin typeface="Arial"/>
                <a:ea typeface="Arial"/>
              </a:rPr>
              <a:t>Устный распределительный диктан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00040" y="2214720"/>
          <a:ext cx="8229600" cy="3382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лагол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итель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годов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еж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учи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еж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расслыш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прав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ним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57120" y="214308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авописание не с именами существительными 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4"/>
          <p:cNvSpPr/>
          <p:nvPr/>
        </p:nvSpPr>
        <p:spPr>
          <a:xfrm>
            <a:off x="428760" y="1214280"/>
            <a:ext cx="8072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формулируйте цель урока, опираясь на его тему. Используйте опорные слова:</a:t>
            </a:r>
            <a:endParaRPr b="0" lang="en-US" sz="3600" spc="-1" strike="noStrike">
              <a:solidFill>
                <a:srgbClr val="000000"/>
              </a:solidFill>
              <a:latin typeface="Bell MT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  <a:p>
            <a:pPr marL="609480" indent="-609480" algn="ctr">
              <a:lnSpc>
                <a:spcPct val="100000"/>
              </a:lnSpc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  <a:ea typeface="Arial"/>
              </a:rPr>
              <a:t>Познакомиться с...            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  <a:p>
            <a:pPr marL="609480" indent="-609480" algn="ctr">
              <a:lnSpc>
                <a:spcPct val="100000"/>
              </a:lnSpc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  <a:ea typeface="Arial"/>
              </a:rPr>
              <a:t>Учиться правильно…___  ___ </a:t>
            </a:r>
            <a:r>
              <a:rPr b="1" lang="ru-RU" sz="4000" spc="-1" strike="noStrike">
                <a:solidFill>
                  <a:srgbClr val="800000"/>
                </a:solidFill>
                <a:latin typeface="Bell MT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  <a:ea typeface="Arial"/>
              </a:rPr>
              <a:t>Словар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14240" y="128592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вежа, невеж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«ведать», «зна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временном русском язык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невежа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начит «грубиян», «невоспитанный человек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евежд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«несведущий», «необразованный человек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4000680" y="1857240"/>
            <a:ext cx="571320" cy="71640"/>
          </a:xfrm>
          <a:custGeom>
            <a:avLst/>
            <a:gdLst>
              <a:gd name="textAreaLeft" fmla="*/ 0 w 571320"/>
              <a:gd name="textAreaRight" fmla="*/ 571680 w 5713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143" h="505">
                <a:moveTo>
                  <a:pt x="0" y="505"/>
                </a:moveTo>
                <a:cubicBezTo>
                  <a:pt x="12" y="373"/>
                  <a:pt x="24" y="386"/>
                  <a:pt x="83" y="276"/>
                </a:cubicBezTo>
                <a:cubicBezTo>
                  <a:pt x="136" y="176"/>
                  <a:pt x="171" y="90"/>
                  <a:pt x="293" y="66"/>
                </a:cubicBezTo>
                <a:cubicBezTo>
                  <a:pt x="353" y="36"/>
                  <a:pt x="419" y="36"/>
                  <a:pt x="485" y="29"/>
                </a:cubicBezTo>
                <a:cubicBezTo>
                  <a:pt x="709" y="35"/>
                  <a:pt x="871" y="0"/>
                  <a:pt x="1043" y="130"/>
                </a:cubicBezTo>
                <a:cubicBezTo>
                  <a:pt x="1073" y="182"/>
                  <a:pt x="1098" y="232"/>
                  <a:pt x="1125" y="285"/>
                </a:cubicBezTo>
                <a:cubicBezTo>
                  <a:pt x="1140" y="364"/>
                  <a:pt x="1143" y="381"/>
                  <a:pt x="1143" y="47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6732720" y="5157720"/>
            <a:ext cx="914400" cy="9144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7358040" y="378612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85840" y="1265400"/>
            <a:ext cx="8572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. Ум определяется (не) возрастом, а головой.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. Каждая (не)удача прибавляет ума.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. (Не)вежество - орудие (не)вежды.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7:39:55Z</dcterms:created>
  <dc:creator>Portable</dc:creator>
  <dc:description/>
  <dc:language>en-US</dc:language>
  <cp:lastModifiedBy>Директор</cp:lastModifiedBy>
  <dcterms:modified xsi:type="dcterms:W3CDTF">2017-09-04T14:51:52Z</dcterms:modified>
  <cp:revision>59</cp:revision>
  <dc:subject/>
  <dc:title>Слайд 1</dc:title>
</cp:coreProperties>
</file>