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1A9-50E7-4D0B-B400-BE8254AA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AFE-BC34-49FA-A6F0-C972A25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E63-7DDB-4855-86D2-ACAADADA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FEC-88E7-430E-9F81-FCD0FD6C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11D-D31A-4551-AFCD-0D0BEFB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7AD-6762-46BB-ACB1-FEE5A5FA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7AE-7013-4725-9066-3F2531A0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0D5-07DD-4DE3-92EF-B345E22D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983-7017-48B4-B81D-E7262D9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E79-5D0A-42AB-A20B-F5861A5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84C-ACB9-4831-A14F-01F41F2F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320-5B41-4D36-808C-275FF17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0111-918B-4B58-9C4F-69459186899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7843680" cy="168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МПЕТЕНТНОСТНО-ОРИЕНТИРОВАННЫЙ УРОК РУССКОГО ЯЗЫКА  в 5 класс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: Югова Светлана Леонидовн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 «Нердвинская средняя общеобразовательная школа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рагайский рай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28800" y="651600"/>
            <a:ext cx="714348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группы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старайтесь в своей группе дать ответ на вопрос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м условии не с существительными пишется слитно, а при каком - раздельно?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ля этого исследуй примеры и выясни, почему в первой группе сло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существительными пишется слитно, а во втор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льно?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2643120"/>
          <a:ext cx="8143920" cy="114300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переди был неприятел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раг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 познаётся в несчасть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д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ряха, нев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н  тебе не приятель, а вра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 счастье, а беда подстерегала  пу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2"/>
          <p:cNvSpPr/>
          <p:nvPr/>
        </p:nvSpPr>
        <p:spPr>
          <a:xfrm>
            <a:off x="928800" y="3792240"/>
            <a:ext cx="714348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омощь теб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оминание: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ель-враг, несчастье-беда (это синонимы, то есть слова, близкие по значению);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ель-враг, счастье-беда (это антонимы, то есть слова с противоположным значением)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000080" y="1714680"/>
            <a:ext cx="714384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ст контро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заполняет оформитель)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существительными пишется слитно, если его можно заменить ………………….. или ………………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: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существительным пишется раздельно, если в предложении есть …………………………. с союзом ….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: 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Исследовательская работа 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Алгоритм работы в группа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207144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зад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делитесь с товарищами по группе своими мыслями по вопро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ответ в «Лист контроля» (оформител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звучьте ответ группы (спикер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Удач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85840" y="895680"/>
            <a:ext cx="8572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определяется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озрасто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ловой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дач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бавляет ума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ежеств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уди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ежд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0"/>
          <a:ext cx="8607240" cy="6924600"/>
        </p:xfrm>
        <a:graphic>
          <a:graphicData uri="http://schemas.openxmlformats.org/drawingml/2006/table">
            <a:tbl>
              <a:tblPr/>
              <a:tblGrid>
                <a:gridCol w="2293920"/>
                <a:gridCol w="2338200"/>
                <a:gridCol w="1346400"/>
                <a:gridCol w="2628720"/>
              </a:tblGrid>
              <a:tr h="10065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е с существительными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Алгорит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мотри, есть ли в предложении противопоставление с союзом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 правда, а 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веж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говорить неправду (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9640" y="1413000"/>
          <a:ext cx="1578240" cy="365040"/>
        </p:xfrm>
        <a:graphic>
          <a:graphicData uri="http://schemas.openxmlformats.org/drawingml/2006/table">
            <a:tbl>
              <a:tblPr/>
              <a:tblGrid>
                <a:gridCol w="1578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985f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43280" y="141300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79280" y="2133720"/>
          <a:ext cx="2221200" cy="365040"/>
        </p:xfrm>
        <a:graphic>
          <a:graphicData uri="http://schemas.openxmlformats.org/drawingml/2006/table">
            <a:tbl>
              <a:tblPr/>
              <a:tblGrid>
                <a:gridCol w="2221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ши 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843280" y="213372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отребляется ли без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2" name="Прямая со стрелкой 9"/>
          <p:cNvCxnSpPr/>
          <p:nvPr/>
        </p:nvCxnSpPr>
        <p:spPr>
          <a:xfrm>
            <a:off x="1332000" y="1052640"/>
            <a:ext cx="10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11"/>
          <p:cNvCxnSpPr/>
          <p:nvPr/>
        </p:nvCxnSpPr>
        <p:spPr>
          <a:xfrm flipH="1">
            <a:off x="5651280" y="105264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13"/>
          <p:cNvCxnSpPr/>
          <p:nvPr/>
        </p:nvCxnSpPr>
        <p:spPr>
          <a:xfrm flipH="1">
            <a:off x="133164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17"/>
          <p:cNvCxnSpPr/>
          <p:nvPr/>
        </p:nvCxnSpPr>
        <p:spPr>
          <a:xfrm flipH="1">
            <a:off x="370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9"/>
          <p:cNvCxnSpPr/>
          <p:nvPr/>
        </p:nvCxnSpPr>
        <p:spPr>
          <a:xfrm flipH="1">
            <a:off x="694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21"/>
          <p:cNvCxnSpPr>
            <a:stCxn id="88" idx="2"/>
          </p:cNvCxnSpPr>
          <p:nvPr/>
        </p:nvCxnSpPr>
        <p:spPr>
          <a:xfrm>
            <a:off x="3701880" y="327672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/>
          <p:nvPr/>
        </p:nvCxnSpPr>
        <p:spPr>
          <a:xfrm flipH="1">
            <a:off x="6947640" y="4292640"/>
            <a:ext cx="252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/>
          <p:nvPr/>
        </p:nvCxnSpPr>
        <p:spPr>
          <a:xfrm flipH="1">
            <a:off x="6947640" y="5084280"/>
            <a:ext cx="252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Box 30"/>
          <p:cNvSpPr/>
          <p:nvPr/>
        </p:nvSpPr>
        <p:spPr>
          <a:xfrm>
            <a:off x="3059280" y="2852640"/>
            <a:ext cx="12855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1" name="TextBox 31"/>
          <p:cNvSpPr/>
          <p:nvPr/>
        </p:nvSpPr>
        <p:spPr>
          <a:xfrm>
            <a:off x="6300720" y="2852640"/>
            <a:ext cx="14288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6443640" y="4653000"/>
            <a:ext cx="1143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2627280" y="3645000"/>
            <a:ext cx="20718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4" name="TextBox 39"/>
          <p:cNvSpPr/>
          <p:nvPr/>
        </p:nvSpPr>
        <p:spPr>
          <a:xfrm>
            <a:off x="4859280" y="3645000"/>
            <a:ext cx="40006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заменить синонимом или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изким по значению выражением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5" name="TextBox 41"/>
          <p:cNvSpPr/>
          <p:nvPr/>
        </p:nvSpPr>
        <p:spPr>
          <a:xfrm>
            <a:off x="5940360" y="5445000"/>
            <a:ext cx="1928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6" name="Прямая соединительная линия 43"/>
          <p:cNvSpPr/>
          <p:nvPr/>
        </p:nvSpPr>
        <p:spPr>
          <a:xfrm>
            <a:off x="1332000" y="1052640"/>
            <a:ext cx="4357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cxnSp>
        <p:nvCxnSpPr>
          <p:cNvPr id="97" name="Прямая со стрелкой 13"/>
          <p:cNvCxnSpPr/>
          <p:nvPr/>
        </p:nvCxnSpPr>
        <p:spPr>
          <a:xfrm flipH="1">
            <a:off x="565128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21"/>
          <p:cNvCxnSpPr/>
          <p:nvPr/>
        </p:nvCxnSpPr>
        <p:spPr>
          <a:xfrm>
            <a:off x="6948360" y="328464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857160" y="265104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предложений упр. 695 выписать имена существительные с не. 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м образом лучше выполнить задание? 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785880" y="1428840"/>
            <a:ext cx="7729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857160" y="1166760"/>
            <a:ext cx="77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работа сушит, а забота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печь кормит, а руки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увствовать (не)приязнь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казывать (не)былицы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ёзы (не)годования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решительность действий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) точность в ответе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-подсказки: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не - приставка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не - часть корня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 не - частица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йте предложения и словосочетания. Внимательно рассмотрите ответы-подсказки. Сформулируйте задание. 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57160" y="571680"/>
            <a:ext cx="77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642960" y="1017000"/>
            <a:ext cx="75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учить правило – стр. 234-235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выбо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упражнение 698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очинить сказку про написание не с существительным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Тема урока: Правописание не с существительны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ли у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бразовательная: а) повторить правописание не с глаголами; б) познакомить с орфограммой «Не с существительными»; в) потренировать в умении составлять со словами на данное правило предлож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Развивающая: а) развивать внимание, память, речь, логическое мышление, коммуникативные навыки, умение сравнивать, классифицировать, делать выводы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Воспитательная: а) воспитывать речевую культуру учащихся; б) воспитывать бережное отношение к слову как духовной ценности нар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рок изучения и первичного закрепления новых знаний.  Проблемно-поисков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пользуемые учебники и учебные пособи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ик «Русский язык 5 класс» под ред. М.М. Разумовск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одика Г.А.Бакулиной «Интеллектуально-речевое развитие учащихся на уроках русского язык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пользуемое оборудован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ечатанные карточки (для групп), проекто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годовать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жа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жда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авда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выучить,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расслыша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ОВИ ОШИБКУ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87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843280" y="558972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ГОДОВАТЬ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 repeatCount="5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00040" y="2214720"/>
          <a:ext cx="8229600" cy="338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агол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и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од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уч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расслыш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прав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ним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2143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авописание не с именами существительными 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428760" y="1214280"/>
            <a:ext cx="8072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формулируйте цель урока, опираясь на его тему. Используйте опорные слова:</a:t>
            </a:r>
            <a:endParaRPr b="0" lang="en-US" sz="3600" spc="-1" strike="noStrike">
              <a:solidFill>
                <a:srgbClr val="000000"/>
              </a:solidFill>
              <a:latin typeface="Bell MT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 marL="609480" indent="-609480" algn="ctr">
              <a:lnSpc>
                <a:spcPct val="100000"/>
              </a:lnSpc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Познакомиться с...            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 marL="609480" indent="-609480" algn="ctr">
              <a:lnSpc>
                <a:spcPct val="100000"/>
              </a:lnSpc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Arial"/>
              </a:rPr>
              <a:t>Учиться правильно…___  ___ </a:t>
            </a:r>
            <a:r>
              <a:rPr b="1" lang="ru-RU" sz="4000" spc="-1" strike="noStrike">
                <a:solidFill>
                  <a:srgbClr val="800000"/>
                </a:solidFill>
                <a:latin typeface="Bell MT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  <a:ea typeface="Arial"/>
              </a:rPr>
              <a:t>Словар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4240" y="12859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вежа, невеж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«ведать», «зна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ом русском язык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невеж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чит «грубиян», «невоспитанный человек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вежд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«несведущий», «необразованный человек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4000680" y="185724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143" h="505">
                <a:moveTo>
                  <a:pt x="0" y="505"/>
                </a:moveTo>
                <a:cubicBezTo>
                  <a:pt x="12" y="373"/>
                  <a:pt x="24" y="386"/>
                  <a:pt x="83" y="276"/>
                </a:cubicBezTo>
                <a:cubicBezTo>
                  <a:pt x="136" y="176"/>
                  <a:pt x="171" y="90"/>
                  <a:pt x="293" y="66"/>
                </a:cubicBezTo>
                <a:cubicBezTo>
                  <a:pt x="353" y="36"/>
                  <a:pt x="419" y="36"/>
                  <a:pt x="485" y="29"/>
                </a:cubicBezTo>
                <a:cubicBezTo>
                  <a:pt x="709" y="35"/>
                  <a:pt x="871" y="0"/>
                  <a:pt x="1043" y="130"/>
                </a:cubicBezTo>
                <a:cubicBezTo>
                  <a:pt x="1073" y="182"/>
                  <a:pt x="1098" y="232"/>
                  <a:pt x="1125" y="285"/>
                </a:cubicBezTo>
                <a:cubicBezTo>
                  <a:pt x="1140" y="364"/>
                  <a:pt x="1143" y="381"/>
                  <a:pt x="1143" y="47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914400" cy="914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7358040" y="3786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85840" y="1265400"/>
            <a:ext cx="8572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. Ум определяется (не) возрастом, а головой.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 Каждая (не)удача прибавляет ума.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 (Не)вежество - орудие (не)вежды.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7:39:55Z</dcterms:created>
  <dc:creator>Portable</dc:creator>
  <dc:description/>
  <dc:language>en-US</dc:language>
  <cp:lastModifiedBy>Директор</cp:lastModifiedBy>
  <dcterms:modified xsi:type="dcterms:W3CDTF">2017-09-04T14:51:52Z</dcterms:modified>
  <cp:revision>59</cp:revision>
  <dc:subject/>
  <dc:title>Слайд 1</dc:title>
</cp:coreProperties>
</file>