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C25A1-B74E-4389-8E33-7991ED42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379D-229D-4623-A480-63BCB627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6851-7436-4CFA-B6B1-B2A9A414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42267-ADCB-4AB7-B48D-BE5074EA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DD44-7C66-4BC0-8699-6C4FC25D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BF5F-D6E6-4916-A50C-F5416259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9156-0AE8-416C-8369-7E70C2FE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5280-E674-43EE-A3CA-1210D801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9792-9D92-485F-8EA5-E5D23B6C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9F82-6EB6-4EC4-B0D2-F8E8CDFF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93BC-5E1D-40B4-B417-265E13D5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89F6-D51A-4647-9228-B51A4C8F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B711-7EBB-4C6C-8E5E-9BB6BDFE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EBAC-428E-4127-B108-AD254217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D83C-39A9-4BA6-9154-E404060E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98DC-7DCB-478B-8A71-7768E730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B37D-ABA1-4557-A721-424E5E6D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EB80-B8F7-4C54-8DFD-C87DF62B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7938-D24E-4FD6-8C14-D3D2B121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9E346-6517-4D86-A123-60636CBC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BD365-6F10-4BEB-B80D-7F05B81B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2D85-8566-4F28-9324-1D749CAA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0019D-F7A3-40B9-ADB6-BD09B2C6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46B1-807B-4123-A086-0F0918D9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498C-B566-4F7B-9D6A-D147EEA793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10AA-6451-42A6-91FE-569E8100FF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Определение арифметического корня п-ой степе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250920" y="260280"/>
                <a:ext cx="230508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п</m:t>
                        </m:r>
                      </m:deg>
                      <m:e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Повтор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1258920" y="2133720"/>
                <a:ext cx="13683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3419640" y="2108160"/>
                <a:ext cx="1533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0"/>
              <p:cNvSpPr txBox="1"/>
              <p:nvPr/>
            </p:nvSpPr>
            <p:spPr>
              <a:xfrm>
                <a:off x="5508720" y="2133720"/>
                <a:ext cx="17938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3" name="Text Box 4"/>
          <p:cNvSpPr/>
          <p:nvPr/>
        </p:nvSpPr>
        <p:spPr>
          <a:xfrm>
            <a:off x="1621800" y="1268280"/>
            <a:ext cx="62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)  Имеет  ли  смысл  выражение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97440" y="213372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7d"/>
                </a:solidFill>
                <a:latin typeface="Arial"/>
              </a:rPr>
              <a:t>?</a:t>
            </a:r>
            <a:endParaRPr b="1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2"/>
              <p:cNvSpPr txBox="1"/>
              <p:nvPr/>
            </p:nvSpPr>
            <p:spPr>
              <a:xfrm>
                <a:off x="5508720" y="1916280"/>
                <a:ext cx="22572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6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6" name="Text Box 14"/>
          <p:cNvSpPr/>
          <p:nvPr/>
        </p:nvSpPr>
        <p:spPr>
          <a:xfrm>
            <a:off x="1623240" y="345600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)  Докажите,  что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259920" y="4149720"/>
            <a:ext cx="88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Число 5 есть корень третьей степени из 125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324000" y="4076640"/>
            <a:ext cx="860580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. к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7"/>
              <p:cNvSpPr txBox="1"/>
              <p:nvPr/>
            </p:nvSpPr>
            <p:spPr>
              <a:xfrm>
                <a:off x="2124000" y="4149720"/>
                <a:ext cx="1727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8"/>
              <p:cNvSpPr txBox="1"/>
              <p:nvPr/>
            </p:nvSpPr>
            <p:spPr>
              <a:xfrm>
                <a:off x="5435640" y="4141800"/>
                <a:ext cx="1728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Text Box 19"/>
          <p:cNvSpPr/>
          <p:nvPr/>
        </p:nvSpPr>
        <p:spPr>
          <a:xfrm>
            <a:off x="239400" y="4981680"/>
            <a:ext cx="83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Число 0 есть корень восьмой степени из 0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324000" y="4869000"/>
            <a:ext cx="856908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. к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1"/>
              <p:cNvSpPr txBox="1"/>
              <p:nvPr/>
            </p:nvSpPr>
            <p:spPr>
              <a:xfrm>
                <a:off x="2268360" y="4869000"/>
                <a:ext cx="14418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8</m:t>
                        </m:r>
                      </m:deg>
                      <m:e>
                        <m:r>
                          <m:t xml:space="preserve">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22"/>
              <p:cNvSpPr txBox="1"/>
              <p:nvPr/>
            </p:nvSpPr>
            <p:spPr>
              <a:xfrm>
                <a:off x="5580000" y="4941720"/>
                <a:ext cx="1295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 Box 23"/>
          <p:cNvSpPr/>
          <p:nvPr/>
        </p:nvSpPr>
        <p:spPr>
          <a:xfrm>
            <a:off x="309240" y="5773680"/>
            <a:ext cx="735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Число -1 не является корнем шестой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степени из 1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324000" y="5661000"/>
            <a:ext cx="8569080" cy="720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5"/>
              <p:cNvSpPr txBox="1"/>
              <p:nvPr/>
            </p:nvSpPr>
            <p:spPr>
              <a:xfrm>
                <a:off x="2124000" y="5661000"/>
                <a:ext cx="16560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t xml:space="preserve">1</m:t>
                        </m:r>
                      </m:e>
                    </m:rad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6"/>
              <p:cNvSpPr txBox="1"/>
              <p:nvPr/>
            </p:nvSpPr>
            <p:spPr>
              <a:xfrm>
                <a:off x="5651640" y="5691240"/>
                <a:ext cx="16570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4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48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48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68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4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600"/>
                            </p:stCondLst>
                            <p:childTnLst>
                              <p:par>
                                <p:cTn id="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64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64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84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Повтор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PROGR038"/>
          <p:cNvPicPr/>
          <p:nvPr/>
        </p:nvPicPr>
        <p:blipFill>
          <a:blip r:embed="rId1"/>
          <a:stretch/>
        </p:blipFill>
        <p:spPr>
          <a:xfrm>
            <a:off x="5292720" y="3619440"/>
            <a:ext cx="3240000" cy="3238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Object 14"/>
              <p:cNvSpPr txBox="1"/>
              <p:nvPr/>
            </p:nvSpPr>
            <p:spPr>
              <a:xfrm>
                <a:off x="826920" y="1773360"/>
                <a:ext cx="23050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8,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и  </m:t>
                    </m:r>
                    <m:sSup>
                      <m:e>
                        <m:r>
                          <m:t xml:space="preserve">9,1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6"/>
              <p:cNvSpPr txBox="1"/>
              <p:nvPr/>
            </p:nvSpPr>
            <p:spPr>
              <a:xfrm>
                <a:off x="684360" y="2757600"/>
                <a:ext cx="35272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,7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и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,7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181080" y="1844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572000" y="2781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221440" y="19890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2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81080" y="29242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3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221440" y="29242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4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179280" y="4005360"/>
            <a:ext cx="5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5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252720" y="5157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6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8"/>
              <p:cNvSpPr txBox="1"/>
              <p:nvPr/>
            </p:nvSpPr>
            <p:spPr>
              <a:xfrm>
                <a:off x="5867280" y="1849320"/>
                <a:ext cx="25210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,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и 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0"/>
              <p:cNvSpPr txBox="1"/>
              <p:nvPr/>
            </p:nvSpPr>
            <p:spPr>
              <a:xfrm>
                <a:off x="5940360" y="2781360"/>
                <a:ext cx="28069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5,7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и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7,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750960" y="4653000"/>
                <a:ext cx="449424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и  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22"/>
              <p:cNvSpPr txBox="1"/>
              <p:nvPr/>
            </p:nvSpPr>
            <p:spPr>
              <a:xfrm>
                <a:off x="669960" y="3881520"/>
                <a:ext cx="25480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и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4" name="Rectangle 23"/>
          <p:cNvSpPr/>
          <p:nvPr/>
        </p:nvSpPr>
        <p:spPr>
          <a:xfrm>
            <a:off x="2771640" y="5300640"/>
            <a:ext cx="43200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1763640" y="1989000"/>
            <a:ext cx="43200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7380360" y="2060640"/>
            <a:ext cx="431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2124000" y="2997360"/>
            <a:ext cx="432000" cy="502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8"/>
          <p:cNvSpPr/>
          <p:nvPr/>
        </p:nvSpPr>
        <p:spPr>
          <a:xfrm>
            <a:off x="7164360" y="2924280"/>
            <a:ext cx="43200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9"/>
          <p:cNvSpPr/>
          <p:nvPr/>
        </p:nvSpPr>
        <p:spPr>
          <a:xfrm>
            <a:off x="1619280" y="4076640"/>
            <a:ext cx="431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0"/>
          <p:cNvSpPr/>
          <p:nvPr/>
        </p:nvSpPr>
        <p:spPr>
          <a:xfrm>
            <a:off x="3279960" y="1197000"/>
            <a:ext cx="21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равните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инадлежит ли графику функции у = х 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точ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BD21301_"/>
          <p:cNvPicPr/>
          <p:nvPr/>
        </p:nvPicPr>
        <p:blipFill>
          <a:blip r:embed="rId1"/>
          <a:stretch/>
        </p:blipFill>
        <p:spPr>
          <a:xfrm>
            <a:off x="7956720" y="2492280"/>
            <a:ext cx="433080" cy="433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0" y="1844640"/>
          <a:ext cx="42926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4640"/>
                    <a:ext cx="42926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6"/>
          <p:cNvSpPr/>
          <p:nvPr/>
        </p:nvSpPr>
        <p:spPr>
          <a:xfrm>
            <a:off x="4914360" y="236232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А ( - 1;  1 )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1" descr="BD14755_"/>
          <p:cNvPicPr/>
          <p:nvPr/>
        </p:nvPicPr>
        <p:blipFill>
          <a:blip r:embed="rId4"/>
          <a:stretch/>
        </p:blipFill>
        <p:spPr>
          <a:xfrm>
            <a:off x="7956720" y="34290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3"/>
          <p:cNvSpPr/>
          <p:nvPr/>
        </p:nvSpPr>
        <p:spPr>
          <a:xfrm>
            <a:off x="4861440" y="328464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Arial"/>
              </a:rPr>
              <a:t>В ( 1; - 1 )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4789080" y="4292640"/>
            <a:ext cx="30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С ( 7; - 2401 )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5" descr="BD14755_"/>
          <p:cNvPicPr/>
          <p:nvPr/>
        </p:nvPicPr>
        <p:blipFill>
          <a:blip r:embed="rId5"/>
          <a:stretch/>
        </p:blipFill>
        <p:spPr>
          <a:xfrm>
            <a:off x="8028000" y="443700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Арифметический  корень</a:t>
            </a:r>
            <a:br>
              <a:rPr sz="3200"/>
            </a:b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п-ой  степ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395280" y="1773360"/>
                <a:ext cx="16556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3" name="Picture 6" descr="SUPER043"/>
          <p:cNvPicPr/>
          <p:nvPr/>
        </p:nvPicPr>
        <p:blipFill>
          <a:blip r:embed="rId1"/>
          <a:stretch/>
        </p:blipFill>
        <p:spPr>
          <a:xfrm>
            <a:off x="3708360" y="2133720"/>
            <a:ext cx="1506600" cy="324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4" name="Object 13"/>
              <p:cNvSpPr txBox="1"/>
              <p:nvPr/>
            </p:nvSpPr>
            <p:spPr>
              <a:xfrm>
                <a:off x="5867280" y="2997360"/>
                <a:ext cx="22971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5"/>
              <p:cNvSpPr txBox="1"/>
              <p:nvPr/>
            </p:nvSpPr>
            <p:spPr>
              <a:xfrm>
                <a:off x="5292720" y="2133720"/>
                <a:ext cx="27367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0,3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6"/>
              <p:cNvSpPr txBox="1"/>
              <p:nvPr/>
            </p:nvSpPr>
            <p:spPr>
              <a:xfrm>
                <a:off x="539640" y="2781360"/>
                <a:ext cx="204948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7"/>
              <p:cNvSpPr txBox="1"/>
              <p:nvPr/>
            </p:nvSpPr>
            <p:spPr>
              <a:xfrm>
                <a:off x="5867280" y="4437000"/>
                <a:ext cx="17272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Text Box 18"/>
          <p:cNvSpPr/>
          <p:nvPr/>
        </p:nvSpPr>
        <p:spPr>
          <a:xfrm>
            <a:off x="2053440" y="1989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2"/>
              <p:cNvSpPr txBox="1"/>
              <p:nvPr/>
            </p:nvSpPr>
            <p:spPr>
              <a:xfrm>
                <a:off x="539640" y="5157720"/>
                <a:ext cx="29988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e>
                    </m:rad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24"/>
          <p:cNvSpPr/>
          <p:nvPr/>
        </p:nvSpPr>
        <p:spPr>
          <a:xfrm>
            <a:off x="7598160" y="450864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2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8103240" y="314172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4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2558520" y="328464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1--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2916360" y="3141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2917800" y="364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8102880" y="227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3566160" y="558972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2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>
            <a:off x="395280" y="1413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 вы  думаете,  что  называется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рифметическим  корнем  п-ой  степени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2"/>
          <p:cNvSpPr/>
          <p:nvPr/>
        </p:nvSpPr>
        <p:spPr>
          <a:xfrm>
            <a:off x="324000" y="1413000"/>
            <a:ext cx="8496000" cy="172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рифметическим  корнем  п-ой  степени  из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отрицательного  числа  а  называется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отрицательное  число,  п-я  степень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торого  равна  а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3"/>
          <p:cNvSpPr/>
          <p:nvPr/>
        </p:nvSpPr>
        <p:spPr>
          <a:xfrm>
            <a:off x="2916000" y="1413000"/>
            <a:ext cx="27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числите: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4"/>
              <p:cNvSpPr txBox="1"/>
              <p:nvPr/>
            </p:nvSpPr>
            <p:spPr>
              <a:xfrm>
                <a:off x="4349880" y="5475240"/>
                <a:ext cx="361476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7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3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Text Box 36"/>
          <p:cNvSpPr/>
          <p:nvPr/>
        </p:nvSpPr>
        <p:spPr>
          <a:xfrm>
            <a:off x="7887600" y="58053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3,9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8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80"/>
                            </p:stCondLst>
                            <p:childTnLst>
                              <p:par>
                                <p:cTn id="452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4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9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4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9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4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8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8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940"/>
                            </p:stCondLst>
                            <p:childTnLst>
                              <p:par>
                                <p:cTn id="5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шите  уравн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PRFSSR"/>
          <p:cNvPicPr/>
          <p:nvPr/>
        </p:nvPicPr>
        <p:blipFill>
          <a:blip r:embed="rId1"/>
          <a:stretch/>
        </p:blipFill>
        <p:spPr>
          <a:xfrm>
            <a:off x="0" y="3979800"/>
            <a:ext cx="3348000" cy="2878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Object 11"/>
              <p:cNvSpPr txBox="1"/>
              <p:nvPr/>
            </p:nvSpPr>
            <p:spPr>
              <a:xfrm>
                <a:off x="1908000" y="3141720"/>
                <a:ext cx="21592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3"/>
              <p:cNvSpPr txBox="1"/>
              <p:nvPr/>
            </p:nvSpPr>
            <p:spPr>
              <a:xfrm>
                <a:off x="6084720" y="2608200"/>
                <a:ext cx="20894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Text Box 6"/>
          <p:cNvSpPr/>
          <p:nvPr/>
        </p:nvSpPr>
        <p:spPr>
          <a:xfrm>
            <a:off x="1260720" y="1700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1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260720" y="2492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2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333800" y="3213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3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510520" y="1700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4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510520" y="2924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5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5"/>
              <p:cNvSpPr txBox="1"/>
              <p:nvPr/>
            </p:nvSpPr>
            <p:spPr>
              <a:xfrm>
                <a:off x="6012000" y="1628640"/>
                <a:ext cx="2800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7"/>
              <p:cNvSpPr txBox="1"/>
              <p:nvPr/>
            </p:nvSpPr>
            <p:spPr>
              <a:xfrm>
                <a:off x="1835280" y="1641600"/>
                <a:ext cx="2376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8"/>
              <p:cNvSpPr txBox="1"/>
              <p:nvPr/>
            </p:nvSpPr>
            <p:spPr>
              <a:xfrm>
                <a:off x="1835280" y="2421000"/>
                <a:ext cx="18730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9"/>
              <p:cNvSpPr txBox="1"/>
              <p:nvPr/>
            </p:nvSpPr>
            <p:spPr>
              <a:xfrm>
                <a:off x="4067280" y="3860640"/>
                <a:ext cx="3024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0"/>
              <p:cNvSpPr txBox="1"/>
              <p:nvPr/>
            </p:nvSpPr>
            <p:spPr>
              <a:xfrm>
                <a:off x="4067280" y="4508640"/>
                <a:ext cx="2952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21"/>
          <p:cNvSpPr/>
          <p:nvPr/>
        </p:nvSpPr>
        <p:spPr>
          <a:xfrm>
            <a:off x="1835280" y="1700280"/>
            <a:ext cx="280800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-2;  х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1835280" y="2492280"/>
            <a:ext cx="280800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рней  нет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1835280" y="3213000"/>
            <a:ext cx="3240000" cy="503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-1/2;  х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1/2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6084720" y="1700280"/>
            <a:ext cx="273528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 = 1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6084720" y="2924280"/>
            <a:ext cx="2735280" cy="504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 = -3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3494160" y="39337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6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7"/>
          <p:cNvSpPr/>
          <p:nvPr/>
        </p:nvSpPr>
        <p:spPr>
          <a:xfrm>
            <a:off x="3995640" y="3860640"/>
            <a:ext cx="493236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-1; х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1; х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-3; х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3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3494160" y="4653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7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9"/>
          <p:cNvSpPr/>
          <p:nvPr/>
        </p:nvSpPr>
        <p:spPr>
          <a:xfrm>
            <a:off x="3995640" y="4653000"/>
            <a:ext cx="4897440" cy="503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9;  х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3494160" y="53737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8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3494160" y="6093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9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32"/>
              <p:cNvSpPr txBox="1"/>
              <p:nvPr/>
            </p:nvSpPr>
            <p:spPr>
              <a:xfrm>
                <a:off x="4140360" y="5300640"/>
                <a:ext cx="324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3"/>
          <p:cNvSpPr/>
          <p:nvPr/>
        </p:nvSpPr>
        <p:spPr>
          <a:xfrm>
            <a:off x="3995640" y="5373720"/>
            <a:ext cx="489744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 -1;  х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34"/>
              <p:cNvSpPr txBox="1"/>
              <p:nvPr/>
            </p:nvSpPr>
            <p:spPr>
              <a:xfrm>
                <a:off x="4067280" y="5950080"/>
                <a:ext cx="3168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9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35"/>
          <p:cNvSpPr/>
          <p:nvPr/>
        </p:nvSpPr>
        <p:spPr>
          <a:xfrm>
            <a:off x="3995640" y="6093000"/>
            <a:ext cx="4897440" cy="502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16;  х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25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100"/>
                            </p:stCondLst>
                            <p:childTnLst>
                              <p:par>
                                <p:cTn id="6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600"/>
                            </p:stCondLst>
                            <p:childTnLst>
                              <p:par>
                                <p:cTn id="6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600"/>
                            </p:stCondLst>
                            <p:childTnLst>
                              <p:par>
                                <p:cTn id="6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600"/>
                            </p:stCondLst>
                            <p:childTnLst>
                              <p:par>
                                <p:cTn id="7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600"/>
                            </p:stCondLst>
                            <p:childTnLst>
                              <p:par>
                                <p:cTn id="7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600"/>
                            </p:stCondLst>
                            <p:childTnLst>
                              <p:par>
                                <p:cTn id="7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600"/>
                            </p:stCondLst>
                            <p:childTnLst>
                              <p:par>
                                <p:cTn id="7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600"/>
                            </p:stCondLst>
                            <p:childTnLst>
                              <p:par>
                                <p:cTn id="7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600"/>
                            </p:stCondLst>
                            <p:childTnLst>
                              <p:par>
                                <p:cTn id="8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омашнее 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0755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.20,  №№ 532;  534;  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JOKES040"/>
          <p:cNvPicPr/>
          <p:nvPr/>
        </p:nvPicPr>
        <p:blipFill>
          <a:blip r:embed="rId1"/>
          <a:stretch/>
        </p:blipFill>
        <p:spPr>
          <a:xfrm>
            <a:off x="1979640" y="2481120"/>
            <a:ext cx="5472000" cy="3891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JOKES040"/>
          <p:cNvPicPr/>
          <p:nvPr/>
        </p:nvPicPr>
        <p:blipFill>
          <a:blip r:embed="rId2"/>
          <a:stretch/>
        </p:blipFill>
        <p:spPr>
          <a:xfrm>
            <a:off x="1979640" y="2492280"/>
            <a:ext cx="54720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Самостоятельная 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0" y="1557360"/>
          <a:ext cx="9144000" cy="52815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№ </a:t>
                      </a:r>
                      <a:r>
                        <a:rPr b="1" i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.   Выпишите  выражения,  которые  имеют  смысл: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№ </a:t>
                      </a:r>
                      <a:r>
                        <a:rPr b="1" i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.  Вычислите: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№ </a:t>
                      </a:r>
                      <a:r>
                        <a:rPr b="1" i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.   Решите  уравнения: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7" name="Object 46"/>
              <p:cNvSpPr txBox="1"/>
              <p:nvPr/>
            </p:nvSpPr>
            <p:spPr>
              <a:xfrm>
                <a:off x="4716360" y="2637000"/>
                <a:ext cx="442764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7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g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03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t xml:space="preserve">0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53"/>
              <p:cNvSpPr txBox="1"/>
              <p:nvPr/>
            </p:nvSpPr>
            <p:spPr>
              <a:xfrm>
                <a:off x="179280" y="2637000"/>
                <a:ext cx="42498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-81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deg>
                        <m:r>
                          <m:t xml:space="preserve">7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5071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Text Box 34"/>
          <p:cNvSpPr/>
          <p:nvPr/>
        </p:nvSpPr>
        <p:spPr>
          <a:xfrm>
            <a:off x="541440" y="1052640"/>
            <a:ext cx="23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6445440" y="1052640"/>
            <a:ext cx="23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56"/>
              <p:cNvSpPr txBox="1"/>
              <p:nvPr/>
            </p:nvSpPr>
            <p:spPr>
              <a:xfrm>
                <a:off x="0" y="3933720"/>
                <a:ext cx="421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>
                      <m:t xml:space="preserve">5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deg>
                        <m:r>
                          <m:t xml:space="preserve">7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59"/>
              <p:cNvSpPr txBox="1"/>
              <p:nvPr/>
            </p:nvSpPr>
            <p:spPr>
              <a:xfrm>
                <a:off x="4643280" y="3933720"/>
                <a:ext cx="42483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>
                      <m:t xml:space="preserve">3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-64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-3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60"/>
              <p:cNvSpPr txBox="1"/>
              <p:nvPr/>
            </p:nvSpPr>
            <p:spPr>
              <a:xfrm>
                <a:off x="1403280" y="6093000"/>
                <a:ext cx="19447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1"/>
              <p:cNvSpPr txBox="1"/>
              <p:nvPr/>
            </p:nvSpPr>
            <p:spPr>
              <a:xfrm>
                <a:off x="755640" y="5445000"/>
                <a:ext cx="22320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62"/>
              <p:cNvSpPr txBox="1"/>
              <p:nvPr/>
            </p:nvSpPr>
            <p:spPr>
              <a:xfrm>
                <a:off x="5940360" y="5445000"/>
                <a:ext cx="20890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63"/>
              <p:cNvSpPr txBox="1"/>
              <p:nvPr/>
            </p:nvSpPr>
            <p:spPr>
              <a:xfrm>
                <a:off x="6372360" y="6021360"/>
                <a:ext cx="15843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4"/>
              <p:cNvSpPr txBox="1"/>
              <p:nvPr/>
            </p:nvSpPr>
            <p:spPr>
              <a:xfrm>
                <a:off x="755640" y="5084640"/>
                <a:ext cx="20876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65"/>
              <p:cNvSpPr txBox="1"/>
              <p:nvPr/>
            </p:nvSpPr>
            <p:spPr>
              <a:xfrm>
                <a:off x="5867280" y="5084640"/>
                <a:ext cx="1800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70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700"/>
                            </p:stCondLst>
                            <p:childTnLst>
                              <p:par>
                                <p:cTn id="8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700"/>
                            </p:stCondLst>
                            <p:childTnLst>
                              <p:par>
                                <p:cTn id="8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700"/>
                            </p:stCondLst>
                            <p:childTnLst>
                              <p:par>
                                <p:cTn id="8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6700"/>
                            </p:stCondLst>
                            <p:childTnLst>
                              <p:par>
                                <p:cTn id="9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7700"/>
                            </p:stCondLst>
                            <p:childTnLst>
                              <p:par>
                                <p:cTn id="9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22:50:00Z</dcterms:created>
  <dc:creator>Марина</dc:creator>
  <dc:description/>
  <dc:language>en-US</dc:language>
  <cp:lastModifiedBy>User</cp:lastModifiedBy>
  <dcterms:modified xsi:type="dcterms:W3CDTF">2017-08-28T02:06:34Z</dcterms:modified>
  <cp:revision>7</cp:revision>
  <dc:subject/>
  <dc:title>Свойства арифметического корня п-ой степени.</dc:title>
</cp:coreProperties>
</file>