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5.png" ContentType="image/png"/>
  <Override PartName="/ppt/media/image1.jpeg" ContentType="image/jpeg"/>
  <Override PartName="/ppt/media/image10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B113-705C-4BEA-91D9-5E0715667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1D54-B7CD-4188-AD16-09642DD71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8DAF-C89D-4335-BF6E-1AED7B2E6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C5A4-28E5-454A-B80A-F2B9C3049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32B2-1942-4258-9F16-71D0A76F4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6DD4-0A6C-4CA6-AB49-19ED623E8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0627-8FC6-402D-BAC1-F708AB2CA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BCC7-ECEF-449B-8F70-1B00212A3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74C0-9208-4A62-9B93-27DA9236C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F8BB-B37D-482A-9D06-A6B0D441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0EB0-B70A-4010-91B6-7A4550D9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EBC5-DA9C-4D1A-B7EF-96E462FD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3509A-BE08-4CE0-B708-07564F6C98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7" descr="768x576_67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768x576_67"/>
          <p:cNvPicPr/>
          <p:nvPr/>
        </p:nvPicPr>
        <p:blipFill>
          <a:blip r:embed="rId1"/>
          <a:stretch/>
        </p:blipFill>
        <p:spPr>
          <a:xfrm>
            <a:off x="0" y="61920"/>
            <a:ext cx="9144000" cy="6796080"/>
          </a:xfrm>
          <a:prstGeom prst="rect">
            <a:avLst/>
          </a:prstGeom>
          <a:ln w="0">
            <a:noFill/>
          </a:ln>
        </p:spPr>
      </p:pic>
      <p:sp>
        <p:nvSpPr>
          <p:cNvPr id="72" name="Cloud"/>
          <p:cNvSpPr/>
          <p:nvPr/>
        </p:nvSpPr>
        <p:spPr>
          <a:xfrm>
            <a:off x="4859280" y="260280"/>
            <a:ext cx="2743200" cy="1224000"/>
          </a:xfrm>
          <a:custGeom>
            <a:avLst/>
            <a:gdLst>
              <a:gd name="textAreaLeft" fmla="*/ 378000 w 2743200"/>
              <a:gd name="textAreaRight" fmla="*/ 2170080 w 2743200"/>
              <a:gd name="textAreaTop" fmla="*/ 184680 h 1224000"/>
              <a:gd name="textAreaBottom" fmla="*/ 982440 h 12240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0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49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299"/>
                  <a:pt x="6247" y="20299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6"/>
                  <a:pt x="11036" y="21596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6"/>
                  <a:pt x="15802" y="18946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0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0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50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2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09"/>
                  <a:pt x="2172" y="13109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/>
          </a:solidFill>
          <a:ln w="9360">
            <a:solidFill>
              <a:srgbClr val="bbe0e3"/>
            </a:solidFill>
            <a:miter/>
          </a:ln>
          <a:effectLst>
            <a:outerShdw dist="107932" dir="2700000" blurRad="0" rotWithShape="0">
              <a:srgbClr val="99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5"/>
          <p:cNvSpPr/>
          <p:nvPr/>
        </p:nvSpPr>
        <p:spPr>
          <a:xfrm>
            <a:off x="2484360" y="260280"/>
            <a:ext cx="1292400" cy="1332000"/>
          </a:xfrm>
          <a:custGeom>
            <a:avLst/>
            <a:gdLst>
              <a:gd name="textAreaLeft" fmla="*/ 294840 w 1292400"/>
              <a:gd name="textAreaRight" fmla="*/ 997560 w 1292400"/>
              <a:gd name="textAreaTop" fmla="*/ 303840 h 1332000"/>
              <a:gd name="textAreaBottom" fmla="*/ 1028160 h 133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f796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0_795e4_bf026e1f_S"/>
          <p:cNvPicPr/>
          <p:nvPr/>
        </p:nvPicPr>
        <p:blipFill>
          <a:blip r:embed="rId2"/>
          <a:stretch/>
        </p:blipFill>
        <p:spPr>
          <a:xfrm>
            <a:off x="2700360" y="4508640"/>
            <a:ext cx="1428840" cy="122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75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7 0.05328 C 0.081 0.06527 0.102 0.07193 0.124 0.07193 C 0.149 0.07193 0.169 0.06527 0.183 0.05328 L 0.25 0 E">
                                      <p:cBhvr>
                                        <p:cTn id="184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09767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windowslivewriterblackwondertoysfrommcdonalds-cb09catfish-cartoon2"/>
          <p:cNvPicPr/>
          <p:nvPr/>
        </p:nvPicPr>
        <p:blipFill>
          <a:blip r:embed="rId2"/>
          <a:srcRect l="0" t="0" r="1960" b="1457"/>
          <a:stretch/>
        </p:blipFill>
        <p:spPr>
          <a:xfrm>
            <a:off x="2124000" y="0"/>
            <a:ext cx="4772160" cy="4505400"/>
          </a:xfrm>
          <a:prstGeom prst="rect">
            <a:avLst/>
          </a:prstGeom>
          <a:ln w="0">
            <a:noFill/>
          </a:ln>
        </p:spPr>
      </p:pic>
      <p:sp>
        <p:nvSpPr>
          <p:cNvPr id="80" name="WordArt 16"/>
          <p:cNvSpPr txBox="1"/>
          <p:nvPr/>
        </p:nvSpPr>
        <p:spPr>
          <a:xfrm>
            <a:off x="1332000" y="4653000"/>
            <a:ext cx="62672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07932" dir="13500000" blurRad="0" rotWithShape="0">
                    <a:srgbClr val="d8d8d8">
                      <a:alpha val="50000"/>
                    </a:srgbClr>
                  </a:outerShdw>
                </a:effectLst>
                <a:latin typeface="Arial Black"/>
              </a:rPr>
              <a:t>Спасибо!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07932" dir="13500000" blurRad="0" rotWithShape="0">
                  <a:srgbClr val="d8d8d8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0_795e4_bf026e1f_S"/>
          <p:cNvPicPr/>
          <p:nvPr/>
        </p:nvPicPr>
        <p:blipFill>
          <a:blip r:embed="rId2"/>
          <a:stretch/>
        </p:blipFill>
        <p:spPr>
          <a:xfrm>
            <a:off x="4067280" y="404640"/>
            <a:ext cx="1428480" cy="1229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"/>
          <p:cNvPicPr/>
          <p:nvPr/>
        </p:nvPicPr>
        <p:blipFill>
          <a:blip r:embed="rId3"/>
          <a:stretch/>
        </p:blipFill>
        <p:spPr>
          <a:xfrm>
            <a:off x="5724360" y="3500280"/>
            <a:ext cx="1457640" cy="1256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"/>
          <p:cNvPicPr/>
          <p:nvPr/>
        </p:nvPicPr>
        <p:blipFill>
          <a:blip r:embed="rId4"/>
          <a:stretch/>
        </p:blipFill>
        <p:spPr>
          <a:xfrm rot="5953200">
            <a:off x="1062000" y="3267000"/>
            <a:ext cx="1457280" cy="1206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132821752371002293"/>
          <p:cNvPicPr/>
          <p:nvPr/>
        </p:nvPicPr>
        <p:blipFill>
          <a:blip r:embed="rId5"/>
          <a:stretch/>
        </p:blipFill>
        <p:spPr>
          <a:xfrm>
            <a:off x="2484360" y="4221000"/>
            <a:ext cx="32385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3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0.04662 0.028 0.08259 0.062 0.08259 C 0.097 0.08259 0.125 0.04662 0.125 0 C 0.125 -0.04662 0.153 -0.08259 0.188 -0.08259 C 0.222 -0.08259 0.25 -0.04662 0.25 0 E">
                                      <p:cBhvr>
                                        <p:cTn id="32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1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02 E">
                                      <p:cBhvr>
                                        <p:cTn id="50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0_9c3_c7fe38c8_XL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0228"/>
          <p:cNvPicPr/>
          <p:nvPr/>
        </p:nvPicPr>
        <p:blipFill>
          <a:blip r:embed="rId2"/>
          <a:stretch/>
        </p:blipFill>
        <p:spPr>
          <a:xfrm rot="1396800">
            <a:off x="539640" y="0"/>
            <a:ext cx="3048120" cy="409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18662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8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Лебеди, птица, детеныши, плавать, семья, забота обои, картинки, фот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2" descr="e6903d51e074b63c0697e06b31abfaf1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768x576_67"/>
          <p:cNvPicPr/>
          <p:nvPr/>
        </p:nvPicPr>
        <p:blipFill>
          <a:blip r:embed="rId1"/>
          <a:stretch/>
        </p:blipFill>
        <p:spPr>
          <a:xfrm>
            <a:off x="0" y="61920"/>
            <a:ext cx="9144000" cy="6796080"/>
          </a:xfrm>
          <a:prstGeom prst="rect">
            <a:avLst/>
          </a:prstGeom>
          <a:ln w="0">
            <a:noFill/>
          </a:ln>
        </p:spPr>
      </p:pic>
      <p:sp>
        <p:nvSpPr>
          <p:cNvPr id="60" name="Cloud"/>
          <p:cNvSpPr/>
          <p:nvPr/>
        </p:nvSpPr>
        <p:spPr>
          <a:xfrm>
            <a:off x="4859280" y="260280"/>
            <a:ext cx="2743200" cy="1224000"/>
          </a:xfrm>
          <a:custGeom>
            <a:avLst/>
            <a:gdLst>
              <a:gd name="textAreaLeft" fmla="*/ 378000 w 2743200"/>
              <a:gd name="textAreaRight" fmla="*/ 2170080 w 2743200"/>
              <a:gd name="textAreaTop" fmla="*/ 184680 h 1224000"/>
              <a:gd name="textAreaBottom" fmla="*/ 982440 h 12240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0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49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299"/>
                  <a:pt x="6247" y="20299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6"/>
                  <a:pt x="11036" y="21596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6"/>
                  <a:pt x="15802" y="18946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0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0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50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2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09"/>
                  <a:pt x="2172" y="13109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/>
          </a:solidFill>
          <a:ln w="9360">
            <a:solidFill>
              <a:srgbClr val="bbe0e3"/>
            </a:solidFill>
            <a:miter/>
          </a:ln>
          <a:effectLst>
            <a:outerShdw dist="107932" dir="2700000" blurRad="0" rotWithShape="0">
              <a:srgbClr val="99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0"/>
          <p:cNvSpPr/>
          <p:nvPr/>
        </p:nvSpPr>
        <p:spPr>
          <a:xfrm>
            <a:off x="2484360" y="260280"/>
            <a:ext cx="1292400" cy="1332000"/>
          </a:xfrm>
          <a:custGeom>
            <a:avLst/>
            <a:gdLst>
              <a:gd name="textAreaLeft" fmla="*/ 294840 w 1292400"/>
              <a:gd name="textAreaRight" fmla="*/ 997560 w 1292400"/>
              <a:gd name="textAreaTop" fmla="*/ 303840 h 1332000"/>
              <a:gd name="textAreaBottom" fmla="*/ 1028160 h 133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f796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10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768x576_67"/>
          <p:cNvPicPr/>
          <p:nvPr/>
        </p:nvPicPr>
        <p:blipFill>
          <a:blip r:embed="rId1"/>
          <a:stretch/>
        </p:blipFill>
        <p:spPr>
          <a:xfrm>
            <a:off x="0" y="0"/>
            <a:ext cx="9144000" cy="7056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1604516818662e99835795fefa285535c6a05587dc1_b"/>
          <p:cNvPicPr/>
          <p:nvPr/>
        </p:nvPicPr>
        <p:blipFill>
          <a:blip r:embed="rId2"/>
          <a:stretch/>
        </p:blipFill>
        <p:spPr>
          <a:xfrm>
            <a:off x="1476360" y="3184560"/>
            <a:ext cx="3995640" cy="367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768x576_67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dep_3779249-Silhouette-of-an-oil-refinery-with-chimneys"/>
          <p:cNvPicPr/>
          <p:nvPr/>
        </p:nvPicPr>
        <p:blipFill>
          <a:blip r:embed="rId2"/>
          <a:stretch/>
        </p:blipFill>
        <p:spPr>
          <a:xfrm>
            <a:off x="2195640" y="765000"/>
            <a:ext cx="2952720" cy="263844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7"/>
          <p:cNvSpPr/>
          <p:nvPr/>
        </p:nvSpPr>
        <p:spPr>
          <a:xfrm>
            <a:off x="1619280" y="2924280"/>
            <a:ext cx="814320" cy="866520"/>
          </a:xfrm>
          <a:custGeom>
            <a:avLst/>
            <a:gdLst>
              <a:gd name="textAreaLeft" fmla="*/ 468360 w 814320"/>
              <a:gd name="textAreaRight" fmla="*/ 687240 w 814320"/>
              <a:gd name="textAreaTop" fmla="*/ 116640 h 866520"/>
              <a:gd name="textAreaBottom" fmla="*/ 370800 h 8665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Cloud"/>
          <p:cNvSpPr/>
          <p:nvPr/>
        </p:nvSpPr>
        <p:spPr>
          <a:xfrm>
            <a:off x="468360" y="3357720"/>
            <a:ext cx="8351640" cy="2735280"/>
          </a:xfrm>
          <a:custGeom>
            <a:avLst/>
            <a:gdLst>
              <a:gd name="textAreaLeft" fmla="*/ 1150920 w 8351640"/>
              <a:gd name="textAreaRight" fmla="*/ 6606720 w 8351640"/>
              <a:gd name="textAreaTop" fmla="*/ 412920 h 2735280"/>
              <a:gd name="textAreaBottom" fmla="*/ 2195640 h 273528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0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49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299"/>
                  <a:pt x="6247" y="20299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6"/>
                  <a:pt x="11036" y="21596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6"/>
                  <a:pt x="15802" y="18946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0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0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50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2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09"/>
                  <a:pt x="2172" y="13109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30T11:55:37Z</dcterms:created>
  <dc:creator>Admin</dc:creator>
  <dc:description/>
  <dc:language>en-US</dc:language>
  <cp:lastModifiedBy>Александр</cp:lastModifiedBy>
  <dcterms:modified xsi:type="dcterms:W3CDTF">2017-09-04T08:23:05Z</dcterms:modified>
  <cp:revision>19</cp:revision>
  <dc:subject/>
  <dc:title>Слайд 1</dc:title>
</cp:coreProperties>
</file>