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F81-4E86-401A-95D0-94C0D98B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A44-65B3-4B02-9AB1-1FE3D98D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30D-DE63-4530-BEF9-ED037DBD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0B3-0681-41A2-8C6F-3B9C7353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7AB-5983-4FB2-BF87-E297DE5B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4A5-239C-421D-8320-2D2C9BB6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FC6-8017-4588-A53C-C4F5F559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7DC-2227-4638-A75B-59FAC5CB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712-AA5B-4361-BF88-027523D8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3F6-6C38-4BCC-A7E7-F79B9183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277-8010-443C-9031-8F6EB458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88D-F36E-4DFC-9FD6-7EC6D2D6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A7BA-4F95-473B-81C8-D9D025DF5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7" descr="768x576_67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768x576_67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72" name="Cloud"/>
          <p:cNvSpPr/>
          <p:nvPr/>
        </p:nvSpPr>
        <p:spPr>
          <a:xfrm>
            <a:off x="4859280" y="260280"/>
            <a:ext cx="2743200" cy="122400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0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49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0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0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50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2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  <a:effectLst>
            <a:outerShdw dist="107932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2484360" y="260280"/>
            <a:ext cx="1292400" cy="1332000"/>
          </a:xfrm>
          <a:custGeom>
            <a:avLst/>
            <a:gdLst>
              <a:gd name="textAreaLeft" fmla="*/ 294840 w 1292400"/>
              <a:gd name="textAreaRight" fmla="*/ 997560 w 1292400"/>
              <a:gd name="textAreaTop" fmla="*/ 303840 h 1332000"/>
              <a:gd name="textAreaBottom" fmla="*/ 1028160 h 13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79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0_795e4_bf026e1f_S"/>
          <p:cNvPicPr/>
          <p:nvPr/>
        </p:nvPicPr>
        <p:blipFill>
          <a:blip r:embed="rId2"/>
          <a:stretch/>
        </p:blipFill>
        <p:spPr>
          <a:xfrm>
            <a:off x="2700360" y="4508640"/>
            <a:ext cx="142884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5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28 C 0.081 0.06527 0.102 0.07193 0.124 0.07193 C 0.149 0.07193 0.169 0.06527 0.183 0.05328 L 0.25 0 E">
                                      <p:cBhvr>
                                        <p:cTn id="18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976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windowslivewriterblackwondertoysfrommcdonalds-cb09catfish-cartoon2"/>
          <p:cNvPicPr/>
          <p:nvPr/>
        </p:nvPicPr>
        <p:blipFill>
          <a:blip r:embed="rId2"/>
          <a:srcRect l="0" t="0" r="1960" b="1457"/>
          <a:stretch/>
        </p:blipFill>
        <p:spPr>
          <a:xfrm>
            <a:off x="2124000" y="0"/>
            <a:ext cx="4772160" cy="4505400"/>
          </a:xfrm>
          <a:prstGeom prst="rect">
            <a:avLst/>
          </a:prstGeom>
          <a:ln w="0">
            <a:noFill/>
          </a:ln>
        </p:spPr>
      </p:pic>
      <p:sp>
        <p:nvSpPr>
          <p:cNvPr id="80" name="WordArt 16"/>
          <p:cNvSpPr txBox="1"/>
          <p:nvPr/>
        </p:nvSpPr>
        <p:spPr>
          <a:xfrm>
            <a:off x="1332000" y="4653000"/>
            <a:ext cx="62672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d8d8d8">
                      <a:alpha val="50000"/>
                    </a:srgbClr>
                  </a:outerShdw>
                </a:effectLst>
                <a:latin typeface="Arial Black"/>
              </a:rPr>
              <a:t>Спасибо!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3500000" blurRad="0" rotWithShape="0">
                  <a:srgbClr val="d8d8d8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0_795e4_bf026e1f_S"/>
          <p:cNvPicPr/>
          <p:nvPr/>
        </p:nvPicPr>
        <p:blipFill>
          <a:blip r:embed="rId2"/>
          <a:stretch/>
        </p:blipFill>
        <p:spPr>
          <a:xfrm>
            <a:off x="4067280" y="404640"/>
            <a:ext cx="1428480" cy="1229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>
            <a:off x="5724360" y="3500280"/>
            <a:ext cx="1457640" cy="125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4"/>
          <a:stretch/>
        </p:blipFill>
        <p:spPr>
          <a:xfrm rot="5953200">
            <a:off x="1062000" y="3267000"/>
            <a:ext cx="1457280" cy="120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132821752371002293"/>
          <p:cNvPicPr/>
          <p:nvPr/>
        </p:nvPicPr>
        <p:blipFill>
          <a:blip r:embed="rId5"/>
          <a:stretch/>
        </p:blipFill>
        <p:spPr>
          <a:xfrm>
            <a:off x="2484360" y="4221000"/>
            <a:ext cx="32385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2 0.028 0.08259 0.062 0.08259 C 0.097 0.08259 0.125 0.04662 0.125 0 C 0.125 -0.04662 0.153 -0.08259 0.188 -0.08259 C 0.222 -0.08259 0.25 -0.04662 0.25 0 E">
                                      <p:cBhvr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_9c3_c7fe38c8_XL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0228"/>
          <p:cNvPicPr/>
          <p:nvPr/>
        </p:nvPicPr>
        <p:blipFill>
          <a:blip r:embed="rId2"/>
          <a:stretch/>
        </p:blipFill>
        <p:spPr>
          <a:xfrm rot="1396800">
            <a:off x="539640" y="0"/>
            <a:ext cx="3048120" cy="40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8662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ебеди, птица, детеныши, плавать, семья, забота обои, картинки,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2" descr="e6903d51e074b63c0697e06b31abfaf1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768x576_67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60" name="Cloud"/>
          <p:cNvSpPr/>
          <p:nvPr/>
        </p:nvSpPr>
        <p:spPr>
          <a:xfrm>
            <a:off x="4859280" y="260280"/>
            <a:ext cx="2743200" cy="122400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0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49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0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0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50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2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  <a:effectLst>
            <a:outerShdw dist="107932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2484360" y="260280"/>
            <a:ext cx="1292400" cy="1332000"/>
          </a:xfrm>
          <a:custGeom>
            <a:avLst/>
            <a:gdLst>
              <a:gd name="textAreaLeft" fmla="*/ 294840 w 1292400"/>
              <a:gd name="textAreaRight" fmla="*/ 997560 w 1292400"/>
              <a:gd name="textAreaTop" fmla="*/ 303840 h 1332000"/>
              <a:gd name="textAreaBottom" fmla="*/ 1028160 h 13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79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768x576_67"/>
          <p:cNvPicPr/>
          <p:nvPr/>
        </p:nvPicPr>
        <p:blipFill>
          <a:blip r:embed="rId1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1604516818662e99835795fefa285535c6a05587dc1_b"/>
          <p:cNvPicPr/>
          <p:nvPr/>
        </p:nvPicPr>
        <p:blipFill>
          <a:blip r:embed="rId2"/>
          <a:stretch/>
        </p:blipFill>
        <p:spPr>
          <a:xfrm>
            <a:off x="1476360" y="3184560"/>
            <a:ext cx="39956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768x576_67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dep_3779249-Silhouette-of-an-oil-refinery-with-chimneys"/>
          <p:cNvPicPr/>
          <p:nvPr/>
        </p:nvPicPr>
        <p:blipFill>
          <a:blip r:embed="rId2"/>
          <a:stretch/>
        </p:blipFill>
        <p:spPr>
          <a:xfrm>
            <a:off x="2195640" y="765000"/>
            <a:ext cx="2952720" cy="26384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7"/>
          <p:cNvSpPr/>
          <p:nvPr/>
        </p:nvSpPr>
        <p:spPr>
          <a:xfrm>
            <a:off x="1619280" y="292428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loud"/>
          <p:cNvSpPr/>
          <p:nvPr/>
        </p:nvSpPr>
        <p:spPr>
          <a:xfrm>
            <a:off x="468360" y="3357720"/>
            <a:ext cx="8351640" cy="2735280"/>
          </a:xfrm>
          <a:custGeom>
            <a:avLst/>
            <a:gdLst>
              <a:gd name="textAreaLeft" fmla="*/ 1150920 w 8351640"/>
              <a:gd name="textAreaRight" fmla="*/ 6606720 w 8351640"/>
              <a:gd name="textAreaTop" fmla="*/ 412920 h 2735280"/>
              <a:gd name="textAreaBottom" fmla="*/ 2195640 h 2735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0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49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0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0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50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2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1:55:37Z</dcterms:created>
  <dc:creator>Admin</dc:creator>
  <dc:description/>
  <dc:language>en-US</dc:language>
  <cp:lastModifiedBy>Александр</cp:lastModifiedBy>
  <dcterms:modified xsi:type="dcterms:W3CDTF">2017-09-04T08:23:05Z</dcterms:modified>
  <cp:revision>19</cp:revision>
  <dc:subject/>
  <dc:title>Слайд 1</dc:title>
</cp:coreProperties>
</file>