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421-2261-4715-9333-7618827D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D24-5771-402D-B4A7-CE8220A1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869-55AF-4286-BA2A-EBED9F43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E84-CE7B-410D-9940-8079E7CF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F3E9-4F99-48C4-8209-9EF3E5C6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4DAE-2243-45B9-B09F-C9E87BD9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10F2-81B5-4956-A166-EE9A3E25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D2E7-A137-40CA-8EF1-3F360BB4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2B28-AC6B-425B-AA2F-B99F84A9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1423-6AC0-4A43-B346-93C6BB0E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8925-2688-4B82-8577-9662FFC3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C3E-26AC-467A-B4FA-31DBB64D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64A1-FC5C-4F1C-8A17-D7F00835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1405-8FBE-43A2-9213-3E74791B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433A-8475-4AFF-ADB8-36EDD920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18F5-9421-40ED-9822-67D5273B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4347-CC5D-4528-BD6D-9B220108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D6B-4984-4636-B573-0BF9CDFC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7E9-E7CA-4655-BFCE-2DF6B413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BE3-44C1-4AD2-9F8D-D72C4E32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A58-09D0-45C2-954D-012520DF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9F91-5432-49DC-8053-AD7BBCAB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0E0-492D-4E18-8D13-04BD28E7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60B-0626-4545-A6D2-8527951E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15DF-E2D8-4494-B9A5-676C26867C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A988-E71B-4B3C-A83F-6CFB0C9F22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3"/>
          <p:cNvSpPr/>
          <p:nvPr/>
        </p:nvSpPr>
        <p:spPr>
          <a:xfrm>
            <a:off x="0" y="0"/>
            <a:ext cx="9144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муниципальное автономное дошкольное  образовательное учреждение «Детский сад №14»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Мультимедийная разработка </a:t>
            </a:r>
            <a:br>
              <a:rPr sz="2800"/>
            </a:b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оектной деятельности в старшей группе</a:t>
            </a:r>
            <a:br>
              <a:rPr sz="2800"/>
            </a:b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«Библиодет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3124080" y="4114800"/>
            <a:ext cx="5791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: Байсарина Ирина Николаевна  Воспитатель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й катег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Гусев 2016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752480" y="380880"/>
            <a:ext cx="640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Ма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1. Фотэкспозиция «Мама и 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2.Выставка книг «Что читали наши мамы в детстве?»(опрос ма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2. Познавательный час «Всемирный день коше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Апр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1. « Вреднюшкины советы» - час веселых стих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2. Клуб весёлых и находчивых «Знатоки сказок»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3. К 70 летию образования Калининградской области посвящается.Беседа с просмотром презентации «Герои космоса - наши земляк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М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1.Конкурс чтецов «Победный ма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2. К 70 летию образования Калининградской области посвящается «Город любимый-город родной» экскурсия по горо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010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304920" y="579132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ы идём в любимую городскую библиотек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072"/>
          <p:cNvPicPr/>
          <p:nvPr/>
        </p:nvPicPr>
        <p:blipFill>
          <a:blip r:embed="rId1"/>
          <a:stretch/>
        </p:blipFill>
        <p:spPr>
          <a:xfrm>
            <a:off x="0" y="0"/>
            <a:ext cx="5029200" cy="334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085"/>
          <p:cNvPicPr/>
          <p:nvPr/>
        </p:nvPicPr>
        <p:blipFill>
          <a:blip r:embed="rId2"/>
          <a:stretch/>
        </p:blipFill>
        <p:spPr>
          <a:xfrm>
            <a:off x="3886200" y="3357720"/>
            <a:ext cx="5257800" cy="35002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5410080" y="2286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5334120" y="22860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здник «Посвящение в читатели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086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0" y="6019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здник «Посвящение в читатели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039"/>
          <p:cNvPicPr/>
          <p:nvPr/>
        </p:nvPicPr>
        <p:blipFill>
          <a:blip r:embed="rId1"/>
          <a:stretch/>
        </p:blipFill>
        <p:spPr>
          <a:xfrm>
            <a:off x="0" y="0"/>
            <a:ext cx="9144000" cy="6084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525780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Дом наставлений и советов» - экскурсия по библиотеке, знакомство со структурой библиоте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128"/>
          <p:cNvPicPr/>
          <p:nvPr/>
        </p:nvPicPr>
        <p:blipFill>
          <a:blip r:embed="rId1"/>
          <a:stretch/>
        </p:blipFill>
        <p:spPr>
          <a:xfrm>
            <a:off x="0" y="0"/>
            <a:ext cx="4648320" cy="3094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130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0942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0" y="2384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мечательный праздник, посвящённый Дню матери, прошёл 26 ноября в городской библиотеке. Дети старшей группы №4 МАДОУ детского сада №14  нарисовали портреты своих любимых мам и принесли их в библиотеку. Библиотекари радушно приняли детей и педагогов, оформили выставку детских рисунков. Ребята читали стихи о мамах, представляя свои работы. Детям представили мультимедийную презентацию на тему: «Мама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то была очередная встреча детей, воспитателей и сотрудников городской библиотеки в рамках проектной деятельности «Библиодетки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028"/>
          <p:cNvPicPr/>
          <p:nvPr/>
        </p:nvPicPr>
        <p:blipFill>
          <a:blip r:embed="rId1"/>
          <a:stretch/>
        </p:blipFill>
        <p:spPr>
          <a:xfrm>
            <a:off x="0" y="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-152280" y="4191120"/>
            <a:ext cx="9296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9 декабря в рамках совместного проекта «Библиодетки» в городской библиотеке провели мероприятие «Уроки милосердия», посвящённый детям с ограниченными возможност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Библиотекари  и воспитатели группы №4 «Теремок» МАДОУ детский сад №14 провели с детьми беседу, прочитали книги о добре, милосердии. Дети с большим удовольствием посмотрели презентацию «Уроки милосердия», мультипликационный фильм «Добро и зло», спели песню «Что такое доброта?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075"/>
          <p:cNvPicPr/>
          <p:nvPr/>
        </p:nvPicPr>
        <p:blipFill>
          <a:blip r:embed="rId1"/>
          <a:stretch/>
        </p:blipFill>
        <p:spPr>
          <a:xfrm>
            <a:off x="0" y="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0" y="5911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ждая встреча в библиотеке заканчивается просмотром  детских журна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031"/>
          <p:cNvPicPr/>
          <p:nvPr/>
        </p:nvPicPr>
        <p:blipFill>
          <a:blip r:embed="rId1"/>
          <a:stretch/>
        </p:blipFill>
        <p:spPr>
          <a:xfrm>
            <a:off x="0" y="0"/>
            <a:ext cx="9144000" cy="60847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0" y="3718080"/>
            <a:ext cx="914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ебята из группы «Теремок» детского сада № 14 пришли в Центральную детскую библиотеку на увлекательное занятие «Мы встречаем Новый Год и Рождество». Малыши узнали, как появились эти праздники, как отмечали их в Древней Руси, поговорили о рождественских обычаях других стран. Отгадывали новогодние и рождественские загадки и читали стихи.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  На прощание и библиотекари, и ребята дружно спели любимую песню «В лесу родилась ёлочка». А под украшенной огоньками праздничной елью ребят, по традиции, ждали подарки – интересные книги и яркие наклей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009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6"/>
          <p:cNvSpPr/>
          <p:nvPr/>
        </p:nvSpPr>
        <p:spPr>
          <a:xfrm>
            <a:off x="0" y="5715000"/>
            <a:ext cx="8991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Международный день книгодарения ,14 февраля,  дети группы №4 «Теремок» подарили любимой городской библиотеке новые, интересные, детские книги. И получили в подарок от библиотеки замечательные детские кни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1143000" y="228600"/>
            <a:ext cx="7315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рганизаторы проект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спитатель Байсарина Ирина Никола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м. директора по работе с детьми МБУ Гусевское библиотечное объединение Дорогова Татьяна Антанасов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ид проекта: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социальный, творческий, группов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родолжительность: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с сентября по май; долгосроч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Участники: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воспитанники старшей группы, воспитатели, библиотекари городской библиотеки, роди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бразовательная область интеграция образовательных областей: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речевое развитие, познавательное развитие, социально-коммуникативное развит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021"/>
          <p:cNvPicPr/>
          <p:nvPr/>
        </p:nvPicPr>
        <p:blipFill>
          <a:blip r:embed="rId1"/>
          <a:stretch/>
        </p:blipFill>
        <p:spPr>
          <a:xfrm>
            <a:off x="0" y="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0" y="6172200"/>
            <a:ext cx="8915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Международный день книгодарения ,14 февраля,  дети получили в подарок от любимой библиотеки замечательные детские кни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002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0339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0" y="45752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 8 марта библиотекари после опроса мам группы «Теремок» устроили выставку книг «Что читали наши мамы в детстве?» Дети в городской библиотеке  пели песни, читали стихи о маме, посмотрели и обсудили презентацию «Мама». Встреча детей и библиотекарей прошла в тёплой, дружеской атмосф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083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0" y="57913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ждая встреча в библиотеке заканчивается просмотром  детских журна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003"/>
          <p:cNvPicPr/>
          <p:nvPr/>
        </p:nvPicPr>
        <p:blipFill>
          <a:blip r:embed="rId1"/>
          <a:stretch/>
        </p:blipFill>
        <p:spPr>
          <a:xfrm>
            <a:off x="0" y="0"/>
            <a:ext cx="9144000" cy="60847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0" y="5410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16 марта дети группы №4 «Теремок» снова посетили городскую библиотеку. Они посмотрели и обсудили замечательную презентацию, посвящённую 70 летию образования Калининградской об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004"/>
          <p:cNvPicPr/>
          <p:nvPr/>
        </p:nvPicPr>
        <p:blipFill>
          <a:blip r:embed="rId1"/>
          <a:stretch/>
        </p:blipFill>
        <p:spPr>
          <a:xfrm>
            <a:off x="0" y="0"/>
            <a:ext cx="9144000" cy="60847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0" y="5562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начале апреля в библиотеке прошли « Вреднюшкины советы» - час веселых стихов. Дети рассказывали весёлые,юмористические стих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006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76320" y="5257800"/>
            <a:ext cx="90676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апреле в библиотеке прошла беседа с просмотром презентации «Герои космоса - наши земляки», посвящённая к 70 летию образования Калининградской об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20160420_110529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5"/>
          <p:cNvSpPr/>
          <p:nvPr/>
        </p:nvSpPr>
        <p:spPr>
          <a:xfrm>
            <a:off x="152280" y="54100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рамках проекта «Библиодетки» 20 апреля в день открытых дверей в детском саду прошёл литературный КВН «Знатоки сказок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20160420_114042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5"/>
          <p:cNvSpPr/>
          <p:nvPr/>
        </p:nvSpPr>
        <p:spPr>
          <a:xfrm>
            <a:off x="0" y="51181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Жюри литературного КВНа - библиотекари городской библиотеки:  ведущий библиотекарь Муниципального бюджетного учреждения «Гусевское библиотечное объединение» Парфёнова Нина Михайловна, библиотекарь Маврина Виктория Владимировна, библиотекарь Экс Людмила Васильев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DSC053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5"/>
          <p:cNvSpPr/>
          <p:nvPr/>
        </p:nvSpPr>
        <p:spPr>
          <a:xfrm>
            <a:off x="0" y="51228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 70 летию образования Калининградской области посвящается «Город любимый-город родной» экскурсия по городу.  Символ города - Л О С 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DSC053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0" y="5638680"/>
            <a:ext cx="9144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 70 летию образования Калининградской области посвящается «Город любимый-город родной» экскурсия по городу. Памятник Сергею Ивановичу Гусев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838080" y="1143000"/>
            <a:ext cx="7391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Актуальность проблемы: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настоящее время дети не стремятся посещать библиотеку и читать книги. Необходимую информацию в готовом виде все чаще берут из интернета, не оценивая ее содерж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вычки, закреплённые в детстве, остаются на всю жизнь, поэтому одной из важных проблем стало приобщение детей к миру книг через организацию совместного проекта детского сада и библиоте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DSC053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5"/>
          <p:cNvSpPr/>
          <p:nvPr/>
        </p:nvSpPr>
        <p:spPr>
          <a:xfrm>
            <a:off x="0" y="541008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 70 летию образования Калининградской области посвящается «Город любимый-город родной» экскурсия по городу. Памятник героям Первой Мировой вой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1290425772_image002"/>
          <p:cNvPicPr/>
          <p:nvPr/>
        </p:nvPicPr>
        <p:blipFill>
          <a:blip r:embed="rId1"/>
          <a:stretch/>
        </p:blipFill>
        <p:spPr>
          <a:xfrm>
            <a:off x="0" y="0"/>
            <a:ext cx="4600440" cy="56768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4952880" y="609480"/>
            <a:ext cx="396252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ект «Библиодетки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должается! Впереди множество встреч, бесед, праздников, просмотров презент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4"/>
          <p:cNvSpPr txBox="1"/>
          <p:nvPr/>
        </p:nvSpPr>
        <p:spPr>
          <a:xfrm>
            <a:off x="228600" y="2362320"/>
            <a:ext cx="8763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ff99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i="1" lang="en-US" sz="1800" spc="1" strike="noStrike">
              <a:ln w="9360">
                <a:solidFill>
                  <a:srgbClr val="99ff99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1676520" y="762120"/>
            <a:ext cx="624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Цель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спитание у дошкольников потребности в общении с книг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знакомить детей с разнообразием художественных жанров, приобщать   к чтению книг разной темат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развивать культуру чтения;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воспитывать бережное отношение к кни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752480" y="685800"/>
            <a:ext cx="6477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Работа с родителями (законными представителями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 консультации: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Если ребенок не хочет и не любит читать»;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Почему детям необходимо читать книги»;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Роль чтения в развитии ребенка дошкольного возраста»;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Воспитание будущего читателя»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 анкетирование: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Мама, папа, я – читающая семь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подбор фотографий для коллажа: «Наши мамы в детств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привлечение родителей к поиску стихов к различным праздник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2286000" y="457200"/>
            <a:ext cx="4952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Формы и методы работы: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литературная гостиная;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викторины;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беседы;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книжные выставки и тематические выставки рисунков и поделок;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конкурсы чтецов;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литературные игры и праздники;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экскурсии;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просмотр презент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2057400" y="609480"/>
            <a:ext cx="586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жидаемые результаты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повышение познавательной активности детей, расширение кругозора;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развитие у детей интереса к художественной литературе разных жанр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умение выбирать книгу, понимать её содержание и художественные   особенности, давать оценку произведению;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умение бережно относиться к кни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1676520" y="152280"/>
            <a:ext cx="5790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Этапы реализации: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Сентяб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Дом наставлений и советов» - экскурсия по библиотеке, знакомство со структурой библиоте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2. Праздник «Посвящение в читатели»</a:t>
            </a:r>
            <a:br>
              <a:rPr sz="1800"/>
            </a:b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Октяб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1. К 70 летию образования Калининградской области посвящ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иртуальная экскурсия по родному городу - мультимедийная презентация «Гумбиненн-Гусев» беседа с просмотром презент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2. «Дни литературы в Калининградской области». Знакомство с детскими писателями Калининградской области. Детский областной журнал «МУРР+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Нояб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1.«День рождения Деда Мороза». Письмо-поздравление по электронной почте Деда Мороза с фотографиями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2. «Материнское сердце» - конкурс чтецов, посвященный Дню матери.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Фотоколлаж -стенгазета фотографии маленьких м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1828800" y="304920"/>
            <a:ext cx="5638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Декаб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1.«Урок милосердия», посвящённый детям с ограниченными возможност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2. «Читаем вместе, читаем вслух» - игра – путешествие по зимним сказкам о Новом г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Янва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1.Мастер-класс «Рождеств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2. К 70 летию образования Калининградской области посвящ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3.Беседа с просмотром презентации «Гумбиненнский проры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Февр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1.«А ну-ка папы» - конкурсная програм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2.«Народные праздники» игровая программа. Знакомство,беседа,иг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4T16:33:22Z</dcterms:created>
  <dc:creator>Admin</dc:creator>
  <dc:description/>
  <dc:language>en-US</dc:language>
  <cp:lastModifiedBy>Пользователь Windows</cp:lastModifiedBy>
  <dcterms:modified xsi:type="dcterms:W3CDTF">2017-09-02T13:17:5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