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F13-C62B-4C8B-B733-428E1BDA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0E0-28B7-400E-ADF9-EC7AB1B4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C71-17BA-478B-BE7B-109C3727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645-6DB0-4C2A-A024-E370A983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A279-557C-40F7-AE45-0180B6F9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E32B-20B7-4A35-8F5E-A3B997C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55A1-9232-4E83-B410-1C935D9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7229-484E-4199-B6EB-EA768B2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F856-4358-4C63-9C07-116415C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880-11F7-48CC-BB1B-6DD2E11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0DD-9F33-4ACC-AEDE-F45BD73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102-9201-4CD8-BB3B-798A13F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0EC6-36F8-45DF-8DD7-BD38337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3B4-0726-4E93-A9D6-336A141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33BE-4034-4727-BC34-6B1C6ED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0D70-74C2-4F68-B278-C40889BE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D215-A6B4-4497-900A-48509660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16A-8652-478D-B5B4-6192176E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1E2-4B2F-484A-A344-7AE29677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3DA-DB6F-41FB-978B-37B4C6A9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268-7393-413C-8AEC-15D2ABC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A2D-8E67-41E7-B8D7-A87A553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13D-2149-4C36-9DCE-A7EE519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20-BC4B-4773-99AC-62AB5E6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Monotype Corsiv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Monotype Corsiv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Monotype Corsiva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DC85-EA0D-43F2-B3E9-0B6A839E72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Monotype Corsiva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Monotype Corsiva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F70-C07E-458A-93CF-C55593062E8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te4estvo.ru/praviteli-x-xiv-vv/64-yaroslav-mudryj.html" TargetMode="External"/><Relationship Id="rId3" Type="http://schemas.openxmlformats.org/officeDocument/2006/relationships/hyperlink" Target="http://ote4estvo.ru/praviteli-x-xiv-vv/64-yaroslav-mudryj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stovru.ru/Arhitect/nero.htm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Monotype Corsiva"/>
              </a:rPr>
              <a:t>Ростов Великий – древний город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0"/>
            <a:ext cx="8167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cc"/>
                </a:solidFill>
                <a:latin typeface="Impact"/>
              </a:rPr>
              <a:t>МБОУ «Хомутовская СОШ»</a:t>
            </a:r>
            <a:endParaRPr b="0" lang="en-US" sz="1800" spc="1" strike="noStrike">
              <a:ln w="0">
                <a:noFill/>
              </a:ln>
              <a:solidFill>
                <a:srgbClr val="33cc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cc"/>
                </a:solidFill>
                <a:latin typeface="Impact"/>
              </a:rPr>
              <a:t>доклад по окружающему миру </a:t>
            </a:r>
            <a:endParaRPr b="0" lang="en-US" sz="1800" spc="1" strike="noStrike">
              <a:ln w="0">
                <a:noFill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008320" y="5030280"/>
            <a:ext cx="412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Подготовил: Коротков Виктор</a:t>
            </a:r>
            <a:endParaRPr b="0" lang="en-US" sz="16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обучающийся 3-в класса</a:t>
            </a:r>
            <a:endParaRPr b="0" lang="en-US" sz="16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Консультант: Короткова И.В. </a:t>
            </a:r>
            <a:endParaRPr b="0" lang="en-US" sz="16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Руководитель: Козлова Н.М.</a:t>
            </a:r>
            <a:endParaRPr b="0" lang="en-US" sz="16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420360" y="6237000"/>
            <a:ext cx="26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2015 - 2016 учебный год</a:t>
            </a:r>
            <a:endParaRPr b="0" lang="en-US" sz="16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 северо-западе Ростова Великого на месте древней Варницкой слободы расположился Свято-Троицкий Варницкий монастырь. Он был основан в 1427 г. архиепископом Ростовским Ефремом на том самом месте, где стоял дом родителей Преподобного Сергия Радонежского - святых Марии и Кирилла. 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Троице-Сергиев Варницкий монастыр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6840" y="5029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дивительно, но факт: сегодня финифть производят только в двух точках мира: у нас в Ростове Великом и еще в одном небольшом городке во Франции. Больше – нигде. История создания промысла в Ростове Великом насчитывает более 200 лет. Бренд "Ростовская Финифть" известен на весь мир, а истинным воплотителем данной технологии на сегодняшний день является ЗАО "Фабрика "Ростовская Финифть".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Arial Black"/>
              </a:rPr>
              <a:t>Ростовская финиф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Ростов Великий, Ростов Великий. Рассве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2824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Спасо-Яковлевском Димитриевом монастыре, основанном в 14 веке святым Яковом, находятся мощи единственного Святого 18 века России святителя Димитрия Ростовского Чудотворц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Спасо-Яковлевский монастыр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Ростов Великий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28600" y="51055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Город Ростов Великий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находится в Ярославской области. 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Расположен он в 200 километрах от Москвы, северо-восточней столицы. 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Население Ростова Великого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36.000 человек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Ростов Великий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505320" y="0"/>
            <a:ext cx="56386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Мы не знаем, кто и как правил </a:t>
            </a:r>
            <a:r>
              <a:rPr b="1" lang="en-US" sz="1800" spc="-1" strike="noStrike">
                <a:solidFill>
                  <a:srgbClr val="800000"/>
                </a:solidFill>
                <a:latin typeface="Arial Black"/>
              </a:rPr>
              <a:t>Ростовом</a:t>
            </a: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 в древности. Обратившись к летописи, можно утверждать, что первым ростовским князем был 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Ярослав Мудрый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 Black"/>
              </a:rPr>
              <a:t>. В начале июля 989 года князь Борис, брат 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Ярослава Мудрого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 Black"/>
              </a:rPr>
              <a:t> крестил ростовчан в веру православную. Крещение проходило в озере Неро. 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Ростов Великий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33520" y="0"/>
            <a:ext cx="798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Black"/>
              </a:rPr>
              <a:t>Ростов Великий - один из древнейших русских городов- известен с 862 года.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 Black"/>
              </a:rPr>
              <a:t>Основанный славянами на землях финно-угорского племени мери.</a:t>
            </a:r>
            <a:endParaRPr b="0" lang="en-US" sz="24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 Х до середины XII века Ростов наряду с Суздалем являлся одним из центров Ростово-Суздальского княжества, входившего в состав Киевской Руси. 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    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Файл:Lake ne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Arial Black"/>
              </a:rPr>
              <a:t>Озеро Нер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90360" y="1371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Озеру по оценкам приблизительно 500 тысяч лет. Оно одно из немногих озёр предледникового периода в центральной Росси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370" name="" descr="Ростов Великий, Спасо-Яковлевский монастырь. Восх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80880" y="152280"/>
            <a:ext cx="85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 Black"/>
              </a:rPr>
              <a:t>Основные достопримечательности города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На сегодняшний день в Ростове насчитывают 323 памятника архитектуры, среди которых около 100 имеют федеральное значение. Вот основные из них: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Ростовский Кремль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  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Ростовская финифть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Спасо-Яковлевский монастырь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Свято-Троицкий Варницкий монастырь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огоявленский Авраамиев монастырь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Файл:Rostov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447920" y="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Ростовский Кремль</a:t>
            </a:r>
            <a:endParaRPr b="0" lang="en-US" sz="44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800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Достопримечательности Ростова можно начать  осматривать с местного Кремля.  Другое название этого замечательного сооружения – Митрополичий Двор.  Ростовский кремль - один из красивейших на русской земле. Со стороны озера Неро ростовская крепость с белокаменными башнями и стенами, из-за которых виднеются маковки церквей, выглядит подобно чудесному, сказочному городу. Не случайно здесь производились съемки таких фильмов, как "Садко", "Сказка о царе Салтане</a:t>
            </a:r>
            <a:endParaRPr b="0" lang="en-US" sz="18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5410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"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ffffff"/>
              </a:solidFill>
              <a:uFillTx/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Богоявленский Авраамиев монастырь</a:t>
            </a:r>
            <a:endParaRPr b="0" lang="en-US" sz="44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-360" y="1523880"/>
            <a:ext cx="2895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Один из древнейших на территории современного Ростова Великого. Монастырь стоит на берегу 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озера Неро </a:t>
            </a: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и очень живописно смотрится с воды. Он был основан в конце XI или начале XII века знаменитым святителем, Преподобным Авраамием Ростовским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7:49Z</dcterms:created>
  <dc:creator>вера</dc:creator>
  <dc:description/>
  <dc:language>en-US</dc:language>
  <cp:lastModifiedBy>РИК</cp:lastModifiedBy>
  <dcterms:modified xsi:type="dcterms:W3CDTF">2016-04-25T20:58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