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5B51-CCED-46EB-A1D1-0FF0979152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5B6-254F-43B5-A856-722F79650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3EA-18C4-4099-9F67-D6D477B4F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7BAA-EE6A-40E5-9CFC-4FD9AA87C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604D-91F7-4FB7-90E7-5B7CBC957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линей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8DC5-36A8-4E22-B163-0511E7438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 функции обратной пропорцион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6DB-78A0-4D73-8953-0A7EA5BD2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. Алгоритм построения графика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2A51-2FA1-419B-8451-5F88165F9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990-86B8-431D-90E3-31E74655A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1192-6569-48D8-86A4-30C113C06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285-6F7C-4EB4-9BAD-490B037C4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BEE6-C23A-4F1C-971A-59996224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9386-987D-4F3D-B0E8-61D731F4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7353-188D-40F3-B58E-50A2FD23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3ED0-6F1A-432C-8300-1B0B901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F313-2C99-459A-8755-94739927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9C41-9EE8-41E4-BE78-EB94257E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3FC3-6CE7-45F5-A4BA-A7337F93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7C5-63EA-4223-A80F-7CA46FB7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EF22-E416-4C2F-8853-2EFA5B19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1B7F-45C5-4DC3-A972-3DF70A5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D54-CD03-40C7-A310-BDA4DFB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C291-3781-44FB-8F8D-13B1A66E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36E4-5704-41B5-8609-B3324FE0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FAEA-B0E5-456D-86FB-F0D9394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15D5-4D55-49A5-B5F5-3F4B028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DBBA-A620-4C27-89D5-7759F0C2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9355-6C67-462A-8F27-4C90F40A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A70E-B845-49C0-9AEC-ECF0F9BD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AFE0-6355-4203-89E9-078C1FC6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341F-25A7-4ECC-82D6-D6872BC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0872-F2D6-4E34-908F-725B0D4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0BEF-EEF7-432B-AC72-662B991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EBC3-840E-475C-AF45-2236552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E7B5-3CEE-41C0-934A-B9FC9212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DCCB-D815-420C-852A-C688566043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8DF-06A2-48CA-8D0E-6D02A28DEF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7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27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7299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Графический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пособ  решения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истем  урав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63280" y="4221000"/>
            <a:ext cx="6875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250920" y="4869000"/>
          <a:ext cx="1944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869000"/>
                    <a:ext cx="1944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7164360" y="4869000"/>
          <a:ext cx="197964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4869000"/>
                    <a:ext cx="197964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4932360" y="4797360"/>
          <a:ext cx="208764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797360"/>
                    <a:ext cx="208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627280" y="4941720"/>
          <a:ext cx="201600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941720"/>
                    <a:ext cx="2016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9" descr="SUPER043"/>
          <p:cNvPicPr/>
          <p:nvPr/>
        </p:nvPicPr>
        <p:blipFill>
          <a:blip r:embed="rId9"/>
          <a:stretch/>
        </p:blipFill>
        <p:spPr>
          <a:xfrm>
            <a:off x="7524720" y="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324000" y="333360"/>
            <a:ext cx="5832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6156360" y="476280"/>
            <a:ext cx="2808360" cy="1596600"/>
            <a:chOff x="6156360" y="476280"/>
            <a:chExt cx="2808360" cy="1596600"/>
          </a:xfrm>
        </p:grpSpPr>
        <p:sp>
          <p:nvSpPr>
            <p:cNvPr id="269" name="Rectangle 7"/>
            <p:cNvSpPr/>
            <p:nvPr/>
          </p:nvSpPr>
          <p:spPr>
            <a:xfrm>
              <a:off x="6156360" y="476280"/>
              <a:ext cx="2670840" cy="15966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8"/>
                <p:cNvSpPr txBox="1"/>
                <p:nvPr/>
              </p:nvSpPr>
              <p:spPr>
                <a:xfrm>
                  <a:off x="6156360" y="549000"/>
                  <a:ext cx="2808360" cy="15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Rectangle 11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6"/>
          <p:cNvGrpSpPr/>
          <p:nvPr/>
        </p:nvGrpSpPr>
        <p:grpSpPr>
          <a:xfrm>
            <a:off x="826920" y="1844640"/>
            <a:ext cx="2881080" cy="1440000"/>
            <a:chOff x="826920" y="1844640"/>
            <a:chExt cx="2881080" cy="1440000"/>
          </a:xfrm>
        </p:grpSpPr>
        <p:sp>
          <p:nvSpPr>
            <p:cNvPr id="274" name="Rectangle 14"/>
            <p:cNvSpPr/>
            <p:nvPr/>
          </p:nvSpPr>
          <p:spPr>
            <a:xfrm>
              <a:off x="838440" y="1844640"/>
              <a:ext cx="2869560" cy="1440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5"/>
                <p:cNvSpPr txBox="1"/>
                <p:nvPr/>
              </p:nvSpPr>
              <p:spPr>
                <a:xfrm>
                  <a:off x="826920" y="1910160"/>
                  <a:ext cx="2294640" cy="13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Text Box 17"/>
          <p:cNvSpPr/>
          <p:nvPr/>
        </p:nvSpPr>
        <p:spPr>
          <a:xfrm>
            <a:off x="395280" y="33577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56000" y="4005360"/>
          <a:ext cx="541008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51"/>
          <p:cNvSpPr/>
          <p:nvPr/>
        </p:nvSpPr>
        <p:spPr>
          <a:xfrm>
            <a:off x="5421960" y="5373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2"/>
          <p:cNvGrpSpPr/>
          <p:nvPr/>
        </p:nvGrpSpPr>
        <p:grpSpPr>
          <a:xfrm>
            <a:off x="755640" y="4005360"/>
            <a:ext cx="1441440" cy="863640"/>
            <a:chOff x="755640" y="4005360"/>
            <a:chExt cx="1441440" cy="863640"/>
          </a:xfrm>
        </p:grpSpPr>
        <p:sp>
          <p:nvSpPr>
            <p:cNvPr id="280" name="Rectangle 53"/>
            <p:cNvSpPr/>
            <p:nvPr/>
          </p:nvSpPr>
          <p:spPr>
            <a:xfrm>
              <a:off x="755640" y="4005360"/>
              <a:ext cx="1441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54"/>
                <p:cNvSpPr txBox="1"/>
                <p:nvPr/>
              </p:nvSpPr>
              <p:spPr>
                <a:xfrm>
                  <a:off x="873000" y="4059000"/>
                  <a:ext cx="12488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58"/>
          <p:cNvGrpSpPr/>
          <p:nvPr/>
        </p:nvGrpSpPr>
        <p:grpSpPr>
          <a:xfrm>
            <a:off x="324000" y="5445000"/>
            <a:ext cx="2016000" cy="936360"/>
            <a:chOff x="324000" y="5445000"/>
            <a:chExt cx="2016000" cy="936360"/>
          </a:xfrm>
        </p:grpSpPr>
        <p:sp>
          <p:nvSpPr>
            <p:cNvPr id="283" name="Rectangle 56"/>
            <p:cNvSpPr/>
            <p:nvPr/>
          </p:nvSpPr>
          <p:spPr>
            <a:xfrm>
              <a:off x="742320" y="5445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57"/>
                <p:cNvSpPr txBox="1"/>
                <p:nvPr/>
              </p:nvSpPr>
              <p:spPr>
                <a:xfrm>
                  <a:off x="324000" y="5601960"/>
                  <a:ext cx="2016000" cy="64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85" name=""/>
          <p:cNvGraphicFramePr/>
          <p:nvPr/>
        </p:nvGraphicFramePr>
        <p:xfrm>
          <a:off x="2556000" y="5373720"/>
          <a:ext cx="202860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91"/>
          <p:cNvSpPr/>
          <p:nvPr/>
        </p:nvSpPr>
        <p:spPr>
          <a:xfrm>
            <a:off x="4859280" y="5300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2"/>
          <p:cNvSpPr/>
          <p:nvPr/>
        </p:nvSpPr>
        <p:spPr>
          <a:xfrm>
            <a:off x="1028880" y="335772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5"/>
          <p:cNvGrpSpPr/>
          <p:nvPr/>
        </p:nvGrpSpPr>
        <p:grpSpPr>
          <a:xfrm>
            <a:off x="324000" y="404640"/>
            <a:ext cx="1439640" cy="863640"/>
            <a:chOff x="324000" y="404640"/>
            <a:chExt cx="1439640" cy="863640"/>
          </a:xfrm>
        </p:grpSpPr>
        <p:sp>
          <p:nvSpPr>
            <p:cNvPr id="290" name="Rectangle 36"/>
            <p:cNvSpPr/>
            <p:nvPr/>
          </p:nvSpPr>
          <p:spPr>
            <a:xfrm>
              <a:off x="324000" y="404640"/>
              <a:ext cx="1439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37"/>
                <p:cNvSpPr txBox="1"/>
                <p:nvPr/>
              </p:nvSpPr>
              <p:spPr>
                <a:xfrm>
                  <a:off x="441360" y="458280"/>
                  <a:ext cx="12470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2" name="Group 38"/>
          <p:cNvGrpSpPr/>
          <p:nvPr/>
        </p:nvGrpSpPr>
        <p:grpSpPr>
          <a:xfrm>
            <a:off x="250920" y="2708280"/>
            <a:ext cx="2088720" cy="863640"/>
            <a:chOff x="250920" y="2708280"/>
            <a:chExt cx="2088720" cy="863640"/>
          </a:xfrm>
        </p:grpSpPr>
        <p:sp>
          <p:nvSpPr>
            <p:cNvPr id="293" name="Rectangle 39"/>
            <p:cNvSpPr/>
            <p:nvPr/>
          </p:nvSpPr>
          <p:spPr>
            <a:xfrm>
              <a:off x="684360" y="2708280"/>
              <a:ext cx="1591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40"/>
                <p:cNvSpPr txBox="1"/>
                <p:nvPr/>
              </p:nvSpPr>
              <p:spPr>
                <a:xfrm>
                  <a:off x="250920" y="2853000"/>
                  <a:ext cx="208872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5" name=""/>
          <p:cNvGraphicFramePr/>
          <p:nvPr/>
        </p:nvGraphicFramePr>
        <p:xfrm>
          <a:off x="2771640" y="2708280"/>
          <a:ext cx="2028960" cy="1158840"/>
        </p:xfrm>
        <a:graphic>
          <a:graphicData uri="http://schemas.openxmlformats.org/drawingml/2006/table">
            <a:tbl>
              <a:tblPr/>
              <a:tblGrid>
                <a:gridCol w="675000"/>
                <a:gridCol w="67752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Object 59"/>
          <p:cNvGraphicFramePr/>
          <p:nvPr/>
        </p:nvGraphicFramePr>
        <p:xfrm>
          <a:off x="5222880" y="404640"/>
          <a:ext cx="39211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2880" y="404640"/>
                    <a:ext cx="39211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96"/>
          <p:cNvGraphicFramePr/>
          <p:nvPr/>
        </p:nvGraphicFramePr>
        <p:xfrm>
          <a:off x="5219640" y="404640"/>
          <a:ext cx="3924360" cy="645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04640"/>
                    <a:ext cx="392436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0920" y="1197000"/>
          <a:ext cx="5554440" cy="1214280"/>
        </p:xfrm>
        <a:graphic>
          <a:graphicData uri="http://schemas.openxmlformats.org/drawingml/2006/table">
            <a:tbl>
              <a:tblPr/>
              <a:tblGrid>
                <a:gridCol w="691920"/>
                <a:gridCol w="696960"/>
                <a:gridCol w="693720"/>
                <a:gridCol w="695520"/>
                <a:gridCol w="693720"/>
                <a:gridCol w="693720"/>
                <a:gridCol w="691920"/>
                <a:gridCol w="6969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Freeform 127"/>
          <p:cNvSpPr/>
          <p:nvPr/>
        </p:nvSpPr>
        <p:spPr>
          <a:xfrm>
            <a:off x="6146640" y="1547640"/>
            <a:ext cx="2814840" cy="510732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5107320"/>
              <a:gd name="textAreaBottom" fmla="*/ 5107680 h 5107320"/>
            </a:gdLst>
            <a:ahLst/>
            <a:rect l="textAreaLeft" t="textAreaTop" r="textAreaRight" b="textAreaBottom"/>
            <a:pathLst>
              <a:path w="1773" h="3217">
                <a:moveTo>
                  <a:pt x="0" y="3217"/>
                </a:moveTo>
                <a:lnTo>
                  <a:pt x="1773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28"/>
          <p:cNvSpPr/>
          <p:nvPr/>
        </p:nvSpPr>
        <p:spPr>
          <a:xfrm>
            <a:off x="6804000" y="522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9"/>
          <p:cNvSpPr/>
          <p:nvPr/>
        </p:nvSpPr>
        <p:spPr>
          <a:xfrm>
            <a:off x="8317080" y="2565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30"/>
          <p:cNvSpPr/>
          <p:nvPr/>
        </p:nvSpPr>
        <p:spPr>
          <a:xfrm>
            <a:off x="6892920" y="5318280"/>
            <a:ext cx="1440" cy="336240"/>
          </a:xfrm>
          <a:custGeom>
            <a:avLst/>
            <a:gdLst>
              <a:gd name="textAreaLeft" fmla="*/ 0 w 1440"/>
              <a:gd name="textAreaRight" fmla="*/ 1800 w 1440"/>
              <a:gd name="textAreaTop" fmla="*/ 0 h 336240"/>
              <a:gd name="textAreaBottom" fmla="*/ 336240 h 336240"/>
            </a:gdLst>
            <a:ahLst/>
            <a:rect l="textAreaLeft" t="textAreaTop" r="textAreaRight" b="textAreaBottom"/>
            <a:pathLst>
              <a:path w="1" h="212">
                <a:moveTo>
                  <a:pt x="0" y="0"/>
                </a:moveTo>
                <a:lnTo>
                  <a:pt x="0" y="21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31"/>
          <p:cNvSpPr/>
          <p:nvPr/>
        </p:nvSpPr>
        <p:spPr>
          <a:xfrm>
            <a:off x="6892920" y="5303880"/>
            <a:ext cx="393840" cy="14400"/>
          </a:xfrm>
          <a:custGeom>
            <a:avLst/>
            <a:gdLst>
              <a:gd name="textAreaLeft" fmla="*/ 0 w 393840"/>
              <a:gd name="textAreaRight" fmla="*/ 394200 w 39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48" h="9">
                <a:moveTo>
                  <a:pt x="248" y="9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32"/>
          <p:cNvSpPr/>
          <p:nvPr/>
        </p:nvSpPr>
        <p:spPr>
          <a:xfrm>
            <a:off x="8388360" y="2637000"/>
            <a:ext cx="1440" cy="3065400"/>
          </a:xfrm>
          <a:custGeom>
            <a:avLst/>
            <a:gdLst>
              <a:gd name="textAreaLeft" fmla="*/ 0 w 1440"/>
              <a:gd name="textAreaRight" fmla="*/ 1800 w 1440"/>
              <a:gd name="textAreaTop" fmla="*/ 0 h 3065400"/>
              <a:gd name="textAreaBottom" fmla="*/ 3065760 h 3065400"/>
            </a:gdLst>
            <a:ahLst/>
            <a:rect l="textAreaLeft" t="textAreaTop" r="textAreaRight" b="textAreaBottom"/>
            <a:pathLst>
              <a:path w="1" h="1931">
                <a:moveTo>
                  <a:pt x="0" y="0"/>
                </a:moveTo>
                <a:lnTo>
                  <a:pt x="0" y="1931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33"/>
          <p:cNvSpPr/>
          <p:nvPr/>
        </p:nvSpPr>
        <p:spPr>
          <a:xfrm>
            <a:off x="7236000" y="2637000"/>
            <a:ext cx="1137960" cy="28440"/>
          </a:xfrm>
          <a:custGeom>
            <a:avLst/>
            <a:gdLst>
              <a:gd name="textAreaLeft" fmla="*/ 0 w 1137960"/>
              <a:gd name="textAreaRight" fmla="*/ 1138320 w 1137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717" h="18">
                <a:moveTo>
                  <a:pt x="717" y="0"/>
                </a:moveTo>
                <a:lnTo>
                  <a:pt x="0" y="1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4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1; 1);  (3; 9)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5"/>
          <p:cNvSpPr/>
          <p:nvPr/>
        </p:nvSpPr>
        <p:spPr>
          <a:xfrm>
            <a:off x="64454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6"/>
          <p:cNvSpPr/>
          <p:nvPr/>
        </p:nvSpPr>
        <p:spPr>
          <a:xfrm>
            <a:off x="839016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7" descr="SUPER043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8"/>
          <p:cNvGrpSpPr/>
          <p:nvPr/>
        </p:nvGrpSpPr>
        <p:grpSpPr>
          <a:xfrm>
            <a:off x="6156360" y="476280"/>
            <a:ext cx="2987280" cy="1596600"/>
            <a:chOff x="6156360" y="476280"/>
            <a:chExt cx="2987280" cy="1596600"/>
          </a:xfrm>
        </p:grpSpPr>
        <p:sp>
          <p:nvSpPr>
            <p:cNvPr id="315" name="Rectangle 9"/>
            <p:cNvSpPr/>
            <p:nvPr/>
          </p:nvSpPr>
          <p:spPr>
            <a:xfrm>
              <a:off x="6156360" y="476280"/>
              <a:ext cx="2841480" cy="15966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10"/>
                <p:cNvSpPr txBox="1"/>
                <p:nvPr/>
              </p:nvSpPr>
              <p:spPr>
                <a:xfrm>
                  <a:off x="6156360" y="549000"/>
                  <a:ext cx="2987280" cy="15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x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7"/>
          <p:cNvGrpSpPr/>
          <p:nvPr/>
        </p:nvGrpSpPr>
        <p:grpSpPr>
          <a:xfrm>
            <a:off x="826920" y="1773360"/>
            <a:ext cx="2808360" cy="1942920"/>
            <a:chOff x="826920" y="1773360"/>
            <a:chExt cx="2808360" cy="1942920"/>
          </a:xfrm>
        </p:grpSpPr>
        <p:sp>
          <p:nvSpPr>
            <p:cNvPr id="320" name="Rectangle 15"/>
            <p:cNvSpPr/>
            <p:nvPr/>
          </p:nvSpPr>
          <p:spPr>
            <a:xfrm>
              <a:off x="838080" y="1844640"/>
              <a:ext cx="2797200" cy="1871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6"/>
                <p:cNvSpPr txBox="1"/>
                <p:nvPr/>
              </p:nvSpPr>
              <p:spPr>
                <a:xfrm>
                  <a:off x="826920" y="1773360"/>
                  <a:ext cx="2592720" cy="19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Text Box 18"/>
          <p:cNvSpPr/>
          <p:nvPr/>
        </p:nvSpPr>
        <p:spPr>
          <a:xfrm>
            <a:off x="438120" y="3654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98840" y="4302000"/>
          <a:ext cx="6087960" cy="121932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48"/>
          <p:cNvSpPr/>
          <p:nvPr/>
        </p:nvSpPr>
        <p:spPr>
          <a:xfrm>
            <a:off x="5464800" y="5670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9"/>
          <p:cNvGrpSpPr/>
          <p:nvPr/>
        </p:nvGrpSpPr>
        <p:grpSpPr>
          <a:xfrm>
            <a:off x="0" y="4005360"/>
            <a:ext cx="2410920" cy="1439280"/>
            <a:chOff x="0" y="4005360"/>
            <a:chExt cx="2410920" cy="1439280"/>
          </a:xfrm>
        </p:grpSpPr>
        <p:sp>
          <p:nvSpPr>
            <p:cNvPr id="326" name="Rectangle 50"/>
            <p:cNvSpPr/>
            <p:nvPr/>
          </p:nvSpPr>
          <p:spPr>
            <a:xfrm>
              <a:off x="0" y="4005360"/>
              <a:ext cx="241092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Object 51"/>
                <p:cNvSpPr txBox="1"/>
                <p:nvPr/>
              </p:nvSpPr>
              <p:spPr>
                <a:xfrm>
                  <a:off x="635040" y="4114080"/>
                  <a:ext cx="121032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Group 52"/>
          <p:cNvGrpSpPr/>
          <p:nvPr/>
        </p:nvGrpSpPr>
        <p:grpSpPr>
          <a:xfrm>
            <a:off x="366840" y="5742000"/>
            <a:ext cx="2016000" cy="936360"/>
            <a:chOff x="366840" y="5742000"/>
            <a:chExt cx="2016000" cy="936360"/>
          </a:xfrm>
        </p:grpSpPr>
        <p:sp>
          <p:nvSpPr>
            <p:cNvPr id="329" name="Rectangle 53"/>
            <p:cNvSpPr/>
            <p:nvPr/>
          </p:nvSpPr>
          <p:spPr>
            <a:xfrm>
              <a:off x="785160" y="5742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54"/>
                <p:cNvSpPr txBox="1"/>
                <p:nvPr/>
              </p:nvSpPr>
              <p:spPr>
                <a:xfrm>
                  <a:off x="366840" y="5910840"/>
                  <a:ext cx="201600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1" name=""/>
          <p:cNvGraphicFramePr/>
          <p:nvPr/>
        </p:nvGraphicFramePr>
        <p:xfrm>
          <a:off x="2598840" y="5670720"/>
          <a:ext cx="202860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9"/>
          <p:cNvSpPr/>
          <p:nvPr/>
        </p:nvSpPr>
        <p:spPr>
          <a:xfrm>
            <a:off x="4902120" y="5597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1072080" y="365436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4356000" y="1197000"/>
          <a:ext cx="481032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197000"/>
                    <a:ext cx="48103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7"/>
          <p:cNvGraphicFramePr/>
          <p:nvPr/>
        </p:nvGraphicFramePr>
        <p:xfrm>
          <a:off x="4334040" y="1197000"/>
          <a:ext cx="480996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040" y="1197000"/>
                    <a:ext cx="48099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79280" y="549360"/>
          <a:ext cx="6088320" cy="121896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  <a:gridCol w="676080"/>
                <a:gridCol w="676440"/>
                <a:gridCol w="676440"/>
                <a:gridCol w="674640"/>
                <a:gridCol w="677880"/>
                <a:gridCol w="67788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Group 43"/>
          <p:cNvGrpSpPr/>
          <p:nvPr/>
        </p:nvGrpSpPr>
        <p:grpSpPr>
          <a:xfrm>
            <a:off x="-324000" y="1700280"/>
            <a:ext cx="2411280" cy="1439280"/>
            <a:chOff x="-324000" y="1700280"/>
            <a:chExt cx="2411280" cy="1439280"/>
          </a:xfrm>
        </p:grpSpPr>
        <p:sp>
          <p:nvSpPr>
            <p:cNvPr id="341" name="Rectangle 44"/>
            <p:cNvSpPr/>
            <p:nvPr/>
          </p:nvSpPr>
          <p:spPr>
            <a:xfrm>
              <a:off x="-324000" y="1700280"/>
              <a:ext cx="241128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45"/>
                <p:cNvSpPr txBox="1"/>
                <p:nvPr/>
              </p:nvSpPr>
              <p:spPr>
                <a:xfrm>
                  <a:off x="311040" y="1809000"/>
                  <a:ext cx="121068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Group 46"/>
          <p:cNvGrpSpPr/>
          <p:nvPr/>
        </p:nvGrpSpPr>
        <p:grpSpPr>
          <a:xfrm>
            <a:off x="179280" y="3213000"/>
            <a:ext cx="2016360" cy="936360"/>
            <a:chOff x="179280" y="3213000"/>
            <a:chExt cx="2016360" cy="936360"/>
          </a:xfrm>
        </p:grpSpPr>
        <p:sp>
          <p:nvSpPr>
            <p:cNvPr id="344" name="Rectangle 47"/>
            <p:cNvSpPr/>
            <p:nvPr/>
          </p:nvSpPr>
          <p:spPr>
            <a:xfrm>
              <a:off x="597600" y="3213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48"/>
                <p:cNvSpPr txBox="1"/>
                <p:nvPr/>
              </p:nvSpPr>
              <p:spPr>
                <a:xfrm>
                  <a:off x="179280" y="3381840"/>
                  <a:ext cx="201636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6" name=""/>
          <p:cNvGraphicFramePr/>
          <p:nvPr/>
        </p:nvGraphicFramePr>
        <p:xfrm>
          <a:off x="2411280" y="3141720"/>
          <a:ext cx="2028960" cy="1158840"/>
        </p:xfrm>
        <a:graphic>
          <a:graphicData uri="http://schemas.openxmlformats.org/drawingml/2006/table">
            <a:tbl>
              <a:tblPr/>
              <a:tblGrid>
                <a:gridCol w="675000"/>
                <a:gridCol w="67752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Freeform 64"/>
          <p:cNvSpPr/>
          <p:nvPr/>
        </p:nvSpPr>
        <p:spPr>
          <a:xfrm>
            <a:off x="4600440" y="2841480"/>
            <a:ext cx="3672000" cy="386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3868920"/>
              <a:gd name="textAreaBottom" fmla="*/ 3869280 h 3868920"/>
            </a:gdLst>
            <a:ahLst/>
            <a:rect l="textAreaLeft" t="textAreaTop" r="textAreaRight" b="textAreaBottom"/>
            <a:pathLst>
              <a:path w="2313" h="2437">
                <a:moveTo>
                  <a:pt x="2313" y="243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5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6" descr="SUPER043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54936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1"/>
          <p:cNvGrpSpPr/>
          <p:nvPr/>
        </p:nvGrpSpPr>
        <p:grpSpPr>
          <a:xfrm>
            <a:off x="5148360" y="333360"/>
            <a:ext cx="3671640" cy="3166560"/>
            <a:chOff x="5148360" y="333360"/>
            <a:chExt cx="3671640" cy="3166560"/>
          </a:xfrm>
        </p:grpSpPr>
        <p:sp>
          <p:nvSpPr>
            <p:cNvPr id="353" name="Rectangle 7"/>
            <p:cNvSpPr/>
            <p:nvPr/>
          </p:nvSpPr>
          <p:spPr>
            <a:xfrm>
              <a:off x="5148360" y="482760"/>
              <a:ext cx="3671640" cy="29408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8"/>
                <p:cNvSpPr txBox="1"/>
                <p:nvPr/>
              </p:nvSpPr>
              <p:spPr>
                <a:xfrm>
                  <a:off x="5286960" y="333360"/>
                  <a:ext cx="2738520" cy="31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Group 12"/>
          <p:cNvGrpSpPr/>
          <p:nvPr/>
        </p:nvGrpSpPr>
        <p:grpSpPr>
          <a:xfrm>
            <a:off x="179280" y="1989000"/>
            <a:ext cx="2376360" cy="1152360"/>
            <a:chOff x="179280" y="1989000"/>
            <a:chExt cx="2376360" cy="1152360"/>
          </a:xfrm>
        </p:grpSpPr>
        <p:sp>
          <p:nvSpPr>
            <p:cNvPr id="356" name="Rectangle 13"/>
            <p:cNvSpPr/>
            <p:nvPr/>
          </p:nvSpPr>
          <p:spPr>
            <a:xfrm>
              <a:off x="672480" y="1989000"/>
              <a:ext cx="1810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14"/>
                <p:cNvSpPr txBox="1"/>
                <p:nvPr/>
              </p:nvSpPr>
              <p:spPr>
                <a:xfrm>
                  <a:off x="179280" y="2234880"/>
                  <a:ext cx="237636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58" name=""/>
          <p:cNvGraphicFramePr/>
          <p:nvPr/>
        </p:nvGraphicFramePr>
        <p:xfrm>
          <a:off x="2700360" y="1989000"/>
          <a:ext cx="2028960" cy="115884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411280" y="3645000"/>
          <a:ext cx="6048360" cy="1218960"/>
        </p:xfrm>
        <a:graphic>
          <a:graphicData uri="http://schemas.openxmlformats.org/drawingml/2006/table">
            <a:tbl>
              <a:tblPr/>
              <a:tblGrid>
                <a:gridCol w="862200"/>
                <a:gridCol w="865080"/>
                <a:gridCol w="863640"/>
                <a:gridCol w="863640"/>
                <a:gridCol w="863640"/>
                <a:gridCol w="863640"/>
                <a:gridCol w="86652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0" name="Group 64"/>
          <p:cNvGrpSpPr/>
          <p:nvPr/>
        </p:nvGrpSpPr>
        <p:grpSpPr>
          <a:xfrm>
            <a:off x="0" y="3500280"/>
            <a:ext cx="2411280" cy="1455840"/>
            <a:chOff x="0" y="3500280"/>
            <a:chExt cx="2411280" cy="1455840"/>
          </a:xfrm>
        </p:grpSpPr>
        <p:sp>
          <p:nvSpPr>
            <p:cNvPr id="361" name="Rectangle 62"/>
            <p:cNvSpPr/>
            <p:nvPr/>
          </p:nvSpPr>
          <p:spPr>
            <a:xfrm>
              <a:off x="0" y="351612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63"/>
                <p:cNvSpPr txBox="1"/>
                <p:nvPr/>
              </p:nvSpPr>
              <p:spPr>
                <a:xfrm>
                  <a:off x="324000" y="350028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71"/>
          <p:cNvGrpSpPr/>
          <p:nvPr/>
        </p:nvGrpSpPr>
        <p:grpSpPr>
          <a:xfrm>
            <a:off x="324000" y="5013360"/>
            <a:ext cx="3168000" cy="1510920"/>
            <a:chOff x="324000" y="5013360"/>
            <a:chExt cx="3168000" cy="1510920"/>
          </a:xfrm>
        </p:grpSpPr>
        <p:sp>
          <p:nvSpPr>
            <p:cNvPr id="364" name="Rectangle 72"/>
            <p:cNvSpPr/>
            <p:nvPr/>
          </p:nvSpPr>
          <p:spPr>
            <a:xfrm>
              <a:off x="981360" y="5013360"/>
              <a:ext cx="241344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73"/>
                <p:cNvSpPr txBox="1"/>
                <p:nvPr/>
              </p:nvSpPr>
              <p:spPr>
                <a:xfrm>
                  <a:off x="324000" y="5399280"/>
                  <a:ext cx="316800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AutoShape 74">
            <a:hlinkClick r:id="" action="ppaction://hlinkshowjump?jump=nextslide"/>
          </p:cNvPr>
          <p:cNvSpPr/>
          <p:nvPr/>
        </p:nvSpPr>
        <p:spPr>
          <a:xfrm>
            <a:off x="4140360" y="5516640"/>
            <a:ext cx="2519280" cy="576360"/>
          </a:xfrm>
          <a:custGeom>
            <a:avLst/>
            <a:gdLst>
              <a:gd name="textAreaLeft" fmla="*/ 37080 w 2519280"/>
              <a:gd name="textAreaRight" fmla="*/ 2482200 w 25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4369" h="21600">
                <a:moveTo>
                  <a:pt x="0" y="0"/>
                </a:moveTo>
                <a:lnTo>
                  <a:pt x="94369" y="0"/>
                </a:lnTo>
                <a:lnTo>
                  <a:pt x="94369" y="21600"/>
                </a:lnTo>
                <a:lnTo>
                  <a:pt x="0" y="21600"/>
                </a:lnTo>
                <a:close/>
              </a:path>
              <a:path fill="lightenLess" w="94369" h="21600">
                <a:moveTo>
                  <a:pt x="0" y="0"/>
                </a:moveTo>
                <a:lnTo>
                  <a:pt x="94369" y="0"/>
                </a:lnTo>
                <a:lnTo>
                  <a:pt x="92969" y="1400"/>
                </a:lnTo>
                <a:lnTo>
                  <a:pt x="1400" y="1400"/>
                </a:lnTo>
                <a:close/>
              </a:path>
              <a:path fill="darken" w="94369" h="21600">
                <a:moveTo>
                  <a:pt x="94369" y="0"/>
                </a:moveTo>
                <a:lnTo>
                  <a:pt x="94369" y="21600"/>
                </a:lnTo>
                <a:lnTo>
                  <a:pt x="92969" y="20200"/>
                </a:lnTo>
                <a:lnTo>
                  <a:pt x="92969" y="1400"/>
                </a:lnTo>
                <a:close/>
              </a:path>
              <a:path fill="darkenLess" w="94369" h="21600">
                <a:moveTo>
                  <a:pt x="94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69" y="20200"/>
                </a:lnTo>
                <a:close/>
              </a:path>
              <a:path fill="lighten" w="94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дро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2241720" y="3868560"/>
            <a:ext cx="469800" cy="115920"/>
            <a:chOff x="2241720" y="3868560"/>
            <a:chExt cx="469800" cy="115920"/>
          </a:xfrm>
        </p:grpSpPr>
        <p:sp>
          <p:nvSpPr>
            <p:cNvPr id="368" name="Rectangle 5"/>
            <p:cNvSpPr/>
            <p:nvPr/>
          </p:nvSpPr>
          <p:spPr>
            <a:xfrm>
              <a:off x="2339280" y="3868560"/>
              <a:ext cx="3578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6"/>
                <p:cNvSpPr txBox="1"/>
                <p:nvPr/>
              </p:nvSpPr>
              <p:spPr>
                <a:xfrm>
                  <a:off x="2241720" y="3898080"/>
                  <a:ext cx="469800" cy="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Text Box 7"/>
          <p:cNvSpPr/>
          <p:nvPr/>
        </p:nvSpPr>
        <p:spPr>
          <a:xfrm>
            <a:off x="1034640" y="1125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89880" y="1125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10400" y="1628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983160" y="1628640"/>
            <a:ext cx="800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ом функции является  парабола, вет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ой направлены вверх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611280" y="2924280"/>
                <a:ext cx="1728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1"/>
              <p:cNvSpPr txBox="1"/>
              <p:nvPr/>
            </p:nvSpPr>
            <p:spPr>
              <a:xfrm>
                <a:off x="2771640" y="2924280"/>
                <a:ext cx="1729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6"/>
              <p:cNvSpPr txBox="1"/>
              <p:nvPr/>
            </p:nvSpPr>
            <p:spPr>
              <a:xfrm>
                <a:off x="4932360" y="3068640"/>
                <a:ext cx="4032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 Box 18"/>
          <p:cNvSpPr/>
          <p:nvPr/>
        </p:nvSpPr>
        <p:spPr>
          <a:xfrm>
            <a:off x="410400" y="24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972720" y="24922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ём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414360" y="42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1097280" y="422100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ополнительные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00000" y="5013360"/>
          <a:ext cx="7710480" cy="1297080"/>
        </p:xfrm>
        <a:graphic>
          <a:graphicData uri="http://schemas.openxmlformats.org/drawingml/2006/table">
            <a:tbl>
              <a:tblPr/>
              <a:tblGrid>
                <a:gridCol w="1100160"/>
                <a:gridCol w="1100160"/>
                <a:gridCol w="1101960"/>
                <a:gridCol w="1101600"/>
                <a:gridCol w="1101600"/>
                <a:gridCol w="1100160"/>
                <a:gridCol w="110484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3" name="Group 82"/>
          <p:cNvGrpSpPr/>
          <p:nvPr/>
        </p:nvGrpSpPr>
        <p:grpSpPr>
          <a:xfrm>
            <a:off x="2843280" y="0"/>
            <a:ext cx="3168360" cy="1510920"/>
            <a:chOff x="2843280" y="0"/>
            <a:chExt cx="3168360" cy="1510920"/>
          </a:xfrm>
        </p:grpSpPr>
        <p:sp>
          <p:nvSpPr>
            <p:cNvPr id="384" name="Rectangle 83"/>
            <p:cNvSpPr/>
            <p:nvPr/>
          </p:nvSpPr>
          <p:spPr>
            <a:xfrm>
              <a:off x="3500640" y="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84"/>
                <p:cNvSpPr txBox="1"/>
                <p:nvPr/>
              </p:nvSpPr>
              <p:spPr>
                <a:xfrm>
                  <a:off x="2843280" y="385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Rectangle 85"/>
          <p:cNvSpPr/>
          <p:nvPr/>
        </p:nvSpPr>
        <p:spPr>
          <a:xfrm>
            <a:off x="6156360" y="3716280"/>
            <a:ext cx="2232000" cy="649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4"/>
          <p:cNvGraphicFramePr/>
          <p:nvPr/>
        </p:nvGraphicFramePr>
        <p:xfrm>
          <a:off x="0" y="0"/>
          <a:ext cx="6418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418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6"/>
          <p:cNvGrpSpPr/>
          <p:nvPr/>
        </p:nvGrpSpPr>
        <p:grpSpPr>
          <a:xfrm>
            <a:off x="6732720" y="2060640"/>
            <a:ext cx="2411280" cy="1455840"/>
            <a:chOff x="6732720" y="2060640"/>
            <a:chExt cx="2411280" cy="1455840"/>
          </a:xfrm>
        </p:grpSpPr>
        <p:sp>
          <p:nvSpPr>
            <p:cNvPr id="390" name="Rectangle 7"/>
            <p:cNvSpPr/>
            <p:nvPr/>
          </p:nvSpPr>
          <p:spPr>
            <a:xfrm>
              <a:off x="6732720" y="207648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8"/>
                <p:cNvSpPr txBox="1"/>
                <p:nvPr/>
              </p:nvSpPr>
              <p:spPr>
                <a:xfrm>
                  <a:off x="7056720" y="206064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Group 12"/>
          <p:cNvGrpSpPr/>
          <p:nvPr/>
        </p:nvGrpSpPr>
        <p:grpSpPr>
          <a:xfrm>
            <a:off x="6516720" y="3716280"/>
            <a:ext cx="2376000" cy="1152360"/>
            <a:chOff x="6516720" y="3716280"/>
            <a:chExt cx="2376000" cy="1152360"/>
          </a:xfrm>
        </p:grpSpPr>
        <p:sp>
          <p:nvSpPr>
            <p:cNvPr id="393" name="Rectangle 13"/>
            <p:cNvSpPr/>
            <p:nvPr/>
          </p:nvSpPr>
          <p:spPr>
            <a:xfrm>
              <a:off x="7009560" y="3716280"/>
              <a:ext cx="1810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14"/>
                <p:cNvSpPr txBox="1"/>
                <p:nvPr/>
              </p:nvSpPr>
              <p:spPr>
                <a:xfrm>
                  <a:off x="6516720" y="3962160"/>
                  <a:ext cx="237600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5" name="Object 20"/>
          <p:cNvGraphicFramePr/>
          <p:nvPr/>
        </p:nvGraphicFramePr>
        <p:xfrm>
          <a:off x="0" y="0"/>
          <a:ext cx="6443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Freeform 21"/>
          <p:cNvSpPr/>
          <p:nvPr/>
        </p:nvSpPr>
        <p:spPr>
          <a:xfrm>
            <a:off x="2627280" y="-458640"/>
            <a:ext cx="2521080" cy="4292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4292280"/>
              <a:gd name="textAreaBottom" fmla="*/ 4292640 h 429228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2"/>
          <p:cNvGrpSpPr/>
          <p:nvPr/>
        </p:nvGrpSpPr>
        <p:grpSpPr>
          <a:xfrm>
            <a:off x="5975280" y="189000"/>
            <a:ext cx="3168360" cy="1510920"/>
            <a:chOff x="5975280" y="189000"/>
            <a:chExt cx="3168360" cy="1510920"/>
          </a:xfrm>
        </p:grpSpPr>
        <p:sp>
          <p:nvSpPr>
            <p:cNvPr id="399" name="Rectangle 23"/>
            <p:cNvSpPr/>
            <p:nvPr/>
          </p:nvSpPr>
          <p:spPr>
            <a:xfrm>
              <a:off x="6632640" y="18900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24"/>
                <p:cNvSpPr txBox="1"/>
                <p:nvPr/>
              </p:nvSpPr>
              <p:spPr>
                <a:xfrm>
                  <a:off x="5975280" y="574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Freeform 25"/>
          <p:cNvSpPr/>
          <p:nvPr/>
        </p:nvSpPr>
        <p:spPr>
          <a:xfrm>
            <a:off x="2011320" y="141120"/>
            <a:ext cx="3460680" cy="6653520"/>
          </a:xfrm>
          <a:custGeom>
            <a:avLst/>
            <a:gdLst>
              <a:gd name="textAreaLeft" fmla="*/ 0 w 3460680"/>
              <a:gd name="textAreaRight" fmla="*/ 3461040 w 3460680"/>
              <a:gd name="textAreaTop" fmla="*/ 0 h 6653520"/>
              <a:gd name="textAreaBottom" fmla="*/ 6653880 h 6653520"/>
            </a:gdLst>
            <a:ahLst/>
            <a:rect l="textAreaLeft" t="textAreaTop" r="textAreaRight" b="textAreaBottom"/>
            <a:pathLst>
              <a:path w="2180" h="4191">
                <a:moveTo>
                  <a:pt x="2180" y="419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6"/>
          <p:cNvSpPr/>
          <p:nvPr/>
        </p:nvSpPr>
        <p:spPr>
          <a:xfrm>
            <a:off x="3851280" y="378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3637080" y="393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8"/>
          <p:cNvSpPr/>
          <p:nvPr/>
        </p:nvSpPr>
        <p:spPr>
          <a:xfrm>
            <a:off x="6300720" y="5516640"/>
            <a:ext cx="3529080" cy="64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9" descr="SUPER043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5724360" y="476280"/>
            <a:ext cx="2950920" cy="1657080"/>
            <a:chOff x="5724360" y="476280"/>
            <a:chExt cx="2950920" cy="1657080"/>
          </a:xfrm>
        </p:grpSpPr>
        <p:sp>
          <p:nvSpPr>
            <p:cNvPr id="409" name="Rectangle 7"/>
            <p:cNvSpPr/>
            <p:nvPr/>
          </p:nvSpPr>
          <p:spPr>
            <a:xfrm>
              <a:off x="5724360" y="476280"/>
              <a:ext cx="2950920" cy="1639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8"/>
                <p:cNvSpPr txBox="1"/>
                <p:nvPr/>
              </p:nvSpPr>
              <p:spPr>
                <a:xfrm>
                  <a:off x="5798160" y="480960"/>
                  <a:ext cx="28425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11" name="Object 15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2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Freeform 26"/>
          <p:cNvSpPr/>
          <p:nvPr/>
        </p:nvSpPr>
        <p:spPr>
          <a:xfrm>
            <a:off x="1351080" y="2082960"/>
            <a:ext cx="2428920" cy="43434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1530" h="2736">
                <a:moveTo>
                  <a:pt x="0" y="0"/>
                </a:moveTo>
                <a:cubicBezTo>
                  <a:pt x="23" y="143"/>
                  <a:pt x="104" y="642"/>
                  <a:pt x="141" y="859"/>
                </a:cubicBezTo>
                <a:cubicBezTo>
                  <a:pt x="178" y="1076"/>
                  <a:pt x="194" y="1166"/>
                  <a:pt x="221" y="1302"/>
                </a:cubicBezTo>
                <a:cubicBezTo>
                  <a:pt x="248" y="1438"/>
                  <a:pt x="274" y="1548"/>
                  <a:pt x="301" y="1674"/>
                </a:cubicBezTo>
                <a:cubicBezTo>
                  <a:pt x="328" y="1800"/>
                  <a:pt x="344" y="1924"/>
                  <a:pt x="381" y="2058"/>
                </a:cubicBezTo>
                <a:cubicBezTo>
                  <a:pt x="418" y="2192"/>
                  <a:pt x="481" y="2377"/>
                  <a:pt x="523" y="2477"/>
                </a:cubicBezTo>
                <a:cubicBezTo>
                  <a:pt x="565" y="2578"/>
                  <a:pt x="592" y="2619"/>
                  <a:pt x="632" y="2662"/>
                </a:cubicBezTo>
                <a:cubicBezTo>
                  <a:pt x="672" y="2705"/>
                  <a:pt x="722" y="2736"/>
                  <a:pt x="763" y="2736"/>
                </a:cubicBezTo>
                <a:cubicBezTo>
                  <a:pt x="805" y="2736"/>
                  <a:pt x="839" y="2715"/>
                  <a:pt x="883" y="2662"/>
                </a:cubicBezTo>
                <a:cubicBezTo>
                  <a:pt x="928" y="2609"/>
                  <a:pt x="988" y="2512"/>
                  <a:pt x="1031" y="2416"/>
                </a:cubicBezTo>
                <a:cubicBezTo>
                  <a:pt x="1074" y="2319"/>
                  <a:pt x="1109" y="2191"/>
                  <a:pt x="1140" y="2083"/>
                </a:cubicBezTo>
                <a:cubicBezTo>
                  <a:pt x="1171" y="1975"/>
                  <a:pt x="1193" y="1872"/>
                  <a:pt x="1217" y="1769"/>
                </a:cubicBezTo>
                <a:cubicBezTo>
                  <a:pt x="1240" y="1666"/>
                  <a:pt x="1261" y="1567"/>
                  <a:pt x="1282" y="1467"/>
                </a:cubicBezTo>
                <a:cubicBezTo>
                  <a:pt x="1303" y="1367"/>
                  <a:pt x="1321" y="1280"/>
                  <a:pt x="1342" y="1171"/>
                </a:cubicBezTo>
                <a:cubicBezTo>
                  <a:pt x="1363" y="1063"/>
                  <a:pt x="1376" y="1004"/>
                  <a:pt x="1408" y="814"/>
                </a:cubicBezTo>
                <a:cubicBezTo>
                  <a:pt x="1439" y="625"/>
                  <a:pt x="1505" y="199"/>
                  <a:pt x="1530" y="37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7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635280" y="2637000"/>
            <a:ext cx="1447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284328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212400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1"/>
          <p:cNvSpPr/>
          <p:nvPr/>
        </p:nvSpPr>
        <p:spPr>
          <a:xfrm>
            <a:off x="1403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/>
          <p:cNvSpPr/>
          <p:nvPr/>
        </p:nvSpPr>
        <p:spPr>
          <a:xfrm>
            <a:off x="5364000" y="3645000"/>
            <a:ext cx="4104000" cy="100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3; 4); (3;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-1; 4,9);  (1; 4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3" descr="SUPER043"/>
          <p:cNvPicPr/>
          <p:nvPr/>
        </p:nvPicPr>
        <p:blipFill>
          <a:blip r:embed="rId6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6"/>
          <p:cNvGraphicFramePr/>
          <p:nvPr/>
        </p:nvGraphicFramePr>
        <p:xfrm>
          <a:off x="9360" y="1484280"/>
          <a:ext cx="52405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484280"/>
                    <a:ext cx="52405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Group 8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428" name="Rectangle 9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Object 10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30" name="Object 11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Freeform 14"/>
          <p:cNvSpPr/>
          <p:nvPr/>
        </p:nvSpPr>
        <p:spPr>
          <a:xfrm>
            <a:off x="1835280" y="1341360"/>
            <a:ext cx="1441440" cy="5516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516640"/>
              <a:gd name="textAreaBottom" fmla="*/ 5516640 h 5516640"/>
            </a:gdLst>
            <a:ahLst/>
            <a:rect l="textAreaLeft" t="textAreaTop" r="textAreaRight" b="textAreaBottom"/>
            <a:pathLst>
              <a:path w="2946" h="12471">
                <a:moveTo>
                  <a:pt x="2946" y="0"/>
                </a:moveTo>
                <a:lnTo>
                  <a:pt x="2670" y="2901"/>
                </a:lnTo>
                <a:lnTo>
                  <a:pt x="2505" y="4176"/>
                </a:lnTo>
                <a:lnTo>
                  <a:pt x="2340" y="5136"/>
                </a:lnTo>
                <a:lnTo>
                  <a:pt x="2145" y="5826"/>
                </a:lnTo>
                <a:lnTo>
                  <a:pt x="2040" y="6111"/>
                </a:lnTo>
                <a:lnTo>
                  <a:pt x="1890" y="6321"/>
                </a:lnTo>
                <a:lnTo>
                  <a:pt x="1770" y="6441"/>
                </a:lnTo>
                <a:lnTo>
                  <a:pt x="1635" y="6501"/>
                </a:lnTo>
                <a:lnTo>
                  <a:pt x="1230" y="6531"/>
                </a:lnTo>
                <a:lnTo>
                  <a:pt x="1065" y="6621"/>
                </a:lnTo>
                <a:lnTo>
                  <a:pt x="975" y="6696"/>
                </a:lnTo>
                <a:lnTo>
                  <a:pt x="855" y="6936"/>
                </a:lnTo>
                <a:lnTo>
                  <a:pt x="720" y="7281"/>
                </a:lnTo>
                <a:lnTo>
                  <a:pt x="540" y="7971"/>
                </a:lnTo>
                <a:lnTo>
                  <a:pt x="390" y="8811"/>
                </a:lnTo>
                <a:lnTo>
                  <a:pt x="255" y="10101"/>
                </a:lnTo>
                <a:lnTo>
                  <a:pt x="0" y="12471"/>
                </a:lnTo>
              </a:path>
            </a:pathLst>
          </a:cu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7" descr="SUPER043"/>
          <p:cNvPicPr/>
          <p:nvPr/>
        </p:nvPicPr>
        <p:blipFill>
          <a:blip r:embed="rId6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0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0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9"/>
          <p:cNvGrpSpPr/>
          <p:nvPr/>
        </p:nvGrpSpPr>
        <p:grpSpPr>
          <a:xfrm>
            <a:off x="5832360" y="476280"/>
            <a:ext cx="3311640" cy="1728360"/>
            <a:chOff x="5832360" y="476280"/>
            <a:chExt cx="3311640" cy="1728360"/>
          </a:xfrm>
        </p:grpSpPr>
        <p:sp>
          <p:nvSpPr>
            <p:cNvPr id="439" name="Rectangle 7"/>
            <p:cNvSpPr/>
            <p:nvPr/>
          </p:nvSpPr>
          <p:spPr>
            <a:xfrm>
              <a:off x="5832360" y="476280"/>
              <a:ext cx="3311640" cy="17283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8"/>
                <p:cNvSpPr txBox="1"/>
                <p:nvPr/>
              </p:nvSpPr>
              <p:spPr>
                <a:xfrm>
                  <a:off x="5976360" y="496800"/>
                  <a:ext cx="2878200" cy="16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х</m:t>
                                  </m:r>
                                </m:e>
                              </m:d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1" name="Object 10"/>
          <p:cNvGraphicFramePr/>
          <p:nvPr/>
        </p:nvGraphicFramePr>
        <p:xfrm>
          <a:off x="0" y="1484280"/>
          <a:ext cx="50133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013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13"/>
          <p:cNvGraphicFramePr/>
          <p:nvPr/>
        </p:nvGraphicFramePr>
        <p:xfrm>
          <a:off x="0" y="1484280"/>
          <a:ext cx="501480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014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Freeform 16"/>
          <p:cNvSpPr/>
          <p:nvPr/>
        </p:nvSpPr>
        <p:spPr>
          <a:xfrm>
            <a:off x="1154160" y="1519200"/>
            <a:ext cx="2616120" cy="2560680"/>
          </a:xfrm>
          <a:custGeom>
            <a:avLst/>
            <a:gdLst>
              <a:gd name="textAreaLeft" fmla="*/ 0 w 2616120"/>
              <a:gd name="textAreaRight" fmla="*/ 2616120 w 2616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648" h="1613">
                <a:moveTo>
                  <a:pt x="0" y="18"/>
                </a:moveTo>
                <a:lnTo>
                  <a:pt x="815" y="1613"/>
                </a:lnTo>
                <a:lnTo>
                  <a:pt x="1648" y="0"/>
                </a:lnTo>
              </a:path>
            </a:pathLst>
          </a:custGeom>
          <a:noFill/>
          <a:ln w="475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7"/>
          <p:cNvSpPr/>
          <p:nvPr/>
        </p:nvSpPr>
        <p:spPr>
          <a:xfrm>
            <a:off x="3059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8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9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;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0" descr="SUPER043"/>
          <p:cNvPicPr/>
          <p:nvPr/>
        </p:nvPicPr>
        <p:blipFill>
          <a:blip r:embed="rId6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</a:t>
            </a: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линейной  функции.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84360" y="2708280"/>
          <a:ext cx="51116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08280"/>
                    <a:ext cx="51116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Oval 6"/>
          <p:cNvSpPr/>
          <p:nvPr/>
        </p:nvSpPr>
        <p:spPr>
          <a:xfrm>
            <a:off x="4284720" y="4437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1403280" y="587700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59640" y="2708280"/>
          <a:ext cx="1593720" cy="2448000"/>
        </p:xfrm>
        <a:graphic>
          <a:graphicData uri="http://schemas.openxmlformats.org/drawingml/2006/table">
            <a:tbl>
              <a:tblPr/>
              <a:tblGrid>
                <a:gridCol w="796680"/>
                <a:gridCol w="7970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WordArt 32"/>
          <p:cNvSpPr txBox="1"/>
          <p:nvPr/>
        </p:nvSpPr>
        <p:spPr>
          <a:xfrm rot="5400000">
            <a:off x="-1909440" y="414900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рямая  линия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971640" y="1484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х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79200" y="2058840"/>
            <a:ext cx="74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8" descr="SUPER043"/>
          <p:cNvPicPr/>
          <p:nvPr/>
        </p:nvPicPr>
        <p:blipFill>
          <a:blip r:embed="rId3"/>
          <a:stretch/>
        </p:blipFill>
        <p:spPr>
          <a:xfrm>
            <a:off x="818676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Georgia"/>
              </a:rPr>
              <a:t>Построение  графика функции  обратной 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971640" y="2276640"/>
          <a:ext cx="30369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30369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7"/>
          <p:cNvSpPr/>
          <p:nvPr/>
        </p:nvSpPr>
        <p:spPr>
          <a:xfrm>
            <a:off x="4417200" y="1989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884840" y="358776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437720" y="35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997880" y="6035760"/>
            <a:ext cx="37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ть 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начений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1"/>
          <p:cNvSpPr txBox="1"/>
          <p:nvPr/>
        </p:nvSpPr>
        <p:spPr>
          <a:xfrm rot="5400000">
            <a:off x="-1544400" y="4433760"/>
            <a:ext cx="4103640" cy="36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Гипербола.</a:t>
            </a:r>
            <a:endParaRPr b="1" i="1" lang="en-US" sz="20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2400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5097960" y="48848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098320" y="5459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7"/>
          <p:cNvGraphicFramePr/>
          <p:nvPr/>
        </p:nvGraphicFramePr>
        <p:xfrm>
          <a:off x="1042920" y="2349360"/>
          <a:ext cx="2987640" cy="45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349360"/>
                    <a:ext cx="29876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19"/>
          <p:cNvSpPr/>
          <p:nvPr/>
        </p:nvSpPr>
        <p:spPr>
          <a:xfrm>
            <a:off x="4510800" y="602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912200" y="2060640"/>
            <a:ext cx="41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йствительно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роме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3" descr="SUPER043"/>
          <p:cNvPicPr/>
          <p:nvPr/>
        </p:nvPicPr>
        <p:blipFill>
          <a:blip r:embed="rId5"/>
          <a:stretch/>
        </p:blipFill>
        <p:spPr>
          <a:xfrm flipH="1">
            <a:off x="899640" y="4797360"/>
            <a:ext cx="8780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6443640" y="907920"/>
            <a:ext cx="2336760" cy="1008360"/>
            <a:chOff x="6443640" y="907920"/>
            <a:chExt cx="2336760" cy="1008360"/>
          </a:xfrm>
        </p:grpSpPr>
        <p:sp>
          <p:nvSpPr>
            <p:cNvPr id="157" name="Rectangle 5"/>
            <p:cNvSpPr/>
            <p:nvPr/>
          </p:nvSpPr>
          <p:spPr>
            <a:xfrm>
              <a:off x="6537960" y="907920"/>
              <a:ext cx="221184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6"/>
                <p:cNvSpPr txBox="1"/>
                <p:nvPr/>
              </p:nvSpPr>
              <p:spPr>
                <a:xfrm>
                  <a:off x="6443640" y="907920"/>
                  <a:ext cx="23367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7"/>
          <p:cNvSpPr/>
          <p:nvPr/>
        </p:nvSpPr>
        <p:spPr>
          <a:xfrm>
            <a:off x="1065960" y="40464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16800" y="17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889200" y="170028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5120" y="22622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75360" y="3573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675360" y="41482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5"/>
          <p:cNvGraphicFramePr/>
          <p:nvPr/>
        </p:nvGraphicFramePr>
        <p:xfrm>
          <a:off x="3851280" y="2637000"/>
          <a:ext cx="2333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37000"/>
                    <a:ext cx="233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7"/>
          <p:cNvSpPr/>
          <p:nvPr/>
        </p:nvSpPr>
        <p:spPr>
          <a:xfrm>
            <a:off x="640080" y="2276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6588000" y="2637000"/>
          <a:ext cx="23338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637000"/>
                    <a:ext cx="2333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20"/>
          <p:cNvSpPr/>
          <p:nvPr/>
        </p:nvSpPr>
        <p:spPr>
          <a:xfrm>
            <a:off x="503280" y="4941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аблицу  знач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15120" y="4941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3" descr="SUPER043"/>
          <p:cNvPicPr/>
          <p:nvPr/>
        </p:nvPicPr>
        <p:blipFill>
          <a:blip r:embed="rId5"/>
          <a:stretch/>
        </p:blipFill>
        <p:spPr>
          <a:xfrm>
            <a:off x="8186760" y="2133720"/>
            <a:ext cx="957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5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5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938960" y="47628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3711600" y="1052640"/>
          <a:ext cx="54324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1052640"/>
                    <a:ext cx="54324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2"/>
          <p:cNvGraphicFramePr/>
          <p:nvPr/>
        </p:nvGraphicFramePr>
        <p:xfrm>
          <a:off x="3710160" y="1052640"/>
          <a:ext cx="543384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0160" y="1052640"/>
                    <a:ext cx="54338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5"/>
          <p:cNvSpPr/>
          <p:nvPr/>
        </p:nvSpPr>
        <p:spPr>
          <a:xfrm>
            <a:off x="471600" y="227664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6"/>
          <p:cNvGrpSpPr/>
          <p:nvPr/>
        </p:nvGrpSpPr>
        <p:grpSpPr>
          <a:xfrm>
            <a:off x="250920" y="981000"/>
            <a:ext cx="4897440" cy="863640"/>
            <a:chOff x="250920" y="981000"/>
            <a:chExt cx="4897440" cy="863640"/>
          </a:xfrm>
        </p:grpSpPr>
        <p:sp>
          <p:nvSpPr>
            <p:cNvPr id="184" name="Rectangle 17"/>
            <p:cNvSpPr/>
            <p:nvPr/>
          </p:nvSpPr>
          <p:spPr>
            <a:xfrm>
              <a:off x="1999440" y="1004400"/>
              <a:ext cx="1440720" cy="72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18"/>
                <p:cNvSpPr txBox="1"/>
                <p:nvPr/>
              </p:nvSpPr>
              <p:spPr>
                <a:xfrm>
                  <a:off x="250920" y="981000"/>
                  <a:ext cx="48974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Text Box 19"/>
          <p:cNvSpPr/>
          <p:nvPr/>
        </p:nvSpPr>
        <p:spPr>
          <a:xfrm>
            <a:off x="366480" y="3068640"/>
            <a:ext cx="3862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–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центра 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89880" y="1413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4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WordArt 15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10400" y="1916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034640" y="1557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1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3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4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Oval 26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48744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1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Freeform 33"/>
          <p:cNvSpPr/>
          <p:nvPr/>
        </p:nvSpPr>
        <p:spPr>
          <a:xfrm>
            <a:off x="6012000" y="2276640"/>
            <a:ext cx="14040" cy="4098600"/>
          </a:xfrm>
          <a:custGeom>
            <a:avLst/>
            <a:gdLst>
              <a:gd name="textAreaLeft" fmla="*/ 0 w 14040"/>
              <a:gd name="textAreaRight" fmla="*/ 14400 w 14040"/>
              <a:gd name="textAreaTop" fmla="*/ 0 h 4098600"/>
              <a:gd name="textAreaBottom" fmla="*/ 4098960 h 4098600"/>
            </a:gdLst>
            <a:ahLst/>
            <a:rect l="textAreaLeft" t="textAreaTop" r="textAreaRight" b="textAreaBottom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6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16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Oval 18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9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Oval 23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7"/>
          <p:cNvSpPr/>
          <p:nvPr/>
        </p:nvSpPr>
        <p:spPr>
          <a:xfrm>
            <a:off x="6599160" y="2590920"/>
            <a:ext cx="1800" cy="3962160"/>
          </a:xfrm>
          <a:custGeom>
            <a:avLst/>
            <a:gdLst>
              <a:gd name="textAreaLeft" fmla="*/ 0 w 1800"/>
              <a:gd name="textAreaRight" fmla="*/ 2160 w 1800"/>
              <a:gd name="textAreaTop" fmla="*/ 0 h 3962160"/>
              <a:gd name="textAreaBottom" fmla="*/ 3962520 h 3962160"/>
            </a:gdLst>
            <a:ahLst/>
            <a:rect l="textAreaLeft" t="textAreaTop" r="textAreaRight" b="textAreaBottom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945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924280"/>
          <a:ext cx="3960720" cy="12254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  <a:gridCol w="79200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Object 46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val 48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9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0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51"/>
          <p:cNvSpPr/>
          <p:nvPr/>
        </p:nvSpPr>
        <p:spPr>
          <a:xfrm>
            <a:off x="6877080" y="2637000"/>
            <a:ext cx="1440" cy="3825720"/>
          </a:xfrm>
          <a:custGeom>
            <a:avLst/>
            <a:gdLst>
              <a:gd name="textAreaLeft" fmla="*/ 0 w 1440"/>
              <a:gd name="textAreaRight" fmla="*/ 1800 w 144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2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3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4" descr="SUPER043"/>
          <p:cNvPicPr/>
          <p:nvPr/>
        </p:nvPicPr>
        <p:blipFill>
          <a:blip r:embed="rId3"/>
          <a:stretch/>
        </p:blipFill>
        <p:spPr>
          <a:xfrm flipH="1">
            <a:off x="684360" y="4508640"/>
            <a:ext cx="863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400"/>
                            </p:stCondLst>
                            <p:childTnLst>
                              <p:par>
                                <p:cTn id="7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2:32:33Z</dcterms:created>
  <dc:creator>мама</dc:creator>
  <dc:description/>
  <dc:language>en-US</dc:language>
  <cp:lastModifiedBy>User</cp:lastModifiedBy>
  <dcterms:modified xsi:type="dcterms:W3CDTF">2017-08-28T02:05:36Z</dcterms:modified>
  <cp:revision>26</cp:revision>
  <dc:subject/>
  <dc:title>Повторение. «Функции и графики».</dc:title>
</cp:coreProperties>
</file>