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05D-EF79-4999-BC54-F7863523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4E3-0DBA-4AC3-A9E6-49A324A6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43F-192A-483B-928F-759E2CA3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6BB-C6DA-498F-B325-C12F2855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D80-AD6A-44AF-968B-173E13C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6FF-BB0A-4BD5-940A-5EBB250D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461-B52B-4467-A75D-E2A294C9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AD7-66BF-4A53-A2E2-0F996361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7BB-8B14-424D-94EB-2A77C075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5ED-4409-4E2B-90A3-D928ED3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2AF-1AB4-4A3D-80D6-C33793D4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975-54C0-43F7-95E6-BE6386BB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FFFA-712C-4A35-A8EC-4ADFFF7F864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google.ru/search?newwindow=1&amp;biw=1149&amp;bih=611&amp;tbm=isch&amp;sa=1&amp;q=&#1072;&#1074;&#1090;&#1086;&#1073;&#1091;&#1089;" TargetMode="External"/><Relationship Id="rId2" Type="http://schemas.openxmlformats.org/officeDocument/2006/relationships/hyperlink" Target="https://www.google.ru/search?newwindow=1&amp;biw=1149&amp;bih=611&amp;tbm=isch&amp;sa=1&amp;q=&#1084;&#1086;&#1090;&#1086;&#1094;&#1080;&#1082;&#1083;&#1080;&#1089;&#1090;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765000"/>
            <a:ext cx="84978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Тест по тем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«Скорость, время,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расстояние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дготови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Аушева Елена Василь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9140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.  Найди расстояние между селами, если известно, что мотоциклист проехал его за 3 часа со скоростью 45 км/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 15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115 км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135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&amp;Kcy;&amp;acy;&amp;rcy;&amp;tcy;&amp;icy;&amp;ncy;&amp;kcy;&amp;icy; &amp;pcy;&amp;ocy; &amp;zcy;&amp;acy;&amp;pcy;&amp;rcy;&amp;ocy;&amp;scy;&amp;ucy; &amp;mcy;&amp;ocy;&amp;tcy;&amp;ocy;&amp;tscy;&amp;icy;&amp;kcy;&amp;lcy;&amp;icy;&amp;scy;&amp;tcy; &amp;acy;&amp;ncy;&amp;icy;&amp;mcy;&amp;iecy;"/>
          <p:cNvPicPr/>
          <p:nvPr/>
        </p:nvPicPr>
        <p:blipFill>
          <a:blip r:embed="rId1"/>
          <a:stretch/>
        </p:blipFill>
        <p:spPr>
          <a:xfrm>
            <a:off x="4152960" y="292428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630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. За какое время проедет автобус расстояние 240  км, если будет двигаться со скоростью 60 км/ч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3 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180 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4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&amp;Kcy;&amp;acy;&amp;rcy;&amp;tcy;&amp;icy;&amp;ncy;&amp;kcy;&amp;icy; &amp;pcy;&amp;ocy; &amp;zcy;&amp;acy;&amp;pcy;&amp;rcy;&amp;ocy;&amp;scy;&amp;ucy; &amp;acy;&amp;vcy;&amp;tcy;&amp;ocy;&amp;bcy;&amp;ucy;&amp;scy;"/>
          <p:cNvPicPr/>
          <p:nvPr/>
        </p:nvPicPr>
        <p:blipFill>
          <a:blip r:embed="rId1"/>
          <a:stretch/>
        </p:blipFill>
        <p:spPr>
          <a:xfrm>
            <a:off x="0" y="3114720"/>
            <a:ext cx="5114880" cy="374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-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-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-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-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-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-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-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ерните друг другу тетради и оцените себ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Если  верно 10 ответов – «5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Если верно 7-9 ответов – «4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сли верно 5-6 ответов – «3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Если верно меньше 5 ответов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6588000" y="2997360"/>
            <a:ext cx="1835280" cy="183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нтернет – ресурс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s://www.google.ru/search?newwindow=1&amp;biw=1149&amp;bih=611&amp;tbm=isch&amp;sa=1&amp;q=автобу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s://www.google.ru/search?newwindow=1&amp;biw=1149&amp;bih=611&amp;tbm=isch&amp;sa=1&amp;q=мотоцикли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ru/search?newwindow=1&amp;biw=1149&amp;bih=611&amp;tbm=isch&amp;sa=1&amp;q=велосипедис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ru/search?newwindow=1&amp;biw=1149&amp;bih=611&amp;tbm=isch&amp;sa=1&amp;q=поез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ru/search?newwindow=1&amp;biw=1149&amp;bih=611&amp;tbm=isch&amp;sa=1&amp;q=тури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ru/search?newwindow=1&amp;biw=1149&amp;bih=611&amp;tbm=isch&amp;sa=1&amp;q=мальчик+ид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s://www.google.ru/search?newwindow=1&amp;biw=1149&amp;bih=611&amp;tbm=isch&amp;sa=1&amp;q=смайл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и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В чем измеряется скорос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км, м, д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час, минута,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, 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c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907920"/>
            <a:ext cx="885672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Какое слово пропущен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найти скорость, надо расстояние…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раздели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умнож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увелич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51832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Какое слово пропущен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найти время, надо расстояние… на скор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умнож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раздел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увелич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836720" y="404280"/>
            <a:ext cx="10648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Какое слово пропущено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найти расстояние, надо скорость  … 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2924280"/>
            <a:ext cx="675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А) раздели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Б) умнож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В) увелич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59140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урист за 8 часов прошел 32 км. С какой скоростью двигался турис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4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4 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24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4572000" y="24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000" y="1052640"/>
            <a:ext cx="873432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Скорость поезда 60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. Какое расстояние поезд проедет за 4 час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240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15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24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&amp;Kcy;&amp;acy;&amp;rcy;&amp;tcy;&amp;icy;&amp;ncy;&amp;kcy;&amp;icy; &amp;pcy;&amp;ocy; &amp;zcy;&amp;acy;&amp;pcy;&amp;rcy;&amp;ocy;&amp;scy;&amp;ucy; &amp;pcy;&amp;ocy;&amp;iecy;&amp;zcy;&amp;dcy;"/>
          <p:cNvPicPr/>
          <p:nvPr/>
        </p:nvPicPr>
        <p:blipFill>
          <a:blip r:embed="rId1"/>
          <a:stretch/>
        </p:blipFill>
        <p:spPr>
          <a:xfrm>
            <a:off x="3448080" y="2421000"/>
            <a:ext cx="5695920" cy="374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1196640"/>
            <a:ext cx="81723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Велосипедисты  ехали 5 часов со скоростью 12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. Какой путь они преодолели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7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6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17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&amp;Kcy;&amp;acy;&amp;rcy;&amp;tcy;&amp;icy;&amp;ncy;&amp;kcy;&amp;icy; &amp;pcy;&amp;ocy; &amp;zcy;&amp;acy;&amp;pcy;&amp;rcy;&amp;ocy;&amp;scy;&amp;ucy; &amp;vcy;&amp;iecy;&amp;lcy;&amp;ocy;&amp;scy;&amp;icy;&amp;pcy;&amp;iecy;&amp;dcy;&amp;icy;&amp;scy;&amp;tcy;&amp;ycy; &amp;rcy;&amp;icy;&amp;scy;&amp;ucy;&amp;ncy;&amp;ocy;&amp;kcy;"/>
          <p:cNvPicPr/>
          <p:nvPr/>
        </p:nvPicPr>
        <p:blipFill>
          <a:blip r:embed="rId1"/>
          <a:stretch/>
        </p:blipFill>
        <p:spPr>
          <a:xfrm>
            <a:off x="2771640" y="3068640"/>
            <a:ext cx="5743800" cy="316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Расстояние между домом и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газином 400 м. Мальчик прошёл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го за 8 мин. Чему равна скорость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льчика?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3200 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50 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50 м/мин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&amp;Kcy;&amp;acy;&amp;rcy;&amp;tcy;&amp;icy;&amp;ncy;&amp;kcy;&amp;icy; &amp;pcy;&amp;ocy; &amp;zcy;&amp;acy;&amp;pcy;&amp;rcy;&amp;ocy;&amp;scy;&amp;ucy; &amp;mcy;&amp;acy;&amp;lcy;&amp;softcy;&amp;chcy;&amp;icy;&amp;kcy; &amp;icy;&amp;dcy;&amp;iecy;&amp;tcy;"/>
          <p:cNvPicPr/>
          <p:nvPr/>
        </p:nvPicPr>
        <p:blipFill>
          <a:blip r:embed="rId1"/>
          <a:stretch/>
        </p:blipFill>
        <p:spPr>
          <a:xfrm>
            <a:off x="1332000" y="3949560"/>
            <a:ext cx="2916000" cy="290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9:20:50Z</dcterms:created>
  <dc:creator>аушева</dc:creator>
  <dc:description/>
  <dc:language>en-US</dc:language>
  <cp:lastModifiedBy>1</cp:lastModifiedBy>
  <dcterms:modified xsi:type="dcterms:W3CDTF">2017-08-19T12:50:38Z</dcterms:modified>
  <cp:revision>41</cp:revision>
  <dc:subject/>
  <dc:title>Слайд 1</dc:title>
</cp:coreProperties>
</file>