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gif" ContentType="image/gif"/>
  <Override PartName="/ppt/media/image13.gif" ContentType="image/gif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3738-EA15-444B-AB84-03DEEC9E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4881-2D24-49C2-B066-560DE827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4BAE-B2C7-4B91-BF9B-5F153CD6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A781-AC33-4A32-8725-8ADF551C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CE753-650C-46C1-B460-D0389FE1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E613B-B183-48E8-87F6-AEB3D97D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90DED-E3EA-4CEC-9392-50F115C6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ED139-8FE8-4225-88C9-4355A88C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C15C2-BBC8-482A-8183-F572E67C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F9E0E-EA9C-44F6-9B37-006F93A4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F34A9-3FDE-4F64-827B-B50A5BC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3BBB-902D-460F-89A7-5BD2DEA2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3A15A-590C-4630-8877-649DD52A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6A7B-1CB4-4A81-BDE6-A1B0A79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0A403-5C42-49CB-87BA-73E94984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C48AD-9999-470A-9E71-CAFD73B5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22E4-A25B-4226-9334-43BA6039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CD3D-E5EE-477B-A23D-CA1FF139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2E1D-D9C0-4716-ADA3-7453E9A9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E3AD-40A6-4751-A716-93E1407E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5D49-CEAB-4B39-985F-7F9063CD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C306-B18C-49F7-B506-CB21AC8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4156-5FAA-4311-A573-3DA20CB1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24EC-1D56-4EC0-8131-3F466A06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A3C7-7EC4-4F78-8CA4-BD65AA6A2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23B-D266-4A56-AD78-714F506F41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16000" y="291600"/>
            <a:ext cx="4248360" cy="616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2bfe"/>
                </a:solidFill>
                <a:latin typeface="Arial"/>
              </a:rPr>
              <a:t>Сочинение – повествование </a:t>
            </a:r>
            <a:br>
              <a:rPr sz="4000"/>
            </a:br>
            <a:r>
              <a:rPr b="1" lang="ru-RU" sz="4000" spc="-1" strike="noStrike">
                <a:solidFill>
                  <a:srgbClr val="2b2bfe"/>
                </a:solidFill>
                <a:latin typeface="Arial"/>
              </a:rPr>
              <a:t>по картине В.М. Васнецова</a:t>
            </a:r>
            <a:br>
              <a:rPr sz="4000"/>
            </a:br>
            <a:r>
              <a:rPr b="1" lang="ru-RU" sz="4000" spc="-1" strike="noStrike">
                <a:solidFill>
                  <a:srgbClr val="2b2bfe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2b2bfe"/>
                </a:solidFill>
                <a:latin typeface="Arial"/>
              </a:rPr>
              <a:t>« Иван Царевич на Сером волке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4" descr="0808858c1579f52059a11b296364ed22"/>
          <p:cNvPicPr/>
          <p:nvPr/>
        </p:nvPicPr>
        <p:blipFill>
          <a:blip r:embed="rId1"/>
          <a:stretch/>
        </p:blipFill>
        <p:spPr>
          <a:xfrm>
            <a:off x="395280" y="692280"/>
            <a:ext cx="4110120" cy="51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881000"/>
            <a:ext cx="3814920" cy="115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Елена Прекрасна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770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грустная, печальная,  задумчив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невесёлая,  опечаленная, молодая,   прекрас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3_52_1"/>
          <p:cNvPicPr/>
          <p:nvPr/>
        </p:nvPicPr>
        <p:blipFill>
          <a:blip r:embed="rId1"/>
          <a:stretch/>
        </p:blipFill>
        <p:spPr>
          <a:xfrm>
            <a:off x="4635360" y="189000"/>
            <a:ext cx="4033800" cy="4535280"/>
          </a:xfrm>
          <a:prstGeom prst="rect">
            <a:avLst/>
          </a:prstGeom>
          <a:ln w="0">
            <a:noFill/>
          </a:ln>
        </p:spPr>
      </p:pic>
      <p:sp>
        <p:nvSpPr>
          <p:cNvPr id="115" name="Управляющая кнопка: домой 4"/>
          <p:cNvSpPr/>
          <p:nvPr/>
        </p:nvSpPr>
        <p:spPr>
          <a:xfrm>
            <a:off x="7956720" y="5950080"/>
            <a:ext cx="898200" cy="664920"/>
          </a:xfrm>
          <a:custGeom>
            <a:avLst/>
            <a:gdLst>
              <a:gd name="textAreaLeft" fmla="*/ 42840 w 898200"/>
              <a:gd name="textAreaRight" fmla="*/ 855360 w 898200"/>
              <a:gd name="textAreaTop" fmla="*/ 42840 h 664920"/>
              <a:gd name="textAreaBottom" fmla="*/ 622080 h 664920"/>
            </a:gdLst>
            <a:ahLst/>
            <a:rect l="textAreaLeft" t="textAreaTop" r="textAreaRight" b="textAreaBottom"/>
            <a:pathLst>
              <a:path w="29174" h="21600">
                <a:moveTo>
                  <a:pt x="0" y="0"/>
                </a:moveTo>
                <a:lnTo>
                  <a:pt x="29174" y="0"/>
                </a:lnTo>
                <a:lnTo>
                  <a:pt x="29174" y="21600"/>
                </a:lnTo>
                <a:lnTo>
                  <a:pt x="0" y="21600"/>
                </a:lnTo>
                <a:close/>
              </a:path>
              <a:path fill="lightenLess" w="29174" h="21600">
                <a:moveTo>
                  <a:pt x="0" y="0"/>
                </a:moveTo>
                <a:lnTo>
                  <a:pt x="29174" y="0"/>
                </a:lnTo>
                <a:lnTo>
                  <a:pt x="27774" y="1400"/>
                </a:lnTo>
                <a:lnTo>
                  <a:pt x="1400" y="1400"/>
                </a:lnTo>
                <a:close/>
              </a:path>
              <a:path fill="darken" w="29174" h="21600">
                <a:moveTo>
                  <a:pt x="29174" y="0"/>
                </a:moveTo>
                <a:lnTo>
                  <a:pt x="29174" y="21600"/>
                </a:lnTo>
                <a:lnTo>
                  <a:pt x="27774" y="20200"/>
                </a:lnTo>
                <a:lnTo>
                  <a:pt x="27774" y="1400"/>
                </a:lnTo>
                <a:close/>
              </a:path>
              <a:path fill="darkenLess" w="29174" h="21600">
                <a:moveTo>
                  <a:pt x="2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74" y="20200"/>
                </a:lnTo>
                <a:close/>
              </a:path>
              <a:path fill="lighten" w="2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74" h="21600">
                <a:moveTo>
                  <a:pt x="14587" y="3837"/>
                </a:moveTo>
                <a:lnTo>
                  <a:pt x="17163" y="6448"/>
                </a:ln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lnTo>
                  <a:pt x="21550" y="10800"/>
                </a:lnTo>
                <a:lnTo>
                  <a:pt x="19896" y="10800"/>
                </a:lnTo>
                <a:lnTo>
                  <a:pt x="19896" y="17989"/>
                </a:lnTo>
                <a:lnTo>
                  <a:pt x="9278" y="17989"/>
                </a:lnTo>
                <a:lnTo>
                  <a:pt x="9278" y="10800"/>
                </a:lnTo>
                <a:lnTo>
                  <a:pt x="7624" y="10800"/>
                </a:lnTo>
                <a:close/>
              </a:path>
              <a:path fill="darkenLess" w="29174" h="21600">
                <a:moveTo>
                  <a:pt x="17163" y="6448"/>
                </a:move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close/>
              </a:path>
              <a:path fill="darkenLess" w="29174" h="21600">
                <a:moveTo>
                  <a:pt x="13664" y="14299"/>
                </a:moveTo>
                <a:lnTo>
                  <a:pt x="15510" y="14299"/>
                </a:lnTo>
                <a:lnTo>
                  <a:pt x="15510" y="17989"/>
                </a:lnTo>
                <a:lnTo>
                  <a:pt x="19896" y="17989"/>
                </a:lnTo>
                <a:lnTo>
                  <a:pt x="19896" y="10800"/>
                </a:lnTo>
                <a:lnTo>
                  <a:pt x="9278" y="10800"/>
                </a:lnTo>
                <a:lnTo>
                  <a:pt x="9278" y="17989"/>
                </a:lnTo>
                <a:lnTo>
                  <a:pt x="13664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1000080"/>
            <a:ext cx="366876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Иван-царевич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9280" y="4723920"/>
            <a:ext cx="801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смелый, мужественный, безбоязненный, правильные черты лица, губы сжаты, будущий богатырь земли русс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Управляющая кнопка: домой 3"/>
          <p:cNvSpPr/>
          <p:nvPr/>
        </p:nvSpPr>
        <p:spPr>
          <a:xfrm>
            <a:off x="7956720" y="5950080"/>
            <a:ext cx="898200" cy="664920"/>
          </a:xfrm>
          <a:custGeom>
            <a:avLst/>
            <a:gdLst>
              <a:gd name="textAreaLeft" fmla="*/ 42840 w 898200"/>
              <a:gd name="textAreaRight" fmla="*/ 855360 w 898200"/>
              <a:gd name="textAreaTop" fmla="*/ 42840 h 664920"/>
              <a:gd name="textAreaBottom" fmla="*/ 622080 h 664920"/>
            </a:gdLst>
            <a:ahLst/>
            <a:rect l="textAreaLeft" t="textAreaTop" r="textAreaRight" b="textAreaBottom"/>
            <a:pathLst>
              <a:path w="29174" h="21600">
                <a:moveTo>
                  <a:pt x="0" y="0"/>
                </a:moveTo>
                <a:lnTo>
                  <a:pt x="29174" y="0"/>
                </a:lnTo>
                <a:lnTo>
                  <a:pt x="29174" y="21600"/>
                </a:lnTo>
                <a:lnTo>
                  <a:pt x="0" y="21600"/>
                </a:lnTo>
                <a:close/>
              </a:path>
              <a:path fill="lightenLess" w="29174" h="21600">
                <a:moveTo>
                  <a:pt x="0" y="0"/>
                </a:moveTo>
                <a:lnTo>
                  <a:pt x="29174" y="0"/>
                </a:lnTo>
                <a:lnTo>
                  <a:pt x="27774" y="1400"/>
                </a:lnTo>
                <a:lnTo>
                  <a:pt x="1400" y="1400"/>
                </a:lnTo>
                <a:close/>
              </a:path>
              <a:path fill="darken" w="29174" h="21600">
                <a:moveTo>
                  <a:pt x="29174" y="0"/>
                </a:moveTo>
                <a:lnTo>
                  <a:pt x="29174" y="21600"/>
                </a:lnTo>
                <a:lnTo>
                  <a:pt x="27774" y="20200"/>
                </a:lnTo>
                <a:lnTo>
                  <a:pt x="27774" y="1400"/>
                </a:lnTo>
                <a:close/>
              </a:path>
              <a:path fill="darkenLess" w="29174" h="21600">
                <a:moveTo>
                  <a:pt x="2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74" y="20200"/>
                </a:lnTo>
                <a:close/>
              </a:path>
              <a:path fill="lighten" w="2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74" h="21600">
                <a:moveTo>
                  <a:pt x="14587" y="3837"/>
                </a:moveTo>
                <a:lnTo>
                  <a:pt x="17163" y="6448"/>
                </a:ln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lnTo>
                  <a:pt x="21550" y="10800"/>
                </a:lnTo>
                <a:lnTo>
                  <a:pt x="19896" y="10800"/>
                </a:lnTo>
                <a:lnTo>
                  <a:pt x="19896" y="17989"/>
                </a:lnTo>
                <a:lnTo>
                  <a:pt x="9278" y="17989"/>
                </a:lnTo>
                <a:lnTo>
                  <a:pt x="9278" y="10800"/>
                </a:lnTo>
                <a:lnTo>
                  <a:pt x="7624" y="10800"/>
                </a:lnTo>
                <a:close/>
              </a:path>
              <a:path fill="darkenLess" w="29174" h="21600">
                <a:moveTo>
                  <a:pt x="17163" y="6448"/>
                </a:move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close/>
              </a:path>
              <a:path fill="darkenLess" w="29174" h="21600">
                <a:moveTo>
                  <a:pt x="13664" y="14299"/>
                </a:moveTo>
                <a:lnTo>
                  <a:pt x="15510" y="14299"/>
                </a:lnTo>
                <a:lnTo>
                  <a:pt x="15510" y="17989"/>
                </a:lnTo>
                <a:lnTo>
                  <a:pt x="19896" y="17989"/>
                </a:lnTo>
                <a:lnTo>
                  <a:pt x="19896" y="10800"/>
                </a:lnTo>
                <a:lnTo>
                  <a:pt x="9278" y="10800"/>
                </a:lnTo>
                <a:lnTo>
                  <a:pt x="9278" y="17989"/>
                </a:lnTo>
                <a:lnTo>
                  <a:pt x="13664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3_52_1"/>
          <p:cNvPicPr/>
          <p:nvPr/>
        </p:nvPicPr>
        <p:blipFill>
          <a:blip r:embed="rId1"/>
          <a:stretch/>
        </p:blipFill>
        <p:spPr>
          <a:xfrm>
            <a:off x="4635360" y="189000"/>
            <a:ext cx="4033800" cy="45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230184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Серый вол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14200" y="3860640"/>
            <a:ext cx="8640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Волшебный помощник, человеческие глаза, мчащийся через лес, быстро мчи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Скачка:  </a:t>
            </a: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быстрая, стремитель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Управляющая кнопка: домой 3"/>
          <p:cNvSpPr/>
          <p:nvPr/>
        </p:nvSpPr>
        <p:spPr>
          <a:xfrm>
            <a:off x="7956720" y="5950080"/>
            <a:ext cx="898200" cy="664920"/>
          </a:xfrm>
          <a:custGeom>
            <a:avLst/>
            <a:gdLst>
              <a:gd name="textAreaLeft" fmla="*/ 42840 w 898200"/>
              <a:gd name="textAreaRight" fmla="*/ 855360 w 898200"/>
              <a:gd name="textAreaTop" fmla="*/ 42840 h 664920"/>
              <a:gd name="textAreaBottom" fmla="*/ 622080 h 664920"/>
            </a:gdLst>
            <a:ahLst/>
            <a:rect l="textAreaLeft" t="textAreaTop" r="textAreaRight" b="textAreaBottom"/>
            <a:pathLst>
              <a:path w="29174" h="21600">
                <a:moveTo>
                  <a:pt x="0" y="0"/>
                </a:moveTo>
                <a:lnTo>
                  <a:pt x="29174" y="0"/>
                </a:lnTo>
                <a:lnTo>
                  <a:pt x="29174" y="21600"/>
                </a:lnTo>
                <a:lnTo>
                  <a:pt x="0" y="21600"/>
                </a:lnTo>
                <a:close/>
              </a:path>
              <a:path fill="lightenLess" w="29174" h="21600">
                <a:moveTo>
                  <a:pt x="0" y="0"/>
                </a:moveTo>
                <a:lnTo>
                  <a:pt x="29174" y="0"/>
                </a:lnTo>
                <a:lnTo>
                  <a:pt x="27774" y="1400"/>
                </a:lnTo>
                <a:lnTo>
                  <a:pt x="1400" y="1400"/>
                </a:lnTo>
                <a:close/>
              </a:path>
              <a:path fill="darken" w="29174" h="21600">
                <a:moveTo>
                  <a:pt x="29174" y="0"/>
                </a:moveTo>
                <a:lnTo>
                  <a:pt x="29174" y="21600"/>
                </a:lnTo>
                <a:lnTo>
                  <a:pt x="27774" y="20200"/>
                </a:lnTo>
                <a:lnTo>
                  <a:pt x="27774" y="1400"/>
                </a:lnTo>
                <a:close/>
              </a:path>
              <a:path fill="darkenLess" w="29174" h="21600">
                <a:moveTo>
                  <a:pt x="2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74" y="20200"/>
                </a:lnTo>
                <a:close/>
              </a:path>
              <a:path fill="lighten" w="2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74" h="21600">
                <a:moveTo>
                  <a:pt x="14587" y="3837"/>
                </a:moveTo>
                <a:lnTo>
                  <a:pt x="17163" y="6448"/>
                </a:ln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lnTo>
                  <a:pt x="21550" y="10800"/>
                </a:lnTo>
                <a:lnTo>
                  <a:pt x="19896" y="10800"/>
                </a:lnTo>
                <a:lnTo>
                  <a:pt x="19896" y="17989"/>
                </a:lnTo>
                <a:lnTo>
                  <a:pt x="9278" y="17989"/>
                </a:lnTo>
                <a:lnTo>
                  <a:pt x="9278" y="10800"/>
                </a:lnTo>
                <a:lnTo>
                  <a:pt x="7624" y="10800"/>
                </a:lnTo>
                <a:close/>
              </a:path>
              <a:path fill="darkenLess" w="29174" h="21600">
                <a:moveTo>
                  <a:pt x="17163" y="6448"/>
                </a:move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close/>
              </a:path>
              <a:path fill="darkenLess" w="29174" h="21600">
                <a:moveTo>
                  <a:pt x="13664" y="14299"/>
                </a:moveTo>
                <a:lnTo>
                  <a:pt x="15510" y="14299"/>
                </a:lnTo>
                <a:lnTo>
                  <a:pt x="15510" y="17989"/>
                </a:lnTo>
                <a:lnTo>
                  <a:pt x="19896" y="17989"/>
                </a:lnTo>
                <a:lnTo>
                  <a:pt x="19896" y="10800"/>
                </a:lnTo>
                <a:lnTo>
                  <a:pt x="9278" y="10800"/>
                </a:lnTo>
                <a:lnTo>
                  <a:pt x="9278" y="17989"/>
                </a:lnTo>
                <a:lnTo>
                  <a:pt x="13664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6" descr="210111_50x70"/>
          <p:cNvPicPr/>
          <p:nvPr/>
        </p:nvPicPr>
        <p:blipFill>
          <a:blip r:embed="rId1"/>
          <a:srcRect l="22448" t="54922" r="48862" b="15945"/>
          <a:stretch/>
        </p:blipFill>
        <p:spPr>
          <a:xfrm>
            <a:off x="6026040" y="836640"/>
            <a:ext cx="2387880" cy="30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40[1]"/>
          <p:cNvPicPr/>
          <p:nvPr/>
        </p:nvPicPr>
        <p:blipFill>
          <a:blip r:embed="rId2"/>
          <a:stretch/>
        </p:blipFill>
        <p:spPr>
          <a:xfrm>
            <a:off x="-1225440" y="4886280"/>
            <a:ext cx="1225440" cy="114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7 C 0.63802 0.01412 0.25851 0.0088 1.13732 0.0088 E">
                                      <p:cBhvr>
                                        <p:cTn id="95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251784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Ле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68360" y="4757760"/>
            <a:ext cx="8386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Дремучий, глухой, густой, древний, вековой, косматый мох, вековой, чёрная тина бол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Управляющая кнопка: домой 3"/>
          <p:cNvSpPr/>
          <p:nvPr/>
        </p:nvSpPr>
        <p:spPr>
          <a:xfrm>
            <a:off x="7956720" y="5950080"/>
            <a:ext cx="898200" cy="664920"/>
          </a:xfrm>
          <a:custGeom>
            <a:avLst/>
            <a:gdLst>
              <a:gd name="textAreaLeft" fmla="*/ 42840 w 898200"/>
              <a:gd name="textAreaRight" fmla="*/ 855360 w 898200"/>
              <a:gd name="textAreaTop" fmla="*/ 42840 h 664920"/>
              <a:gd name="textAreaBottom" fmla="*/ 622080 h 664920"/>
            </a:gdLst>
            <a:ahLst/>
            <a:rect l="textAreaLeft" t="textAreaTop" r="textAreaRight" b="textAreaBottom"/>
            <a:pathLst>
              <a:path w="29174" h="21600">
                <a:moveTo>
                  <a:pt x="0" y="0"/>
                </a:moveTo>
                <a:lnTo>
                  <a:pt x="29174" y="0"/>
                </a:lnTo>
                <a:lnTo>
                  <a:pt x="29174" y="21600"/>
                </a:lnTo>
                <a:lnTo>
                  <a:pt x="0" y="21600"/>
                </a:lnTo>
                <a:close/>
              </a:path>
              <a:path fill="lightenLess" w="29174" h="21600">
                <a:moveTo>
                  <a:pt x="0" y="0"/>
                </a:moveTo>
                <a:lnTo>
                  <a:pt x="29174" y="0"/>
                </a:lnTo>
                <a:lnTo>
                  <a:pt x="27774" y="1400"/>
                </a:lnTo>
                <a:lnTo>
                  <a:pt x="1400" y="1400"/>
                </a:lnTo>
                <a:close/>
              </a:path>
              <a:path fill="darken" w="29174" h="21600">
                <a:moveTo>
                  <a:pt x="29174" y="0"/>
                </a:moveTo>
                <a:lnTo>
                  <a:pt x="29174" y="21600"/>
                </a:lnTo>
                <a:lnTo>
                  <a:pt x="27774" y="20200"/>
                </a:lnTo>
                <a:lnTo>
                  <a:pt x="27774" y="1400"/>
                </a:lnTo>
                <a:close/>
              </a:path>
              <a:path fill="darkenLess" w="29174" h="21600">
                <a:moveTo>
                  <a:pt x="2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74" y="20200"/>
                </a:lnTo>
                <a:close/>
              </a:path>
              <a:path fill="lighten" w="2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74" h="21600">
                <a:moveTo>
                  <a:pt x="14587" y="3837"/>
                </a:moveTo>
                <a:lnTo>
                  <a:pt x="17163" y="6448"/>
                </a:ln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lnTo>
                  <a:pt x="21550" y="10800"/>
                </a:lnTo>
                <a:lnTo>
                  <a:pt x="19896" y="10800"/>
                </a:lnTo>
                <a:lnTo>
                  <a:pt x="19896" y="17989"/>
                </a:lnTo>
                <a:lnTo>
                  <a:pt x="9278" y="17989"/>
                </a:lnTo>
                <a:lnTo>
                  <a:pt x="9278" y="10800"/>
                </a:lnTo>
                <a:lnTo>
                  <a:pt x="7624" y="10800"/>
                </a:lnTo>
                <a:close/>
              </a:path>
              <a:path fill="darkenLess" w="29174" h="21600">
                <a:moveTo>
                  <a:pt x="17163" y="6448"/>
                </a:move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close/>
              </a:path>
              <a:path fill="darkenLess" w="29174" h="21600">
                <a:moveTo>
                  <a:pt x="13664" y="14299"/>
                </a:moveTo>
                <a:lnTo>
                  <a:pt x="15510" y="14299"/>
                </a:lnTo>
                <a:lnTo>
                  <a:pt x="15510" y="17989"/>
                </a:lnTo>
                <a:lnTo>
                  <a:pt x="19896" y="17989"/>
                </a:lnTo>
                <a:lnTo>
                  <a:pt x="19896" y="10800"/>
                </a:lnTo>
                <a:lnTo>
                  <a:pt x="9278" y="10800"/>
                </a:lnTo>
                <a:lnTo>
                  <a:pt x="9278" y="17989"/>
                </a:lnTo>
                <a:lnTo>
                  <a:pt x="13664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210111_50x70"/>
          <p:cNvPicPr/>
          <p:nvPr/>
        </p:nvPicPr>
        <p:blipFill>
          <a:blip r:embed="rId1"/>
          <a:srcRect l="11884" t="8858" r="12324" b="64492"/>
          <a:stretch/>
        </p:blipFill>
        <p:spPr>
          <a:xfrm>
            <a:off x="3484440" y="210960"/>
            <a:ext cx="5400720" cy="235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210111_50x70"/>
          <p:cNvPicPr/>
          <p:nvPr/>
        </p:nvPicPr>
        <p:blipFill>
          <a:blip r:embed="rId2"/>
          <a:srcRect l="13645" t="56693" r="29931" b="9921"/>
          <a:stretch/>
        </p:blipFill>
        <p:spPr>
          <a:xfrm>
            <a:off x="324000" y="2421000"/>
            <a:ext cx="274464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95640" y="549000"/>
            <a:ext cx="395892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Цветущая ябло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26920" y="3499920"/>
            <a:ext cx="6048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Светлые  краски надежд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вера в счастливое буду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Управляющая кнопка: домой 3"/>
          <p:cNvSpPr/>
          <p:nvPr/>
        </p:nvSpPr>
        <p:spPr>
          <a:xfrm>
            <a:off x="7956720" y="5950080"/>
            <a:ext cx="898200" cy="664920"/>
          </a:xfrm>
          <a:custGeom>
            <a:avLst/>
            <a:gdLst>
              <a:gd name="textAreaLeft" fmla="*/ 42840 w 898200"/>
              <a:gd name="textAreaRight" fmla="*/ 855360 w 898200"/>
              <a:gd name="textAreaTop" fmla="*/ 42840 h 664920"/>
              <a:gd name="textAreaBottom" fmla="*/ 622080 h 664920"/>
            </a:gdLst>
            <a:ahLst/>
            <a:rect l="textAreaLeft" t="textAreaTop" r="textAreaRight" b="textAreaBottom"/>
            <a:pathLst>
              <a:path w="29174" h="21600">
                <a:moveTo>
                  <a:pt x="0" y="0"/>
                </a:moveTo>
                <a:lnTo>
                  <a:pt x="29174" y="0"/>
                </a:lnTo>
                <a:lnTo>
                  <a:pt x="29174" y="21600"/>
                </a:lnTo>
                <a:lnTo>
                  <a:pt x="0" y="21600"/>
                </a:lnTo>
                <a:close/>
              </a:path>
              <a:path fill="lightenLess" w="29174" h="21600">
                <a:moveTo>
                  <a:pt x="0" y="0"/>
                </a:moveTo>
                <a:lnTo>
                  <a:pt x="29174" y="0"/>
                </a:lnTo>
                <a:lnTo>
                  <a:pt x="27774" y="1400"/>
                </a:lnTo>
                <a:lnTo>
                  <a:pt x="1400" y="1400"/>
                </a:lnTo>
                <a:close/>
              </a:path>
              <a:path fill="darken" w="29174" h="21600">
                <a:moveTo>
                  <a:pt x="29174" y="0"/>
                </a:moveTo>
                <a:lnTo>
                  <a:pt x="29174" y="21600"/>
                </a:lnTo>
                <a:lnTo>
                  <a:pt x="27774" y="20200"/>
                </a:lnTo>
                <a:lnTo>
                  <a:pt x="27774" y="1400"/>
                </a:lnTo>
                <a:close/>
              </a:path>
              <a:path fill="darkenLess" w="29174" h="21600">
                <a:moveTo>
                  <a:pt x="2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74" y="20200"/>
                </a:lnTo>
                <a:close/>
              </a:path>
              <a:path fill="lighten" w="2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74" h="21600">
                <a:moveTo>
                  <a:pt x="14587" y="3837"/>
                </a:moveTo>
                <a:lnTo>
                  <a:pt x="17163" y="6448"/>
                </a:ln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lnTo>
                  <a:pt x="21550" y="10800"/>
                </a:lnTo>
                <a:lnTo>
                  <a:pt x="19896" y="10800"/>
                </a:lnTo>
                <a:lnTo>
                  <a:pt x="19896" y="17989"/>
                </a:lnTo>
                <a:lnTo>
                  <a:pt x="9278" y="17989"/>
                </a:lnTo>
                <a:lnTo>
                  <a:pt x="9278" y="10800"/>
                </a:lnTo>
                <a:lnTo>
                  <a:pt x="7624" y="10800"/>
                </a:lnTo>
                <a:close/>
              </a:path>
              <a:path fill="darkenLess" w="29174" h="21600">
                <a:moveTo>
                  <a:pt x="17163" y="6448"/>
                </a:moveTo>
                <a:lnTo>
                  <a:pt x="17163" y="4707"/>
                </a:lnTo>
                <a:lnTo>
                  <a:pt x="18939" y="4707"/>
                </a:lnTo>
                <a:lnTo>
                  <a:pt x="18939" y="8224"/>
                </a:lnTo>
                <a:close/>
              </a:path>
              <a:path fill="darkenLess" w="29174" h="21600">
                <a:moveTo>
                  <a:pt x="13664" y="14299"/>
                </a:moveTo>
                <a:lnTo>
                  <a:pt x="15510" y="14299"/>
                </a:lnTo>
                <a:lnTo>
                  <a:pt x="15510" y="17989"/>
                </a:lnTo>
                <a:lnTo>
                  <a:pt x="19896" y="17989"/>
                </a:lnTo>
                <a:lnTo>
                  <a:pt x="19896" y="10800"/>
                </a:lnTo>
                <a:lnTo>
                  <a:pt x="9278" y="10800"/>
                </a:lnTo>
                <a:lnTo>
                  <a:pt x="9278" y="17989"/>
                </a:lnTo>
                <a:lnTo>
                  <a:pt x="13664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757160" cy="560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b2bfe"/>
                </a:solidFill>
                <a:latin typeface="Arial"/>
              </a:rPr>
              <a:t>Молодцы!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2b2bfe"/>
                </a:solidFill>
                <a:latin typeface="Arial"/>
              </a:rPr>
              <a:t>Спасибо за хороший урок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D:\М А М А\АТТЕСТАЦИЯ\GIF\ученики за партой.gif"/>
          <p:cNvPicPr/>
          <p:nvPr/>
        </p:nvPicPr>
        <p:blipFill>
          <a:blip r:embed="rId1"/>
          <a:stretch/>
        </p:blipFill>
        <p:spPr>
          <a:xfrm>
            <a:off x="2050920" y="2492280"/>
            <a:ext cx="5480280" cy="421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3560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Великий русский художник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800" spc="-1" strike="noStrike">
                <a:solidFill>
                  <a:srgbClr val="010199"/>
                </a:solidFill>
                <a:latin typeface="Arial"/>
              </a:rPr>
              <a:t>Виктор Михайлович Васнец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280-6"/>
          <p:cNvPicPr/>
          <p:nvPr/>
        </p:nvPicPr>
        <p:blipFill>
          <a:blip r:embed="rId1"/>
          <a:stretch/>
        </p:blipFill>
        <p:spPr>
          <a:xfrm>
            <a:off x="4067280" y="333360"/>
            <a:ext cx="4829040" cy="612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bfe"/>
                </a:solidFill>
                <a:latin typeface="Arial"/>
              </a:rPr>
              <a:t>Дом-музей Васнецова В.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-main-pic" descr="Картинка 16 из 75"/>
          <p:cNvPicPr/>
          <p:nvPr/>
        </p:nvPicPr>
        <p:blipFill>
          <a:blip r:embed="rId1"/>
          <a:stretch/>
        </p:blipFill>
        <p:spPr>
          <a:xfrm>
            <a:off x="971640" y="1125360"/>
            <a:ext cx="7272360" cy="537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Васнецв В.М..wmv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668016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bfe"/>
                </a:solidFill>
                <a:latin typeface="Arial"/>
              </a:rPr>
              <a:t>Жанры живопис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003800" y="6043320"/>
            <a:ext cx="191124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2bfe"/>
                </a:solidFill>
                <a:latin typeface="Arial"/>
              </a:rPr>
              <a:t>Пейзаж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62000" y="6043680"/>
            <a:ext cx="28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2bfe"/>
                </a:solidFill>
                <a:latin typeface="Tahoma"/>
              </a:rPr>
              <a:t>Натюрморт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1207620896_hudoz2_11"/>
          <p:cNvPicPr/>
          <p:nvPr/>
        </p:nvPicPr>
        <p:blipFill>
          <a:blip r:embed="rId1"/>
          <a:stretch/>
        </p:blipFill>
        <p:spPr>
          <a:xfrm>
            <a:off x="162000" y="1125360"/>
            <a:ext cx="2976480" cy="223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00e79411a01b"/>
          <p:cNvPicPr/>
          <p:nvPr/>
        </p:nvPicPr>
        <p:blipFill>
          <a:blip r:embed="rId2"/>
          <a:stretch/>
        </p:blipFill>
        <p:spPr>
          <a:xfrm>
            <a:off x="1886040" y="3651120"/>
            <a:ext cx="3036960" cy="21114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3795840" y="6043680"/>
            <a:ext cx="22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2bfe"/>
                </a:solidFill>
                <a:latin typeface="Tahoma"/>
              </a:rPr>
              <a:t>Портрет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2" descr="http://s006.radikal.ru/i213/1002/4f/2f386a1bb8ad.jpg"/>
          <p:cNvPicPr/>
          <p:nvPr/>
        </p:nvPicPr>
        <p:blipFill>
          <a:blip r:embed="rId3"/>
          <a:stretch/>
        </p:blipFill>
        <p:spPr>
          <a:xfrm>
            <a:off x="5819760" y="2120760"/>
            <a:ext cx="2685960" cy="362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site-yo.narod.ru/m24.gif"/>
          <p:cNvPicPr/>
          <p:nvPr/>
        </p:nvPicPr>
        <p:blipFill>
          <a:blip r:embed="rId4"/>
          <a:stretch/>
        </p:blipFill>
        <p:spPr>
          <a:xfrm>
            <a:off x="7176960" y="135000"/>
            <a:ext cx="1544760" cy="178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L -0.4092 -0.56435 E">
                                      <p:cBhvr>
                                        <p:cTn id="3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00232 L 0.23681 0.00232 E">
                                      <p:cBhvr>
                                        <p:cTn id="4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338436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b2bfe"/>
                </a:solidFill>
                <a:latin typeface="Arial"/>
              </a:rPr>
              <a:t>Васнец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b2bfe"/>
                </a:solidFill>
                <a:latin typeface="Arial"/>
              </a:rPr>
              <a:t>Аполлинарий Михайл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2" descr="http://s006.radikal.ru/i213/1002/4f/2f386a1bb8ad.jpg"/>
          <p:cNvPicPr/>
          <p:nvPr/>
        </p:nvPicPr>
        <p:blipFill>
          <a:blip r:embed="rId1"/>
          <a:stretch/>
        </p:blipFill>
        <p:spPr>
          <a:xfrm>
            <a:off x="3924360" y="333360"/>
            <a:ext cx="460836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bfe"/>
                </a:solidFill>
                <a:latin typeface="Arial"/>
              </a:rPr>
              <a:t>«Ивана Царевича на сером волк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9280" y="4292640"/>
            <a:ext cx="884736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0808858c1579f52059a11b296364ed2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87640" y="1844640"/>
            <a:ext cx="3646440" cy="45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Художник - сказоч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Главные герои картины, их облик, мысли, чув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Тайны волшебного л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Arial"/>
              </a:rPr>
              <a:t>Вера в счастливый кон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920" y="254160"/>
            <a:ext cx="374472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2bfe"/>
                </a:solidFill>
                <a:latin typeface="Arial"/>
              </a:rPr>
              <a:t>Елена Прекрас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2bfe"/>
                </a:solidFill>
                <a:latin typeface="Arial"/>
              </a:rPr>
              <a:t>Иван-цар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2bfe"/>
                </a:solidFill>
                <a:latin typeface="Arial"/>
              </a:rPr>
              <a:t>Вол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2bfe"/>
                </a:solidFill>
                <a:latin typeface="Arial"/>
              </a:rPr>
              <a:t>Ле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2bfe"/>
                </a:solidFill>
                <a:latin typeface="Arial"/>
              </a:rPr>
              <a:t>Цветущая яблонь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210111_50x70"/>
          <p:cNvPicPr/>
          <p:nvPr/>
        </p:nvPicPr>
        <p:blipFill>
          <a:blip r:embed="rId1"/>
          <a:stretch/>
        </p:blipFill>
        <p:spPr>
          <a:xfrm>
            <a:off x="3995640" y="254160"/>
            <a:ext cx="4998960" cy="619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2:01:44Z</dcterms:created>
  <dc:creator>user</dc:creator>
  <dc:description/>
  <dc:language>en-US</dc:language>
  <cp:lastModifiedBy>Admin</cp:lastModifiedBy>
  <dcterms:modified xsi:type="dcterms:W3CDTF">2011-12-02T12:27:21Z</dcterms:modified>
  <cp:revision>72</cp:revision>
  <dc:subject/>
  <dc:title>Урок русского языка             в 4 классе</dc:title>
</cp:coreProperties>
</file>