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  <p:custShowLst>
    <p:custShow name="Произвольный показ 1" id="0">
      <p:sldLst>
        <p:sld r:id="rId5"/>
        <p:sld r:id="rId10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50A-A2CC-4E01-87D8-2290AF23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D36-3B0F-4184-A6A9-8B712FAB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024-765C-4B18-8C44-49D81DA7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5F0-D70D-493A-8105-B4D8DE31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2FE3-3E0D-404B-9E36-C0D07FA8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BE3F-B9F4-4465-9410-4AE9811A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ED76-709B-4911-98D8-5CB64C6F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C8F0-F78D-4EC2-A959-8A86EDFF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D7DC-4C7E-4CE1-BEEE-BA20F87C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B795-8D61-4E63-9D1A-4F59D075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2681-1A71-462F-859F-B345937F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E5B-0C0A-4B74-ACC1-BA49A55F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7949-5C04-4FE8-9AEF-CAC06D6D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FAE6-BC3B-4DE4-A370-7BD92EF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0CB1-F769-4E8D-94BE-35B4A49F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C979-4B54-45C2-B5BB-3F50D2EB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CECD-2A61-4348-BAAD-E7C069DB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48D-1164-46F1-9794-D2B0FCFA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036-86BC-4B7D-B8AD-7E1A603F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3BF-EBA1-45A6-9342-73E816D8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46C-2E35-405A-AB85-7EA7A5AC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E41-2930-4351-8AB8-3A33508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737-0E09-4B61-80A7-D72B6D6B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DAF-A78A-45D6-9ADA-53C602EA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A3B5-E54E-4D6E-8AF0-23FE2A3E9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1A0A-D29C-4BC8-B74A-8130C2C38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ТЕСТ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63640" y="2781360"/>
            <a:ext cx="5688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рень ракшатн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3EF7-661A-48CE-A7FD-124676EBDE07}" type="slidenum">
              <a:t>1</a:t>
            </a:fld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АВИ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3419640" y="2708280"/>
            <a:ext cx="2016000" cy="865080"/>
          </a:xfrm>
          <a:custGeom>
            <a:avLst/>
            <a:gdLst>
              <a:gd name="textAreaLeft" fmla="*/ 55800 w 2016000"/>
              <a:gd name="textAreaRight" fmla="*/ 1960200 w 2016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50325" h="21600">
                <a:moveTo>
                  <a:pt x="0" y="0"/>
                </a:moveTo>
                <a:lnTo>
                  <a:pt x="50325" y="0"/>
                </a:lnTo>
                <a:lnTo>
                  <a:pt x="50325" y="21600"/>
                </a:lnTo>
                <a:lnTo>
                  <a:pt x="0" y="21600"/>
                </a:lnTo>
                <a:close/>
              </a:path>
              <a:path fill="lightenLess" w="50325" h="21600">
                <a:moveTo>
                  <a:pt x="0" y="0"/>
                </a:moveTo>
                <a:lnTo>
                  <a:pt x="50325" y="0"/>
                </a:lnTo>
                <a:lnTo>
                  <a:pt x="48925" y="1400"/>
                </a:lnTo>
                <a:lnTo>
                  <a:pt x="1400" y="1400"/>
                </a:lnTo>
                <a:close/>
              </a:path>
              <a:path fill="darken" w="50325" h="21600">
                <a:moveTo>
                  <a:pt x="50325" y="0"/>
                </a:moveTo>
                <a:lnTo>
                  <a:pt x="50325" y="21600"/>
                </a:lnTo>
                <a:lnTo>
                  <a:pt x="48925" y="20200"/>
                </a:lnTo>
                <a:lnTo>
                  <a:pt x="48925" y="1400"/>
                </a:lnTo>
                <a:close/>
              </a:path>
              <a:path fill="darkenLess" w="50325" h="21600">
                <a:moveTo>
                  <a:pt x="503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25" y="20200"/>
                </a:lnTo>
                <a:close/>
              </a:path>
              <a:path fill="lighten" w="503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63640" y="1773360"/>
            <a:ext cx="496908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412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арсе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3672000" cy="35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A43-26A6-4095-86DE-DC7FBE50F3B4}" type="slidenum">
              <a:t>10</a:t>
            </a:fld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588000" y="2205000"/>
            <a:ext cx="1440000" cy="71928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32" h="21600">
                <a:moveTo>
                  <a:pt x="0" y="0"/>
                </a:moveTo>
                <a:lnTo>
                  <a:pt x="43232" y="0"/>
                </a:lnTo>
                <a:lnTo>
                  <a:pt x="43232" y="21600"/>
                </a:lnTo>
                <a:lnTo>
                  <a:pt x="0" y="21600"/>
                </a:lnTo>
                <a:close/>
              </a:path>
              <a:path fill="lightenLess" w="43232" h="21600">
                <a:moveTo>
                  <a:pt x="0" y="0"/>
                </a:moveTo>
                <a:lnTo>
                  <a:pt x="43232" y="0"/>
                </a:lnTo>
                <a:lnTo>
                  <a:pt x="41832" y="1400"/>
                </a:lnTo>
                <a:lnTo>
                  <a:pt x="1400" y="1400"/>
                </a:lnTo>
                <a:close/>
              </a:path>
              <a:path fill="darken" w="43232" h="21600">
                <a:moveTo>
                  <a:pt x="43232" y="0"/>
                </a:moveTo>
                <a:lnTo>
                  <a:pt x="43232" y="21600"/>
                </a:lnTo>
                <a:lnTo>
                  <a:pt x="41832" y="20200"/>
                </a:lnTo>
                <a:lnTo>
                  <a:pt x="41832" y="1400"/>
                </a:lnTo>
                <a:close/>
              </a:path>
              <a:path fill="darkenLess" w="43232" h="21600">
                <a:moveTo>
                  <a:pt x="4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2" y="20200"/>
                </a:lnTo>
                <a:close/>
              </a:path>
              <a:path fill="lighten" w="4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780000" cy="525636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588000" y="4653000"/>
            <a:ext cx="1440000" cy="71928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32" h="21600">
                <a:moveTo>
                  <a:pt x="0" y="0"/>
                </a:moveTo>
                <a:lnTo>
                  <a:pt x="43232" y="0"/>
                </a:lnTo>
                <a:lnTo>
                  <a:pt x="43232" y="21600"/>
                </a:lnTo>
                <a:lnTo>
                  <a:pt x="0" y="21600"/>
                </a:lnTo>
                <a:close/>
              </a:path>
              <a:path fill="lightenLess" w="43232" h="21600">
                <a:moveTo>
                  <a:pt x="0" y="0"/>
                </a:moveTo>
                <a:lnTo>
                  <a:pt x="43232" y="0"/>
                </a:lnTo>
                <a:lnTo>
                  <a:pt x="41832" y="1400"/>
                </a:lnTo>
                <a:lnTo>
                  <a:pt x="1400" y="1400"/>
                </a:lnTo>
                <a:close/>
              </a:path>
              <a:path fill="darken" w="43232" h="21600">
                <a:moveTo>
                  <a:pt x="43232" y="0"/>
                </a:moveTo>
                <a:lnTo>
                  <a:pt x="43232" y="21600"/>
                </a:lnTo>
                <a:lnTo>
                  <a:pt x="41832" y="20200"/>
                </a:lnTo>
                <a:lnTo>
                  <a:pt x="41832" y="1400"/>
                </a:lnTo>
                <a:close/>
              </a:path>
              <a:path fill="darkenLess" w="43232" h="21600">
                <a:moveTo>
                  <a:pt x="4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2" y="20200"/>
                </a:lnTo>
                <a:close/>
              </a:path>
              <a:path fill="lighten" w="4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3429000"/>
            <a:ext cx="1440000" cy="71928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32" h="21600">
                <a:moveTo>
                  <a:pt x="0" y="0"/>
                </a:moveTo>
                <a:lnTo>
                  <a:pt x="43232" y="0"/>
                </a:lnTo>
                <a:lnTo>
                  <a:pt x="43232" y="21600"/>
                </a:lnTo>
                <a:lnTo>
                  <a:pt x="0" y="21600"/>
                </a:lnTo>
                <a:close/>
              </a:path>
              <a:path fill="lightenLess" w="43232" h="21600">
                <a:moveTo>
                  <a:pt x="0" y="0"/>
                </a:moveTo>
                <a:lnTo>
                  <a:pt x="43232" y="0"/>
                </a:lnTo>
                <a:lnTo>
                  <a:pt x="41832" y="1400"/>
                </a:lnTo>
                <a:lnTo>
                  <a:pt x="1400" y="1400"/>
                </a:lnTo>
                <a:close/>
              </a:path>
              <a:path fill="darken" w="43232" h="21600">
                <a:moveTo>
                  <a:pt x="43232" y="0"/>
                </a:moveTo>
                <a:lnTo>
                  <a:pt x="43232" y="21600"/>
                </a:lnTo>
                <a:lnTo>
                  <a:pt x="41832" y="20200"/>
                </a:lnTo>
                <a:lnTo>
                  <a:pt x="41832" y="1400"/>
                </a:lnTo>
                <a:close/>
              </a:path>
              <a:path fill="darkenLess" w="43232" h="21600">
                <a:moveTo>
                  <a:pt x="4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2" y="20200"/>
                </a:lnTo>
                <a:close/>
              </a:path>
              <a:path fill="lighten" w="4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2276640"/>
            <a:ext cx="2233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ьг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80000" y="3500280"/>
            <a:ext cx="23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ивез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51280" y="472428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ярд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BF4-3EA0-4E22-9457-7BBAA537FCCD}" type="slidenum">
              <a:t>11</a:t>
            </a:fld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ВИД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2781360"/>
            <a:ext cx="1728720" cy="1008000"/>
          </a:xfrm>
          <a:custGeom>
            <a:avLst/>
            <a:gdLst>
              <a:gd name="textAreaLeft" fmla="*/ 65160 w 1728720"/>
              <a:gd name="textAreaRight" fmla="*/ 1663560 w 1728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38" h="21600">
                <a:moveTo>
                  <a:pt x="0" y="0"/>
                </a:moveTo>
                <a:lnTo>
                  <a:pt x="37038" y="0"/>
                </a:lnTo>
                <a:lnTo>
                  <a:pt x="37038" y="21600"/>
                </a:lnTo>
                <a:lnTo>
                  <a:pt x="0" y="21600"/>
                </a:lnTo>
                <a:close/>
              </a:path>
              <a:path fill="lightenLess" w="37038" h="21600">
                <a:moveTo>
                  <a:pt x="0" y="0"/>
                </a:moveTo>
                <a:lnTo>
                  <a:pt x="37038" y="0"/>
                </a:lnTo>
                <a:lnTo>
                  <a:pt x="35639" y="1400"/>
                </a:lnTo>
                <a:lnTo>
                  <a:pt x="1400" y="1400"/>
                </a:lnTo>
                <a:close/>
              </a:path>
              <a:path fill="darken" w="37038" h="21600">
                <a:moveTo>
                  <a:pt x="37038" y="0"/>
                </a:moveTo>
                <a:lnTo>
                  <a:pt x="37038" y="21600"/>
                </a:lnTo>
                <a:lnTo>
                  <a:pt x="35639" y="20200"/>
                </a:lnTo>
                <a:lnTo>
                  <a:pt x="35639" y="1400"/>
                </a:lnTo>
                <a:close/>
              </a:path>
              <a:path fill="darkenLess" w="37038" h="21600">
                <a:moveTo>
                  <a:pt x="3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9" y="20200"/>
                </a:lnTo>
                <a:close/>
              </a:path>
              <a:path fill="lighten" w="3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1873080" cy="1441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35280" y="3716280"/>
            <a:ext cx="1673280" cy="20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0330-929F-47A0-A53C-4E51EDEA78C8}" type="slidenum">
              <a:t>12</a:t>
            </a:fld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АВИ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708280"/>
            <a:ext cx="2016000" cy="865080"/>
          </a:xfrm>
          <a:custGeom>
            <a:avLst/>
            <a:gdLst>
              <a:gd name="textAreaLeft" fmla="*/ 55800 w 2016000"/>
              <a:gd name="textAreaRight" fmla="*/ 1960200 w 2016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50325" h="21600">
                <a:moveTo>
                  <a:pt x="0" y="0"/>
                </a:moveTo>
                <a:lnTo>
                  <a:pt x="50325" y="0"/>
                </a:lnTo>
                <a:lnTo>
                  <a:pt x="50325" y="21600"/>
                </a:lnTo>
                <a:lnTo>
                  <a:pt x="0" y="21600"/>
                </a:lnTo>
                <a:close/>
              </a:path>
              <a:path fill="lightenLess" w="50325" h="21600">
                <a:moveTo>
                  <a:pt x="0" y="0"/>
                </a:moveTo>
                <a:lnTo>
                  <a:pt x="50325" y="0"/>
                </a:lnTo>
                <a:lnTo>
                  <a:pt x="48925" y="1400"/>
                </a:lnTo>
                <a:lnTo>
                  <a:pt x="1400" y="1400"/>
                </a:lnTo>
                <a:close/>
              </a:path>
              <a:path fill="darken" w="50325" h="21600">
                <a:moveTo>
                  <a:pt x="50325" y="0"/>
                </a:moveTo>
                <a:lnTo>
                  <a:pt x="50325" y="21600"/>
                </a:lnTo>
                <a:lnTo>
                  <a:pt x="48925" y="20200"/>
                </a:lnTo>
                <a:lnTo>
                  <a:pt x="48925" y="1400"/>
                </a:lnTo>
                <a:close/>
              </a:path>
              <a:path fill="darkenLess" w="50325" h="21600">
                <a:moveTo>
                  <a:pt x="503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25" y="20200"/>
                </a:lnTo>
                <a:close/>
              </a:path>
              <a:path fill="lighten" w="503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73360"/>
            <a:ext cx="496908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412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арсе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927520"/>
            <a:ext cx="4103640" cy="39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459-1FE4-475D-A107-2535D5BBBC46}" type="slidenum">
              <a:t>13</a:t>
            </a:fld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6659640" y="1557360"/>
            <a:ext cx="1439640" cy="71928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22" h="21600">
                <a:moveTo>
                  <a:pt x="0" y="0"/>
                </a:moveTo>
                <a:lnTo>
                  <a:pt x="43222" y="0"/>
                </a:lnTo>
                <a:lnTo>
                  <a:pt x="43222" y="21600"/>
                </a:lnTo>
                <a:lnTo>
                  <a:pt x="0" y="21600"/>
                </a:lnTo>
                <a:close/>
              </a:path>
              <a:path fill="lightenLess" w="43222" h="21600">
                <a:moveTo>
                  <a:pt x="0" y="0"/>
                </a:moveTo>
                <a:lnTo>
                  <a:pt x="43222" y="0"/>
                </a:lnTo>
                <a:lnTo>
                  <a:pt x="41822" y="1400"/>
                </a:lnTo>
                <a:lnTo>
                  <a:pt x="1400" y="1400"/>
                </a:lnTo>
                <a:close/>
              </a:path>
              <a:path fill="darken" w="43222" h="21600">
                <a:moveTo>
                  <a:pt x="43222" y="0"/>
                </a:moveTo>
                <a:lnTo>
                  <a:pt x="43222" y="21600"/>
                </a:lnTo>
                <a:lnTo>
                  <a:pt x="41822" y="20200"/>
                </a:lnTo>
                <a:lnTo>
                  <a:pt x="41822" y="1400"/>
                </a:lnTo>
                <a:close/>
              </a:path>
              <a:path fill="darkenLess" w="43222" h="21600">
                <a:moveTo>
                  <a:pt x="43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2" y="20200"/>
                </a:lnTo>
                <a:close/>
              </a:path>
              <a:path fill="lighten" w="43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6659640" y="3068640"/>
            <a:ext cx="1439640" cy="71928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22" h="21600">
                <a:moveTo>
                  <a:pt x="0" y="0"/>
                </a:moveTo>
                <a:lnTo>
                  <a:pt x="43222" y="0"/>
                </a:lnTo>
                <a:lnTo>
                  <a:pt x="43222" y="21600"/>
                </a:lnTo>
                <a:lnTo>
                  <a:pt x="0" y="21600"/>
                </a:lnTo>
                <a:close/>
              </a:path>
              <a:path fill="lightenLess" w="43222" h="21600">
                <a:moveTo>
                  <a:pt x="0" y="0"/>
                </a:moveTo>
                <a:lnTo>
                  <a:pt x="43222" y="0"/>
                </a:lnTo>
                <a:lnTo>
                  <a:pt x="41822" y="1400"/>
                </a:lnTo>
                <a:lnTo>
                  <a:pt x="1400" y="1400"/>
                </a:lnTo>
                <a:close/>
              </a:path>
              <a:path fill="darken" w="43222" h="21600">
                <a:moveTo>
                  <a:pt x="43222" y="0"/>
                </a:moveTo>
                <a:lnTo>
                  <a:pt x="43222" y="21600"/>
                </a:lnTo>
                <a:lnTo>
                  <a:pt x="41822" y="20200"/>
                </a:lnTo>
                <a:lnTo>
                  <a:pt x="41822" y="1400"/>
                </a:lnTo>
                <a:close/>
              </a:path>
              <a:path fill="darkenLess" w="43222" h="21600">
                <a:moveTo>
                  <a:pt x="43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2" y="20200"/>
                </a:lnTo>
                <a:close/>
              </a:path>
              <a:path fill="lighten" w="43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6659640" y="4365720"/>
            <a:ext cx="1439640" cy="7189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0720" y="4508640"/>
            <a:ext cx="16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в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140360" y="1557360"/>
            <a:ext cx="21222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ярд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708360" y="3213000"/>
            <a:ext cx="269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ивез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50920" y="1268280"/>
            <a:ext cx="2449440" cy="40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41F-E773-4699-8812-1C31CD0DEA8A}" type="slidenum">
              <a:t>14</a:t>
            </a:fld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3564000" y="2708280"/>
            <a:ext cx="1439640" cy="71928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22" h="21600">
                <a:moveTo>
                  <a:pt x="0" y="0"/>
                </a:moveTo>
                <a:lnTo>
                  <a:pt x="43222" y="0"/>
                </a:lnTo>
                <a:lnTo>
                  <a:pt x="43222" y="21600"/>
                </a:lnTo>
                <a:lnTo>
                  <a:pt x="0" y="21600"/>
                </a:lnTo>
                <a:close/>
              </a:path>
              <a:path fill="lightenLess" w="43222" h="21600">
                <a:moveTo>
                  <a:pt x="0" y="0"/>
                </a:moveTo>
                <a:lnTo>
                  <a:pt x="43222" y="0"/>
                </a:lnTo>
                <a:lnTo>
                  <a:pt x="41822" y="1400"/>
                </a:lnTo>
                <a:lnTo>
                  <a:pt x="1400" y="1400"/>
                </a:lnTo>
                <a:close/>
              </a:path>
              <a:path fill="darken" w="43222" h="21600">
                <a:moveTo>
                  <a:pt x="43222" y="0"/>
                </a:moveTo>
                <a:lnTo>
                  <a:pt x="43222" y="21600"/>
                </a:lnTo>
                <a:lnTo>
                  <a:pt x="41822" y="20200"/>
                </a:lnTo>
                <a:lnTo>
                  <a:pt x="41822" y="1400"/>
                </a:lnTo>
                <a:close/>
              </a:path>
              <a:path fill="darkenLess" w="43222" h="21600">
                <a:moveTo>
                  <a:pt x="43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2" y="20200"/>
                </a:lnTo>
                <a:close/>
              </a:path>
              <a:path fill="lighten" w="43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771640" y="620640"/>
            <a:ext cx="30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И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1873080" cy="223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1617840" cy="179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D14-B5A3-459F-8590-1813C66B2F4A}" type="slidenum">
              <a:t>15</a:t>
            </a:fld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3708360" y="3141720"/>
            <a:ext cx="1440000" cy="71892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63640" y="2205000"/>
            <a:ext cx="496908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412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арсе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76720" y="333360"/>
            <a:ext cx="2087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ВИ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389-AF6D-4146-9B2C-35AE1D81FAAF}" type="slidenum">
              <a:t>16</a:t>
            </a:fld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659640" y="1557360"/>
            <a:ext cx="1439640" cy="71928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22" h="21600">
                <a:moveTo>
                  <a:pt x="0" y="0"/>
                </a:moveTo>
                <a:lnTo>
                  <a:pt x="43222" y="0"/>
                </a:lnTo>
                <a:lnTo>
                  <a:pt x="43222" y="21600"/>
                </a:lnTo>
                <a:lnTo>
                  <a:pt x="0" y="21600"/>
                </a:lnTo>
                <a:close/>
              </a:path>
              <a:path fill="lightenLess" w="43222" h="21600">
                <a:moveTo>
                  <a:pt x="0" y="0"/>
                </a:moveTo>
                <a:lnTo>
                  <a:pt x="43222" y="0"/>
                </a:lnTo>
                <a:lnTo>
                  <a:pt x="41822" y="1400"/>
                </a:lnTo>
                <a:lnTo>
                  <a:pt x="1400" y="1400"/>
                </a:lnTo>
                <a:close/>
              </a:path>
              <a:path fill="darken" w="43222" h="21600">
                <a:moveTo>
                  <a:pt x="43222" y="0"/>
                </a:moveTo>
                <a:lnTo>
                  <a:pt x="43222" y="21600"/>
                </a:lnTo>
                <a:lnTo>
                  <a:pt x="41822" y="20200"/>
                </a:lnTo>
                <a:lnTo>
                  <a:pt x="41822" y="1400"/>
                </a:lnTo>
                <a:close/>
              </a:path>
              <a:path fill="darkenLess" w="43222" h="21600">
                <a:moveTo>
                  <a:pt x="43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2" y="20200"/>
                </a:lnTo>
                <a:close/>
              </a:path>
              <a:path fill="lighten" w="43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2997360"/>
            <a:ext cx="1439640" cy="7189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2720" y="4437000"/>
            <a:ext cx="1439640" cy="71928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22" h="21600">
                <a:moveTo>
                  <a:pt x="0" y="0"/>
                </a:moveTo>
                <a:lnTo>
                  <a:pt x="43222" y="0"/>
                </a:lnTo>
                <a:lnTo>
                  <a:pt x="43222" y="21600"/>
                </a:lnTo>
                <a:lnTo>
                  <a:pt x="0" y="21600"/>
                </a:lnTo>
                <a:close/>
              </a:path>
              <a:path fill="lightenLess" w="43222" h="21600">
                <a:moveTo>
                  <a:pt x="0" y="0"/>
                </a:moveTo>
                <a:lnTo>
                  <a:pt x="43222" y="0"/>
                </a:lnTo>
                <a:lnTo>
                  <a:pt x="41822" y="1400"/>
                </a:lnTo>
                <a:lnTo>
                  <a:pt x="1400" y="1400"/>
                </a:lnTo>
                <a:close/>
              </a:path>
              <a:path fill="darken" w="43222" h="21600">
                <a:moveTo>
                  <a:pt x="43222" y="0"/>
                </a:moveTo>
                <a:lnTo>
                  <a:pt x="43222" y="21600"/>
                </a:lnTo>
                <a:lnTo>
                  <a:pt x="41822" y="20200"/>
                </a:lnTo>
                <a:lnTo>
                  <a:pt x="41822" y="1400"/>
                </a:lnTo>
                <a:close/>
              </a:path>
              <a:path fill="darkenLess" w="43222" h="21600">
                <a:moveTo>
                  <a:pt x="43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2" y="20200"/>
                </a:lnTo>
                <a:close/>
              </a:path>
              <a:path fill="lighten" w="43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51280" y="3068640"/>
            <a:ext cx="2724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умо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95640" y="4581360"/>
            <a:ext cx="240192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ивез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3708360" cy="5040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716360" y="1628640"/>
            <a:ext cx="1152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E12-6CE8-4642-94F3-FF153963EADE}" type="slidenum">
              <a:t>17</a:t>
            </a:fld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635280" y="3068640"/>
            <a:ext cx="1440000" cy="71928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32" h="21600">
                <a:moveTo>
                  <a:pt x="0" y="0"/>
                </a:moveTo>
                <a:lnTo>
                  <a:pt x="43232" y="0"/>
                </a:lnTo>
                <a:lnTo>
                  <a:pt x="43232" y="21600"/>
                </a:lnTo>
                <a:lnTo>
                  <a:pt x="0" y="21600"/>
                </a:lnTo>
                <a:close/>
              </a:path>
              <a:path fill="lightenLess" w="43232" h="21600">
                <a:moveTo>
                  <a:pt x="0" y="0"/>
                </a:moveTo>
                <a:lnTo>
                  <a:pt x="43232" y="0"/>
                </a:lnTo>
                <a:lnTo>
                  <a:pt x="41832" y="1400"/>
                </a:lnTo>
                <a:lnTo>
                  <a:pt x="1400" y="1400"/>
                </a:lnTo>
                <a:close/>
              </a:path>
              <a:path fill="darken" w="43232" h="21600">
                <a:moveTo>
                  <a:pt x="43232" y="0"/>
                </a:moveTo>
                <a:lnTo>
                  <a:pt x="43232" y="21600"/>
                </a:lnTo>
                <a:lnTo>
                  <a:pt x="41832" y="20200"/>
                </a:lnTo>
                <a:lnTo>
                  <a:pt x="41832" y="1400"/>
                </a:lnTo>
                <a:close/>
              </a:path>
              <a:path fill="darkenLess" w="43232" h="21600">
                <a:moveTo>
                  <a:pt x="4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2" y="20200"/>
                </a:lnTo>
                <a:close/>
              </a:path>
              <a:path fill="lighten" w="4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0640"/>
            <a:ext cx="30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И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1944720" cy="1873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76720" y="35020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695-3A21-460C-9BC0-FCD6B5EB6C58}" type="slidenum">
              <a:t>18</a:t>
            </a:fld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780000" y="3284640"/>
            <a:ext cx="1439640" cy="7189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76720" y="333360"/>
            <a:ext cx="2087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ВИ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63640" y="2205000"/>
            <a:ext cx="496908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412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арсе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427640" cy="336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C1A-50A0-4CAF-BD97-13D30B8752CB}" type="slidenum">
              <a:t>19</a:t>
            </a:fld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6877080" y="3357720"/>
            <a:ext cx="1440000" cy="71892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04000" y="1844640"/>
            <a:ext cx="1440000" cy="71928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32" h="21600">
                <a:moveTo>
                  <a:pt x="0" y="0"/>
                </a:moveTo>
                <a:lnTo>
                  <a:pt x="43232" y="0"/>
                </a:lnTo>
                <a:lnTo>
                  <a:pt x="43232" y="21600"/>
                </a:lnTo>
                <a:lnTo>
                  <a:pt x="0" y="21600"/>
                </a:lnTo>
                <a:close/>
              </a:path>
              <a:path fill="lightenLess" w="43232" h="21600">
                <a:moveTo>
                  <a:pt x="0" y="0"/>
                </a:moveTo>
                <a:lnTo>
                  <a:pt x="43232" y="0"/>
                </a:lnTo>
                <a:lnTo>
                  <a:pt x="41832" y="1400"/>
                </a:lnTo>
                <a:lnTo>
                  <a:pt x="1400" y="1400"/>
                </a:lnTo>
                <a:close/>
              </a:path>
              <a:path fill="darken" w="43232" h="21600">
                <a:moveTo>
                  <a:pt x="43232" y="0"/>
                </a:moveTo>
                <a:lnTo>
                  <a:pt x="43232" y="21600"/>
                </a:lnTo>
                <a:lnTo>
                  <a:pt x="41832" y="20200"/>
                </a:lnTo>
                <a:lnTo>
                  <a:pt x="41832" y="1400"/>
                </a:lnTo>
                <a:close/>
              </a:path>
              <a:path fill="darkenLess" w="43232" h="21600">
                <a:moveTo>
                  <a:pt x="4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2" y="20200"/>
                </a:lnTo>
                <a:close/>
              </a:path>
              <a:path fill="lighten" w="4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7020000" y="4797360"/>
            <a:ext cx="1439640" cy="71928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22" h="21600">
                <a:moveTo>
                  <a:pt x="0" y="0"/>
                </a:moveTo>
                <a:lnTo>
                  <a:pt x="43222" y="0"/>
                </a:lnTo>
                <a:lnTo>
                  <a:pt x="43222" y="21600"/>
                </a:lnTo>
                <a:lnTo>
                  <a:pt x="0" y="21600"/>
                </a:lnTo>
                <a:close/>
              </a:path>
              <a:path fill="lightenLess" w="43222" h="21600">
                <a:moveTo>
                  <a:pt x="0" y="0"/>
                </a:moveTo>
                <a:lnTo>
                  <a:pt x="43222" y="0"/>
                </a:lnTo>
                <a:lnTo>
                  <a:pt x="41822" y="1400"/>
                </a:lnTo>
                <a:lnTo>
                  <a:pt x="1400" y="1400"/>
                </a:lnTo>
                <a:close/>
              </a:path>
              <a:path fill="darken" w="43222" h="21600">
                <a:moveTo>
                  <a:pt x="43222" y="0"/>
                </a:moveTo>
                <a:lnTo>
                  <a:pt x="43222" y="21600"/>
                </a:lnTo>
                <a:lnTo>
                  <a:pt x="41822" y="20200"/>
                </a:lnTo>
                <a:lnTo>
                  <a:pt x="41822" y="1400"/>
                </a:lnTo>
                <a:close/>
              </a:path>
              <a:path fill="darkenLess" w="43222" h="21600">
                <a:moveTo>
                  <a:pt x="43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2" y="20200"/>
                </a:lnTo>
                <a:close/>
              </a:path>
              <a:path fill="lighten" w="43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4720" y="1989000"/>
            <a:ext cx="2260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ИВЕЗ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5013360"/>
            <a:ext cx="26640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ЬГ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1341360"/>
            <a:ext cx="5795280" cy="4966560"/>
            <a:chOff x="0" y="1341360"/>
            <a:chExt cx="5795280" cy="4966560"/>
          </a:xfrm>
        </p:grpSpPr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0" y="1341360"/>
              <a:ext cx="3355200" cy="49665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29" name=""/>
            <p:cNvSpPr txBox="1"/>
            <p:nvPr/>
          </p:nvSpPr>
          <p:spPr>
            <a:xfrm>
              <a:off x="3660840" y="3673800"/>
              <a:ext cx="213444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нумол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378-EFA2-446A-8CE0-B3008CD2F56B}" type="slidenum">
              <a:t>2</a:t>
            </a:fld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2349360"/>
            <a:ext cx="4978440" cy="3816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6084720" y="1557360"/>
            <a:ext cx="16560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20 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59640" y="2924280"/>
            <a:ext cx="649080" cy="1079280"/>
          </a:xfrm>
          <a:prstGeom prst="downArrow">
            <a:avLst>
              <a:gd name="adj1" fmla="val 50000"/>
              <a:gd name="adj2" fmla="val 4157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1944720" cy="2519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476360" y="333360"/>
            <a:ext cx="583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стомазон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9EE-736A-4297-8C04-7B4BFEFB0515}" type="slidenum">
              <a:t>20</a:t>
            </a:fld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ВИД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3635280" y="2781360"/>
            <a:ext cx="1728720" cy="1008000"/>
          </a:xfrm>
          <a:custGeom>
            <a:avLst/>
            <a:gdLst>
              <a:gd name="textAreaLeft" fmla="*/ 65160 w 1728720"/>
              <a:gd name="textAreaRight" fmla="*/ 1663560 w 1728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38" h="21600">
                <a:moveTo>
                  <a:pt x="0" y="0"/>
                </a:moveTo>
                <a:lnTo>
                  <a:pt x="37038" y="0"/>
                </a:lnTo>
                <a:lnTo>
                  <a:pt x="37038" y="21600"/>
                </a:lnTo>
                <a:lnTo>
                  <a:pt x="0" y="21600"/>
                </a:lnTo>
                <a:close/>
              </a:path>
              <a:path fill="lightenLess" w="37038" h="21600">
                <a:moveTo>
                  <a:pt x="0" y="0"/>
                </a:moveTo>
                <a:lnTo>
                  <a:pt x="37038" y="0"/>
                </a:lnTo>
                <a:lnTo>
                  <a:pt x="35639" y="1400"/>
                </a:lnTo>
                <a:lnTo>
                  <a:pt x="1400" y="1400"/>
                </a:lnTo>
                <a:close/>
              </a:path>
              <a:path fill="darken" w="37038" h="21600">
                <a:moveTo>
                  <a:pt x="37038" y="0"/>
                </a:moveTo>
                <a:lnTo>
                  <a:pt x="37038" y="21600"/>
                </a:lnTo>
                <a:lnTo>
                  <a:pt x="35639" y="20200"/>
                </a:lnTo>
                <a:lnTo>
                  <a:pt x="35639" y="1400"/>
                </a:lnTo>
                <a:close/>
              </a:path>
              <a:path fill="darkenLess" w="37038" h="21600">
                <a:moveTo>
                  <a:pt x="3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9" y="20200"/>
                </a:lnTo>
                <a:close/>
              </a:path>
              <a:path fill="lighten" w="3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873080" cy="144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4332-C68B-4756-A53A-647E85894CF0}" type="slidenum">
              <a:t>3</a:t>
            </a:fld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АВИ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3419640" y="2708280"/>
            <a:ext cx="2016000" cy="865080"/>
          </a:xfrm>
          <a:custGeom>
            <a:avLst/>
            <a:gdLst>
              <a:gd name="textAreaLeft" fmla="*/ 55800 w 2016000"/>
              <a:gd name="textAreaRight" fmla="*/ 1960200 w 2016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50325" h="21600">
                <a:moveTo>
                  <a:pt x="0" y="0"/>
                </a:moveTo>
                <a:lnTo>
                  <a:pt x="50325" y="0"/>
                </a:lnTo>
                <a:lnTo>
                  <a:pt x="50325" y="21600"/>
                </a:lnTo>
                <a:lnTo>
                  <a:pt x="0" y="21600"/>
                </a:lnTo>
                <a:close/>
              </a:path>
              <a:path fill="lightenLess" w="50325" h="21600">
                <a:moveTo>
                  <a:pt x="0" y="0"/>
                </a:moveTo>
                <a:lnTo>
                  <a:pt x="50325" y="0"/>
                </a:lnTo>
                <a:lnTo>
                  <a:pt x="48925" y="1400"/>
                </a:lnTo>
                <a:lnTo>
                  <a:pt x="1400" y="1400"/>
                </a:lnTo>
                <a:close/>
              </a:path>
              <a:path fill="darken" w="50325" h="21600">
                <a:moveTo>
                  <a:pt x="50325" y="0"/>
                </a:moveTo>
                <a:lnTo>
                  <a:pt x="50325" y="21600"/>
                </a:lnTo>
                <a:lnTo>
                  <a:pt x="48925" y="20200"/>
                </a:lnTo>
                <a:lnTo>
                  <a:pt x="48925" y="1400"/>
                </a:lnTo>
                <a:close/>
              </a:path>
              <a:path fill="darkenLess" w="50325" h="21600">
                <a:moveTo>
                  <a:pt x="503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25" y="20200"/>
                </a:lnTo>
                <a:close/>
              </a:path>
              <a:path fill="lighten" w="503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6000" y="1484280"/>
            <a:ext cx="374472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412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ec94"/>
                </a:solidFill>
                <a:latin typeface="Arial"/>
              </a:rPr>
              <a:t>арсе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eec94"/>
              </a:solidFill>
              <a:latin typeface="Arial"/>
              <a:ea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88764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698-FCBF-4FBC-B228-AC6392311431}" type="slidenum">
              <a:t>4</a:t>
            </a:fld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99564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5640" y="3068640"/>
            <a:ext cx="112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7020000" y="1773360"/>
            <a:ext cx="1439640" cy="7189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6948360" y="2997360"/>
            <a:ext cx="1440000" cy="71892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6948360" y="4221000"/>
            <a:ext cx="1440000" cy="71928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32" h="21600">
                <a:moveTo>
                  <a:pt x="0" y="0"/>
                </a:moveTo>
                <a:lnTo>
                  <a:pt x="43232" y="0"/>
                </a:lnTo>
                <a:lnTo>
                  <a:pt x="43232" y="21600"/>
                </a:lnTo>
                <a:lnTo>
                  <a:pt x="0" y="21600"/>
                </a:lnTo>
                <a:close/>
              </a:path>
              <a:path fill="lightenLess" w="43232" h="21600">
                <a:moveTo>
                  <a:pt x="0" y="0"/>
                </a:moveTo>
                <a:lnTo>
                  <a:pt x="43232" y="0"/>
                </a:lnTo>
                <a:lnTo>
                  <a:pt x="41832" y="1400"/>
                </a:lnTo>
                <a:lnTo>
                  <a:pt x="1400" y="1400"/>
                </a:lnTo>
                <a:close/>
              </a:path>
              <a:path fill="darken" w="43232" h="21600">
                <a:moveTo>
                  <a:pt x="43232" y="0"/>
                </a:moveTo>
                <a:lnTo>
                  <a:pt x="43232" y="21600"/>
                </a:lnTo>
                <a:lnTo>
                  <a:pt x="41832" y="20200"/>
                </a:lnTo>
                <a:lnTo>
                  <a:pt x="41832" y="1400"/>
                </a:lnTo>
                <a:close/>
              </a:path>
              <a:path fill="darkenLess" w="43232" h="21600">
                <a:moveTo>
                  <a:pt x="4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2" y="20200"/>
                </a:lnTo>
                <a:close/>
              </a:path>
              <a:path fill="lighten" w="4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292720" y="1844640"/>
            <a:ext cx="8888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140360" y="3141720"/>
            <a:ext cx="26636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УМО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0" y="4365720"/>
            <a:ext cx="19843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0E4-1778-489E-87EC-DDDDD8CAB42E}" type="slidenum">
              <a:t>5</a:t>
            </a:fld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ВИД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3635280" y="2781360"/>
            <a:ext cx="1728720" cy="1008000"/>
          </a:xfrm>
          <a:custGeom>
            <a:avLst/>
            <a:gdLst>
              <a:gd name="textAreaLeft" fmla="*/ 65160 w 1728720"/>
              <a:gd name="textAreaRight" fmla="*/ 1663560 w 1728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38" h="21600">
                <a:moveTo>
                  <a:pt x="0" y="0"/>
                </a:moveTo>
                <a:lnTo>
                  <a:pt x="37038" y="0"/>
                </a:lnTo>
                <a:lnTo>
                  <a:pt x="37038" y="21600"/>
                </a:lnTo>
                <a:lnTo>
                  <a:pt x="0" y="21600"/>
                </a:lnTo>
                <a:close/>
              </a:path>
              <a:path fill="lightenLess" w="37038" h="21600">
                <a:moveTo>
                  <a:pt x="0" y="0"/>
                </a:moveTo>
                <a:lnTo>
                  <a:pt x="37038" y="0"/>
                </a:lnTo>
                <a:lnTo>
                  <a:pt x="35639" y="1400"/>
                </a:lnTo>
                <a:lnTo>
                  <a:pt x="1400" y="1400"/>
                </a:lnTo>
                <a:close/>
              </a:path>
              <a:path fill="darken" w="37038" h="21600">
                <a:moveTo>
                  <a:pt x="37038" y="0"/>
                </a:moveTo>
                <a:lnTo>
                  <a:pt x="37038" y="21600"/>
                </a:lnTo>
                <a:lnTo>
                  <a:pt x="35639" y="20200"/>
                </a:lnTo>
                <a:lnTo>
                  <a:pt x="35639" y="1400"/>
                </a:lnTo>
                <a:close/>
              </a:path>
              <a:path fill="darkenLess" w="37038" h="21600">
                <a:moveTo>
                  <a:pt x="3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9" y="20200"/>
                </a:lnTo>
                <a:close/>
              </a:path>
              <a:path fill="lighten" w="3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1873440" cy="144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564000" y="4076640"/>
            <a:ext cx="172872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E1E1-7272-4667-9F28-117A767BD1D0}" type="slidenum">
              <a:t>6</a:t>
            </a:fld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АВИ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3419640" y="2708280"/>
            <a:ext cx="2016000" cy="865080"/>
          </a:xfrm>
          <a:custGeom>
            <a:avLst/>
            <a:gdLst>
              <a:gd name="textAreaLeft" fmla="*/ 55800 w 2016000"/>
              <a:gd name="textAreaRight" fmla="*/ 1960200 w 2016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50325" h="21600">
                <a:moveTo>
                  <a:pt x="0" y="0"/>
                </a:moveTo>
                <a:lnTo>
                  <a:pt x="50325" y="0"/>
                </a:lnTo>
                <a:lnTo>
                  <a:pt x="50325" y="21600"/>
                </a:lnTo>
                <a:lnTo>
                  <a:pt x="0" y="21600"/>
                </a:lnTo>
                <a:close/>
              </a:path>
              <a:path fill="lightenLess" w="50325" h="21600">
                <a:moveTo>
                  <a:pt x="0" y="0"/>
                </a:moveTo>
                <a:lnTo>
                  <a:pt x="50325" y="0"/>
                </a:lnTo>
                <a:lnTo>
                  <a:pt x="48925" y="1400"/>
                </a:lnTo>
                <a:lnTo>
                  <a:pt x="1400" y="1400"/>
                </a:lnTo>
                <a:close/>
              </a:path>
              <a:path fill="darken" w="50325" h="21600">
                <a:moveTo>
                  <a:pt x="50325" y="0"/>
                </a:moveTo>
                <a:lnTo>
                  <a:pt x="50325" y="21600"/>
                </a:lnTo>
                <a:lnTo>
                  <a:pt x="48925" y="20200"/>
                </a:lnTo>
                <a:lnTo>
                  <a:pt x="48925" y="1400"/>
                </a:lnTo>
                <a:close/>
              </a:path>
              <a:path fill="darkenLess" w="50325" h="21600">
                <a:moveTo>
                  <a:pt x="503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25" y="20200"/>
                </a:lnTo>
                <a:close/>
              </a:path>
              <a:path fill="lighten" w="503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63640" y="1773360"/>
            <a:ext cx="496908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412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арсе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671640" cy="35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F20-6311-46DA-B3E7-9183700B0241}" type="slidenum">
              <a:t>7</a:t>
            </a:fld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635280" cy="482616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732720" y="1989000"/>
            <a:ext cx="1439640" cy="71928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22" h="21600">
                <a:moveTo>
                  <a:pt x="0" y="0"/>
                </a:moveTo>
                <a:lnTo>
                  <a:pt x="43222" y="0"/>
                </a:lnTo>
                <a:lnTo>
                  <a:pt x="43222" y="21600"/>
                </a:lnTo>
                <a:lnTo>
                  <a:pt x="0" y="21600"/>
                </a:lnTo>
                <a:close/>
              </a:path>
              <a:path fill="lightenLess" w="43222" h="21600">
                <a:moveTo>
                  <a:pt x="0" y="0"/>
                </a:moveTo>
                <a:lnTo>
                  <a:pt x="43222" y="0"/>
                </a:lnTo>
                <a:lnTo>
                  <a:pt x="41822" y="1400"/>
                </a:lnTo>
                <a:lnTo>
                  <a:pt x="1400" y="1400"/>
                </a:lnTo>
                <a:close/>
              </a:path>
              <a:path fill="darken" w="43222" h="21600">
                <a:moveTo>
                  <a:pt x="43222" y="0"/>
                </a:moveTo>
                <a:lnTo>
                  <a:pt x="43222" y="21600"/>
                </a:lnTo>
                <a:lnTo>
                  <a:pt x="41822" y="20200"/>
                </a:lnTo>
                <a:lnTo>
                  <a:pt x="41822" y="1400"/>
                </a:lnTo>
                <a:close/>
              </a:path>
              <a:path fill="darkenLess" w="43222" h="21600">
                <a:moveTo>
                  <a:pt x="43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2" y="20200"/>
                </a:lnTo>
                <a:close/>
              </a:path>
              <a:path fill="lighten" w="43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732720" y="4437000"/>
            <a:ext cx="1439640" cy="71928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22" h="21600">
                <a:moveTo>
                  <a:pt x="0" y="0"/>
                </a:moveTo>
                <a:lnTo>
                  <a:pt x="43222" y="0"/>
                </a:lnTo>
                <a:lnTo>
                  <a:pt x="43222" y="21600"/>
                </a:lnTo>
                <a:lnTo>
                  <a:pt x="0" y="21600"/>
                </a:lnTo>
                <a:close/>
              </a:path>
              <a:path fill="lightenLess" w="43222" h="21600">
                <a:moveTo>
                  <a:pt x="0" y="0"/>
                </a:moveTo>
                <a:lnTo>
                  <a:pt x="43222" y="0"/>
                </a:lnTo>
                <a:lnTo>
                  <a:pt x="41822" y="1400"/>
                </a:lnTo>
                <a:lnTo>
                  <a:pt x="1400" y="1400"/>
                </a:lnTo>
                <a:close/>
              </a:path>
              <a:path fill="darken" w="43222" h="21600">
                <a:moveTo>
                  <a:pt x="43222" y="0"/>
                </a:moveTo>
                <a:lnTo>
                  <a:pt x="43222" y="21600"/>
                </a:lnTo>
                <a:lnTo>
                  <a:pt x="41822" y="20200"/>
                </a:lnTo>
                <a:lnTo>
                  <a:pt x="41822" y="1400"/>
                </a:lnTo>
                <a:close/>
              </a:path>
              <a:path fill="darkenLess" w="43222" h="21600">
                <a:moveTo>
                  <a:pt x="43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2" y="20200"/>
                </a:lnTo>
                <a:close/>
              </a:path>
              <a:path fill="lighten" w="43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6732720" y="3213000"/>
            <a:ext cx="1439640" cy="71928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3222" h="21600">
                <a:moveTo>
                  <a:pt x="0" y="0"/>
                </a:moveTo>
                <a:lnTo>
                  <a:pt x="43222" y="0"/>
                </a:lnTo>
                <a:lnTo>
                  <a:pt x="43222" y="21600"/>
                </a:lnTo>
                <a:lnTo>
                  <a:pt x="0" y="21600"/>
                </a:lnTo>
                <a:close/>
              </a:path>
              <a:path fill="lightenLess" w="43222" h="21600">
                <a:moveTo>
                  <a:pt x="0" y="0"/>
                </a:moveTo>
                <a:lnTo>
                  <a:pt x="43222" y="0"/>
                </a:lnTo>
                <a:lnTo>
                  <a:pt x="41822" y="1400"/>
                </a:lnTo>
                <a:lnTo>
                  <a:pt x="1400" y="1400"/>
                </a:lnTo>
                <a:close/>
              </a:path>
              <a:path fill="darken" w="43222" h="21600">
                <a:moveTo>
                  <a:pt x="43222" y="0"/>
                </a:moveTo>
                <a:lnTo>
                  <a:pt x="43222" y="21600"/>
                </a:lnTo>
                <a:lnTo>
                  <a:pt x="41822" y="20200"/>
                </a:lnTo>
                <a:lnTo>
                  <a:pt x="41822" y="1400"/>
                </a:lnTo>
                <a:close/>
              </a:path>
              <a:path fill="darkenLess" w="43222" h="21600">
                <a:moveTo>
                  <a:pt x="43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2" y="20200"/>
                </a:lnTo>
                <a:close/>
              </a:path>
              <a:path fill="lighten" w="43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24360" y="2060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ьг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51280" y="3357720"/>
            <a:ext cx="252108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ивез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067280" y="4581360"/>
            <a:ext cx="223344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ярд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0A6-70E2-46A6-9F5E-7042C79C4F98}" type="slidenum">
              <a:t>8</a:t>
            </a:fld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ВИД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3635280" y="2781360"/>
            <a:ext cx="1728720" cy="1008000"/>
          </a:xfrm>
          <a:custGeom>
            <a:avLst/>
            <a:gdLst>
              <a:gd name="textAreaLeft" fmla="*/ 65160 w 1728720"/>
              <a:gd name="textAreaRight" fmla="*/ 1663560 w 1728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38" h="21600">
                <a:moveTo>
                  <a:pt x="0" y="0"/>
                </a:moveTo>
                <a:lnTo>
                  <a:pt x="37038" y="0"/>
                </a:lnTo>
                <a:lnTo>
                  <a:pt x="37038" y="21600"/>
                </a:lnTo>
                <a:lnTo>
                  <a:pt x="0" y="21600"/>
                </a:lnTo>
                <a:close/>
              </a:path>
              <a:path fill="lightenLess" w="37038" h="21600">
                <a:moveTo>
                  <a:pt x="0" y="0"/>
                </a:moveTo>
                <a:lnTo>
                  <a:pt x="37038" y="0"/>
                </a:lnTo>
                <a:lnTo>
                  <a:pt x="35639" y="1400"/>
                </a:lnTo>
                <a:lnTo>
                  <a:pt x="1400" y="1400"/>
                </a:lnTo>
                <a:close/>
              </a:path>
              <a:path fill="darken" w="37038" h="21600">
                <a:moveTo>
                  <a:pt x="37038" y="0"/>
                </a:moveTo>
                <a:lnTo>
                  <a:pt x="37038" y="21600"/>
                </a:lnTo>
                <a:lnTo>
                  <a:pt x="35639" y="20200"/>
                </a:lnTo>
                <a:lnTo>
                  <a:pt x="35639" y="1400"/>
                </a:lnTo>
                <a:close/>
              </a:path>
              <a:path fill="darkenLess" w="37038" h="21600">
                <a:moveTo>
                  <a:pt x="3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9" y="20200"/>
                </a:lnTo>
                <a:close/>
              </a:path>
              <a:path fill="lighten" w="3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873080" cy="1441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708360" y="4005360"/>
            <a:ext cx="165564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C3AB-B7EC-487F-964E-B941EF3B6ECC}" type="slidenum">
              <a:t>9</a:t>
            </a:fld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5:17:24Z</dcterms:created>
  <dc:creator>Кубасовы</dc:creator>
  <dc:description/>
  <dc:language>en-US</dc:language>
  <cp:lastModifiedBy>Home</cp:lastModifiedBy>
  <dcterms:modified xsi:type="dcterms:W3CDTF">2017-01-30T14:36:56Z</dcterms:modified>
  <cp:revision>72</cp:revision>
  <dc:subject/>
  <dc:title>ТЕ КИЕ ?</dc:title>
</cp:coreProperties>
</file>