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9B79-A93F-41DF-9967-0CD22E70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20FC-14F6-4C34-BB98-DFB068FE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ABE-428D-483A-A525-9DCAA0D5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345B-9DE4-4B4D-8E27-0CBD0FBA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B5A6-F086-4D7D-A52D-8190DD9E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8223-D208-426B-B137-DAC8927A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B095-1810-4301-807A-0B9A1602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46A6-EE5C-4D05-83D1-74C99832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1095-80FF-4EE3-97FD-B6523E60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BD6A-83B3-4E4F-96A6-163B4828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4947-72FF-470F-A035-AF871A90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F8B-DDFC-4350-9A46-A8F0F7FC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479A-FA8D-47B7-B3D3-C1F3C2DC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623B-84DD-4237-895B-52B2D716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8AAD-9F2F-4279-BF1A-A55C9BD7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65FE-09DE-45C2-AB8B-C624EA0B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5619-D480-4A5C-A444-6A473929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F4FE-7F5A-47CF-86E6-F907F4EB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1BB-5924-4873-ACA9-AA73C087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B6F-BD35-4FA2-AB31-4D1A4C16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964-A06C-421F-81F2-7A7B31B4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BDB2-7826-4CF8-8AF2-52B5A88E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6B8-447E-4BD3-8C30-54FC66EB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F49-BDDF-450C-8AA1-546FA89E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234B-1C1D-41B1-9A50-FBDF621A9C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C84E-B4EC-4824-9DC2-C0CAF84F675E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0" y="152280"/>
            <a:ext cx="8991720" cy="36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893e"/>
                </a:solidFill>
                <a:latin typeface="Arial"/>
              </a:rPr>
              <a:t>муниципальное автономное дошкольное  образовательное учреждение «Детский сад №14» </a:t>
            </a:r>
            <a:br>
              <a:rPr sz="1800"/>
            </a:br>
            <a:br>
              <a:rPr sz="1800"/>
            </a:b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Мультимедийная разработка </a:t>
            </a:r>
            <a:br>
              <a:rPr sz="2800"/>
            </a:b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оектной деятельности в младшей  группе</a:t>
            </a:r>
            <a:br>
              <a:rPr sz="2800"/>
            </a:b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«Всем воробушкам - по зёрнышку»</a:t>
            </a:r>
            <a:endParaRPr b="0" i="1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657600" y="4648320"/>
            <a:ext cx="533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893e"/>
                </a:solidFill>
                <a:latin typeface="Arial"/>
              </a:rPr>
              <a:t>Составитель: Байсарина Ирина Николаевна  Воспитатель     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893e"/>
                </a:solidFill>
                <a:latin typeface="Arial"/>
              </a:rPr>
              <a:t>первой категории 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893e"/>
                </a:solidFill>
                <a:latin typeface="Arial"/>
              </a:rPr>
              <a:t>г. Гусев 2014г.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913320" y="762120"/>
            <a:ext cx="66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лобки бывают не только в сказках! Мы их «испечем» сами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09480" y="15238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/Из дети теста лепят крендельки и колобок/ 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3335400" y="32464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азыгрывание сказки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914400" y="4343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/дети, зайчик и колобок из теста/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913320" y="762120"/>
            <a:ext cx="66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лобки бывают не только в сказках! Мы их «испечем» сами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9" descr="089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33717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229" name="Picture 10" descr="085"/>
          <p:cNvPicPr/>
          <p:nvPr/>
        </p:nvPicPr>
        <p:blipFill>
          <a:blip r:embed="rId2"/>
          <a:stretch/>
        </p:blipFill>
        <p:spPr>
          <a:xfrm>
            <a:off x="0" y="0"/>
            <a:ext cx="4495680" cy="33717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230" name="Picture 11" descr="104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231" name="Picture 12" descr="098"/>
          <p:cNvPicPr/>
          <p:nvPr/>
        </p:nvPicPr>
        <p:blipFill>
          <a:blip r:embed="rId4"/>
          <a:stretch/>
        </p:blipFill>
        <p:spPr>
          <a:xfrm>
            <a:off x="0" y="3486240"/>
            <a:ext cx="4495680" cy="33717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232" name="Text Box 13"/>
          <p:cNvSpPr/>
          <p:nvPr/>
        </p:nvSpPr>
        <p:spPr>
          <a:xfrm>
            <a:off x="1143000" y="29718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Колобки бывают не только в сказках! Мы их «испечем» сами</a:t>
            </a:r>
            <a:endParaRPr b="0" i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6" descr="037"/>
          <p:cNvPicPr/>
          <p:nvPr/>
        </p:nvPicPr>
        <p:blipFill>
          <a:blip r:embed="rId1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234" name="Text Box 7"/>
          <p:cNvSpPr/>
          <p:nvPr/>
        </p:nvSpPr>
        <p:spPr>
          <a:xfrm>
            <a:off x="0" y="396252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Баранки с маком. Рисование на готовой форме</a:t>
            </a:r>
            <a:endParaRPr b="0" i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8" descr="047"/>
          <p:cNvPicPr/>
          <p:nvPr/>
        </p:nvPicPr>
        <p:blipFill>
          <a:blip r:embed="rId2"/>
          <a:stretch/>
        </p:blipFill>
        <p:spPr>
          <a:xfrm>
            <a:off x="4114800" y="3086280"/>
            <a:ext cx="5029200" cy="37717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5"/>
          <p:cNvSpPr/>
          <p:nvPr/>
        </p:nvSpPr>
        <p:spPr>
          <a:xfrm>
            <a:off x="1508040" y="1789200"/>
            <a:ext cx="359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Picture 7" descr=""/>
          <p:cNvPicPr/>
          <p:nvPr/>
        </p:nvPicPr>
        <p:blipFill>
          <a:blip r:embed="rId1"/>
          <a:stretch/>
        </p:blipFill>
        <p:spPr>
          <a:xfrm>
            <a:off x="4164120" y="0"/>
            <a:ext cx="497988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0" y="152388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ссматривание иллюстраций после прочтения сказки взрослыми</a:t>
            </a:r>
            <a:endParaRPr b="0" i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1677960" y="533520"/>
            <a:ext cx="39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нсценирование сказки «Колобок»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914400" y="12952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/дети с игрушками из сказки/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Picture 6" descr="077"/>
          <p:cNvPicPr/>
          <p:nvPr/>
        </p:nvPicPr>
        <p:blipFill>
          <a:blip r:embed="rId1"/>
          <a:stretch/>
        </p:blipFill>
        <p:spPr>
          <a:xfrm>
            <a:off x="4343400" y="3257640"/>
            <a:ext cx="4800600" cy="36003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242" name="Picture 7" descr="079"/>
          <p:cNvPicPr/>
          <p:nvPr/>
        </p:nvPicPr>
        <p:blipFill>
          <a:blip r:embed="rId2"/>
          <a:stretch/>
        </p:blipFill>
        <p:spPr>
          <a:xfrm>
            <a:off x="0" y="0"/>
            <a:ext cx="5334120" cy="40006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243" name="Text Box 8"/>
          <p:cNvSpPr/>
          <p:nvPr/>
        </p:nvSpPr>
        <p:spPr>
          <a:xfrm>
            <a:off x="5486400" y="3808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нсценирование сказки «Колобок»</a:t>
            </a:r>
            <a:endParaRPr b="0" i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0" y="45720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азыгрывание сказки</a:t>
            </a:r>
            <a:endParaRPr b="0" i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6" descr="040"/>
          <p:cNvPicPr/>
          <p:nvPr/>
        </p:nvPicPr>
        <p:blipFill>
          <a:blip r:embed="rId1"/>
          <a:stretch/>
        </p:blipFill>
        <p:spPr>
          <a:xfrm>
            <a:off x="0" y="3029040"/>
            <a:ext cx="5105520" cy="38289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246" name="Picture 7" descr="041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48624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247" name="Text Box 8"/>
          <p:cNvSpPr/>
          <p:nvPr/>
        </p:nvSpPr>
        <p:spPr>
          <a:xfrm>
            <a:off x="228600" y="2286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228600" y="4572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движная игра «Воробушки»</a:t>
            </a:r>
            <a:endParaRPr b="0" i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6"/>
          <p:cNvSpPr txBox="1"/>
          <p:nvPr/>
        </p:nvSpPr>
        <p:spPr>
          <a:xfrm>
            <a:off x="228600" y="2133720"/>
            <a:ext cx="891540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228600" y="0"/>
            <a:ext cx="89154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Цель: 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знакомить детей с хлебобулочными изделиями и с тем, из чего их изготовляют.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адачи: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ормировать умение различать количество (один - много);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влекать внимание детей к предметам контрастных размеров и их обозначению в речи (большая булочка - маленькая сушка);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накомить детей с названиями новых предметов; 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буждать повторять за воспитателем новые слова и отвечать на вопросы;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ормировать умение внимательно слушать сказку, привлекать детей к участию в драматизации сказки «Колобок»;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ормировать умение делить пластилин и соленое тесто на небольшие части, 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скатывать кусочки прямыми движениями рук, соединять концы, накладывая их друг на друга, прижимая пальчиком;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звивать коммуникативные навыки;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звивать зрительное восприятие;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оспитывать бережное отношение к хлебу;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звивать внимание и ориентировку в пространстве; 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оспитывать двигательную активность;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оспитывать внимательность и дружеские отношения в игре.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322200" y="392040"/>
          <a:ext cx="8501040" cy="6273720"/>
        </p:xfrm>
        <a:graphic>
          <a:graphicData uri="http://schemas.openxmlformats.org/drawingml/2006/table">
            <a:tbl>
              <a:tblPr/>
              <a:tblGrid>
                <a:gridCol w="2927520"/>
                <a:gridCol w="2501640"/>
                <a:gridCol w="307188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Познание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комить с хлебобулочными изделиями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ать колоски, зерно 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сказать, где делают муку, и показать какая она 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делать с  детьми тесто и что-нибудь испечь.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/и «Найди и покажи, а если сможешь, расскажи».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Коммуникативная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учить потешки для речевой гимнастики.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ить рассказывать о том, что видишь на  картине.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/и «Что вижу, назову».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/и «Найди такое же»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Социальная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ести фото, где  дети лепят пирожки с бабушками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ести фотографии, где малыши едят хлеб или торт, а еще картинки с хлебобулочными изделиями 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Чтение художественной литературы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ение сказки «Колобок»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мотр театрализованного представления «Колобок»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стоятельное проигрывание сказки «Колобок»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ение потешек «Кисонька-Мурысенька», «Пошел котик на торжок».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тический план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Булочка, пирожок и кренделек»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Итоговое мероприятие: 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досуг 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У самовара я и мои друзья» (24.04.13г.)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Физкультура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учивание и проигрывание подвижных игр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Оладушки», «Дождик»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Музыка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учивание песни «Пирожки»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учивание песни  «Ой, летали птички» (музыкальный руководитель )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учивание музыкальной игры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Бабушкины оладушки» (музыкальный руководитель)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Художественное творчество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пка из пластилина «Прянички для мамочки».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сование гуашью и ватными палочками «Вкусные баранки».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пка из солёного теста « Сушки»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Здоровье и труд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учить детей раскладывать хлеб на тарелочки для обеда.( младший воспитатель )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ить убирать за собой чашки после полдника.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ить отламывать от целого куска пирога .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ить кушать аккуратно, не торопясь,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гать хлебом при наборе пищи на ложку.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/р игра «Угости куклу Машу»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228600" y="457200"/>
            <a:ext cx="83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тро начинается. Ах, как пахнет свежий хлеб! Что лучше съесть на завтрак?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838080" y="129528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/снимок: дети , хлеб и батон на подносе/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8" descr="107"/>
          <p:cNvPicPr/>
          <p:nvPr/>
        </p:nvPicPr>
        <p:blipFill>
          <a:blip r:embed="rId1"/>
          <a:stretch/>
        </p:blipFill>
        <p:spPr>
          <a:xfrm>
            <a:off x="0" y="0"/>
            <a:ext cx="9266400" cy="69501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9"/>
          <p:cNvSpPr/>
          <p:nvPr/>
        </p:nvSpPr>
        <p:spPr>
          <a:xfrm>
            <a:off x="685800" y="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тро начинается. Ах, как пахнет свежий хлеб! Что лучше съесть на завтрак?</a:t>
            </a:r>
            <a:endParaRPr b="0" i="1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5"/>
          <p:cNvSpPr/>
          <p:nvPr/>
        </p:nvSpPr>
        <p:spPr>
          <a:xfrm>
            <a:off x="5356080" y="1058760"/>
            <a:ext cx="2492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57200" y="457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/снимок воспитатель и дети с колосьями пшеницы/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533520" y="1295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осят птички зернышек?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А откуда зернышки? 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з колосков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9" descr="112"/>
          <p:cNvPicPr/>
          <p:nvPr/>
        </p:nvPicPr>
        <p:blipFill>
          <a:blip r:embed="rId1"/>
          <a:stretch/>
        </p:blipFill>
        <p:spPr>
          <a:xfrm>
            <a:off x="4343400" y="3352680"/>
            <a:ext cx="4800600" cy="35053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205" name="Picture 10" descr="002"/>
          <p:cNvPicPr/>
          <p:nvPr/>
        </p:nvPicPr>
        <p:blipFill>
          <a:blip r:embed="rId2"/>
          <a:stretch/>
        </p:blipFill>
        <p:spPr>
          <a:xfrm>
            <a:off x="0" y="0"/>
            <a:ext cx="4343400" cy="325764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206" name="Text Box 12"/>
          <p:cNvSpPr/>
          <p:nvPr/>
        </p:nvSpPr>
        <p:spPr>
          <a:xfrm>
            <a:off x="4800600" y="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росят птички зернышек?</a:t>
            </a:r>
            <a:endParaRPr b="0" i="1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А откуда зернышки? </a:t>
            </a:r>
            <a:endParaRPr b="0" i="1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з колосков</a:t>
            </a:r>
            <a:endParaRPr b="0" i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13" descr="006"/>
          <p:cNvPicPr/>
          <p:nvPr/>
        </p:nvPicPr>
        <p:blipFill>
          <a:blip r:embed="rId3"/>
          <a:stretch/>
        </p:blipFill>
        <p:spPr>
          <a:xfrm>
            <a:off x="0" y="3352680"/>
            <a:ext cx="4329000" cy="35053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029"/>
          <p:cNvPicPr/>
          <p:nvPr/>
        </p:nvPicPr>
        <p:blipFill>
          <a:blip r:embed="rId1"/>
          <a:stretch/>
        </p:blipFill>
        <p:spPr>
          <a:xfrm>
            <a:off x="0" y="0"/>
            <a:ext cx="3886200" cy="411480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209" name="Picture 8" descr="123"/>
          <p:cNvPicPr/>
          <p:nvPr/>
        </p:nvPicPr>
        <p:blipFill>
          <a:blip r:embed="rId2"/>
          <a:stretch/>
        </p:blipFill>
        <p:spPr>
          <a:xfrm>
            <a:off x="3962520" y="3086280"/>
            <a:ext cx="5181480" cy="37717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210" name="Text Box 11"/>
          <p:cNvSpPr/>
          <p:nvPr/>
        </p:nvSpPr>
        <p:spPr>
          <a:xfrm>
            <a:off x="0" y="4267080"/>
            <a:ext cx="38862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ернышки не только для птичек.</a:t>
            </a:r>
            <a:endParaRPr b="0" i="1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з них делают муку, а из муки…</a:t>
            </a:r>
            <a:endParaRPr b="0" i="1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3"/>
          <a:stretch/>
        </p:blipFill>
        <p:spPr>
          <a:xfrm>
            <a:off x="4038480" y="0"/>
            <a:ext cx="5105520" cy="29955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212" name="Text Box 13"/>
          <p:cNvSpPr/>
          <p:nvPr/>
        </p:nvSpPr>
        <p:spPr>
          <a:xfrm>
            <a:off x="4495680" y="457200"/>
            <a:ext cx="40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з чего сделали хлеб и булочки?</a:t>
            </a:r>
            <a:endParaRPr b="0" i="1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609480" y="609588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f1311"/>
                </a:solidFill>
                <a:latin typeface="Arial"/>
              </a:rPr>
              <a:t>Какая мука на ощупь?</a:t>
            </a:r>
            <a:endParaRPr b="0" i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1446480" y="762120"/>
            <a:ext cx="52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Что в водичке происходит с солью? А с мукой?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990720" y="12952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/Дети развели в тазике соль/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6" descr="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685800" y="57913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то в водичке происходит с солью? А с мукой?</a:t>
            </a:r>
            <a:endParaRPr b="0" i="1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583800" y="76212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амешивание теста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295280" y="14479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ти добавили в тазик с солью муку/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6" descr="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609480" y="304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Замешивание теста</a:t>
            </a:r>
            <a:endParaRPr b="0" i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6:38:15Z</dcterms:created>
  <dc:creator>Ирина</dc:creator>
  <dc:description/>
  <dc:language>en-US</dc:language>
  <cp:lastModifiedBy>Пользователь Windows</cp:lastModifiedBy>
  <dcterms:modified xsi:type="dcterms:W3CDTF">2017-09-02T13:20:1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