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993-B502-4B9C-8CF5-22243DB6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2E2-BD17-4A53-8919-3118DF7F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BAE-4369-428C-A411-8095212C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1B4-5321-40F3-AE0F-9537E3D4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5F32-6672-49EA-BFEF-CFB3800D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201C-47CD-426E-A799-4FEAC50F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1419-68D4-43C0-A723-83115DBB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52B2-BA91-4045-B8E2-15AB96C3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6948-EBC4-451E-AE89-8110E874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5A4D-B458-48D3-8F84-75D12509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67E7-A439-48CC-848D-92548141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D0F-424E-46E4-BA42-DEA181B7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9FD5-D814-426B-9853-D1E8EEE8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93FD-D5CF-48C5-A88D-61CAFCA7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DC36-784D-40B5-B534-8FBBA9E4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BF08-9A42-449D-8233-11FFCF88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E171-F0AE-4AFB-8555-9EBEE2FE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8A4-716C-401B-8C43-BB06F123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BD8-5482-4B0A-B5C7-61B0602D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457-9479-4F04-BFDA-F46775AC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DC1-E5C3-48F7-B7EB-F2D45F54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A9B-8CD4-408B-A2E7-3DF2FD61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097-048D-474E-96E2-07CB0DC3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6F7-42E7-4794-B420-4D3ECD3D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2C10-41DC-4659-A906-F77C37BD27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7F34-F51E-4E5C-AE71-197F686AD40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0" y="152280"/>
            <a:ext cx="8991720" cy="36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893e"/>
                </a:solidFill>
                <a:latin typeface="Arial"/>
              </a:rPr>
              <a:t>муниципальное автономное дошкольное  образовательное учреждение «Детский сад №14» </a:t>
            </a:r>
            <a:br>
              <a:rPr sz="1800"/>
            </a:br>
            <a:br>
              <a:rPr sz="1800"/>
            </a:b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Мультимедийная разработка 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оектной деятельности в младшей  группе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«Всем воробушкам - по зёрнышку»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657600" y="464832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893e"/>
                </a:solidFill>
                <a:latin typeface="Arial"/>
              </a:rPr>
              <a:t>Составитель: Байсарина Ирина Николаевна  Воспитатель    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893e"/>
                </a:solidFill>
                <a:latin typeface="Arial"/>
              </a:rPr>
              <a:t>первой категории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893e"/>
                </a:solidFill>
                <a:latin typeface="Arial"/>
              </a:rPr>
              <a:t>г. Гусев 2014г.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913320" y="762120"/>
            <a:ext cx="66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лобки бывают не только в сказках! Мы их «испечем» сами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09480" y="15238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Из дети теста лепят крендельки и колобок/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335400" y="3246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азыгрывание сказки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914400" y="4343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дети, зайчик и колобок из теста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913320" y="762120"/>
            <a:ext cx="66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лобки бывают не только в сказках! Мы их «испечем» сами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9" descr="089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3717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29" name="Picture 10" descr="085"/>
          <p:cNvPicPr/>
          <p:nvPr/>
        </p:nvPicPr>
        <p:blipFill>
          <a:blip r:embed="rId2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30" name="Picture 11" descr="104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31" name="Picture 12" descr="098"/>
          <p:cNvPicPr/>
          <p:nvPr/>
        </p:nvPicPr>
        <p:blipFill>
          <a:blip r:embed="rId4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32" name="Text Box 13"/>
          <p:cNvSpPr/>
          <p:nvPr/>
        </p:nvSpPr>
        <p:spPr>
          <a:xfrm>
            <a:off x="1143000" y="29718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Колобки бывают не только в сказках! Мы их «испечем» сами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037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34" name="Text Box 7"/>
          <p:cNvSpPr/>
          <p:nvPr/>
        </p:nvSpPr>
        <p:spPr>
          <a:xfrm>
            <a:off x="0" y="396252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Баранки с маком. Рисование на готовой форме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8" descr="047"/>
          <p:cNvPicPr/>
          <p:nvPr/>
        </p:nvPicPr>
        <p:blipFill>
          <a:blip r:embed="rId2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1508040" y="1789200"/>
            <a:ext cx="359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4164120" y="0"/>
            <a:ext cx="497988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0" y="152388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сматривание иллюстраций после прочтения сказки взрослыми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677960" y="53352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нсценирование сказки «Колобок»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914400" y="12952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дети с игрушками из сказки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Picture 6" descr="077"/>
          <p:cNvPicPr/>
          <p:nvPr/>
        </p:nvPicPr>
        <p:blipFill>
          <a:blip r:embed="rId1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42" name="Picture 7" descr="079"/>
          <p:cNvPicPr/>
          <p:nvPr/>
        </p:nvPicPr>
        <p:blipFill>
          <a:blip r:embed="rId2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43" name="Text Box 8"/>
          <p:cNvSpPr/>
          <p:nvPr/>
        </p:nvSpPr>
        <p:spPr>
          <a:xfrm>
            <a:off x="5486400" y="3808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нсценирование сказки «Колобок»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0" y="45720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азыгрывание сказки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40"/>
          <p:cNvPicPr/>
          <p:nvPr/>
        </p:nvPicPr>
        <p:blipFill>
          <a:blip r:embed="rId1"/>
          <a:stretch/>
        </p:blipFill>
        <p:spPr>
          <a:xfrm>
            <a:off x="0" y="3029040"/>
            <a:ext cx="5105520" cy="38289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46" name="Picture 7" descr="04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4862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228600" y="2286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228600" y="4572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движная игра «Воробушки»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6"/>
          <p:cNvSpPr txBox="1"/>
          <p:nvPr/>
        </p:nvSpPr>
        <p:spPr>
          <a:xfrm>
            <a:off x="228600" y="2133720"/>
            <a:ext cx="891540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28600" y="0"/>
            <a:ext cx="8915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Цель: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знакомить детей с хлебобулочными изделиями и с тем, из чего их изготовляют.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дачи: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ормировать умение различать количество (один - много)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влекать внимание детей к предметам контрастных размеров и их обозначению в речи (большая булочка - маленькая сушка)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комить детей с названиями новых предметов;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буждать повторять за воспитателем новые слова и отвечать на вопросы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ормировать умение внимательно слушать сказку, привлекать детей к участию в драматизации сказки «Колобок»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ормировать умение делить пластилин и соленое тесто на небольшие части,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скатывать кусочки прямыми движениями рук, соединять концы, накладывая их друг на друга, прижимая пальчиком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вать коммуникативные навыки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вать зрительное восприятие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ывать бережное отношение к хлебу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вать внимание и ориентировку в пространстве;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ывать двигательную активность;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ывать внимательность и дружеские отношения в игре.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22200" y="392040"/>
          <a:ext cx="8501040" cy="6273720"/>
        </p:xfrm>
        <a:graphic>
          <a:graphicData uri="http://schemas.openxmlformats.org/drawingml/2006/table">
            <a:tbl>
              <a:tblPr/>
              <a:tblGrid>
                <a:gridCol w="2927520"/>
                <a:gridCol w="2501640"/>
                <a:gridCol w="307188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Познание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хлебобулочными изделиями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ь колоски, зерно 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сказать, где делают муку, и показать какая она 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делать с  детьми тесто и что-нибудь испечь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/и «Найди и покажи, а если сможешь, расскажи»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учить потешки для речевой гимнастики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ь рассказывать о том, что видишь на  картине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/и «Что вижу, назову»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/и «Найди такое же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оциальная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ести фото, где  дети лепят пирожки с бабушками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ести фотографии, где малыши едят хлеб или торт, а еще картинки с хлебобулочными изделиями 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тение художественной литературы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ение сказки «Колобок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мотр театрализованного представления «Колобок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стоятельное проигрывание сказки «Колобок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ение потешек «Кисонька-Мурысенька», «Пошел котик на торжок»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тический план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Булочка, пирожок и кренделек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Итоговое мероприятие: 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досуг 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У самовара я и мои друзья» (24.04.13г.)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Физкультура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учивание и проигрывание подвижных игр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ладушки», «Дождик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Музыка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учивание песни «Пирожки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учивание песни  «Ой, летали птички» (музыкальный руководитель )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учивание музыкальной игры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Бабушкины оладушки» (музыкальный руководитель)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Художественное творчество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пка из пластилина «Прянички для мамочки»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ование гуашью и ватными палочками «Вкусные баранки»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пка из солёного теста « Сушки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Здоровье и труд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учить детей раскладывать хлеб на тарелочки для обеда.( младший воспитатель )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ь убирать за собой чашки после полдника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ь отламывать от целого куска пирога 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ь кушать аккуратно, не торопясь,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гать хлебом при наборе пищи на ложку.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/р игра «Угости куклу Машу»</a:t>
                      </a:r>
                      <a:endParaRPr b="0" i="1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228600" y="457200"/>
            <a:ext cx="83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тро начинается. Ах, как пахнет свежий хлеб! Что лучше съесть на завтрак?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838080" y="129528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снимок: дети , хлеб и батон на подносе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8" descr="107"/>
          <p:cNvPicPr/>
          <p:nvPr/>
        </p:nvPicPr>
        <p:blipFill>
          <a:blip r:embed="rId1"/>
          <a:stretch/>
        </p:blipFill>
        <p:spPr>
          <a:xfrm>
            <a:off x="0" y="0"/>
            <a:ext cx="9266400" cy="69501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9"/>
          <p:cNvSpPr/>
          <p:nvPr/>
        </p:nvSpPr>
        <p:spPr>
          <a:xfrm>
            <a:off x="685800" y="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тро начинается. Ах, как пахнет свежий хлеб! Что лучше съесть на завтрак?</a:t>
            </a:r>
            <a:endParaRPr b="0" i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5356080" y="1058760"/>
            <a:ext cx="249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5720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снимок воспитатель и дети с колосьями пшеницы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533520" y="1295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осят птички зернышек?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 откуда зернышки? 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з колосков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9" descr="112"/>
          <p:cNvPicPr/>
          <p:nvPr/>
        </p:nvPicPr>
        <p:blipFill>
          <a:blip r:embed="rId1"/>
          <a:stretch/>
        </p:blipFill>
        <p:spPr>
          <a:xfrm>
            <a:off x="4343400" y="3352680"/>
            <a:ext cx="4800600" cy="35053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05" name="Picture 10" descr="002"/>
          <p:cNvPicPr/>
          <p:nvPr/>
        </p:nvPicPr>
        <p:blipFill>
          <a:blip r:embed="rId2"/>
          <a:stretch/>
        </p:blipFill>
        <p:spPr>
          <a:xfrm>
            <a:off x="0" y="0"/>
            <a:ext cx="4343400" cy="32576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06" name="Text Box 12"/>
          <p:cNvSpPr/>
          <p:nvPr/>
        </p:nvSpPr>
        <p:spPr>
          <a:xfrm>
            <a:off x="4800600" y="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сят птички зернышек?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А откуда зернышки? 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з колосков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13" descr="006"/>
          <p:cNvPicPr/>
          <p:nvPr/>
        </p:nvPicPr>
        <p:blipFill>
          <a:blip r:embed="rId3"/>
          <a:stretch/>
        </p:blipFill>
        <p:spPr>
          <a:xfrm>
            <a:off x="0" y="3352680"/>
            <a:ext cx="4329000" cy="35053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029"/>
          <p:cNvPicPr/>
          <p:nvPr/>
        </p:nvPicPr>
        <p:blipFill>
          <a:blip r:embed="rId1"/>
          <a:stretch/>
        </p:blipFill>
        <p:spPr>
          <a:xfrm>
            <a:off x="0" y="0"/>
            <a:ext cx="3886200" cy="41148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209" name="Picture 8" descr="123"/>
          <p:cNvPicPr/>
          <p:nvPr/>
        </p:nvPicPr>
        <p:blipFill>
          <a:blip r:embed="rId2"/>
          <a:stretch/>
        </p:blipFill>
        <p:spPr>
          <a:xfrm>
            <a:off x="3962520" y="3086280"/>
            <a:ext cx="5181480" cy="37717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10" name="Text Box 11"/>
          <p:cNvSpPr/>
          <p:nvPr/>
        </p:nvSpPr>
        <p:spPr>
          <a:xfrm>
            <a:off x="0" y="4267080"/>
            <a:ext cx="38862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ернышки не только для птичек.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 них делают муку, а из муки…</a:t>
            </a: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3"/>
          <a:stretch/>
        </p:blipFill>
        <p:spPr>
          <a:xfrm>
            <a:off x="4038480" y="0"/>
            <a:ext cx="5105520" cy="29955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12" name="Text Box 13"/>
          <p:cNvSpPr/>
          <p:nvPr/>
        </p:nvSpPr>
        <p:spPr>
          <a:xfrm>
            <a:off x="4495680" y="45720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 чего сделали хлеб и булочки?</a:t>
            </a:r>
            <a:endParaRPr b="0" i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609480" y="60958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f1311"/>
                </a:solidFill>
                <a:latin typeface="Arial"/>
              </a:rPr>
              <a:t>Какая мука на ощупь?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1446480" y="76212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то в водичке происходит с солью? А с мукой?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9907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/Дети развели в тазике соль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6" descr="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685800" y="5791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 в водичке происходит с солью? А с мукой?</a:t>
            </a:r>
            <a:endParaRPr b="0" i="1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583800" y="7621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амешивание теста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295280" y="14479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ти добавили в тазик с солью муку/</a:t>
            </a:r>
            <a:endParaRPr b="0" i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6" descr="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60948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Замешивание теста</a:t>
            </a:r>
            <a:endParaRPr b="0" i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6:38:15Z</dcterms:created>
  <dc:creator>Ирина</dc:creator>
  <dc:description/>
  <dc:language>en-US</dc:language>
  <cp:lastModifiedBy>Пользователь Windows</cp:lastModifiedBy>
  <dcterms:modified xsi:type="dcterms:W3CDTF">2017-09-02T13:20:1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