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F512-6FAD-4208-BDCE-081216BF6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927F-2645-441C-B7C8-C373818D4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E02D-0274-4146-BCF0-6294FA2F0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700B-377D-4EF9-93FD-3235BAC9B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C03C-7B60-4E43-8F8C-F0BF02284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33BA-A964-4202-A4FD-0C33E4B49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5FE2-5CEA-47A0-987B-3BC5A4BEE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0CEC-71E2-4E85-8241-91AADEC8B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E023-F641-4B1F-825D-39027BA79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33E7-922E-4144-84DE-023E2518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D222-5AEE-4015-A009-D5D82A0B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D0AB-BC0B-4CBD-AB3A-FC432E79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4415B-084E-4BDF-81B3-7E619C93AF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0" y="1916280"/>
            <a:ext cx="8713800" cy="31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61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2" name="Line 8"/>
          <p:cNvSpPr/>
          <p:nvPr/>
        </p:nvSpPr>
        <p:spPr>
          <a:xfrm>
            <a:off x="297000" y="1054080"/>
            <a:ext cx="8550000" cy="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0"/>
          <p:cNvSpPr/>
          <p:nvPr/>
        </p:nvSpPr>
        <p:spPr>
          <a:xfrm>
            <a:off x="0" y="333360"/>
            <a:ext cx="9144000" cy="523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Object 11"/>
          <p:cNvGraphicFramePr/>
          <p:nvPr/>
        </p:nvGraphicFramePr>
        <p:xfrm>
          <a:off x="7945560" y="0"/>
          <a:ext cx="1198440" cy="98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45560" y="0"/>
                    <a:ext cx="119844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" name="Picture 12" descr="Знатоки"/>
          <p:cNvPicPr/>
          <p:nvPr/>
        </p:nvPicPr>
        <p:blipFill>
          <a:blip r:embed="rId3"/>
          <a:srcRect l="0" t="0" r="0" b="29008"/>
          <a:stretch/>
        </p:blipFill>
        <p:spPr>
          <a:xfrm>
            <a:off x="0" y="84240"/>
            <a:ext cx="1835280" cy="868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2565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Здоровое питани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00000" y="4149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Times New Roman"/>
              <a:ea typeface="Times New Roman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334960" y="1557000"/>
            <a:ext cx="635148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039760" indent="260640">
              <a:lnSpc>
                <a:spcPct val="7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ыб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39760" indent="2606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ипс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39760" indent="2606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пс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39760" indent="260640">
              <a:lnSpc>
                <a:spcPct val="7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яс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39760" indent="2606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рков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39760" indent="260640">
              <a:lnSpc>
                <a:spcPct val="7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азированная в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39760" indent="260640">
              <a:lnSpc>
                <a:spcPct val="7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пус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39760" indent="2606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апша быстрого                 приготовл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39760" indent="260640">
              <a:lnSpc>
                <a:spcPct val="7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рожено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39760" indent="260640">
              <a:lnSpc>
                <a:spcPct val="7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никер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39760" indent="260640">
              <a:lnSpc>
                <a:spcPct val="7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укуруз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468360" y="2637000"/>
            <a:ext cx="266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ЛЕЗНЫЕ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11280" y="450864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РЕД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7"/>
          <p:cNvSpPr/>
          <p:nvPr/>
        </p:nvSpPr>
        <p:spPr>
          <a:xfrm flipV="1">
            <a:off x="2916360" y="1773000"/>
            <a:ext cx="1655640" cy="93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8"/>
          <p:cNvSpPr/>
          <p:nvPr/>
        </p:nvSpPr>
        <p:spPr>
          <a:xfrm>
            <a:off x="2916360" y="2852640"/>
            <a:ext cx="165564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9"/>
          <p:cNvSpPr/>
          <p:nvPr/>
        </p:nvSpPr>
        <p:spPr>
          <a:xfrm>
            <a:off x="2843280" y="2924280"/>
            <a:ext cx="1727280" cy="57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0"/>
          <p:cNvSpPr/>
          <p:nvPr/>
        </p:nvSpPr>
        <p:spPr>
          <a:xfrm>
            <a:off x="2916360" y="3068640"/>
            <a:ext cx="1584360" cy="1297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1"/>
          <p:cNvSpPr/>
          <p:nvPr/>
        </p:nvSpPr>
        <p:spPr>
          <a:xfrm>
            <a:off x="2916360" y="3141720"/>
            <a:ext cx="1584360" cy="280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2"/>
          <p:cNvSpPr/>
          <p:nvPr/>
        </p:nvSpPr>
        <p:spPr>
          <a:xfrm flipV="1">
            <a:off x="2700360" y="2276280"/>
            <a:ext cx="1871640" cy="24476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3"/>
          <p:cNvSpPr/>
          <p:nvPr/>
        </p:nvSpPr>
        <p:spPr>
          <a:xfrm flipV="1">
            <a:off x="2771640" y="2707920"/>
            <a:ext cx="1800360" cy="208908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4"/>
          <p:cNvSpPr/>
          <p:nvPr/>
        </p:nvSpPr>
        <p:spPr>
          <a:xfrm flipV="1">
            <a:off x="2771640" y="4005000"/>
            <a:ext cx="1729080" cy="8636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5"/>
          <p:cNvSpPr/>
          <p:nvPr/>
        </p:nvSpPr>
        <p:spPr>
          <a:xfrm flipV="1">
            <a:off x="2771640" y="4797000"/>
            <a:ext cx="1729080" cy="1443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6"/>
          <p:cNvSpPr/>
          <p:nvPr/>
        </p:nvSpPr>
        <p:spPr>
          <a:xfrm>
            <a:off x="2771640" y="5013360"/>
            <a:ext cx="1729080" cy="50328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0" descr="J0232053"/>
          <p:cNvPicPr/>
          <p:nvPr/>
        </p:nvPicPr>
        <p:blipFill>
          <a:blip r:embed="rId1"/>
          <a:stretch/>
        </p:blipFill>
        <p:spPr>
          <a:xfrm>
            <a:off x="611280" y="333360"/>
            <a:ext cx="1657080" cy="2158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1" descr="J0232101"/>
          <p:cNvPicPr/>
          <p:nvPr/>
        </p:nvPicPr>
        <p:blipFill>
          <a:blip r:embed="rId2"/>
          <a:stretch/>
        </p:blipFill>
        <p:spPr>
          <a:xfrm>
            <a:off x="7308720" y="404640"/>
            <a:ext cx="1657440" cy="2159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очные продукты и яйц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5" descr="мол.jpg"/>
          <p:cNvPicPr/>
          <p:nvPr/>
        </p:nvPicPr>
        <p:blipFill>
          <a:blip r:embed="rId1"/>
          <a:stretch/>
        </p:blipFill>
        <p:spPr>
          <a:xfrm>
            <a:off x="1244520" y="1600200"/>
            <a:ext cx="6654960" cy="4525920"/>
          </a:xfrm>
          <a:prstGeom prst="rect">
            <a:avLst/>
          </a:prstGeom>
          <a:ln w="0">
            <a:noFill/>
          </a:ln>
        </p:spPr>
      </p:pic>
      <p:sp>
        <p:nvSpPr>
          <p:cNvPr id="66" name="WordArt 6"/>
          <p:cNvSpPr txBox="1"/>
          <p:nvPr/>
        </p:nvSpPr>
        <p:spPr>
          <a:xfrm>
            <a:off x="0" y="0"/>
            <a:ext cx="890604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1258920" y="1784520"/>
            <a:ext cx="7129440" cy="4989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ясные продукты и рыб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укты и овощ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6" descr=""/>
          <p:cNvPicPr/>
          <p:nvPr/>
        </p:nvPicPr>
        <p:blipFill>
          <a:blip r:embed="rId1"/>
          <a:stretch/>
        </p:blipFill>
        <p:spPr>
          <a:xfrm>
            <a:off x="345960" y="1268280"/>
            <a:ext cx="8380440" cy="55897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ами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7345440" cy="4692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Содержимое 8" descr="вит все.jpg"/>
          <p:cNvPicPr/>
          <p:nvPr/>
        </p:nvPicPr>
        <p:blipFill>
          <a:blip r:embed="rId1"/>
          <a:stretch/>
        </p:blipFill>
        <p:spPr>
          <a:xfrm>
            <a:off x="250920" y="333360"/>
            <a:ext cx="8605800" cy="6083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869840" y="1197000"/>
            <a:ext cx="72738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4784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libri"/>
              </a:rPr>
              <a:t>БУДЬТЕ ЗДОРОВЫ !!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1347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3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08T19:45:53Z</dcterms:created>
  <dc:creator>х</dc:creator>
  <dc:description/>
  <dc:language>en-US</dc:language>
  <cp:lastModifiedBy>User</cp:lastModifiedBy>
  <dcterms:modified xsi:type="dcterms:W3CDTF">2017-09-05T02:53:39Z</dcterms:modified>
  <cp:revision>6</cp:revision>
  <dc:subject/>
  <dc:title>Слайд 1</dc:title>
</cp:coreProperties>
</file>