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185-9BF0-44E2-AD89-9F69486F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C24-F254-41A4-B871-18E78683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3AC-8949-43DA-B8C7-9CAC9649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6FB-D739-4E71-A853-5F9115FD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EF4F-7A7E-498B-812D-CDDDFCB1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0DD5-02A7-4B70-9AD8-8335688D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D891-9720-4DBE-9FE6-5A69C841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C51B-DE89-4117-BA92-9CE36F97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10E4-8F2C-42E4-B43E-50E13239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B6E6-B345-4B96-BAAD-93541915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7350-BAC9-4625-994E-59EAB4E0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CA7-86F6-436A-A301-25BF5869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E414-DF40-4A34-B059-C9C665E4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140E-E2F5-4DF9-9E29-10CBF48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7BF7-5748-4162-AFAB-CF75F662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701C-2115-40F9-8322-B6AED1DA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137C-2CA1-4B3E-BA2D-A7887553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1166-B03D-48AB-A53A-7F5E7786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E89F7-23B7-4551-BA19-ACA15C4C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7725-A100-4F5A-BE40-AA1158A6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71579-0B9A-403A-8586-652BEB9B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23A3-1CD3-4A98-8DAC-E5A680FF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703-6C3A-4B19-B3F5-63197208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2652-4568-47C8-A0E1-08C700EA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19E6-08E1-4D1A-B105-16B5D13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3A18-4E9D-452C-A5E1-F4A3A764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8F65E-E593-4F53-9F2A-7224A401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2269-E837-4C88-92A7-6F814528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D2EE-5E43-4C76-B21D-4B644717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097C-A8F7-40F3-9DBD-61A51A83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3ED-FE26-4259-B1E1-4752D784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955-DB7D-4B6A-BE05-4C0069F4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8F6-70FB-46A6-981E-8E226F51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232-9F3A-4BFB-957D-5578C762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972-E620-49F5-B052-E635A0EC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438-A281-4984-AE6A-293DFA06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F69E-F3C3-45D5-96FB-CDB87A80D2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AD38-AF59-4F7B-AD48-A07F87466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1751-30CE-451B-8F5C-75DAAB15F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25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Развитие речи детей старшего дошкольного возраста через </a:t>
            </a:r>
            <a:br>
              <a:rPr sz="4400"/>
            </a:b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спользование дидактических игр по </a:t>
            </a: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 ПД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Составила воспитатель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 категори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Arial"/>
              </a:rPr>
              <a:t>филиала </a:t>
            </a: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МБДОУ «</a:t>
            </a:r>
            <a:r>
              <a:rPr b="0" lang="ru-RU" sz="3000" spc="-1" strike="noStrike">
                <a:solidFill>
                  <a:srgbClr val="00b0f0"/>
                </a:solidFill>
                <a:latin typeface="Arial"/>
              </a:rPr>
              <a:t>Центр развития ребёнка-д</a:t>
            </a: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етский сад  № </a:t>
            </a:r>
            <a:r>
              <a:rPr b="0" lang="ru-RU" sz="3000" spc="-1" strike="noStrike">
                <a:solidFill>
                  <a:srgbClr val="00b0f0"/>
                </a:solidFill>
                <a:latin typeface="Arial"/>
              </a:rPr>
              <a:t>90</a:t>
            </a: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b0f0"/>
                </a:solidFill>
                <a:latin typeface="Arial"/>
              </a:rPr>
              <a:t>«Подсолнушек »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alibri"/>
              </a:rPr>
              <a:t>Уразбаева Гузель Шамиле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а – это огромное   светлое окно, через которое в духовный мир ребенка вливается живительный поток преставлений, понятий. Игра – это искра, зажигающая огонек пытливости и любозна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ез игры нет, и не может быть полноценного умственного развит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   В.А.Сухом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дактическая игра – одно из основных средств развития познавательных процессов, речи и мышления. В процессе игры у детей формируются доброжелательные отношения друг другу, умение делиться с товарищами, аккуратно и бережно пользоваться игрушками и игровым материа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нно в дидактической игре ребенок получает возможность совершенствовать, обогащать, закреплять, активизировать свой словар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4" descr="D:\РАБОТА\ОБМЕН\1369320557_milicioner.jpg"/>
          <p:cNvPicPr/>
          <p:nvPr/>
        </p:nvPicPr>
        <p:blipFill>
          <a:blip r:embed="rId1"/>
          <a:stretch/>
        </p:blipFill>
        <p:spPr>
          <a:xfrm>
            <a:off x="1295280" y="4941720"/>
            <a:ext cx="2700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шей стране, как и во всем мире, увеличивается число дорожно-транспортных происшествий. По статистике каждой десятой жертвой ДТП является ребенок. Часто это связано с несоблюдением правил дорожного движения, их незнанием. Предоставленные самим себе, дети мало считаются с реальными опасностями на дороге, так как недооценивают собственные возможности, считая себя ловкими и быстрыми. У них еще не выработалась способность предвидеть возможность возникновения опасности в быстро меняющейся дорожной обстановке, поэтому важно научить детей дорожной грамоте, правилам поведения на ули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е ценное для взрослых – здоровье и жизнь ребенка, поэтому в детском саду вопросу безопасности детей на улицах и дорогах города необходимо уделять большое вним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 Воспитание всесторонне развитой личности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знанием основ безопасного поведения на улице и  правил дорожного дви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Формировать у детей  интерес к дидактическому материалу и  играм через ИКТ. Создавать условия для самостоятельного выбора иг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Развивать речь детей, пополнение активного и пассивного слова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Закрепить знания  правил дорожного движения, дорожные знаки, предназначенные для водителей и пешеходов, с работой Государственной инспекции безопасности дорожного движения через игровую систему работы   во время  индивидуальной работы  с детьми, занятий , экскурсий, прогул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Развивать осторожность, внимательность,  самостоятельность, ответственность  и осмотрительность на дороге; нравственные качества: умение играть по правилам, соблюдая норму поведения; уметь выигрывать и проигрывать; выполнять роль ведуще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Воспитывать навыки личной безопасности и чувство самосохранения. Вызывать положительный эмоциональный отклик на результат иг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аботы с детьми использую следующие прие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ы постановки целей и мотивации деятельности детей: демонстрация схемы улицы, создание проблемной ситуации, возможность высказать способы ре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ы активизации деятельности детей в процессе ОД: беседа, игры, создание проблемной ситуации, направленной на применение личного опыта детей , анализ и выводы, физкультминут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ы поддержания интереса у детей: игровые ситуации, ситуация выбора, дидактические, подвижные, настольные игры; возможность применения личного опы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ы оценки и самооценки: поощрение, взаимопомощь детей, обсужд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вера\Desktop\фото\SDC10476.JPG"/>
          <p:cNvPicPr/>
          <p:nvPr/>
        </p:nvPicPr>
        <p:blipFill>
          <a:blip r:embed="rId1"/>
          <a:stretch/>
        </p:blipFill>
        <p:spPr>
          <a:xfrm>
            <a:off x="5867280" y="1700280"/>
            <a:ext cx="2554560" cy="1873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вера\Desktop\фото\IMG_20160322_093217.jpg"/>
          <p:cNvPicPr/>
          <p:nvPr/>
        </p:nvPicPr>
        <p:blipFill>
          <a:blip r:embed="rId2"/>
          <a:stretch/>
        </p:blipFill>
        <p:spPr>
          <a:xfrm>
            <a:off x="395280" y="1844640"/>
            <a:ext cx="2276640" cy="244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вера\Desktop\фото\SDC10491.JPG"/>
          <p:cNvPicPr/>
          <p:nvPr/>
        </p:nvPicPr>
        <p:blipFill>
          <a:blip r:embed="rId3"/>
          <a:stretch/>
        </p:blipFill>
        <p:spPr>
          <a:xfrm>
            <a:off x="3132000" y="3357720"/>
            <a:ext cx="222588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C:\Users\вера\Desktop\фото\IMG_20160322_101936.jpg"/>
          <p:cNvPicPr/>
          <p:nvPr/>
        </p:nvPicPr>
        <p:blipFill>
          <a:blip r:embed="rId1"/>
          <a:stretch/>
        </p:blipFill>
        <p:spPr>
          <a:xfrm>
            <a:off x="5151600" y="1600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вера\Desktop\фото\IMG_20160322_102121.jpg"/>
          <p:cNvPicPr/>
          <p:nvPr/>
        </p:nvPicPr>
        <p:blipFill>
          <a:blip r:embed="rId2"/>
          <a:stretch/>
        </p:blipFill>
        <p:spPr>
          <a:xfrm>
            <a:off x="395280" y="22050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вера\Desktop\фото\IMG_20160322_102600.jpg"/>
          <p:cNvPicPr/>
          <p:nvPr/>
        </p:nvPicPr>
        <p:blipFill>
          <a:blip r:embed="rId3"/>
          <a:stretch/>
        </p:blipFill>
        <p:spPr>
          <a:xfrm>
            <a:off x="3492360" y="3716280"/>
            <a:ext cx="31100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дактическая игра представляет собой многоплановую, сложную педагогическую систему : она является  и игровым методом обучения детей, и формой обучения, и самостоятельной игровой деятельностью, и средством речевого развития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идактических играх перед детьми ставятся те задачи, решение которых требует сосредоточенности, внимания, умственного усилия, умения осмыслить правила, последовательность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агоги и психологи подчёркивают, что необходимо добиваться того, чтобы дидактическая игра была не только формой усвоения отдельных знаний и умений, но и способствовала бы общему развитию ребёнка, служила формированию его способ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дактическая игра содействует решению задач воспитания, обучения и развития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Rishat</cp:lastModifiedBy>
  <dcterms:modified xsi:type="dcterms:W3CDTF">2017-09-05T17:58:36Z</dcterms:modified>
  <cp:revision>26</cp:revision>
  <dc:subject/>
  <dc:title>Слайд 1</dc:title>
</cp:coreProperties>
</file>