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40CB-FACC-4399-93C9-A69884C4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DF32-2CB0-4D96-9BF9-A1C6D01B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D813-6DAB-41E1-B2F2-F005FF70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5778-EFF8-4A8A-AEBC-AD543676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73A3-CF51-4FBB-82C9-62D75278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8740-0256-4276-8AA8-EBD37D52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8038-75B1-44BE-B026-85E29036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12F5-F26E-4B6B-96F9-F72022FD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D755-1A87-4ACE-A946-38F814C9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1FE5-8E66-402C-8CCA-D05C848F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5071-6A9F-40D7-9D5E-501079BE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6F1F-359B-4A69-8CDF-F5426E75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1D9C-F9F3-4A73-8ADD-061840F5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85D0-1E84-4789-AE62-B2BEB592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A5C3-D896-4667-98C4-6C170110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A961-A1C2-4A08-9060-9F158132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9206-B4A6-489B-BAC0-BC3671D7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23CFC-EF81-4B83-8003-D28C7B01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14B03-B072-431E-AA9C-B985F2F2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827C4-E949-4EF2-94BF-AB9BD220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F9CB6-8BA0-413C-8A2A-77A7B4B1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C80F0-2B38-4DBF-A6AA-490163B6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E9A2-AB9F-4BC3-9AAC-3087108D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B8938-567B-43E3-BB26-0E457A30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59931-F8D4-4CF4-9800-833F0F1E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069AD-D801-4759-9CF1-A0387F1E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824B4-45C1-44D1-9120-BA7E1420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B3C39-F49E-4B61-9A3F-D470F369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72106-2739-418D-9A3F-77FD5CF8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19C7C-8F27-4077-B036-6F46A1B5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2CB7-8BDA-4105-A25E-FFDE5B03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155C-4AE9-416A-B9C2-61751172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4FB6-454A-4084-B994-203702A6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C3BF-EFE6-424D-B4A2-9F4A280C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D07C-3305-40E4-8DC6-69672AB7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3B64-4B5B-4005-A2DF-E02FF21A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9A30-9197-4328-87BA-F1B2246E29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B16E-10A3-4234-9B82-D43F1EB2EB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пр42.png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01CD-A914-49A8-92C6-CE798D1623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72400" cy="25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Arial"/>
              </a:rPr>
              <a:t>Развитие речи детей старшего дошкольного возраста через </a:t>
            </a:r>
            <a:br>
              <a:rPr sz="4400"/>
            </a:br>
            <a:r>
              <a:rPr b="0" lang="ru-RU" sz="4400" spc="-1" strike="noStrike">
                <a:solidFill>
                  <a:srgbClr val="00b0f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спользование дидактических игр по </a:t>
            </a:r>
            <a:r>
              <a:rPr b="0" lang="ru-RU" sz="4400" spc="-1" strike="noStrike">
                <a:solidFill>
                  <a:srgbClr val="00b0f0"/>
                </a:solidFill>
                <a:latin typeface="Arial"/>
              </a:rPr>
              <a:t> ПДД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f0"/>
                </a:solidFill>
                <a:latin typeface="Calibri"/>
              </a:rPr>
              <a:t>Составила воспитатель 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I</a:t>
            </a:r>
            <a:r>
              <a:rPr b="0" lang="ru-RU" sz="3000" spc="-1" strike="noStrike">
                <a:solidFill>
                  <a:srgbClr val="00b0f0"/>
                </a:solidFill>
                <a:latin typeface="Calibri"/>
              </a:rPr>
              <a:t> категори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f0"/>
                </a:solidFill>
                <a:latin typeface="Arial"/>
              </a:rPr>
              <a:t>филиала </a:t>
            </a:r>
            <a:r>
              <a:rPr b="0" lang="ru-RU" sz="3000" spc="-1" strike="noStrike">
                <a:solidFill>
                  <a:srgbClr val="00b0f0"/>
                </a:solidFill>
                <a:latin typeface="Calibri"/>
              </a:rPr>
              <a:t>МБДОУ «</a:t>
            </a:r>
            <a:r>
              <a:rPr b="0" lang="ru-RU" sz="3000" spc="-1" strike="noStrike">
                <a:solidFill>
                  <a:srgbClr val="00b0f0"/>
                </a:solidFill>
                <a:latin typeface="Arial"/>
              </a:rPr>
              <a:t>Центр развития ребёнка-д</a:t>
            </a:r>
            <a:r>
              <a:rPr b="0" lang="ru-RU" sz="3000" spc="-1" strike="noStrike">
                <a:solidFill>
                  <a:srgbClr val="00b0f0"/>
                </a:solidFill>
                <a:latin typeface="Calibri"/>
              </a:rPr>
              <a:t>етский сад  № </a:t>
            </a:r>
            <a:r>
              <a:rPr b="0" lang="ru-RU" sz="3000" spc="-1" strike="noStrike">
                <a:solidFill>
                  <a:srgbClr val="00b0f0"/>
                </a:solidFill>
                <a:latin typeface="Arial"/>
              </a:rPr>
              <a:t>90</a:t>
            </a:r>
            <a:r>
              <a:rPr b="0" lang="ru-RU" sz="30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b0f0"/>
                </a:solidFill>
                <a:latin typeface="Arial"/>
              </a:rPr>
              <a:t>«Подсолнушек »»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f0"/>
                </a:solidFill>
                <a:latin typeface="Calibri"/>
              </a:rPr>
              <a:t>Уразбаева Гузель Шамиле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гра – это огромное   светлое окно, через которое в духовный мир ребенка вливается живительный поток преставлений, понятий. Игра – это искра, зажигающая огонек пытливости и любозна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Без игры нет, и не может быть полноценного умственного развит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.   В.А.Сухомлин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дактическая игра – одно из основных средств развития познавательных процессов, речи и мышления. В процессе игры у детей формируются доброжелательные отношения друг другу, умение делиться с товарищами, аккуратно и бережно пользоваться игрушками и игровым материал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енно в дидактической игре ребенок получает возможность совершенствовать, обогащать, закреплять, активизировать свой словар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Рисунок 4" descr="D:\РАБОТА\ОБМЕН\1369320557_milicioner.jpg"/>
          <p:cNvPicPr/>
          <p:nvPr/>
        </p:nvPicPr>
        <p:blipFill>
          <a:blip r:embed="rId1"/>
          <a:stretch/>
        </p:blipFill>
        <p:spPr>
          <a:xfrm>
            <a:off x="1295280" y="4941720"/>
            <a:ext cx="27003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нашей стране, как и во всем мире, увеличивается число дорожно-транспортных происшествий. По статистике каждой десятой жертвой ДТП является ребенок. Часто это связано с несоблюдением правил дорожного движения, их незнанием. Предоставленные самим себе, дети мало считаются с реальными опасностями на дороге, так как недооценивают собственные возможности, считая себя ловкими и быстрыми. У них еще не выработалась способность предвидеть возможность возникновения опасности в быстро меняющейся дорожной обстановке, поэтому важно научить детей дорожной грамоте, правилам поведения на улиц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ое ценное для взрослых – здоровье и жизнь ребенка, поэтому в детском саду вопросу безопасности детей на улицах и дорогах города необходимо уделять большое вним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 Воспитание всесторонне развитой личности ребен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 знанием основ безопасного поведения на улице и  правил дорожного движ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дачи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Формировать у детей  интерес к дидактическому материалу и  играм через ИКТ. Создавать условия для самостоятельного выбора иг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Развивать речь детей, пополнение активного и пассивного словар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Закрепить знания  правил дорожного движения, дорожные знаки, предназначенные для водителей и пешеходов, с работой Государственной инспекции безопасности дорожного движения через игровую систему работы   во время  индивидуальной работы  с детьми, занятий , экскурсий, прогул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Развивать осторожность, внимательность,  самостоятельность, ответственность  и осмотрительность на дороге; нравственные качества: умение играть по правилам, соблюдая норму поведения; уметь выигрывать и проигрывать; выполнять роль ведущег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Воспитывать навыки личной безопасности и чувство самосохранения. Вызывать положительный эмоциональный отклик на результат иг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работы с детьми использую следующие прием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емы постановки целей и мотивации деятельности детей: демонстрация схемы улицы, создание проблемной ситуации, возможность высказать способы ре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емы активизации деятельности детей в процессе ОД: беседа, игры, создание проблемной ситуации, направленной на применение личного опыта детей , анализ и выводы, физкультминут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емы поддержания интереса у детей: игровые ситуации, ситуация выбора, дидактические, подвижные, настольные игры; возможность применения личного опы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емы оценки и самооценки: поощрение, взаимопомощь детей, обсужд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Users\вера\Desktop\фото\SDC10476.JPG"/>
          <p:cNvPicPr/>
          <p:nvPr/>
        </p:nvPicPr>
        <p:blipFill>
          <a:blip r:embed="rId1"/>
          <a:stretch/>
        </p:blipFill>
        <p:spPr>
          <a:xfrm>
            <a:off x="5867280" y="1700280"/>
            <a:ext cx="2554560" cy="1873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вера\Desktop\фото\IMG_20160322_093217.jpg"/>
          <p:cNvPicPr/>
          <p:nvPr/>
        </p:nvPicPr>
        <p:blipFill>
          <a:blip r:embed="rId2"/>
          <a:stretch/>
        </p:blipFill>
        <p:spPr>
          <a:xfrm>
            <a:off x="395280" y="1844640"/>
            <a:ext cx="2276640" cy="244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Users\вера\Desktop\фото\SDC10491.JPG"/>
          <p:cNvPicPr/>
          <p:nvPr/>
        </p:nvPicPr>
        <p:blipFill>
          <a:blip r:embed="rId3"/>
          <a:stretch/>
        </p:blipFill>
        <p:spPr>
          <a:xfrm>
            <a:off x="3132000" y="3357720"/>
            <a:ext cx="222588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C:\Users\вера\Desktop\фото\IMG_20160322_101936.jpg"/>
          <p:cNvPicPr/>
          <p:nvPr/>
        </p:nvPicPr>
        <p:blipFill>
          <a:blip r:embed="rId1"/>
          <a:stretch/>
        </p:blipFill>
        <p:spPr>
          <a:xfrm>
            <a:off x="5151600" y="1600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вера\Desktop\фото\IMG_20160322_102121.jpg"/>
          <p:cNvPicPr/>
          <p:nvPr/>
        </p:nvPicPr>
        <p:blipFill>
          <a:blip r:embed="rId2"/>
          <a:stretch/>
        </p:blipFill>
        <p:spPr>
          <a:xfrm>
            <a:off x="395280" y="22050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вера\Desktop\фото\IMG_20160322_102600.jpg"/>
          <p:cNvPicPr/>
          <p:nvPr/>
        </p:nvPicPr>
        <p:blipFill>
          <a:blip r:embed="rId3"/>
          <a:stretch/>
        </p:blipFill>
        <p:spPr>
          <a:xfrm>
            <a:off x="3492360" y="3716280"/>
            <a:ext cx="311004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дактическая игра представляет собой многоплановую, сложную педагогическую систему : она является  и игровым методом обучения детей, и формой обучения, и самостоятельной игровой деятельностью, и средством речевого развития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дидактических играх перед детьми ставятся те задачи, решение которых требует сосредоточенности, внимания, умственного усилия, умения осмыслить правила, последовательность действ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дагоги и психологи подчёркивают, что необходимо добиваться того, чтобы дидактическая игра была не только формой усвоения отдельных знаний и умений, но и способствовала бы общему развитию ребёнка, служила формированию его способ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дактическая игра содействует решению задач воспитания, обучения и развития де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Rishat</cp:lastModifiedBy>
  <dcterms:modified xsi:type="dcterms:W3CDTF">2017-09-05T17:58:36Z</dcterms:modified>
  <cp:revision>26</cp:revision>
  <dc:subject/>
  <dc:title>Слайд 1</dc:title>
</cp:coreProperties>
</file>