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2728-AB3E-4CBF-B4FC-E6F680E9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A01F-F92F-4DA1-98A8-90531C3A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4EA-EFA1-4B31-B4DA-ED4403F6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4AE2-688C-42F0-AB75-740FA3E6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84AA-E2BE-4CB0-9BEA-8C973D8F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7736-57D0-41C1-800B-8B6A6106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AB2E-883B-4F53-BB3A-5AA64CBB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3667-529E-4E58-89CA-03087BE6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EEB1-3063-4CA1-9B02-1119BDCB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06CE-13C7-4811-AA64-45DCD04B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419F-19AD-4CA0-A1EB-A2E88F06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C4F-BB8A-4150-97B6-422FE583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C84A-0076-4E0A-A195-2C8FD6E1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3A79-573D-42D9-9410-9FA6B500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4ABA-0E1C-4A08-8384-047F1D7E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8494-B7EC-4DF4-AF39-919A5ECA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1A7F-A39F-44D4-95B6-33E0DD0C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49460-B45A-42C1-84AD-0552DEE6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0E2D1-A168-4109-BC4B-3CF055B9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A64E8-8B09-439C-ADB2-B63F22E5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B28F8-141A-4B6C-AA28-2CFEE9E6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8F1A4-D1C1-4EC2-9EE4-CCA53FA6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781-E2CE-46CE-95D2-519ECE7C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44E13-690E-41D1-B81C-178DB7DC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3D534-8664-46E9-9DB5-82B8A607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B3362-1DCF-4169-95D6-F8EE92B2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10FA5-782F-4991-9555-04C8F77D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E97C6-7785-4060-A465-35D95D30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BC7CC-9E88-49AA-ACB6-0580AB38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D39E1-5897-4A52-A295-FDE57ECE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07E04-2B5F-40AF-B689-2C8D0AD6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5C0A6-0F37-448A-BA2D-51E6A642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A1124-E549-4365-BDD8-84F4EC1E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A59C-38D2-4600-8F35-99F3AEB2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1AC16-A47F-4422-BBE9-4D593697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B4473-7D2E-4F94-A657-954BBD33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F237F-B087-4C1B-8648-7755E724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D22C1-49D9-42A1-8A50-88752BED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C2FB6-4602-4E93-A28B-B19238FA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57B12-3E84-4200-8F80-D46F143E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5A970-66D8-4BDC-9357-B48A97DE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10DCB-279B-47C8-98C3-356D627A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16C19-B929-46E7-8FB0-3EF07EE6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CEEE3-550D-4AB8-9AB0-CC1BCEB5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F007-939C-41B8-A22B-7AD04DE5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287C7-2876-4BB7-B6DB-39DDB10A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43802-3C42-4256-A161-A190B5D0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BF9FB-834E-49C0-BEE6-12DA8BD6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A544B-55A1-4242-B21B-F4F30A9B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E1B3E-7259-437D-A40B-D920B877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F81AB-1C26-4091-8337-0C973492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B7197-60BA-4F16-B443-14351B2A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8EA17-6B0F-4A04-9D11-5EECD76B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67B6F-0D9E-405A-9E5E-A28C31B7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5D443-3040-499A-B041-0E6845CB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C15-97F0-4276-8527-F55C9F75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6B17A-F454-4C31-84B9-99DB8D31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465-7072-46A7-991E-29995BE2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4B9D-5A33-47AE-BED5-04B4DD24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A8E-E0AD-4DF6-B581-4C3AFF5B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38B7-C296-4A03-A5AC-FCBB174798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1519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69120" y="6400800"/>
            <a:ext cx="1874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27DA-32B1-4995-A822-AD2440E772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7">
            <a:hlinkClick r:id="rId2" action="ppaction://hlinksldjump"/>
          </p:cNvPr>
          <p:cNvSpPr/>
          <p:nvPr/>
        </p:nvSpPr>
        <p:spPr>
          <a:xfrm>
            <a:off x="7329600" y="6416640"/>
            <a:ext cx="1373040" cy="441360"/>
          </a:xfrm>
          <a:custGeom>
            <a:avLst/>
            <a:gdLst>
              <a:gd name="textAreaLeft" fmla="*/ 28440 w 1373040"/>
              <a:gd name="textAreaRight" fmla="*/ 1344600 w 1373040"/>
              <a:gd name="textAreaTop" fmla="*/ 28440 h 441360"/>
              <a:gd name="textAreaBottom" fmla="*/ 412920 h 441360"/>
            </a:gdLst>
            <a:ahLst/>
            <a:rect l="textAreaLeft" t="textAreaTop" r="textAreaRight" b="textAreaBottom"/>
            <a:pathLst>
              <a:path w="67159" h="21600">
                <a:moveTo>
                  <a:pt x="0" y="0"/>
                </a:moveTo>
                <a:lnTo>
                  <a:pt x="67159" y="0"/>
                </a:lnTo>
                <a:lnTo>
                  <a:pt x="67159" y="21600"/>
                </a:lnTo>
                <a:lnTo>
                  <a:pt x="0" y="21600"/>
                </a:lnTo>
                <a:close/>
              </a:path>
              <a:path fill="lightenLess" w="67159" h="21600">
                <a:moveTo>
                  <a:pt x="0" y="0"/>
                </a:moveTo>
                <a:lnTo>
                  <a:pt x="67159" y="0"/>
                </a:lnTo>
                <a:lnTo>
                  <a:pt x="65759" y="1400"/>
                </a:lnTo>
                <a:lnTo>
                  <a:pt x="1400" y="1400"/>
                </a:lnTo>
                <a:close/>
              </a:path>
              <a:path fill="darken" w="67159" h="21600">
                <a:moveTo>
                  <a:pt x="67159" y="0"/>
                </a:moveTo>
                <a:lnTo>
                  <a:pt x="67159" y="21600"/>
                </a:lnTo>
                <a:lnTo>
                  <a:pt x="65759" y="20200"/>
                </a:lnTo>
                <a:lnTo>
                  <a:pt x="65759" y="1400"/>
                </a:lnTo>
                <a:close/>
              </a:path>
              <a:path fill="darkenLess" w="67159" h="21600">
                <a:moveTo>
                  <a:pt x="67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759" y="20200"/>
                </a:lnTo>
                <a:close/>
              </a:path>
              <a:path fill="lighten" w="67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Times New Roman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773B-BE87-40D2-BA1E-04E8B6C095F5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1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9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920" y="1519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4AA4-01EC-48B5-8D86-9E67104602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5E63-59E8-497E-AB74-9D8124E0DFA8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199360" cy="18417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066680" y="307476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«Алгоритм и его свойства»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23232"/>
                </a:solidFill>
                <a:latin typeface="Calibri"/>
              </a:rPr>
              <a:t>Свойства алгоритмов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3880" indent="-2638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Constantia"/>
              </a:rPr>
              <a:t>Результативность –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 при точном исполнении команд алгоритма процесс должен завершиться за конечное число шагов, и при этом должен быть получен ответ на вопрос задачи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23232"/>
                </a:solidFill>
                <a:latin typeface="Calibri"/>
              </a:rPr>
              <a:t>Свойства алгоритмов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500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Массовость –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алгоритм должен быть пригодным для решения любой задачи из некоторого класса задач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23560" y="1343160"/>
            <a:ext cx="865980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527040" indent="-4572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дать два числа; перейти к пункту 2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527040" indent="-4572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если числа равны, то взять любое из них в качестве ответа и  перейти к пункту 6, иначе перейти к пункту 3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527040" indent="-4572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если первое число больше второго, то перейти к пункту 4, иначе перейти к пункту 5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527040" indent="-4572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менить первое число разностью первого и второго чисел; перейти к пункту 2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527040" indent="-4572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менить второе число разностью второго и первого чисел; перейти к пункту 2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527040" indent="-4572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нец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925560" y="733320"/>
            <a:ext cx="745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Алгоритм Евклид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6320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323232"/>
                </a:solidFill>
                <a:latin typeface="Calibri"/>
              </a:rPr>
              <a:t>Способы записи алгоритмов</a:t>
            </a:r>
            <a:endParaRPr b="0" lang="en-US" sz="45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635120"/>
            <a:ext cx="84438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Constantia"/>
              </a:rPr>
              <a:t>Словесный способ – 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запись алгоритма на естественном языке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Constantia"/>
              </a:rPr>
              <a:t>Графический способ – 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запись алгоритма в виде схемы, состоящей из геометрических фигур, называемых </a:t>
            </a:r>
            <a:r>
              <a:rPr b="1" i="1" lang="ru-RU" sz="3700" spc="-1" strike="noStrike">
                <a:solidFill>
                  <a:srgbClr val="000000"/>
                </a:solidFill>
                <a:latin typeface="Constantia"/>
              </a:rPr>
              <a:t>блоками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, и соединительных линий. Такие схемы часто называют </a:t>
            </a:r>
            <a:r>
              <a:rPr b="1" i="1" lang="ru-RU" sz="3700" spc="-1" strike="noStrike">
                <a:solidFill>
                  <a:srgbClr val="000000"/>
                </a:solidFill>
                <a:latin typeface="Constantia"/>
              </a:rPr>
              <a:t>блок-схемами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23232"/>
                </a:solidFill>
                <a:latin typeface="Calibri"/>
              </a:rPr>
              <a:t>Способы записи алгоритмов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75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Программный способ –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запись алгоритма на каком-либо языке программирования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5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Псевдокод –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является комбинацией словесного и программного способов записи. Алгоритм записывается при помощи системы обозначений, содержащей как элементы естественного языка, так и элементы некоторого языка программирования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23232"/>
                </a:solidFill>
                <a:latin typeface="Calibri"/>
              </a:rPr>
              <a:t>Способы записи алгоритмов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Табличный способ –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последовательность действий алгоритма записывается в таблицу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Содержимое 2"/>
          <p:cNvSpPr/>
          <p:nvPr/>
        </p:nvSpPr>
        <p:spPr>
          <a:xfrm>
            <a:off x="4346640" y="1492200"/>
            <a:ext cx="39290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чало/коне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Блок-схема: знак завершения 4"/>
          <p:cNvGrpSpPr/>
          <p:nvPr/>
        </p:nvGrpSpPr>
        <p:grpSpPr>
          <a:xfrm>
            <a:off x="712800" y="1457280"/>
            <a:ext cx="2401920" cy="762120"/>
            <a:chOff x="712800" y="1457280"/>
            <a:chExt cx="2401920" cy="762120"/>
          </a:xfrm>
        </p:grpSpPr>
        <p:pic>
          <p:nvPicPr>
            <p:cNvPr id="249" name="Блок-схема: знак завершения 4" descr=""/>
            <p:cNvPicPr/>
            <p:nvPr/>
          </p:nvPicPr>
          <p:blipFill>
            <a:blip r:embed="rId1"/>
            <a:stretch/>
          </p:blipFill>
          <p:spPr>
            <a:xfrm>
              <a:off x="712800" y="1457280"/>
              <a:ext cx="24019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882720" y="1585800"/>
              <a:ext cx="20700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Блок-схема: данные 5"/>
          <p:cNvGrpSpPr/>
          <p:nvPr/>
        </p:nvGrpSpPr>
        <p:grpSpPr>
          <a:xfrm>
            <a:off x="573120" y="2243160"/>
            <a:ext cx="2614680" cy="762120"/>
            <a:chOff x="573120" y="2243160"/>
            <a:chExt cx="2614680" cy="762120"/>
          </a:xfrm>
        </p:grpSpPr>
        <p:pic>
          <p:nvPicPr>
            <p:cNvPr id="252" name="Блок-схема: данные 5" descr=""/>
            <p:cNvPicPr/>
            <p:nvPr/>
          </p:nvPicPr>
          <p:blipFill>
            <a:blip r:embed="rId2"/>
            <a:stretch/>
          </p:blipFill>
          <p:spPr>
            <a:xfrm>
              <a:off x="573120" y="2243160"/>
              <a:ext cx="26146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131840" y="2278080"/>
              <a:ext cx="1500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Блок-схема: решение 6"/>
          <p:cNvGrpSpPr/>
          <p:nvPr/>
        </p:nvGrpSpPr>
        <p:grpSpPr>
          <a:xfrm>
            <a:off x="639720" y="3882960"/>
            <a:ext cx="2475000" cy="1122480"/>
            <a:chOff x="639720" y="3882960"/>
            <a:chExt cx="2475000" cy="1122480"/>
          </a:xfrm>
        </p:grpSpPr>
        <p:pic>
          <p:nvPicPr>
            <p:cNvPr id="255" name="Блок-схема: решение 6" descr=""/>
            <p:cNvPicPr/>
            <p:nvPr/>
          </p:nvPicPr>
          <p:blipFill>
            <a:blip r:embed="rId3"/>
            <a:stretch/>
          </p:blipFill>
          <p:spPr>
            <a:xfrm>
              <a:off x="639720" y="3882960"/>
              <a:ext cx="24750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292400" y="4170240"/>
              <a:ext cx="11779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Блок-схема: процесс 7"/>
          <p:cNvGrpSpPr/>
          <p:nvPr/>
        </p:nvGrpSpPr>
        <p:grpSpPr>
          <a:xfrm>
            <a:off x="573120" y="3097080"/>
            <a:ext cx="2401920" cy="693720"/>
            <a:chOff x="573120" y="3097080"/>
            <a:chExt cx="2401920" cy="693720"/>
          </a:xfrm>
        </p:grpSpPr>
        <p:pic>
          <p:nvPicPr>
            <p:cNvPr id="258" name="Блок-схема: процесс 7" descr=""/>
            <p:cNvPicPr/>
            <p:nvPr/>
          </p:nvPicPr>
          <p:blipFill>
            <a:blip r:embed="rId4"/>
            <a:stretch/>
          </p:blipFill>
          <p:spPr>
            <a:xfrm>
              <a:off x="573120" y="3097080"/>
              <a:ext cx="24019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31800" y="3135240"/>
              <a:ext cx="22860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Блок-схема: подготовка 8"/>
          <p:cNvGrpSpPr/>
          <p:nvPr/>
        </p:nvGrpSpPr>
        <p:grpSpPr>
          <a:xfrm>
            <a:off x="426960" y="5095800"/>
            <a:ext cx="2975040" cy="908280"/>
            <a:chOff x="426960" y="5095800"/>
            <a:chExt cx="2975040" cy="908280"/>
          </a:xfrm>
        </p:grpSpPr>
        <p:pic>
          <p:nvPicPr>
            <p:cNvPr id="261" name="Блок-схема: подготовка 8" descr=""/>
            <p:cNvPicPr/>
            <p:nvPr/>
          </p:nvPicPr>
          <p:blipFill>
            <a:blip r:embed="rId5"/>
            <a:stretch/>
          </p:blipFill>
          <p:spPr>
            <a:xfrm>
              <a:off x="426960" y="5095800"/>
              <a:ext cx="297504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1060560" y="5135400"/>
              <a:ext cx="17143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3" name="Прямая со стрелкой 9"/>
          <p:cNvCxnSpPr/>
          <p:nvPr/>
        </p:nvCxnSpPr>
        <p:spPr>
          <a:xfrm>
            <a:off x="774720" y="6350040"/>
            <a:ext cx="2572560" cy="2160"/>
          </a:xfrm>
          <a:prstGeom prst="straightConnector1">
            <a:avLst/>
          </a:prstGeom>
          <a:ln w="76320">
            <a:solidFill>
              <a:srgbClr val="b65a00"/>
            </a:solidFill>
            <a:miter/>
            <a:tailEnd len="med" type="arrow" w="med"/>
          </a:ln>
        </p:spPr>
      </p:cxnSp>
      <p:sp>
        <p:nvSpPr>
          <p:cNvPr id="264" name="Содержимое 2"/>
          <p:cNvSpPr/>
          <p:nvPr/>
        </p:nvSpPr>
        <p:spPr>
          <a:xfrm>
            <a:off x="4275000" y="2349360"/>
            <a:ext cx="3929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23232"/>
                </a:solidFill>
                <a:latin typeface="Constantia"/>
              </a:rPr>
              <a:t>Ввод/вывод данных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Содержимое 2"/>
          <p:cNvSpPr/>
          <p:nvPr/>
        </p:nvSpPr>
        <p:spPr>
          <a:xfrm>
            <a:off x="4357800" y="2786040"/>
            <a:ext cx="4429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23232"/>
                </a:solidFill>
                <a:latin typeface="Constantia"/>
              </a:rPr>
              <a:t>Выполнение действ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Содержимое 2"/>
          <p:cNvSpPr/>
          <p:nvPr/>
        </p:nvSpPr>
        <p:spPr>
          <a:xfrm>
            <a:off x="4346640" y="3921120"/>
            <a:ext cx="3929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23232"/>
                </a:solidFill>
                <a:latin typeface="Constantia"/>
              </a:rPr>
              <a:t>Проверка условия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Verdana"/>
                <a:ea typeface="Times New Roman"/>
              </a:rPr>
              <a:t>Да(+)</a:t>
            </a:r>
            <a:r>
              <a:rPr b="0" lang="ru-RU" sz="3100" spc="-1" strike="noStrike">
                <a:solidFill>
                  <a:srgbClr val="000000"/>
                </a:solidFill>
                <a:latin typeface="Verdana"/>
                <a:ea typeface="Times New Roman"/>
              </a:rPr>
              <a:t> и  </a:t>
            </a:r>
            <a:r>
              <a:rPr b="1" lang="ru-RU" sz="31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т(-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Содержимое 2"/>
          <p:cNvSpPr/>
          <p:nvPr/>
        </p:nvSpPr>
        <p:spPr>
          <a:xfrm>
            <a:off x="4417920" y="506412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23232"/>
                </a:solidFill>
                <a:latin typeface="Franklin Gothic Book"/>
              </a:rPr>
              <a:t>Описание ша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Содержимое 2"/>
          <p:cNvSpPr/>
          <p:nvPr/>
        </p:nvSpPr>
        <p:spPr>
          <a:xfrm>
            <a:off x="4346640" y="585000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23232"/>
                </a:solidFill>
                <a:latin typeface="Franklin Gothic Book"/>
              </a:rPr>
              <a:t>Направ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584280" y="776160"/>
            <a:ext cx="8229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23232"/>
                </a:solidFill>
                <a:latin typeface="Calibri"/>
              </a:rPr>
              <a:t>Блоки, используемые при составлении блок-схем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3232"/>
                </a:solidFill>
                <a:latin typeface="Calibri"/>
              </a:rPr>
              <a:t>Блоки, используемые при составлении блок-схем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271" name="Group 23"/>
          <p:cNvGrpSpPr/>
          <p:nvPr/>
        </p:nvGrpSpPr>
        <p:grpSpPr>
          <a:xfrm>
            <a:off x="1692360" y="2060640"/>
            <a:ext cx="7127640" cy="1584360"/>
            <a:chOff x="1692360" y="2060640"/>
            <a:chExt cx="7127640" cy="1584360"/>
          </a:xfrm>
        </p:grpSpPr>
        <p:grpSp>
          <p:nvGrpSpPr>
            <p:cNvPr id="272" name="Group 13"/>
            <p:cNvGrpSpPr/>
            <p:nvPr/>
          </p:nvGrpSpPr>
          <p:grpSpPr>
            <a:xfrm>
              <a:off x="1692360" y="2060640"/>
              <a:ext cx="1439640" cy="1584360"/>
              <a:chOff x="1692360" y="2060640"/>
              <a:chExt cx="1439640" cy="1584360"/>
            </a:xfrm>
          </p:grpSpPr>
          <p:sp>
            <p:nvSpPr>
              <p:cNvPr id="273" name="Rectangle 9"/>
              <p:cNvSpPr/>
              <p:nvPr/>
            </p:nvSpPr>
            <p:spPr>
              <a:xfrm>
                <a:off x="1692360" y="2492640"/>
                <a:ext cx="1439640" cy="720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11"/>
              <p:cNvSpPr/>
              <p:nvPr/>
            </p:nvSpPr>
            <p:spPr>
              <a:xfrm>
                <a:off x="2412720" y="2060640"/>
                <a:ext cx="0" cy="43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12"/>
              <p:cNvSpPr/>
              <p:nvPr/>
            </p:nvSpPr>
            <p:spPr>
              <a:xfrm>
                <a:off x="2412720" y="321336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Text Box 14"/>
            <p:cNvSpPr/>
            <p:nvPr/>
          </p:nvSpPr>
          <p:spPr>
            <a:xfrm>
              <a:off x="3635280" y="2565360"/>
              <a:ext cx="518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- Элементарное действи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25"/>
          <p:cNvGrpSpPr/>
          <p:nvPr/>
        </p:nvGrpSpPr>
        <p:grpSpPr>
          <a:xfrm>
            <a:off x="1025640" y="4365720"/>
            <a:ext cx="7856280" cy="1244520"/>
            <a:chOff x="1025640" y="4365720"/>
            <a:chExt cx="7856280" cy="1244520"/>
          </a:xfrm>
        </p:grpSpPr>
        <p:grpSp>
          <p:nvGrpSpPr>
            <p:cNvPr id="278" name="Group 22"/>
            <p:cNvGrpSpPr/>
            <p:nvPr/>
          </p:nvGrpSpPr>
          <p:grpSpPr>
            <a:xfrm>
              <a:off x="1025640" y="4365720"/>
              <a:ext cx="2768400" cy="1244520"/>
              <a:chOff x="1025640" y="4365720"/>
              <a:chExt cx="2768400" cy="1244520"/>
            </a:xfrm>
          </p:grpSpPr>
          <p:sp>
            <p:nvSpPr>
              <p:cNvPr id="279" name="AutoShape 15"/>
              <p:cNvSpPr/>
              <p:nvPr/>
            </p:nvSpPr>
            <p:spPr>
              <a:xfrm>
                <a:off x="1403280" y="4797360"/>
                <a:ext cx="2016360" cy="792360"/>
              </a:xfrm>
              <a:prstGeom prst="diamond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16"/>
              <p:cNvSpPr/>
              <p:nvPr/>
            </p:nvSpPr>
            <p:spPr>
              <a:xfrm>
                <a:off x="2411280" y="436572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17"/>
              <p:cNvSpPr/>
              <p:nvPr/>
            </p:nvSpPr>
            <p:spPr>
              <a:xfrm>
                <a:off x="3435480" y="5186520"/>
                <a:ext cx="358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18"/>
              <p:cNvSpPr/>
              <p:nvPr/>
            </p:nvSpPr>
            <p:spPr>
              <a:xfrm>
                <a:off x="3773520" y="517860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20"/>
              <p:cNvSpPr/>
              <p:nvPr/>
            </p:nvSpPr>
            <p:spPr>
              <a:xfrm>
                <a:off x="1025640" y="5194440"/>
                <a:ext cx="347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21"/>
              <p:cNvSpPr/>
              <p:nvPr/>
            </p:nvSpPr>
            <p:spPr>
              <a:xfrm>
                <a:off x="1046160" y="5181480"/>
                <a:ext cx="0" cy="42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Text Box 24"/>
            <p:cNvSpPr/>
            <p:nvPr/>
          </p:nvSpPr>
          <p:spPr>
            <a:xfrm>
              <a:off x="4137120" y="4890960"/>
              <a:ext cx="474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- Услови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10000">
    <p:dissolv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3232"/>
                </a:solidFill>
                <a:latin typeface="Calibri"/>
              </a:rPr>
              <a:t>Блоки, используемые при составлении блок-схем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287" name="Group 20"/>
          <p:cNvGrpSpPr/>
          <p:nvPr/>
        </p:nvGrpSpPr>
        <p:grpSpPr>
          <a:xfrm>
            <a:off x="1684440" y="3867120"/>
            <a:ext cx="6370560" cy="1401840"/>
            <a:chOff x="1684440" y="3867120"/>
            <a:chExt cx="6370560" cy="1401840"/>
          </a:xfrm>
        </p:grpSpPr>
        <p:grpSp>
          <p:nvGrpSpPr>
            <p:cNvPr id="288" name="Group 18"/>
            <p:cNvGrpSpPr/>
            <p:nvPr/>
          </p:nvGrpSpPr>
          <p:grpSpPr>
            <a:xfrm>
              <a:off x="1684440" y="3867120"/>
              <a:ext cx="2017440" cy="1401840"/>
              <a:chOff x="1684440" y="3867120"/>
              <a:chExt cx="2017440" cy="1401840"/>
            </a:xfrm>
          </p:grpSpPr>
          <p:sp>
            <p:nvSpPr>
              <p:cNvPr id="289" name="AutoShape 14"/>
              <p:cNvSpPr/>
              <p:nvPr/>
            </p:nvSpPr>
            <p:spPr>
              <a:xfrm>
                <a:off x="1684440" y="4253040"/>
                <a:ext cx="2017440" cy="653760"/>
              </a:xfrm>
              <a:prstGeom prst="parallelogram">
                <a:avLst>
                  <a:gd name="adj" fmla="val 77148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16"/>
              <p:cNvSpPr/>
              <p:nvPr/>
            </p:nvSpPr>
            <p:spPr>
              <a:xfrm>
                <a:off x="2695680" y="3867120"/>
                <a:ext cx="0" cy="37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Line 17"/>
              <p:cNvSpPr/>
              <p:nvPr/>
            </p:nvSpPr>
            <p:spPr>
              <a:xfrm>
                <a:off x="2682720" y="4890960"/>
                <a:ext cx="0" cy="37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9"/>
            <p:cNvSpPr/>
            <p:nvPr/>
          </p:nvSpPr>
          <p:spPr>
            <a:xfrm>
              <a:off x="4411800" y="4383000"/>
              <a:ext cx="36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- Ввод-вывод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23"/>
          <p:cNvGrpSpPr/>
          <p:nvPr/>
        </p:nvGrpSpPr>
        <p:grpSpPr>
          <a:xfrm>
            <a:off x="1569960" y="5979960"/>
            <a:ext cx="7574040" cy="1007640"/>
            <a:chOff x="1569960" y="5979960"/>
            <a:chExt cx="7574040" cy="1007640"/>
          </a:xfrm>
        </p:grpSpPr>
        <p:sp>
          <p:nvSpPr>
            <p:cNvPr id="294" name="Oval 21"/>
            <p:cNvSpPr/>
            <p:nvPr/>
          </p:nvSpPr>
          <p:spPr>
            <a:xfrm>
              <a:off x="1569960" y="6053040"/>
              <a:ext cx="2176560" cy="507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22"/>
            <p:cNvSpPr/>
            <p:nvPr/>
          </p:nvSpPr>
          <p:spPr>
            <a:xfrm>
              <a:off x="4065480" y="5979960"/>
              <a:ext cx="50785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Tahoma"/>
                </a:rPr>
                <a:t>- Начало, конец алгоритма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27"/>
          <p:cNvGrpSpPr/>
          <p:nvPr/>
        </p:nvGrpSpPr>
        <p:grpSpPr>
          <a:xfrm>
            <a:off x="1471680" y="2351160"/>
            <a:ext cx="7207200" cy="1036440"/>
            <a:chOff x="1471680" y="2351160"/>
            <a:chExt cx="7207200" cy="1036440"/>
          </a:xfrm>
        </p:grpSpPr>
        <p:sp>
          <p:nvSpPr>
            <p:cNvPr id="297" name="Text Box 12"/>
            <p:cNvSpPr/>
            <p:nvPr/>
          </p:nvSpPr>
          <p:spPr>
            <a:xfrm>
              <a:off x="4425840" y="2641680"/>
              <a:ext cx="425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- Цик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Group 26"/>
            <p:cNvGrpSpPr/>
            <p:nvPr/>
          </p:nvGrpSpPr>
          <p:grpSpPr>
            <a:xfrm>
              <a:off x="1471680" y="2351160"/>
              <a:ext cx="2450880" cy="1036440"/>
              <a:chOff x="1471680" y="2351160"/>
              <a:chExt cx="2450880" cy="1036440"/>
            </a:xfrm>
          </p:grpSpPr>
          <p:sp>
            <p:nvSpPr>
              <p:cNvPr id="299" name="AutoShape 5"/>
              <p:cNvSpPr/>
              <p:nvPr/>
            </p:nvSpPr>
            <p:spPr>
              <a:xfrm>
                <a:off x="1770120" y="2728800"/>
                <a:ext cx="1859040" cy="581040"/>
              </a:xfrm>
              <a:prstGeom prst="hexagon">
                <a:avLst>
                  <a:gd name="adj" fmla="val 7998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6"/>
              <p:cNvSpPr/>
              <p:nvPr/>
            </p:nvSpPr>
            <p:spPr>
              <a:xfrm>
                <a:off x="2698920" y="2351160"/>
                <a:ext cx="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7"/>
              <p:cNvSpPr/>
              <p:nvPr/>
            </p:nvSpPr>
            <p:spPr>
              <a:xfrm>
                <a:off x="3618000" y="30193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Line 9"/>
              <p:cNvSpPr/>
              <p:nvPr/>
            </p:nvSpPr>
            <p:spPr>
              <a:xfrm>
                <a:off x="3914640" y="3009960"/>
                <a:ext cx="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Line 10"/>
              <p:cNvSpPr/>
              <p:nvPr/>
            </p:nvSpPr>
            <p:spPr>
              <a:xfrm>
                <a:off x="2309760" y="2479680"/>
                <a:ext cx="37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Line 15"/>
              <p:cNvSpPr/>
              <p:nvPr/>
            </p:nvSpPr>
            <p:spPr>
              <a:xfrm>
                <a:off x="2698920" y="2351160"/>
                <a:ext cx="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Line 24"/>
              <p:cNvSpPr/>
              <p:nvPr/>
            </p:nvSpPr>
            <p:spPr>
              <a:xfrm>
                <a:off x="1471680" y="30193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Line 25"/>
              <p:cNvSpPr/>
              <p:nvPr/>
            </p:nvSpPr>
            <p:spPr>
              <a:xfrm>
                <a:off x="1488960" y="3009960"/>
                <a:ext cx="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10000"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07440" y="1981080"/>
            <a:ext cx="83948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Алгоритм –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точное, понятное предписание исполнителю совершить последовательность действий, направленных на решение поставленной задач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90680" y="1439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Исполнитель алгоритма</a:t>
            </a:r>
            <a:r>
              <a:rPr b="0" i="1" lang="ru-RU" sz="4400" spc="-1" strike="noStrike">
                <a:solidFill>
                  <a:srgbClr val="000000"/>
                </a:solidFill>
                <a:latin typeface="Constantia"/>
              </a:rPr>
              <a:t> – это некоторая абстрактная или реальная система, способная выполнить действия, предписываемые алгоритмом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23232"/>
                </a:solidFill>
                <a:latin typeface="Calibri"/>
              </a:rPr>
              <a:t>Исполнителя характеризуют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000" y="2166840"/>
            <a:ext cx="8389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100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Среда –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это «место обитания» исполнителя.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0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Элементарные действия –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действия, которые исполнитель способен выполнять.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23232"/>
                </a:solidFill>
                <a:latin typeface="Calibri"/>
              </a:rPr>
              <a:t>Исполнителя характеризуют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98360" y="1934640"/>
            <a:ext cx="87472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Constantia"/>
              </a:rPr>
              <a:t>Система команд – </a:t>
            </a:r>
            <a:r>
              <a:rPr b="0" i="1" lang="ru-RU" sz="3700" spc="-1" strike="noStrike">
                <a:solidFill>
                  <a:srgbClr val="000000"/>
                </a:solidFill>
                <a:latin typeface="Constantia"/>
              </a:rPr>
              <a:t>набор предписаний, о которых исполнитель знает, какие действия должны быть произведены по каждой из команд, в каких условиях может быть выполнена та или иная команда и каковы будут результаты ее выполнения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23232"/>
                </a:solidFill>
                <a:latin typeface="Calibri"/>
              </a:rPr>
              <a:t>Исполнителя характеризуют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7800" y="1934640"/>
            <a:ext cx="85615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отказы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– возникают если по каким-либо причинам (неизвестная команда, недопустимое состояние среды и т.д.) исполнитель не может выполнить очередную команду алгоритма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23232"/>
                </a:solidFill>
                <a:latin typeface="Calibri"/>
              </a:rPr>
              <a:t>Свойства алгоритмов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74680" y="1934640"/>
            <a:ext cx="86263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Constantia"/>
              </a:rPr>
              <a:t>Дискретность – 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алгоритм составляется из описания конкретных действий,</a:t>
            </a:r>
            <a:r>
              <a:rPr b="1" i="1" lang="ru-RU" sz="3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каждое действие должно быть законченно исполнителем прежде, чем он приступит к исполнению следующего действия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23232"/>
                </a:solidFill>
                <a:latin typeface="Calibri"/>
              </a:rPr>
              <a:t>Свойства алгоритмов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23720" y="2244240"/>
            <a:ext cx="8229600" cy="31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Constantia"/>
              </a:rPr>
              <a:t>Понятность –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 исполнитель должен понимать каждую команду алгоритма. Иначе говоря, алгоритм должен быть записан на том языке, на котором «говорит исполнитель»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23232"/>
                </a:solidFill>
                <a:latin typeface="Calibri"/>
              </a:rPr>
              <a:t>Свойства алгоритмов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452320"/>
            <a:ext cx="8229600" cy="26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Constantia"/>
              </a:rPr>
              <a:t>Определенность – 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команды алгоритма не должны требовать от исполнителя принятия каких-либо самостоятельных решений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06:54:59Z</dcterms:created>
  <dc:creator>Rihert Viktor</dc:creator>
  <dc:description/>
  <dc:language>en-US</dc:language>
  <cp:lastModifiedBy>Владимир</cp:lastModifiedBy>
  <dcterms:modified xsi:type="dcterms:W3CDTF">2011-02-28T17:36:08Z</dcterms:modified>
  <cp:revision>22</cp:revision>
  <dc:subject/>
  <dc:title>Алгоритм и его свойства</dc:title>
</cp:coreProperties>
</file>