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4AB-A61D-4E12-AE1C-E4577030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64F-ADE7-4FDC-8ABE-D07B8AA4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74A-D194-42BB-AD7F-4EC36B73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65E-E4CE-4426-A620-4A41D34E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5272-2A60-4A97-AECE-A083F1F8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AAC9-2F3E-4264-98BD-599CF464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E5DA-E099-45E2-BC9D-8E2EC819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F289-7DAF-4C4F-B180-1348B6D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2888-9E8C-4FA2-BEF5-C999FD8F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BF60-CA61-40C1-A296-BB3EC135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DDB4-6650-4513-B694-ACD111DD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769-D91B-4425-BD83-2F60760A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9FAF-CFF8-4A77-B03C-8540638D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817B-6A21-4BD3-94C0-C10C5E0F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C94F-11AB-4D9B-8B52-F57123CB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8EF6-19AD-417B-86D4-24DC9EA8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6155-902C-4208-9931-CE6CFC7F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4A71-144A-415B-B50E-CD2469AB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9438-6316-47AF-9019-89F25E45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0348C-3318-4193-9AFB-93E1AC6E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47EB-83DC-4259-8F0B-59B9D869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F3ED-90F2-48EB-99F7-B28E9F3C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8AE-D180-433A-A264-DAD4D6F6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C9B6-FC80-40B6-8A6E-EBAF6FE5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E264-448F-45C9-8BA6-A6E5D91B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C1D5-44DF-4053-8054-6FC8DB68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664D-6362-4C80-8D68-09D7CA50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FBDE-651E-4C01-98C0-797DB651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DFC15-27AB-4406-A51C-E2D57795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7201-9DF6-4711-B8E3-9AB2D177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3894-CFEB-482F-9B6C-B557F401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16F5-1C34-4ADB-82F7-E4E9C20D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EC07-81CA-431E-9233-BC7B8162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40F-467C-408C-8586-7474D104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DD44-0550-4D36-A475-29AE191D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3766A-20E1-4401-B914-D3DE895D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2996-59B8-41BE-ABAB-7EA382FB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98117-E3C4-4EEC-B7FA-75A517B5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9FE1-7997-4B6F-A97A-DB9A3E0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A5949-C274-4D44-BEB5-48959A00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C309C-33FC-441F-BA63-649E833F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5D1B-F2E5-4CDF-A931-DB2F37FA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EDED6-C553-4362-9B05-4B2DC854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57CD7-25F1-4E0A-87ED-BB7A0EE6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789-A2E8-47BE-B19A-2AF0B68A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74EB0-C5E5-424E-9F70-B63536AC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E0974-572F-4C9E-949C-C4EAA1FE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6587-2AED-49C2-BBE8-9381FC9E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EC11B-86E6-4E84-B3C9-E561B116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499BE-8B94-461E-9131-A9D69944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94DF6-B674-495F-BAD3-2CE6A802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E6912-0658-4143-A43A-789E3C62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73F8E-8544-410D-8340-5454B9D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9AEFD-99EB-4C1E-A181-F03942F8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1DBC9-DD6A-441F-A393-FCDA0025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D33-1DCC-4051-9B68-16C356A7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0370E-9DE5-4EDD-8689-A3D91553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6A1-7BF2-43E2-A0D0-C140D29D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EA3-6A1C-4690-8675-030128E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78D-BD06-45F8-8D4F-7A37EE01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9084-10D0-4325-AB19-1BC3DE6B55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69120" y="6400800"/>
            <a:ext cx="1874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F758-7E5E-4602-932D-DA2CD715A3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7">
            <a:hlinkClick r:id="rId2" action="ppaction://hlinksldjump"/>
          </p:cNvPr>
          <p:cNvSpPr/>
          <p:nvPr/>
        </p:nvSpPr>
        <p:spPr>
          <a:xfrm>
            <a:off x="7329600" y="6416640"/>
            <a:ext cx="1373040" cy="441360"/>
          </a:xfrm>
          <a:custGeom>
            <a:avLst/>
            <a:gdLst>
              <a:gd name="textAreaLeft" fmla="*/ 28440 w 1373040"/>
              <a:gd name="textAreaRight" fmla="*/ 1344600 w 1373040"/>
              <a:gd name="textAreaTop" fmla="*/ 28440 h 441360"/>
              <a:gd name="textAreaBottom" fmla="*/ 412920 h 441360"/>
            </a:gdLst>
            <a:ahLst/>
            <a:rect l="textAreaLeft" t="textAreaTop" r="textAreaRight" b="textAreaBottom"/>
            <a:pathLst>
              <a:path w="67159" h="21600">
                <a:moveTo>
                  <a:pt x="0" y="0"/>
                </a:moveTo>
                <a:lnTo>
                  <a:pt x="67159" y="0"/>
                </a:lnTo>
                <a:lnTo>
                  <a:pt x="67159" y="21600"/>
                </a:lnTo>
                <a:lnTo>
                  <a:pt x="0" y="21600"/>
                </a:lnTo>
                <a:close/>
              </a:path>
              <a:path fill="lightenLess" w="67159" h="21600">
                <a:moveTo>
                  <a:pt x="0" y="0"/>
                </a:moveTo>
                <a:lnTo>
                  <a:pt x="67159" y="0"/>
                </a:lnTo>
                <a:lnTo>
                  <a:pt x="65759" y="1400"/>
                </a:lnTo>
                <a:lnTo>
                  <a:pt x="1400" y="1400"/>
                </a:lnTo>
                <a:close/>
              </a:path>
              <a:path fill="darken" w="67159" h="21600">
                <a:moveTo>
                  <a:pt x="67159" y="0"/>
                </a:moveTo>
                <a:lnTo>
                  <a:pt x="67159" y="21600"/>
                </a:lnTo>
                <a:lnTo>
                  <a:pt x="65759" y="20200"/>
                </a:lnTo>
                <a:lnTo>
                  <a:pt x="65759" y="1400"/>
                </a:lnTo>
                <a:close/>
              </a:path>
              <a:path fill="darkenLess" w="67159" h="21600">
                <a:moveTo>
                  <a:pt x="67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59" y="20200"/>
                </a:lnTo>
                <a:close/>
              </a:path>
              <a:path fill="lighten" w="67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Times New Roman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8C31-BB6A-493A-BEAB-3E6A3C10C16A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5DA3-13B1-4013-BB0D-4A52DEC19B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C759-5F78-45DE-A33C-17A1E3105925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199360" cy="18417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066680" y="307476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«Алгоритм и его свойства»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войства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Результативность –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 при точном исполнении команд алгоритма процесс должен завершиться за конечное число шагов, и при этом должен быть получен ответ на вопрос задачи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войства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500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Массовость –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алгоритм должен быть пригодным для решения любой задачи из некоторого класса задач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23560" y="1343160"/>
            <a:ext cx="865980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ть два числа; перейти к пункту 2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сли числа равны, то взять любое из них в качестве ответа и  перейти к пункту 6, иначе перейти к пункту 3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сли первое число больше второго, то перейти к пункту 4, иначе перейти к пункту 5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менить первое число разностью первого и второго чисел; перейти к пункту 2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менить второе число разностью второго и первого чисел; перейти к пункту 2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27040" indent="-4572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925560" y="733320"/>
            <a:ext cx="745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23232"/>
                </a:solidFill>
                <a:latin typeface="Calibri"/>
              </a:rPr>
              <a:t>Способы записи алгоритмов</a:t>
            </a:r>
            <a:endParaRPr b="0" lang="en-US" sz="45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635120"/>
            <a:ext cx="84438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Словесный способ – 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запись алгоритма на естественном языке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Графический способ – 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запись алгоритма в виде схемы, состоящей из геометрических фигур, называемых </a:t>
            </a: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блоками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, и соединительных линий. Такие схемы часто называют </a:t>
            </a: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блок-схемами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пособы записи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75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Программный способ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запись алгоритма на каком-либо языке программирования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5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Псевдокод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является комбинацией словесного и программного способов записи. Алгоритм записывается при помощи системы обозначений, содержащей как элементы естественного языка, так и элементы некоторого языка программирова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пособы записи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Табличный способ –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оследовательность действий алгоритма записывается в таблицу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Содержимое 2"/>
          <p:cNvSpPr/>
          <p:nvPr/>
        </p:nvSpPr>
        <p:spPr>
          <a:xfrm>
            <a:off x="4346640" y="1492200"/>
            <a:ext cx="39290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чало/кон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Блок-схема: знак завершения 4"/>
          <p:cNvGrpSpPr/>
          <p:nvPr/>
        </p:nvGrpSpPr>
        <p:grpSpPr>
          <a:xfrm>
            <a:off x="712800" y="1457280"/>
            <a:ext cx="2401920" cy="762120"/>
            <a:chOff x="712800" y="1457280"/>
            <a:chExt cx="2401920" cy="762120"/>
          </a:xfrm>
        </p:grpSpPr>
        <p:pic>
          <p:nvPicPr>
            <p:cNvPr id="249" name="Блок-схема: знак завершения 4" descr=""/>
            <p:cNvPicPr/>
            <p:nvPr/>
          </p:nvPicPr>
          <p:blipFill>
            <a:blip r:embed="rId1"/>
            <a:stretch/>
          </p:blipFill>
          <p:spPr>
            <a:xfrm>
              <a:off x="712800" y="1457280"/>
              <a:ext cx="24019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882720" y="1585800"/>
              <a:ext cx="20700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Блок-схема: данные 5"/>
          <p:cNvGrpSpPr/>
          <p:nvPr/>
        </p:nvGrpSpPr>
        <p:grpSpPr>
          <a:xfrm>
            <a:off x="573120" y="2243160"/>
            <a:ext cx="2614680" cy="762120"/>
            <a:chOff x="573120" y="2243160"/>
            <a:chExt cx="2614680" cy="762120"/>
          </a:xfrm>
        </p:grpSpPr>
        <p:pic>
          <p:nvPicPr>
            <p:cNvPr id="252" name="Блок-схема: данные 5" descr=""/>
            <p:cNvPicPr/>
            <p:nvPr/>
          </p:nvPicPr>
          <p:blipFill>
            <a:blip r:embed="rId2"/>
            <a:stretch/>
          </p:blipFill>
          <p:spPr>
            <a:xfrm>
              <a:off x="573120" y="2243160"/>
              <a:ext cx="26146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131840" y="2278080"/>
              <a:ext cx="1500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Блок-схема: решение 6"/>
          <p:cNvGrpSpPr/>
          <p:nvPr/>
        </p:nvGrpSpPr>
        <p:grpSpPr>
          <a:xfrm>
            <a:off x="639720" y="3882960"/>
            <a:ext cx="2475000" cy="1122480"/>
            <a:chOff x="639720" y="3882960"/>
            <a:chExt cx="2475000" cy="1122480"/>
          </a:xfrm>
        </p:grpSpPr>
        <p:pic>
          <p:nvPicPr>
            <p:cNvPr id="255" name="Блок-схема: решение 6" descr=""/>
            <p:cNvPicPr/>
            <p:nvPr/>
          </p:nvPicPr>
          <p:blipFill>
            <a:blip r:embed="rId3"/>
            <a:stretch/>
          </p:blipFill>
          <p:spPr>
            <a:xfrm>
              <a:off x="639720" y="3882960"/>
              <a:ext cx="24750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292400" y="4170240"/>
              <a:ext cx="11779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Блок-схема: процесс 7"/>
          <p:cNvGrpSpPr/>
          <p:nvPr/>
        </p:nvGrpSpPr>
        <p:grpSpPr>
          <a:xfrm>
            <a:off x="573120" y="3097080"/>
            <a:ext cx="2401920" cy="693720"/>
            <a:chOff x="573120" y="3097080"/>
            <a:chExt cx="2401920" cy="693720"/>
          </a:xfrm>
        </p:grpSpPr>
        <p:pic>
          <p:nvPicPr>
            <p:cNvPr id="258" name="Блок-схема: процесс 7" descr=""/>
            <p:cNvPicPr/>
            <p:nvPr/>
          </p:nvPicPr>
          <p:blipFill>
            <a:blip r:embed="rId4"/>
            <a:stretch/>
          </p:blipFill>
          <p:spPr>
            <a:xfrm>
              <a:off x="573120" y="3097080"/>
              <a:ext cx="24019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31800" y="3135240"/>
              <a:ext cx="22860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Блок-схема: подготовка 8"/>
          <p:cNvGrpSpPr/>
          <p:nvPr/>
        </p:nvGrpSpPr>
        <p:grpSpPr>
          <a:xfrm>
            <a:off x="426960" y="5095800"/>
            <a:ext cx="2975040" cy="908280"/>
            <a:chOff x="426960" y="5095800"/>
            <a:chExt cx="2975040" cy="908280"/>
          </a:xfrm>
        </p:grpSpPr>
        <p:pic>
          <p:nvPicPr>
            <p:cNvPr id="261" name="Блок-схема: подготовка 8" descr=""/>
            <p:cNvPicPr/>
            <p:nvPr/>
          </p:nvPicPr>
          <p:blipFill>
            <a:blip r:embed="rId5"/>
            <a:stretch/>
          </p:blipFill>
          <p:spPr>
            <a:xfrm>
              <a:off x="426960" y="5095800"/>
              <a:ext cx="297504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060560" y="5135400"/>
              <a:ext cx="17143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3" name="Прямая со стрелкой 9"/>
          <p:cNvCxnSpPr/>
          <p:nvPr/>
        </p:nvCxnSpPr>
        <p:spPr>
          <a:xfrm>
            <a:off x="774720" y="6350040"/>
            <a:ext cx="2572560" cy="2160"/>
          </a:xfrm>
          <a:prstGeom prst="straightConnector1">
            <a:avLst/>
          </a:prstGeom>
          <a:ln w="76320">
            <a:solidFill>
              <a:srgbClr val="b65a00"/>
            </a:solidFill>
            <a:miter/>
            <a:tailEnd len="med" type="arrow" w="med"/>
          </a:ln>
        </p:spPr>
      </p:cxnSp>
      <p:sp>
        <p:nvSpPr>
          <p:cNvPr id="264" name="Содержимое 2"/>
          <p:cNvSpPr/>
          <p:nvPr/>
        </p:nvSpPr>
        <p:spPr>
          <a:xfrm>
            <a:off x="4275000" y="2349360"/>
            <a:ext cx="3929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23232"/>
                </a:solidFill>
                <a:latin typeface="Constantia"/>
              </a:rPr>
              <a:t>Ввод/вывод данных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Содержимое 2"/>
          <p:cNvSpPr/>
          <p:nvPr/>
        </p:nvSpPr>
        <p:spPr>
          <a:xfrm>
            <a:off x="4357800" y="2786040"/>
            <a:ext cx="4429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23232"/>
                </a:solidFill>
                <a:latin typeface="Constantia"/>
              </a:rPr>
              <a:t>Выполнение действ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Содержимое 2"/>
          <p:cNvSpPr/>
          <p:nvPr/>
        </p:nvSpPr>
        <p:spPr>
          <a:xfrm>
            <a:off x="4346640" y="3921120"/>
            <a:ext cx="3929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23232"/>
                </a:solidFill>
                <a:latin typeface="Constantia"/>
              </a:rPr>
              <a:t>Проверка условия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Verdana"/>
                <a:ea typeface="Times New Roman"/>
              </a:rPr>
              <a:t>Да(+)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  <a:ea typeface="Times New Roman"/>
              </a:rPr>
              <a:t> и  </a:t>
            </a:r>
            <a:r>
              <a:rPr b="1" lang="ru-RU" sz="31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т(-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Содержимое 2"/>
          <p:cNvSpPr/>
          <p:nvPr/>
        </p:nvSpPr>
        <p:spPr>
          <a:xfrm>
            <a:off x="4417920" y="506412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Franklin Gothic Book"/>
              </a:rPr>
              <a:t>Описание ша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Содержимое 2"/>
          <p:cNvSpPr/>
          <p:nvPr/>
        </p:nvSpPr>
        <p:spPr>
          <a:xfrm>
            <a:off x="4346640" y="585000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Franklin Gothic Book"/>
              </a:rPr>
              <a:t>Направ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584280" y="776160"/>
            <a:ext cx="822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23232"/>
                </a:solidFill>
                <a:latin typeface="Calibri"/>
              </a:rPr>
              <a:t>Блоки, используемые при составлении блок-схе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Calibri"/>
              </a:rPr>
              <a:t>Блоки, используемые при составлении блок-схем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271" name="Group 23"/>
          <p:cNvGrpSpPr/>
          <p:nvPr/>
        </p:nvGrpSpPr>
        <p:grpSpPr>
          <a:xfrm>
            <a:off x="1692360" y="2060640"/>
            <a:ext cx="7127640" cy="1584360"/>
            <a:chOff x="1692360" y="2060640"/>
            <a:chExt cx="7127640" cy="1584360"/>
          </a:xfrm>
        </p:grpSpPr>
        <p:grpSp>
          <p:nvGrpSpPr>
            <p:cNvPr id="272" name="Group 13"/>
            <p:cNvGrpSpPr/>
            <p:nvPr/>
          </p:nvGrpSpPr>
          <p:grpSpPr>
            <a:xfrm>
              <a:off x="1692360" y="2060640"/>
              <a:ext cx="1439640" cy="1584360"/>
              <a:chOff x="1692360" y="2060640"/>
              <a:chExt cx="1439640" cy="1584360"/>
            </a:xfrm>
          </p:grpSpPr>
          <p:sp>
            <p:nvSpPr>
              <p:cNvPr id="273" name="Rectangle 9"/>
              <p:cNvSpPr/>
              <p:nvPr/>
            </p:nvSpPr>
            <p:spPr>
              <a:xfrm>
                <a:off x="1692360" y="2492640"/>
                <a:ext cx="1439640" cy="72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2412720" y="2060640"/>
                <a:ext cx="0" cy="43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2412720" y="321336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Text Box 14"/>
            <p:cNvSpPr/>
            <p:nvPr/>
          </p:nvSpPr>
          <p:spPr>
            <a:xfrm>
              <a:off x="3635280" y="2565360"/>
              <a:ext cx="518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- Элементарное действи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25"/>
          <p:cNvGrpSpPr/>
          <p:nvPr/>
        </p:nvGrpSpPr>
        <p:grpSpPr>
          <a:xfrm>
            <a:off x="1025640" y="4365720"/>
            <a:ext cx="7856280" cy="1244520"/>
            <a:chOff x="1025640" y="4365720"/>
            <a:chExt cx="7856280" cy="1244520"/>
          </a:xfrm>
        </p:grpSpPr>
        <p:grpSp>
          <p:nvGrpSpPr>
            <p:cNvPr id="278" name="Group 22"/>
            <p:cNvGrpSpPr/>
            <p:nvPr/>
          </p:nvGrpSpPr>
          <p:grpSpPr>
            <a:xfrm>
              <a:off x="1025640" y="4365720"/>
              <a:ext cx="2768400" cy="1244520"/>
              <a:chOff x="1025640" y="4365720"/>
              <a:chExt cx="2768400" cy="1244520"/>
            </a:xfrm>
          </p:grpSpPr>
          <p:sp>
            <p:nvSpPr>
              <p:cNvPr id="279" name="AutoShape 15"/>
              <p:cNvSpPr/>
              <p:nvPr/>
            </p:nvSpPr>
            <p:spPr>
              <a:xfrm>
                <a:off x="1403280" y="4797360"/>
                <a:ext cx="2016360" cy="792360"/>
              </a:xfrm>
              <a:prstGeom prst="diamond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6"/>
              <p:cNvSpPr/>
              <p:nvPr/>
            </p:nvSpPr>
            <p:spPr>
              <a:xfrm>
                <a:off x="2411280" y="436572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17"/>
              <p:cNvSpPr/>
              <p:nvPr/>
            </p:nvSpPr>
            <p:spPr>
              <a:xfrm>
                <a:off x="3435480" y="5186520"/>
                <a:ext cx="3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18"/>
              <p:cNvSpPr/>
              <p:nvPr/>
            </p:nvSpPr>
            <p:spPr>
              <a:xfrm>
                <a:off x="3773520" y="517860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20"/>
              <p:cNvSpPr/>
              <p:nvPr/>
            </p:nvSpPr>
            <p:spPr>
              <a:xfrm>
                <a:off x="1025640" y="5194440"/>
                <a:ext cx="34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1"/>
              <p:cNvSpPr/>
              <p:nvPr/>
            </p:nvSpPr>
            <p:spPr>
              <a:xfrm>
                <a:off x="1046160" y="5181480"/>
                <a:ext cx="0" cy="42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Text Box 24"/>
            <p:cNvSpPr/>
            <p:nvPr/>
          </p:nvSpPr>
          <p:spPr>
            <a:xfrm>
              <a:off x="4137120" y="4890960"/>
              <a:ext cx="474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- Услови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Calibri"/>
              </a:rPr>
              <a:t>Блоки, используемые при составлении блок-схем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287" name="Group 20"/>
          <p:cNvGrpSpPr/>
          <p:nvPr/>
        </p:nvGrpSpPr>
        <p:grpSpPr>
          <a:xfrm>
            <a:off x="1684440" y="3867120"/>
            <a:ext cx="6370560" cy="1401840"/>
            <a:chOff x="1684440" y="3867120"/>
            <a:chExt cx="6370560" cy="1401840"/>
          </a:xfrm>
        </p:grpSpPr>
        <p:grpSp>
          <p:nvGrpSpPr>
            <p:cNvPr id="288" name="Group 18"/>
            <p:cNvGrpSpPr/>
            <p:nvPr/>
          </p:nvGrpSpPr>
          <p:grpSpPr>
            <a:xfrm>
              <a:off x="1684440" y="3867120"/>
              <a:ext cx="2017440" cy="1401840"/>
              <a:chOff x="1684440" y="3867120"/>
              <a:chExt cx="2017440" cy="1401840"/>
            </a:xfrm>
          </p:grpSpPr>
          <p:sp>
            <p:nvSpPr>
              <p:cNvPr id="289" name="AutoShape 14"/>
              <p:cNvSpPr/>
              <p:nvPr/>
            </p:nvSpPr>
            <p:spPr>
              <a:xfrm>
                <a:off x="1684440" y="4253040"/>
                <a:ext cx="2017440" cy="653760"/>
              </a:xfrm>
              <a:prstGeom prst="parallelogram">
                <a:avLst>
                  <a:gd name="adj" fmla="val 77148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6"/>
              <p:cNvSpPr/>
              <p:nvPr/>
            </p:nvSpPr>
            <p:spPr>
              <a:xfrm>
                <a:off x="2695680" y="3867120"/>
                <a:ext cx="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7"/>
              <p:cNvSpPr/>
              <p:nvPr/>
            </p:nvSpPr>
            <p:spPr>
              <a:xfrm>
                <a:off x="2682720" y="4890960"/>
                <a:ext cx="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9"/>
            <p:cNvSpPr/>
            <p:nvPr/>
          </p:nvSpPr>
          <p:spPr>
            <a:xfrm>
              <a:off x="4411800" y="4383000"/>
              <a:ext cx="36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- Ввод-вывод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1569960" y="5979960"/>
            <a:ext cx="7574040" cy="1007640"/>
            <a:chOff x="1569960" y="5979960"/>
            <a:chExt cx="7574040" cy="1007640"/>
          </a:xfrm>
        </p:grpSpPr>
        <p:sp>
          <p:nvSpPr>
            <p:cNvPr id="294" name="Oval 21"/>
            <p:cNvSpPr/>
            <p:nvPr/>
          </p:nvSpPr>
          <p:spPr>
            <a:xfrm>
              <a:off x="1569960" y="6053040"/>
              <a:ext cx="2176560" cy="507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22"/>
            <p:cNvSpPr/>
            <p:nvPr/>
          </p:nvSpPr>
          <p:spPr>
            <a:xfrm>
              <a:off x="4065480" y="5979960"/>
              <a:ext cx="5078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Tahoma"/>
                </a:rPr>
                <a:t>- Начало, конец алгоритма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7"/>
          <p:cNvGrpSpPr/>
          <p:nvPr/>
        </p:nvGrpSpPr>
        <p:grpSpPr>
          <a:xfrm>
            <a:off x="1471680" y="2351160"/>
            <a:ext cx="7207200" cy="1036440"/>
            <a:chOff x="1471680" y="2351160"/>
            <a:chExt cx="7207200" cy="1036440"/>
          </a:xfrm>
        </p:grpSpPr>
        <p:sp>
          <p:nvSpPr>
            <p:cNvPr id="297" name="Text Box 12"/>
            <p:cNvSpPr/>
            <p:nvPr/>
          </p:nvSpPr>
          <p:spPr>
            <a:xfrm>
              <a:off x="4425840" y="2641680"/>
              <a:ext cx="425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- Цик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Group 26"/>
            <p:cNvGrpSpPr/>
            <p:nvPr/>
          </p:nvGrpSpPr>
          <p:grpSpPr>
            <a:xfrm>
              <a:off x="1471680" y="2351160"/>
              <a:ext cx="2450880" cy="1036440"/>
              <a:chOff x="1471680" y="2351160"/>
              <a:chExt cx="2450880" cy="1036440"/>
            </a:xfrm>
          </p:grpSpPr>
          <p:sp>
            <p:nvSpPr>
              <p:cNvPr id="299" name="AutoShape 5"/>
              <p:cNvSpPr/>
              <p:nvPr/>
            </p:nvSpPr>
            <p:spPr>
              <a:xfrm>
                <a:off x="1770120" y="2728800"/>
                <a:ext cx="1859040" cy="581040"/>
              </a:xfrm>
              <a:prstGeom prst="hexagon">
                <a:avLst>
                  <a:gd name="adj" fmla="val 7998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6"/>
              <p:cNvSpPr/>
              <p:nvPr/>
            </p:nvSpPr>
            <p:spPr>
              <a:xfrm>
                <a:off x="2698920" y="2351160"/>
                <a:ext cx="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7"/>
              <p:cNvSpPr/>
              <p:nvPr/>
            </p:nvSpPr>
            <p:spPr>
              <a:xfrm>
                <a:off x="3618000" y="30193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Line 9"/>
              <p:cNvSpPr/>
              <p:nvPr/>
            </p:nvSpPr>
            <p:spPr>
              <a:xfrm>
                <a:off x="3914640" y="3009960"/>
                <a:ext cx="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10"/>
              <p:cNvSpPr/>
              <p:nvPr/>
            </p:nvSpPr>
            <p:spPr>
              <a:xfrm>
                <a:off x="2309760" y="2479680"/>
                <a:ext cx="37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Line 15"/>
              <p:cNvSpPr/>
              <p:nvPr/>
            </p:nvSpPr>
            <p:spPr>
              <a:xfrm>
                <a:off x="2698920" y="2351160"/>
                <a:ext cx="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24"/>
              <p:cNvSpPr/>
              <p:nvPr/>
            </p:nvSpPr>
            <p:spPr>
              <a:xfrm>
                <a:off x="1471680" y="30193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25"/>
              <p:cNvSpPr/>
              <p:nvPr/>
            </p:nvSpPr>
            <p:spPr>
              <a:xfrm>
                <a:off x="1488960" y="3009960"/>
                <a:ext cx="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10000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07440" y="1981080"/>
            <a:ext cx="83948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Алгоритм –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точное, понятное предписание исполнителю совершить последовательность действий, направленных на решение поставленной задач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90680" y="1439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Исполнитель алгоритма</a:t>
            </a:r>
            <a:r>
              <a:rPr b="0" i="1" lang="ru-RU" sz="4400" spc="-1" strike="noStrike">
                <a:solidFill>
                  <a:srgbClr val="000000"/>
                </a:solidFill>
                <a:latin typeface="Constantia"/>
              </a:rPr>
              <a:t> – это некоторая абстрактная или реальная система, способная выполнить действия, предписываемые алгоритмом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Исполнителя характеризуют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000" y="2166840"/>
            <a:ext cx="8389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Среда –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это «место обитания» исполнителя.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Элементарные действия –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действия, которые исполнитель способен выполнять.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Исполнителя характеризуют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98360" y="1934640"/>
            <a:ext cx="87472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Система команд – </a:t>
            </a:r>
            <a:r>
              <a:rPr b="0" i="1" lang="ru-RU" sz="3700" spc="-1" strike="noStrike">
                <a:solidFill>
                  <a:srgbClr val="000000"/>
                </a:solidFill>
                <a:latin typeface="Constantia"/>
              </a:rPr>
              <a:t>набор предписаний, о которых исполнитель знает, какие действия должны быть произведены по каждой из команд, в каких условиях может быть выполнена та или иная команда и каковы будут результаты ее выполнения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Исполнителя характеризуют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7800" y="1934640"/>
            <a:ext cx="8561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отказы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– возникают если по каким-либо причинам (неизвестная команда, недопустимое состояние среды и т.д.) исполнитель не может выполнить очередную команду алгоритма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войства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74680" y="1934640"/>
            <a:ext cx="8626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Дискретность – 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алгоритм составляется из описания конкретных действий,</a:t>
            </a: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каждое действие должно быть законченно исполнителем прежде, чем он приступит к исполнению следующего действия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войства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3720" y="2244240"/>
            <a:ext cx="8229600" cy="31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Понятность –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 исполнитель должен понимать каждую команду алгоритма. Иначе говоря, алгоритм должен быть записан на том языке, на котором «говорит исполнитель»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23232"/>
                </a:solidFill>
                <a:latin typeface="Calibri"/>
              </a:rPr>
              <a:t>Свойства алгоритмов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452320"/>
            <a:ext cx="8229600" cy="26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onstantia"/>
              </a:rPr>
              <a:t>Определенность – 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команды алгоритма не должны требовать от исполнителя принятия каких-либо самостоятельных решений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000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06:54:59Z</dcterms:created>
  <dc:creator>Rihert Viktor</dc:creator>
  <dc:description/>
  <dc:language>en-US</dc:language>
  <cp:lastModifiedBy>Владимир</cp:lastModifiedBy>
  <dcterms:modified xsi:type="dcterms:W3CDTF">2011-02-28T17:36:08Z</dcterms:modified>
  <cp:revision>22</cp:revision>
  <dc:subject/>
  <dc:title>Алгоритм и его свойства</dc:title>
</cp:coreProperties>
</file>