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BB74-F8A9-420D-87A7-2C2A65904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BA76-1702-4CC8-A15E-566B83830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BAA-0900-46D8-96F2-8819DD1E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C3B-6F6F-47C5-B045-23D93F0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8C5-E0B1-4708-8367-0596A964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A1E-4D22-4A38-BB4C-A6B62836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2048-D6E0-4D26-A12F-A45A18D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DE0D-454B-44CC-96CA-60EC81A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C48-CB8F-4520-A14A-263019FC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5CCE-C231-4C73-A76A-BC49B26D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9B85-525D-42EE-BD91-70F58D2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CE57-B840-4449-99C6-EDFCB51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977A-8A9D-439E-8678-6650CDC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4EF-8F9E-45F9-AB27-9E290DE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AC4C-368D-437B-8C3D-32DD1E61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0B32-E7B5-4253-8662-538F2B56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E5E0-4BDB-4B02-AE18-BA3CEE19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3E4-7426-4B2F-9FA2-E5DA3D1F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1C06-4681-471B-BC23-B3C2DF85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3A79-59C4-409D-AF9C-B746E51D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E163-1F28-49E8-AA11-23BBA9EA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7A29-6010-4D4C-A87E-7A80AAE1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AEEC-9513-4539-B26E-1117A8DF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71C2-8CE2-432B-83B3-1ACDA63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AC9-BAFD-47FD-8144-F44BBDCA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3B33-B0EF-41AC-98FB-DBB2BDAE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F69E-C590-42B9-A55D-78E3A48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8A3A-4BAA-4BC9-9962-B7EC6B2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8C7A-5432-4ECA-99DD-6651D63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14B3-7133-47AC-B9A5-4AF381ED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A36B-0CF8-4725-ADBF-589A2A29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D13E-1D6C-4D64-9844-8D51BBD7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8C0-B65B-4E72-AFE9-9414603E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302-8991-4D55-B721-335A34B1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9EF-7FD2-415D-BFF4-E1DC823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120-8C46-4D6B-A416-7972D19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D95-1580-4289-8993-8345445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6F8-1D82-41ED-8236-417974F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840E-A761-43FE-8FB5-04667DA9F3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392-642D-4DE7-9FF4-A1FE1E17BD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D6A4-9F12-4FEE-93DA-B124A67FDE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491320" cy="1890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71320" y="3214440"/>
            <a:ext cx="7854840" cy="334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Подготовка к ОГЭ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(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на  формул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40/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+1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колько членов этой последовательности                         больше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User\Desktop\Новая папка\i.jpg"/>
          <p:cNvPicPr/>
          <p:nvPr/>
        </p:nvPicPr>
        <p:blipFill>
          <a:blip r:embed="rId1"/>
          <a:stretch/>
        </p:blipFill>
        <p:spPr>
          <a:xfrm>
            <a:off x="304920" y="190512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276720" y="858960"/>
            <a:ext cx="5867280" cy="63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черном ящике находится предмет, который  является показателем благосостояния людей. Этот предмет был популярен в прошлом ве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йчас этому предмету доверяют люди среднего и старшего возрас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, что в нем находится, можно посчитать при помощи геометрической прогрессии, и со временем увеличивается. Говорят, что это самое надежное хранение. Что находиться в ящик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Управляющая кнопка: назад 5"/>
          <p:cNvSpPr/>
          <p:nvPr/>
        </p:nvSpPr>
        <p:spPr>
          <a:xfrm>
            <a:off x="30492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260280"/>
            <a:ext cx="8507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85880" y="5857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В арифметической прогрессии извест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250280" y="2590920"/>
            <a:ext cx="69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Найти разность арифметической прогресс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л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 flipV="1" rot="10800000">
            <a:off x="1571400" y="365256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ервый член геометрической прогрессии равен 1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знаменатель равен 2. Найти сумму 5 первых 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500120" y="5143680"/>
            <a:ext cx="56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Найти сумму пяти членов геометрической прогрессии с положительными членами е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857240" y="213372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689400" y="1523880"/>
            <a:ext cx="375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-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,2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d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46320" y="3068640"/>
            <a:ext cx="387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2, 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416160" y="6308640"/>
            <a:ext cx="40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81, 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4143240" y="2357280"/>
            <a:ext cx="46080" cy="46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4143240" y="2786040"/>
            <a:ext cx="46080" cy="7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971640" y="476280"/>
            <a:ext cx="71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в задания 1-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сможете узнать автора стр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 flipV="1" rot="10800000">
            <a:off x="785880" y="189972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является самой древней из всех нау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месте с тем она  остается вечно молодой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71760" y="3357720"/>
          <a:ext cx="3500280" cy="396720"/>
        </p:xfrm>
        <a:graphic>
          <a:graphicData uri="http://schemas.openxmlformats.org/drawingml/2006/table">
            <a:tbl>
              <a:tblPr/>
              <a:tblGrid>
                <a:gridCol w="583920"/>
                <a:gridCol w="582840"/>
                <a:gridCol w="584280"/>
                <a:gridCol w="582480"/>
                <a:gridCol w="584280"/>
                <a:gridCol w="5824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42960" y="4365720"/>
          <a:ext cx="5214960" cy="687240"/>
        </p:xfrm>
        <a:graphic>
          <a:graphicData uri="http://schemas.openxmlformats.org/drawingml/2006/table">
            <a:tbl>
              <a:tblPr/>
              <a:tblGrid>
                <a:gridCol w="612720"/>
                <a:gridCol w="696960"/>
                <a:gridCol w="785880"/>
                <a:gridCol w="698400"/>
                <a:gridCol w="609480"/>
                <a:gridCol w="613080"/>
                <a:gridCol w="119844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87"/>
          <p:cNvSpPr/>
          <p:nvPr/>
        </p:nvSpPr>
        <p:spPr>
          <a:xfrm>
            <a:off x="4038480" y="1676520"/>
            <a:ext cx="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8"/>
          <p:cNvSpPr/>
          <p:nvPr/>
        </p:nvSpPr>
        <p:spPr>
          <a:xfrm>
            <a:off x="4114800" y="1828800"/>
            <a:ext cx="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9"/>
          <p:cNvSpPr/>
          <p:nvPr/>
        </p:nvSpPr>
        <p:spPr>
          <a:xfrm>
            <a:off x="4114800" y="1752480"/>
            <a:ext cx="0" cy="259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0"/>
          <p:cNvSpPr/>
          <p:nvPr/>
        </p:nvSpPr>
        <p:spPr>
          <a:xfrm flipH="1" flipV="1">
            <a:off x="4214880" y="1866960"/>
            <a:ext cx="46080" cy="61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1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24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714760" y="533520"/>
            <a:ext cx="307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л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Картинка 11 из 33"/>
          <p:cNvPicPr/>
          <p:nvPr/>
        </p:nvPicPr>
        <p:blipFill>
          <a:blip r:embed="rId1"/>
          <a:stretch/>
        </p:blipFill>
        <p:spPr>
          <a:xfrm>
            <a:off x="1295280" y="1428840"/>
            <a:ext cx="2990880" cy="2928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457200" y="4929120"/>
            <a:ext cx="568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елдыш Мстислав Всеволодович (1911-1978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матик и механик.  Руководил рядом советских космических програм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я полеты человека в косм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                                  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ТЕС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 Последовательность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адана формулой  а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n²-2n-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Найдите номер члена  последовательности, равного 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 4   б)-2  в)2  г)-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 В геометрической прогрессии 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=8; в</a:t>
            </a: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4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Найдите в</a:t>
            </a: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128  б)-72 в)72  г)3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12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 6;…..-бесконечная геометрическая  прогрессия. Найти её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мм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n-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6 б)-12  в)24  г)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39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Проверим знание формул по темам: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« Арифметическая прогрессия»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                            и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« Геометрическая прогрессия»</a:t>
            </a:r>
            <a:br>
              <a:rPr sz="24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258920" y="184464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1\Рабочий стол\формула2.jpg"/>
          <p:cNvPicPr/>
          <p:nvPr/>
        </p:nvPicPr>
        <p:blipFill>
          <a:blip r:embed="rId2"/>
          <a:stretch/>
        </p:blipFill>
        <p:spPr>
          <a:xfrm>
            <a:off x="-1714680" y="0"/>
            <a:ext cx="1150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1\Рабочий стол\формулы.jpg"/>
          <p:cNvPicPr/>
          <p:nvPr/>
        </p:nvPicPr>
        <p:blipFill>
          <a:blip r:embed="rId2"/>
          <a:stretch/>
        </p:blipFill>
        <p:spPr>
          <a:xfrm>
            <a:off x="-1357200" y="-482760"/>
            <a:ext cx="12144240" cy="73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4617b"/>
                </a:solidFill>
                <a:uFillTx/>
                <a:latin typeface="Times New Roman"/>
              </a:rPr>
              <a:t>           </a:t>
            </a:r>
            <a:r>
              <a:rPr b="1" lang="ru-RU" sz="3800" spc="-1" strike="noStrike" u="sng">
                <a:solidFill>
                  <a:srgbClr val="04617b"/>
                </a:solidFill>
                <a:uFillTx/>
                <a:latin typeface="Times New Roman"/>
              </a:rPr>
              <a:t>Работа  с учебником</a:t>
            </a:r>
            <a:br>
              <a:rPr sz="3800"/>
            </a:b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01(б)   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4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6" descr="free-clipart-of-book.jpg"/>
          <p:cNvPicPr/>
          <p:nvPr/>
        </p:nvPicPr>
        <p:blipFill>
          <a:blip r:embed="rId1">
            <a:alphaModFix amt="11000"/>
          </a:blip>
          <a:stretch/>
        </p:blipFill>
        <p:spPr>
          <a:xfrm>
            <a:off x="6573960" y="4653000"/>
            <a:ext cx="2319120" cy="1995480"/>
          </a:xfrm>
          <a:prstGeom prst="rect">
            <a:avLst/>
          </a:prstGeom>
          <a:ln w="0">
            <a:noFill/>
          </a:ln>
        </p:spPr>
      </p:pic>
      <p:pic>
        <p:nvPicPr>
          <p:cNvPr id="155" name="Заголовок 3" descr=""/>
          <p:cNvPicPr/>
          <p:nvPr/>
        </p:nvPicPr>
        <p:blipFill>
          <a:blip r:embed="rId2"/>
          <a:stretch/>
        </p:blipFill>
        <p:spPr>
          <a:xfrm>
            <a:off x="450720" y="-365040"/>
            <a:ext cx="82425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вторить и обобщить знания по данной т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особствовать развитию интереса к математике, через  решение нестандартных задач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звивать логические навыки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крепить навыки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особов  задания последовательностей; показать связь между арифметической и геометрической прогрессиями; показать использование прогрессий при решении различных задач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в 9 класс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52(б) №684(б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Творческое зада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жите, что в арифметической прогрессии для любых номеров, таких что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k&lt;n,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яются равенства                                   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Управляющая кнопка: сведения 6"/>
          <p:cNvSpPr/>
          <p:nvPr/>
        </p:nvSpPr>
        <p:spPr>
          <a:xfrm>
            <a:off x="800100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9" h="21600">
                <a:moveTo>
                  <a:pt x="126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9" h="21600">
                <a:moveTo>
                  <a:pt x="10028" y="8224"/>
                </a:moveTo>
                <a:lnTo>
                  <a:pt x="13893" y="8224"/>
                </a:lnTo>
                <a:lnTo>
                  <a:pt x="13893" y="15221"/>
                </a:lnTo>
                <a:lnTo>
                  <a:pt x="15181" y="15221"/>
                </a:lnTo>
                <a:lnTo>
                  <a:pt x="15181" y="16144"/>
                </a:lnTo>
                <a:lnTo>
                  <a:pt x="10028" y="16144"/>
                </a:lnTo>
                <a:lnTo>
                  <a:pt x="10028" y="15221"/>
                </a:lnTo>
                <a:lnTo>
                  <a:pt x="11316" y="15221"/>
                </a:lnTo>
                <a:lnTo>
                  <a:pt x="11316" y="9129"/>
                </a:lnTo>
                <a:lnTo>
                  <a:pt x="1002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786040" y="5000760"/>
            <a:ext cx="1933560" cy="5000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5715000" y="5000760"/>
            <a:ext cx="1571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Результатом своей личной работы считаю, что 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Разобрался в теор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.Научился решать задач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.Повторил весь ранее изученный материа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 Что вам не хватало на уроке при решении зада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Знаний           Б. Времени.            С.  Желания.        Д.Решал нормальн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Кто оказывал вам помощь в преодолении трудностей на уроке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Одноклассники.   Б Учитель. С. Учебник.   Д. Никт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рок сегодня завершен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о каждый должен знать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знание, упорство, труд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 прогрессу в жизни приведу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566640" y="1962000"/>
            <a:ext cx="3627360" cy="2805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429080" y="1428840"/>
            <a:ext cx="4238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 (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(n-1)(n+4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есл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15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714920" y="390384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428760" y="114300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задания последова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ам предлагается 10 последователь-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остей. Под какими номерами записаны последовательности, являющиеся геометрическими прогрессиям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160" y="2590560"/>
            <a:ext cx="4228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)  1; 2; 4; 8; 16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)  1;11;21;31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)  7;7;7;7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)  1;4;9;16;25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) 3;9 ;27;81;24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14720" y="2590920"/>
            <a:ext cx="4228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)   1;2;3;4;5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)   4;-4;4;-4;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)  0,5; 1; 1,5,2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9)  12; 6; 3; 1,5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0)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2; 8; -12; 28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3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 первые три члена этой последова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акое соотношение выполняется между тремя последовательными членами геометрической прогрессии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1"/>
          <a:stretch/>
        </p:blipFill>
        <p:spPr>
          <a:xfrm>
            <a:off x="1536840" y="2755800"/>
            <a:ext cx="6394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акое соотношение выполняется между тремя последовательными членами арифметической прогрессии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;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;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 …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4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;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5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…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Составьте геометрическую прогрессию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Ежедневно каждый болеющий грипп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может заразить четырех окружающих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1; 4; 16; 64;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Дима на перемене съел булочку. Во время еды в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кишечник попало 30 дизентерийных палочек. Через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каждые 20 минут происходит деление бактерий (они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удваиваются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30; 60; 120; 240;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Каждый курильщик выкуривает в средне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8 сигарет в сутки. После выкуривания одн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сигареты в легких оседает 0,0002 грамм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никотина и табачного дегтя. С кажд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последующей сигаретой это количеств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увеличивается в два р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0,0002; 0,0004; 0,0008;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11" descr="Картинка 3 из 66587"/>
          <p:cNvPicPr/>
          <p:nvPr/>
        </p:nvPicPr>
        <p:blipFill>
          <a:blip r:embed="rId1"/>
          <a:stretch/>
        </p:blipFill>
        <p:spPr>
          <a:xfrm>
            <a:off x="6372360" y="836640"/>
            <a:ext cx="2266920" cy="1415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?id=310299161-39-72"/>
          <p:cNvPicPr/>
          <p:nvPr/>
        </p:nvPicPr>
        <p:blipFill>
          <a:blip r:embed="rId2"/>
          <a:stretch/>
        </p:blipFill>
        <p:spPr>
          <a:xfrm>
            <a:off x="179280" y="228600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Картинка 1 из 14400"/>
          <p:cNvPicPr/>
          <p:nvPr/>
        </p:nvPicPr>
        <p:blipFill>
          <a:blip r:embed="rId3"/>
          <a:stretch/>
        </p:blipFill>
        <p:spPr>
          <a:xfrm>
            <a:off x="6659640" y="3500280"/>
            <a:ext cx="1849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Подготовка к огэ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546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Последовательности (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, (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),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заданы формулами 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n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-го чле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Поставьте в соответствие кажд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последовательности верное   утверж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9280" y="5229360"/>
          <a:ext cx="2084400" cy="974520"/>
        </p:xfrm>
        <a:graphic>
          <a:graphicData uri="http://schemas.openxmlformats.org/drawingml/2006/table">
            <a:tbl>
              <a:tblPr/>
              <a:tblGrid>
                <a:gridCol w="695160"/>
                <a:gridCol w="693720"/>
                <a:gridCol w="6955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9" descr="i?id=502999127-61-72"/>
          <p:cNvPicPr/>
          <p:nvPr/>
        </p:nvPicPr>
        <p:blipFill>
          <a:blip r:embed="rId1"/>
          <a:stretch/>
        </p:blipFill>
        <p:spPr>
          <a:xfrm>
            <a:off x="6948360" y="0"/>
            <a:ext cx="212724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258920" y="3429000"/>
                <a:ext cx="995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1"/>
              <p:cNvSpPr txBox="1"/>
              <p:nvPr/>
            </p:nvSpPr>
            <p:spPr>
              <a:xfrm>
                <a:off x="1258920" y="3933720"/>
                <a:ext cx="1123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1258920" y="4508640"/>
                <a:ext cx="12096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3"/>
          <p:cNvSpPr/>
          <p:nvPr/>
        </p:nvSpPr>
        <p:spPr>
          <a:xfrm>
            <a:off x="826920" y="31752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819360" y="3677760"/>
            <a:ext cx="5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28360" y="4299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3132000" y="3069360"/>
            <a:ext cx="51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следовательно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следовательность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ни арифметиче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геометрической прогре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16:19Z</dcterms:created>
  <dc:creator>1</dc:creator>
  <dc:description/>
  <dc:language>en-US</dc:language>
  <cp:lastModifiedBy>User</cp:lastModifiedBy>
  <dcterms:modified xsi:type="dcterms:W3CDTF">2017-09-05T15:45:38Z</dcterms:modified>
  <cp:revision>160</cp:revision>
  <dc:subject/>
  <dc:title>Слайд 1</dc:title>
</cp:coreProperties>
</file>