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4BC-6141-4D5D-A2A1-DAB598FA1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07A7-A20E-455A-A2E3-0E84BF4CA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D5C-9BA7-4B55-A843-24B6853F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EF3-7173-4A26-BA47-6B2E617E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892-C330-4807-B2C9-813C6E2C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92D-FB86-4D26-B083-043C99EE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1D0-BFF9-4498-AA80-BED01772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FFFD-C7BE-4E8F-9A4A-ECBCDADC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FA5-B8C7-4664-9679-9AFA1F2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C0EF-327B-4334-B131-525D172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ECE5-6959-4068-9D0D-22706FA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11B-8A5C-4543-992D-E55E6904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B4CD-B5C9-46A9-939F-897B6FF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A15-FD09-43EB-98BF-A1E32B6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106-981A-4BF9-9E2C-33ECDFC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094A-EE94-40DF-A8EB-D4C3FB6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2D87-F703-47B0-8C4B-A9AFCF81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935B-EA49-44C6-BE81-28C2F28A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C04D-B29E-4D5A-AFD2-47DE434C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1926-6B58-48A2-955D-10C5108A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6725-239A-4EC6-BD8F-C535D4C1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2C9A-B9A4-456B-8473-089634F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CFF1-F7C6-47FB-BBD9-F82359D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3CC5-6763-462C-9ACE-15DC3344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CBB-2107-42B7-9CE6-56F7102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4715-29E5-42B6-9F7F-6AE9B36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7ECD-5ACF-4637-8953-5987D13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9F59-7907-4CC7-9D59-A6B8A2E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8F3B-E922-4FFC-85B6-E852FDC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D132-30FE-48F1-AC42-C3566F84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4589-3682-47EC-872F-78182394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8D9E-E2F4-4D51-BC1A-93C70541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AC8-238C-4E7F-A84F-9DE1CE96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DA8-CECD-4EA6-A563-9083D51C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6FC-F709-4867-A6C3-05FE68D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BFD-9024-4B9C-9D07-15D6350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520-B7E3-43EC-9B17-614A6C2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B2E-2BC8-4C92-B5A6-AB2B092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30C4-748B-4D69-A5D1-E0DF6B0575E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58F-19F8-45F9-8C21-E228E55CE2B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EE5-96A5-49C2-8D15-DDAE1BE1AE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491320" cy="1890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71320" y="3214440"/>
            <a:ext cx="78548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Подготовка к ОГЭ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(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на  формул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40/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+1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колько членов этой последовательности                         больше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User\Desktop\Новая папка\i.jpg"/>
          <p:cNvPicPr/>
          <p:nvPr/>
        </p:nvPicPr>
        <p:blipFill>
          <a:blip r:embed="rId1"/>
          <a:stretch/>
        </p:blipFill>
        <p:spPr>
          <a:xfrm>
            <a:off x="304920" y="190512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276720" y="858960"/>
            <a:ext cx="5867280" cy="63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ерном ящике находится предмет, который  является показателем благосостояния людей. Этот предмет был популярен в прошлом ве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йчас этому предмету доверяют люди среднего и старшего возрас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, что в нем находится, можно посчитать при помощи геометрической прогрессии, и со временем увеличивается. Говорят, что это самое надежное хранение. Что находиться в ящик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Управляющая кнопка: назад 5"/>
          <p:cNvSpPr/>
          <p:nvPr/>
        </p:nvSpPr>
        <p:spPr>
          <a:xfrm>
            <a:off x="3049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260280"/>
            <a:ext cx="8507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85880" y="5857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В арифметической прогрессии извест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250280" y="2590920"/>
            <a:ext cx="69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Найти разность арифметической прогресс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л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 flipV="1" rot="10800000">
            <a:off x="1571400" y="36525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ервый член геометрической прогрессии равен 1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знаменатель равен 2. Найти сумму 5 первых 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500120" y="5143680"/>
            <a:ext cx="56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Найти сумму пяти членов геометрической прогрессии с положительными членами е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857240" y="213372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689400" y="1523880"/>
            <a:ext cx="375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-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,2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d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46320" y="3068640"/>
            <a:ext cx="387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2, 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416160" y="6308640"/>
            <a:ext cx="40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81, 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143240" y="2357280"/>
            <a:ext cx="46080" cy="46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143240" y="2786040"/>
            <a:ext cx="46080" cy="7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971640" y="476280"/>
            <a:ext cx="71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в задания 1-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сможете узнать автора стр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 flipV="1" rot="10800000">
            <a:off x="785880" y="189972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является самой древней из всех нау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месте с тем она  остается вечно молодой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71760" y="3357720"/>
          <a:ext cx="3500280" cy="396720"/>
        </p:xfrm>
        <a:graphic>
          <a:graphicData uri="http://schemas.openxmlformats.org/drawingml/2006/table">
            <a:tbl>
              <a:tblPr/>
              <a:tblGrid>
                <a:gridCol w="583920"/>
                <a:gridCol w="582840"/>
                <a:gridCol w="584280"/>
                <a:gridCol w="582480"/>
                <a:gridCol w="584280"/>
                <a:gridCol w="5824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42960" y="4365720"/>
          <a:ext cx="5214960" cy="687240"/>
        </p:xfrm>
        <a:graphic>
          <a:graphicData uri="http://schemas.openxmlformats.org/drawingml/2006/table">
            <a:tbl>
              <a:tblPr/>
              <a:tblGrid>
                <a:gridCol w="612720"/>
                <a:gridCol w="696960"/>
                <a:gridCol w="785880"/>
                <a:gridCol w="698400"/>
                <a:gridCol w="609480"/>
                <a:gridCol w="613080"/>
                <a:gridCol w="119844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87"/>
          <p:cNvSpPr/>
          <p:nvPr/>
        </p:nvSpPr>
        <p:spPr>
          <a:xfrm>
            <a:off x="4038480" y="167652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4114800" y="1828800"/>
            <a:ext cx="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9"/>
          <p:cNvSpPr/>
          <p:nvPr/>
        </p:nvSpPr>
        <p:spPr>
          <a:xfrm>
            <a:off x="4114800" y="1752480"/>
            <a:ext cx="0" cy="259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0"/>
          <p:cNvSpPr/>
          <p:nvPr/>
        </p:nvSpPr>
        <p:spPr>
          <a:xfrm flipH="1" flipV="1">
            <a:off x="4214880" y="1866960"/>
            <a:ext cx="46080" cy="61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1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24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714760" y="533520"/>
            <a:ext cx="307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л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Картинка 11 из 33"/>
          <p:cNvPicPr/>
          <p:nvPr/>
        </p:nvPicPr>
        <p:blipFill>
          <a:blip r:embed="rId1"/>
          <a:stretch/>
        </p:blipFill>
        <p:spPr>
          <a:xfrm>
            <a:off x="1295280" y="1428840"/>
            <a:ext cx="2990880" cy="2928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457200" y="4929120"/>
            <a:ext cx="568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лдыш Мстислав Всеволодович (1911-197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 и механик.  Руководил рядом советских космических програм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я полеты человека в косм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                                  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ТЕС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 Последовательность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дана формулой  а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n²-2n-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Найдите номер члена  последовательности, равного 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4   б)-2  в)2  г)-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 В геометрической прогрессии 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=8; в</a:t>
            </a: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4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Найдите в</a:t>
            </a: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128  б)-72 в)72  г)3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12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6;…..-бесконечная геометрическая  прогрессия. Найти её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мму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n-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6 б)-12  в)24  г)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39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оверим знание формул по темам: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« Арифметическая прогрессия»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                            и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« Геометрическая прогрессия»</a:t>
            </a:r>
            <a:br>
              <a:rPr sz="24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258920" y="184464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1\Рабочий стол\формула2.jpg"/>
          <p:cNvPicPr/>
          <p:nvPr/>
        </p:nvPicPr>
        <p:blipFill>
          <a:blip r:embed="rId2"/>
          <a:stretch/>
        </p:blipFill>
        <p:spPr>
          <a:xfrm>
            <a:off x="-1714680" y="0"/>
            <a:ext cx="1150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1\Рабочий стол\формулы.jpg"/>
          <p:cNvPicPr/>
          <p:nvPr/>
        </p:nvPicPr>
        <p:blipFill>
          <a:blip r:embed="rId2"/>
          <a:stretch/>
        </p:blipFill>
        <p:spPr>
          <a:xfrm>
            <a:off x="-1357200" y="-482760"/>
            <a:ext cx="12144240" cy="73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4617b"/>
                </a:solidFill>
                <a:uFillTx/>
                <a:latin typeface="Times New Roman"/>
              </a:rPr>
              <a:t>           </a:t>
            </a:r>
            <a:r>
              <a:rPr b="1" lang="ru-RU" sz="3800" spc="-1" strike="noStrike" u="sng">
                <a:solidFill>
                  <a:srgbClr val="04617b"/>
                </a:solidFill>
                <a:uFillTx/>
                <a:latin typeface="Times New Roman"/>
              </a:rPr>
              <a:t>Работа  с учебником</a:t>
            </a: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01(б)   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4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6" descr="free-clipart-of-book.jpg"/>
          <p:cNvPicPr/>
          <p:nvPr/>
        </p:nvPicPr>
        <p:blipFill>
          <a:blip r:embed="rId1">
            <a:alphaModFix amt="11000"/>
          </a:blip>
          <a:stretch/>
        </p:blipFill>
        <p:spPr>
          <a:xfrm>
            <a:off x="6573960" y="4653000"/>
            <a:ext cx="2319120" cy="1995480"/>
          </a:xfrm>
          <a:prstGeom prst="rect">
            <a:avLst/>
          </a:prstGeom>
          <a:ln w="0">
            <a:noFill/>
          </a:ln>
        </p:spPr>
      </p:pic>
      <p:pic>
        <p:nvPicPr>
          <p:cNvPr id="155" name="Заголовок 3" descr=""/>
          <p:cNvPicPr/>
          <p:nvPr/>
        </p:nvPicPr>
        <p:blipFill>
          <a:blip r:embed="rId2"/>
          <a:stretch/>
        </p:blipFill>
        <p:spPr>
          <a:xfrm>
            <a:off x="450720" y="-365040"/>
            <a:ext cx="82425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вторить и обобщить знания по данной т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особствовать развитию интереса к математике, через  решение нестандартных задач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вивать логические навыки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крепить навыки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особов  задания последовательностей; показать связь между арифметической и геометрической прогрессиями; показать использование прогрессий при решении различных задач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в 9 класс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52(б) №684(б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Творческое зад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жите, что в арифметической прогрессии для любых номеров, таких что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k&lt;n,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яются равенства                                  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Управляющая кнопка: сведения 6"/>
          <p:cNvSpPr/>
          <p:nvPr/>
        </p:nvSpPr>
        <p:spPr>
          <a:xfrm>
            <a:off x="800100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786040" y="5000760"/>
            <a:ext cx="1933560" cy="5000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5715000" y="5000760"/>
            <a:ext cx="1571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Результатом своей личной работы считаю, что 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Разобрался в теор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.Научился решать зада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.Повторил весь ранее изученный материа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Что вам не хватало на уроке при решении зада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Знаний           Б. Времени.            С.  Желания.        Д.Решал нормальн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Кто оказывал вам помощь в преодолении трудностей на уроке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Одноклассники.   Б Учитель. С. Учебник.   Д. Никт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рок сегодня завершен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о каждый должен знать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знание, упорство, труд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 прогрессу в жизни приведу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566640" y="1962000"/>
            <a:ext cx="3627360" cy="2805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429080" y="1428840"/>
            <a:ext cx="4238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 (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(n-1)(n+4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5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714920" y="390384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428760" y="11430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задания последова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ам предлагается 10 последователь-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остей. Под какими номерами записаны последовательности, являющиеся геометрическими прогрессиям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2590560"/>
            <a:ext cx="4228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)  1; 2; 4; 8; 16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)  1;11;21;31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)  7;7;7;7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)  1;4;9;16;2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) 3;9 ;27;81;24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14720" y="2590920"/>
            <a:ext cx="4228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)   1;2;3;4;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)   4;-4;4;-4;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8)  0,5; 1; 1,5,2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9)  12; 6; 3; 1,5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0)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2; 8; -12; 28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3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первые три члена этой последова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акое соотношение выполняется между тремя последовательными членами геометрической прогрессии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1"/>
          <a:stretch/>
        </p:blipFill>
        <p:spPr>
          <a:xfrm>
            <a:off x="1536840" y="2755800"/>
            <a:ext cx="6394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акое соотношение выполняется между тремя последовательными членами арифметической прогрессии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;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;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 …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;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5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…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Составьте геометрическую прогрессию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Ежедневно каждый болеющий грипп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может заразить четырех окружающих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1; 4; 16; 64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Дима на перемене съел булочку. Во время еды в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ишечник попало 30 дизентерийных палочек. Через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аждые 20 минут происходит деление бактерий (они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удваиваются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30; 60; 120; 240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Каждый курильщик выкуривает в средне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8 сигарет в сутки. После выкуривания одн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сигареты в легких оседает 0,0002 грамм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никотина и табачного дегтя. С кажд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последующей сигаретой это количеств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увеличивается в два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0,0002; 0,0004; 0,0008;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11" descr="Картинка 3 из 66587"/>
          <p:cNvPicPr/>
          <p:nvPr/>
        </p:nvPicPr>
        <p:blipFill>
          <a:blip r:embed="rId1"/>
          <a:stretch/>
        </p:blipFill>
        <p:spPr>
          <a:xfrm>
            <a:off x="6372360" y="836640"/>
            <a:ext cx="2266920" cy="1415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?id=310299161-39-72"/>
          <p:cNvPicPr/>
          <p:nvPr/>
        </p:nvPicPr>
        <p:blipFill>
          <a:blip r:embed="rId2"/>
          <a:stretch/>
        </p:blipFill>
        <p:spPr>
          <a:xfrm>
            <a:off x="179280" y="22860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Картинка 1 из 14400"/>
          <p:cNvPicPr/>
          <p:nvPr/>
        </p:nvPicPr>
        <p:blipFill>
          <a:blip r:embed="rId3"/>
          <a:stretch/>
        </p:blipFill>
        <p:spPr>
          <a:xfrm>
            <a:off x="6659640" y="3500280"/>
            <a:ext cx="1849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Подготовка к огэ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546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ледовательности 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, 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,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nstantia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заданы формулами </a:t>
            </a:r>
            <a:r>
              <a:rPr b="0" lang="en-US" sz="1800" spc="-1" strike="noStrike">
                <a:solidFill>
                  <a:srgbClr val="000066"/>
                </a:solidFill>
                <a:latin typeface="Constantia"/>
              </a:rPr>
              <a:t>n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-го чле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тавьте в соответствие кажд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Constantia"/>
              </a:rPr>
              <a:t>последовательности верное   утверж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9280" y="5229360"/>
          <a:ext cx="2084400" cy="974520"/>
        </p:xfrm>
        <a:graphic>
          <a:graphicData uri="http://schemas.openxmlformats.org/drawingml/2006/table">
            <a:tbl>
              <a:tblPr/>
              <a:tblGrid>
                <a:gridCol w="695160"/>
                <a:gridCol w="693720"/>
                <a:gridCol w="6955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9" descr="i?id=502999127-61-72"/>
          <p:cNvPicPr/>
          <p:nvPr/>
        </p:nvPicPr>
        <p:blipFill>
          <a:blip r:embed="rId1"/>
          <a:stretch/>
        </p:blipFill>
        <p:spPr>
          <a:xfrm>
            <a:off x="6948360" y="0"/>
            <a:ext cx="212724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258920" y="3429000"/>
                <a:ext cx="995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1"/>
              <p:cNvSpPr txBox="1"/>
              <p:nvPr/>
            </p:nvSpPr>
            <p:spPr>
              <a:xfrm>
                <a:off x="1258920" y="3933720"/>
                <a:ext cx="1123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1258920" y="4508640"/>
                <a:ext cx="12096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3"/>
          <p:cNvSpPr/>
          <p:nvPr/>
        </p:nvSpPr>
        <p:spPr>
          <a:xfrm>
            <a:off x="826920" y="31752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819360" y="3677760"/>
            <a:ext cx="5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28360" y="4299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3132000" y="3069360"/>
            <a:ext cx="51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следовательность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ни арифметиче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геометрической про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16:19Z</dcterms:created>
  <dc:creator>1</dc:creator>
  <dc:description/>
  <dc:language>en-US</dc:language>
  <cp:lastModifiedBy>User</cp:lastModifiedBy>
  <dcterms:modified xsi:type="dcterms:W3CDTF">2017-09-05T15:45:38Z</dcterms:modified>
  <cp:revision>160</cp:revision>
  <dc:subject/>
  <dc:title>Слайд 1</dc:title>
</cp:coreProperties>
</file>