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647-ECDF-4DE4-86BA-84FBE584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17F-42BC-47BB-8317-C486F9C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55D-A79D-463C-9A5A-7DD97E43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256-8888-43D8-8265-454C3E4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BE45-C40F-418A-B322-06EB52F0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0EBD-3E4E-4B68-809B-3AF21E4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137-C259-4CDF-A1CC-4773A3BA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D88-842A-4B81-ACA6-DE35231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B36-976D-4FFC-B30F-3D2DAACF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59A2-A71E-4A81-810B-9B6392D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EE7-12F2-4936-B5C5-E1A45D2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752-F066-4A3C-91F0-13B97C4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E4D6-620A-480F-8B1A-FA16BBF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C77-78A0-452C-BB0A-6345B42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33C-FF85-4159-8A2E-0E61999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6ACE-0108-4282-9BB9-B9FA413D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C66-AC87-48F9-9FFE-05239EC2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2E57-DC57-4630-AF77-7D4FB02B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EA70-E44B-45B7-9A80-546F0C2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44DB-59C8-464D-90DD-2C530323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5122-C2D0-4B26-8131-D3CE0DCC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E367-D4B2-4F9B-AEB2-0B5413D4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FDA-BA76-4236-B4A0-A81A8AA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604B-5FC8-4261-8CBF-A8AFF01C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AEF3-468B-4395-A723-BA6462D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7FC6-4E55-434A-B3BF-BF85523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9573-8496-4225-A332-81CBB5C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E47B-F93F-45CE-91CB-14131F22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3BC9-2320-428A-828D-C6320E54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684A-508F-474E-9A1E-903B32F9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0CFC-376A-4FD5-87E2-D954A972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EFAE-0F27-458E-AA51-ABBCBF1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BC73-ACFB-4F21-9FE5-20F8A6C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D32-927B-48AD-BD37-90ADEA6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88CD-1819-413A-85A1-A1C84D6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DA0A-5D48-4C9E-BC0B-97C00E96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5AA3-09C8-46EF-9B93-B9B81942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0E15-31E7-4D92-AB75-0084B9C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FC75-3DEE-4895-80CE-00CFFFD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AC52-5DCF-4438-847B-3813D5E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CC68-F55A-4C77-8F78-967700D5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9AB7-F508-427C-AE55-D487FEB9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FCD0-8716-43F8-852B-E9444185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FF5A-BDB3-4BA5-A0C2-9E52140D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E1E-C088-4123-9321-22B0D21E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D917-0480-4D14-A433-96F5068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C81C-0935-4A5C-9F04-CD31441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3CAC-2DA5-402E-8249-33E30178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A1FE-573F-458C-8627-C3D768A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33B2-E99F-4C5D-B33B-BE4C9482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43D2F-56DE-45D8-9A2C-55909F7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0FD2-AAF0-47D1-81C9-25F6BB3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51FF-7937-4904-9ECE-FCF3D7A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6751-3DF4-4998-8F65-6FB0C4E2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B0B1-053C-4BE4-B6EC-02528A6B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504-A93C-44ED-BFA9-27157844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8B34-B3A2-48D3-B81B-9850064B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9D97-D302-496F-8A09-03B632B0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80EB-A0B7-48A0-ABBD-B612274F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3317A-3192-4D86-A591-FA089BD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2E8B1-69CA-4373-A4B3-00864F7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C266-744D-4149-80A0-FF4B0EA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B2A33-A5C0-40AE-BD77-B90A9F91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ED94-E65C-4B87-A7D8-3696E9CE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56DA-3FFD-49B6-A51F-64DE9A0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1EFFE-82B3-46B9-AA06-0A11803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1C1-207B-4A62-A7DA-8C58FBD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929A-D333-4A0F-B370-7176962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383D-DD8B-488C-96FD-0666031C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9535-57C6-4B3A-AA74-B599DDA4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F5D9-63C9-40FD-8339-B66957D0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6B6B-CFD1-46B7-9EAC-F0A2DF1A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DC4E-1CA2-469D-BE54-529984B9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3316-A57A-4B65-8331-EC8056B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3038-1664-4606-B52C-5225D856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EB143-3650-4BCC-BBDD-E6EDED19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1C56-DD05-44A6-8C12-0F0D0DD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D1A-7176-48F1-88B2-3979C9C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FF812-2347-45E4-9A00-D37E574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E5CA-FC7F-418D-B7AB-8013D79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FFF53-EBF2-4372-BCAF-E1A2EDF6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5F70-2770-4636-B37D-CCE4C3A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55CF-3C2F-46A6-A153-4457B612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F42-B236-4CCB-8E79-FCD527B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710B-31AF-46D4-B7A6-E0F638C7A0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72B-1C7C-422A-8F0C-E61D031836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446B-A885-452D-A077-6EDC217819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0BC-80E7-4D91-AA32-13B2A5C662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613-D7A1-4D94-A1CA-D5311A6E5A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5D2-8CC8-4C33-AC23-85E4D32A03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0DF-FA7F-4966-BCDE-626A2C7C16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7885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евая игра</a:t>
            </a:r>
            <a:br>
              <a:rPr sz="4300"/>
            </a:b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do people spent free time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2960" y="2707920"/>
            <a:ext cx="71294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портер</a:t>
            </a:r>
            <a:r>
              <a:rPr b="1" lang="en-GB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interviewe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портер</a:t>
            </a:r>
            <a:r>
              <a:rPr b="1" lang="en-GB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reporte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ортсмен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sportsma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хакер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hacke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лентяй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lazy pers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 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любитель музыки    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music Fan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S: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hen do you have the most time to spar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do you enjoy doing on a spare eve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is your favourite kind of holiday entertainmen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How do you entertain your friends when they come round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If you could choose where would you enjoy yourself most tonigh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tsman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the most time to spare on holidays and at weekends. I enjoy sport. I like football. On spare evening I go at stadium. When my friends come round I switch on TV and we watch football matches and have a small talk. My favorite kind of holyday entertainment is sport such as football and volleyball. If I could choose I visit stadiums more ofte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ker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the most time to spare at weekends. I enjoy computer. I like computer games. On spare evening I surfing the Internet for entertainment. When my friends come round I show them my computer and we play games together. My favorite kind of holyday entertainment is visiting cyber cafe. If 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choose I surfing the Internet all my free time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zy person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the most time to spare on holidays. On spare evening I enjoy going out to a cinema or club. When my friends come round I offer them some food and drinks and we spend time sitting at the table. My favorite kind of holyday entertainment is lying on a sandy beach for nice suntan. If I could choose I would enjoy myself most tonight at our local cinem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3880" y="1357200"/>
            <a:ext cx="7486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Music fa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71680" y="2286000"/>
            <a:ext cx="74865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320e04"/>
                </a:solidFill>
                <a:latin typeface="Gill Sans MT"/>
              </a:rPr>
              <a:t>I have the most time to spare on holidays. On spare evening I enjoy going out for music or  club.  When my friends come round we listen to CD  My favorite kind of holyday entertainment is dancing and clubbing.  If I could choose I would enjoy myself most tonight at the concerts</a:t>
            </a:r>
            <a:r>
              <a:rPr b="1" lang="en-US" sz="3600" spc="-1" strike="noStrike">
                <a:solidFill>
                  <a:srgbClr val="320e04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520" y="856800"/>
            <a:ext cx="74581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f271c"/>
                </a:solidFill>
                <a:latin typeface="Gill Sans MT"/>
              </a:rPr>
              <a:t>Interviewer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56800" y="1714320"/>
            <a:ext cx="6986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1. When do you have the most time to spa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0e04"/>
                </a:solidFill>
                <a:latin typeface="Gill Sans MT"/>
              </a:rPr>
              <a:t>2. What do you enjoy doing on a spare evening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0e04"/>
                </a:solidFill>
                <a:latin typeface="Gill Sans MT"/>
              </a:rPr>
              <a:t>3. How do you entertain your friends when they come roun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0e04"/>
                </a:solidFill>
                <a:latin typeface="Gill Sans MT"/>
              </a:rPr>
              <a:t>4. What is your favourite kind of holiday entertainmen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0e04"/>
                </a:solidFill>
                <a:latin typeface="Gill Sans MT"/>
              </a:rPr>
              <a:t>5.If you could choose where would you enjoy yourself most tonigh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6438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f271c"/>
                </a:solidFill>
                <a:latin typeface="Gill Sans MT"/>
              </a:rPr>
              <a:t>Reporter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142640" y="2428920"/>
            <a:ext cx="72867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1. She has</a:t>
            </a: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 the most time to spare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2. On a spare evening she enjoy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3. When her friends come round she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4. Her favourite kind of holiday entertainment is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5. If she can choose he\she </a:t>
            </a:r>
            <a:r>
              <a:rPr b="1" lang="en-GB" sz="1000" spc="-1" strike="noStrike">
                <a:solidFill>
                  <a:srgbClr val="320e04"/>
                </a:solidFill>
                <a:latin typeface="Gill Sans MT"/>
              </a:rPr>
              <a:t>would</a:t>
            </a:r>
            <a:r>
              <a:rPr b="1" lang="en-GB" sz="20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like to….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ортсмен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sportsma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хакер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hack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</a:t>
            </a: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лентяй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lazy pers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 </a:t>
            </a: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любитель музыки   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music Fan</a:t>
            </a: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68868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Рефлекс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4293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Now I know 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…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It’s greet 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….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It’s awful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……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20e04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7:22:01Z</dcterms:created>
  <dc:creator>ЛЮБОВЬ</dc:creator>
  <dc:description/>
  <dc:language>en-US</dc:language>
  <cp:lastModifiedBy>ЛЮБОВЬ</cp:lastModifiedBy>
  <dcterms:modified xsi:type="dcterms:W3CDTF">2016-11-25T07:40:31Z</dcterms:modified>
  <cp:revision>9</cp:revision>
  <dc:subject/>
  <dc:title>How do people spent free time?</dc:title>
</cp:coreProperties>
</file>