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83D8-863E-44B7-B4DA-C5EE06D645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6FA1-6B3D-4FBB-B32B-74312783E7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A04-7C05-4BE7-B3A0-8B3AC852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9BD-E313-47E0-96BC-158118E1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835-EF06-4B2F-8B49-616BE877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2C2-AB2E-4ED7-9185-C2471A3E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9B17-366C-4FBD-932C-9CFDBB81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FD4-3C9E-43D2-914F-336E562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F5B-301A-47F2-BEBE-9285C0FE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5A8-149B-4804-A2E4-08E10481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8A2-6739-42C0-B257-AAF602DF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3BE-E374-4F79-9545-9D7C7ED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206-4C6F-48F3-A3C3-A1E1721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81E-C29B-4D11-83F0-6A691320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425C-7BF9-443F-BEF9-6976591C2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-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Проба п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L I M E R I C K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191120" y="304920"/>
            <a:ext cx="451476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457200" y="3267000"/>
            <a:ext cx="2790720" cy="359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622440" y="22860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Жил-был человек в Амстердам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371600" y="7365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кто? откуда?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635760" y="12780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е чистивший шляпу г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1738440" y="1701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какой?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625320" y="228600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 в ней невзна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623880" y="28749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аваривал ча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719000" y="3406680"/>
            <a:ext cx="21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что произошло?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723240" y="4095720"/>
            <a:ext cx="50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И в ней же гулял в Амстерда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1821600" y="474804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чем закончилось?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85840"/>
            <a:ext cx="586728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ward Lear was a famous English writer and also an artis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are some of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is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025800" cy="304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6477120" y="1752480"/>
            <a:ext cx="243684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4"/>
          <a:stretch/>
        </p:blipFill>
        <p:spPr>
          <a:xfrm>
            <a:off x="3657600" y="228600"/>
            <a:ext cx="2790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495680" y="533520"/>
            <a:ext cx="4286520" cy="217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4038480" cy="204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3591000" cy="2219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5"/>
          <a:stretch/>
        </p:blipFill>
        <p:spPr>
          <a:xfrm>
            <a:off x="533520" y="4343400"/>
            <a:ext cx="37144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re was a young lady of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Nig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ho smiled as she rode on a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tig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y returned from the </a:t>
            </a:r>
            <a:r>
              <a:rPr b="0" lang="ru-RU" sz="2800" spc="-1" strike="noStrike">
                <a:solidFill>
                  <a:srgbClr val="af67ff"/>
                </a:solidFill>
                <a:latin typeface="Arial"/>
              </a:rPr>
              <a:t>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th the Lady </a:t>
            </a:r>
            <a:r>
              <a:rPr b="0" lang="ru-RU" sz="2800" spc="-1" strike="noStrike">
                <a:solidFill>
                  <a:srgbClr val="af67ff"/>
                </a:solidFill>
                <a:latin typeface="Arial"/>
              </a:rPr>
              <a:t>insid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the smile on the face of the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tig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вод С.Я. Марша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ались три смелых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де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пине у бенгальской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тигри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же все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игрицы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вну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улыбка на морде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тигри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имерике пять строчек, причем первая рифмуется со второй и пятой, а третья с четверт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722520" y="2894400"/>
            <a:ext cx="7744680" cy="2531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was an old person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if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(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was greatly disgusted with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lif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(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sang him a </a:t>
            </a:r>
            <a:r>
              <a:rPr b="1" lang="en-US" sz="3200" spc="-1" strike="noStrike">
                <a:solidFill>
                  <a:srgbClr val="af67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(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fed him on </a:t>
            </a:r>
            <a:r>
              <a:rPr b="1" lang="en-US" sz="3200" spc="-1" strike="noStrike">
                <a:solidFill>
                  <a:srgbClr val="af67ff"/>
                </a:solidFill>
                <a:latin typeface="Comic Sans MS"/>
              </a:rPr>
              <a:t>sa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(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cured that old person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if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Match pairs of rhyming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k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h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ho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th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g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m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is a limeri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little girl, and she had a little cur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down the middle of her forehead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he was good, she was very, very good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hen she was bad, she was horr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once was a man from Peru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reamed he was eating a sho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woke with a frigh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ead of the nigh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und that his dream had come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увидел чуда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сне, что он ест свой башма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вмиг пробудил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убедил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это действительно т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533520" y="60876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вая строчка рассказывает о том,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т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откуд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32160" y="3352680"/>
            <a:ext cx="787068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was a young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ma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eru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торая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комит с какой-то интересной особенностью геро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, какая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39520" y="2971800"/>
            <a:ext cx="7899840" cy="642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wanted to ride a kangaroo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Час поэзии. Мир бессмысли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и четвертые строки – короткие, они повествуют о неожиданных, а подчас невероятных событиях (что происходило)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when he came to the z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was no kangar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алее - чем все закончило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лимерике конец последней строчки повторяет или полуповторяет конец перв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57200" y="3048120"/>
            <a:ext cx="8305920" cy="581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that saved the young man of Per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n Old Person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ud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se conduct grew ruder and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ru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l at last, with a </a:t>
            </a:r>
            <a:r>
              <a:rPr b="0" lang="en-US" sz="2800" spc="-1" strike="noStrike">
                <a:solidFill>
                  <a:srgbClr val="af67ff"/>
                </a:solidFill>
                <a:latin typeface="Arial"/>
              </a:rPr>
              <a:t>ham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ilenced his </a:t>
            </a:r>
            <a:r>
              <a:rPr b="0" lang="en-US" sz="2800" spc="-1" strike="noStrike">
                <a:solidFill>
                  <a:srgbClr val="af67ff"/>
                </a:solidFill>
                <a:latin typeface="Arial"/>
              </a:rPr>
              <a:t>clam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mashing that Person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u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ий старец из города Буд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боширил ужасно, покуд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то, взяв молоток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стукнул чуто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ндалиста из города Б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D:\Nuchek\lir24.gif"/>
          <p:cNvPicPr/>
          <p:nvPr/>
        </p:nvPicPr>
        <p:blipFill>
          <a:blip r:embed="rId2"/>
          <a:stretch/>
        </p:blipFill>
        <p:spPr>
          <a:xfrm>
            <a:off x="5943600" y="2743200"/>
            <a:ext cx="302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пардонный старик из Сидне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сильнее грубил и сильне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удар молот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отил старика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ова тихо на стогнах Сидне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Put in the correct ord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replied, ‘No, it’s not!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ndacious Old Person of Gretn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said, 'Is it hot?‘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rushed down the crater of Etn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n Old Person from Gret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Check</a:t>
            </a: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n Old Person from Gretn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rushed down the crater of Etna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said, 'Is it hot?'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replied, 'No, it's not!'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ndacious Old Person of Gret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9" descr="D:\Nuchek\lir99.gif"/>
          <p:cNvPicPr/>
          <p:nvPr/>
        </p:nvPicPr>
        <p:blipFill>
          <a:blip r:embed="rId2"/>
          <a:stretch/>
        </p:blipFill>
        <p:spPr>
          <a:xfrm>
            <a:off x="0" y="4038480"/>
            <a:ext cx="4495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старикашка из Гретн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жал вниз по кратеру Этн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просили его: "Горячо?"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чал он на это: "Ничо!"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лживый старик был из Грет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Qui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"/>
          <p:cNvSpPr/>
          <p:nvPr/>
        </p:nvSpPr>
        <p:spPr>
          <a:xfrm>
            <a:off x="380880" y="5562720"/>
            <a:ext cx="8153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им видом поэтических произведений в русском народном    творчестве схожи лимер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449280" y="1628640"/>
            <a:ext cx="3922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сего строк в лимерик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4712040" y="1643040"/>
            <a:ext cx="459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517680" y="195588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бычно начинается лимери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4302360" y="2011320"/>
            <a:ext cx="203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( «There was a :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609480" y="2306520"/>
            <a:ext cx="4572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строки рифмуются с первой стро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4520880" y="2325600"/>
            <a:ext cx="842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(2 и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0"/>
          <p:cNvSpPr/>
          <p:nvPr/>
        </p:nvSpPr>
        <p:spPr>
          <a:xfrm>
            <a:off x="672480" y="2841480"/>
            <a:ext cx="4188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строчка рифмуется с третье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1"/>
          <p:cNvSpPr/>
          <p:nvPr/>
        </p:nvSpPr>
        <p:spPr>
          <a:xfrm>
            <a:off x="4712040" y="2882880"/>
            <a:ext cx="459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2"/>
          <p:cNvSpPr/>
          <p:nvPr/>
        </p:nvSpPr>
        <p:spPr>
          <a:xfrm>
            <a:off x="728640" y="3233880"/>
            <a:ext cx="4572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вопрос можно задать к первой строчк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3"/>
          <p:cNvSpPr/>
          <p:nvPr/>
        </p:nvSpPr>
        <p:spPr>
          <a:xfrm>
            <a:off x="5718960" y="3271680"/>
            <a:ext cx="1881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(кто? и откуда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4"/>
          <p:cNvSpPr/>
          <p:nvPr/>
        </p:nvSpPr>
        <p:spPr>
          <a:xfrm>
            <a:off x="801720" y="3772080"/>
            <a:ext cx="4572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вопрос можно задать ко второй строчк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5"/>
          <p:cNvSpPr/>
          <p:nvPr/>
        </p:nvSpPr>
        <p:spPr>
          <a:xfrm>
            <a:off x="5219640" y="3992400"/>
            <a:ext cx="1809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(какой? какая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6"/>
          <p:cNvSpPr/>
          <p:nvPr/>
        </p:nvSpPr>
        <p:spPr>
          <a:xfrm>
            <a:off x="831960" y="4307040"/>
            <a:ext cx="4572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вопрос можно задать к двум следующи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7"/>
          <p:cNvSpPr/>
          <p:nvPr/>
        </p:nvSpPr>
        <p:spPr>
          <a:xfrm>
            <a:off x="5061960" y="4529160"/>
            <a:ext cx="2053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(что произошло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8"/>
          <p:cNvSpPr/>
          <p:nvPr/>
        </p:nvSpPr>
        <p:spPr>
          <a:xfrm>
            <a:off x="579600" y="4881600"/>
            <a:ext cx="4572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кой вопрос отвечает последняя строч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9"/>
          <p:cNvSpPr/>
          <p:nvPr/>
        </p:nvSpPr>
        <p:spPr>
          <a:xfrm>
            <a:off x="4957560" y="5103720"/>
            <a:ext cx="2678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(чем всё закончилось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header-kids"/>
          <p:cNvPicPr/>
          <p:nvPr/>
        </p:nvPicPr>
        <p:blipFill>
          <a:blip r:embed="rId2"/>
          <a:stretch/>
        </p:blipFill>
        <p:spPr>
          <a:xfrm>
            <a:off x="914400" y="1676520"/>
            <a:ext cx="7543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What is a Limerick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короткие песенки, стихи-небылицы, нелепицы, происхождение которых по традиции связывают с ирландским городом Лимериком, в котором жил и творил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Эдвард Л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лассические английские лимерики принадлежат Эдварду Ли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ое предназначение лимериков - вызывать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улыбку и положительные эмо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elan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Dostavka-gruzov-iz-Irlandii"/>
          <p:cNvPicPr/>
          <p:nvPr/>
        </p:nvPicPr>
        <p:blipFill>
          <a:blip r:embed="rId2"/>
          <a:stretch/>
        </p:blipFill>
        <p:spPr>
          <a:xfrm>
            <a:off x="762120" y="1219320"/>
            <a:ext cx="76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ri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e30e0accf9becb8ece811bce322af0f8.png"/>
          <p:cNvPicPr/>
          <p:nvPr/>
        </p:nvPicPr>
        <p:blipFill>
          <a:blip r:embed="rId2"/>
          <a:stretch/>
        </p:blipFill>
        <p:spPr>
          <a:xfrm>
            <a:off x="304920" y="1371600"/>
            <a:ext cx="419076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Limerick-1.jpg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280372058_803593f07d.jpg"/>
          <p:cNvPicPr/>
          <p:nvPr/>
        </p:nvPicPr>
        <p:blipFill>
          <a:blip r:embed="rId4"/>
          <a:stretch/>
        </p:blipFill>
        <p:spPr>
          <a:xfrm>
            <a:off x="304920" y="4038480"/>
            <a:ext cx="4190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81120" y="380880"/>
            <a:ext cx="358164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Edward Le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812 -188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устил </a:t>
            </a: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«</a:t>
            </a:r>
            <a:r>
              <a:rPr b="1" i="1" lang="ru-RU" sz="2000" spc="-1" strike="noStrike">
                <a:solidFill>
                  <a:srgbClr val="ff6600"/>
                </a:solidFill>
                <a:latin typeface="Comic Sans MS"/>
              </a:rPr>
              <a:t>A Book of Nonsense»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— «Книга бессмыслиц») в Англии в 1821м году, включавшую забавные лимерик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коре этот жанр приобрел значительную популярнос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"Книга Нонсенса" Лира, вышедшая в 1846м, была переведена почти на все языки мира (на русский н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нее трех ра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4346640" cy="560052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mgzqzts-r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066617aa9faf4c8d30027e1a509509dd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Good luc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maxresdefault4-1000x500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3-17T21:45:4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