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7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86868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</a:t>
            </a:r>
            <a:br>
              <a:rPr sz="8000"/>
            </a:br>
            <a:r>
              <a:rPr b="0" lang="ru-RU" sz="8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</a:t>
            </a:r>
            <a:r>
              <a:rPr b="0" lang="ru-RU" sz="8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ечер математики</a:t>
            </a:r>
            <a:endParaRPr b="0" lang="en-US" sz="80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39640" y="2852640"/>
            <a:ext cx="8136000" cy="3097440"/>
          </a:xfrm>
          <a:prstGeom prst="rect">
            <a:avLst/>
          </a:prstGeom>
          <a:solidFill>
            <a:srgbClr val="ffff00"/>
          </a:solidFill>
          <a:ln w="9360">
            <a:solidFill>
              <a:srgbClr val="cc99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839c7"/>
                </a:solidFill>
                <a:latin typeface="Monotype Corsiva"/>
              </a:rPr>
              <a:t>Внеклассное мероприятие подготовила учитель математики МБОУ «Перхляйская ООШ»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839c7"/>
                </a:solidFill>
                <a:latin typeface="Monotype Corsiva"/>
              </a:rPr>
              <a:t>Толстякова Р.Х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839c7"/>
                </a:solidFill>
                <a:latin typeface="Monotype Corsiva"/>
              </a:rPr>
              <a:t>(По материалам сети интернет.)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9" name="Рисунок 1" descr=""/>
          <p:cNvPicPr/>
          <p:nvPr/>
        </p:nvPicPr>
        <p:blipFill>
          <a:blip r:embed="rId1"/>
          <a:stretch/>
        </p:blipFill>
        <p:spPr>
          <a:xfrm>
            <a:off x="2556000" y="620640"/>
            <a:ext cx="388620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839c7"/>
                </a:solidFill>
                <a:latin typeface="Arial Narrow"/>
              </a:rPr>
              <a:t>Р А З М И Н К А </a:t>
            </a:r>
            <a:br>
              <a:rPr sz="4400"/>
            </a:br>
            <a:r>
              <a:rPr b="1" lang="ru-RU" sz="4400" spc="-1" strike="noStrike">
                <a:solidFill>
                  <a:srgbClr val="ff3300"/>
                </a:solidFill>
                <a:latin typeface="Arial Narrow"/>
              </a:rPr>
              <a:t>«Живой Арифмометр»</a:t>
            </a:r>
            <a:endParaRPr b="0" lang="en-US" sz="4400" spc="-1" strike="noStrike">
              <a:solidFill>
                <a:srgbClr val="333300"/>
              </a:solidFill>
              <a:latin typeface="Arial Narrow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 Narrow"/>
              </a:rPr>
              <a:t>Математическая рыбалка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839c7"/>
                </a:solidFill>
                <a:latin typeface="Monotype Corsiva"/>
              </a:rPr>
              <a:t>1.Какое  самое большое  число можно записать  четырьмя единицами.  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839c7"/>
                </a:solidFill>
                <a:latin typeface="Monotype Corsiva"/>
              </a:rPr>
              <a:t>                                                                              </a:t>
            </a:r>
            <a:r>
              <a:rPr b="1" lang="ru-RU" sz="2800" spc="-1" strike="noStrike">
                <a:solidFill>
                  <a:srgbClr val="ff0066"/>
                </a:solidFill>
                <a:latin typeface="Monotype Corsiva"/>
              </a:rPr>
              <a:t>1111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Monotype Corsiva"/>
              </a:rPr>
              <a:t>2.Расставьте в квадратиках числа от 1 до 9 , чтобы  сумма чисел каждого ряда  и по диагонали  составила  бы 15</a:t>
            </a:r>
            <a:r>
              <a:rPr b="0" lang="ru-RU" sz="2800" spc="-1" strike="noStrike">
                <a:solidFill>
                  <a:srgbClr val="0066ff"/>
                </a:solidFill>
                <a:latin typeface="Monotype Corsiv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84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                       </a:t>
            </a:r>
            <a:r>
              <a:rPr b="1" lang="ru-RU" sz="1600" spc="-1" strike="noStrike">
                <a:solidFill>
                  <a:srgbClr val="ff0066"/>
                </a:solidFill>
                <a:latin typeface="Monotype Corsiva"/>
              </a:rPr>
              <a:t>6 7 2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284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Monotype Corsiva"/>
              </a:rPr>
              <a:t>                                             </a:t>
            </a:r>
            <a:r>
              <a:rPr b="1" lang="ru-RU" sz="1600" spc="-1" strike="noStrike">
                <a:solidFill>
                  <a:srgbClr val="ff0066"/>
                </a:solidFill>
                <a:latin typeface="Monotype Corsiva"/>
              </a:rPr>
              <a:t>1 5 9                       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284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Monotype Corsiva"/>
              </a:rPr>
              <a:t>                                             </a:t>
            </a:r>
            <a:r>
              <a:rPr b="1" lang="ru-RU" sz="1600" spc="-1" strike="noStrike">
                <a:solidFill>
                  <a:srgbClr val="ff0066"/>
                </a:solidFill>
                <a:latin typeface="Monotype Corsiva"/>
              </a:rPr>
              <a:t>8 3 4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3. </a:t>
            </a:r>
            <a:r>
              <a:rPr b="1" lang="ru-RU" sz="2800" spc="-1" strike="noStrike">
                <a:solidFill>
                  <a:srgbClr val="a50021"/>
                </a:solidFill>
                <a:latin typeface="Monotype Corsiva"/>
              </a:rPr>
              <a:t>Не произведя никакой записи увеличить число 86  на  12.</a:t>
            </a:r>
            <a:r>
              <a:rPr b="0" lang="ru-RU" sz="2800" spc="-1" strike="noStrike">
                <a:solidFill>
                  <a:srgbClr val="a50021"/>
                </a:solidFill>
                <a:latin typeface="Monotype Corsiva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Monotype Corsiva"/>
              </a:rPr>
              <a:t>                                                                       </a:t>
            </a:r>
            <a:r>
              <a:rPr b="1" lang="ru-RU" sz="2800" spc="-1" strike="noStrike">
                <a:solidFill>
                  <a:srgbClr val="ff0066"/>
                </a:solidFill>
                <a:latin typeface="Monotype Corsiva"/>
              </a:rPr>
              <a:t>86 и 98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 Narrow"/>
              </a:rPr>
              <a:t>Какие  цифры скрыты здесь</a:t>
            </a:r>
            <a:r>
              <a:rPr b="0" lang="ru-RU" sz="4800" spc="-1" strike="noStrike">
                <a:solidFill>
                  <a:srgbClr val="333300"/>
                </a:solidFill>
                <a:latin typeface="Arial Narrow"/>
              </a:rPr>
              <a:t>: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839c7"/>
                </a:solidFill>
                <a:latin typeface="Monotype Corsiva"/>
              </a:rPr>
              <a:t>100 – 99 = 1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116000" y="3141720"/>
            <a:ext cx="2448000" cy="122400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6"/>
          <p:cNvSpPr/>
          <p:nvPr/>
        </p:nvSpPr>
        <p:spPr>
          <a:xfrm>
            <a:off x="1908000" y="3141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7"/>
          <p:cNvSpPr/>
          <p:nvPr/>
        </p:nvSpPr>
        <p:spPr>
          <a:xfrm>
            <a:off x="2700360" y="3141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8"/>
          <p:cNvSpPr/>
          <p:nvPr/>
        </p:nvSpPr>
        <p:spPr>
          <a:xfrm>
            <a:off x="3995640" y="378936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4932360" y="3141720"/>
            <a:ext cx="1368360" cy="115092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0"/>
          <p:cNvSpPr/>
          <p:nvPr/>
        </p:nvSpPr>
        <p:spPr>
          <a:xfrm>
            <a:off x="5580000" y="3141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1"/>
          <p:cNvSpPr/>
          <p:nvPr/>
        </p:nvSpPr>
        <p:spPr>
          <a:xfrm>
            <a:off x="6516720" y="342900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6516720" y="386064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7524720" y="3141720"/>
            <a:ext cx="719280" cy="107928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839c7"/>
                </a:solidFill>
                <a:latin typeface="Arial Narrow"/>
              </a:rPr>
              <a:t>Конкурс капитанов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5564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554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Сосчитать  по порядку от 1 до 50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554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554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Monotype Corsiva"/>
              </a:rPr>
              <a:t>1   20   27   28   15   30   45   33   12   4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554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Monotype Corsiva"/>
              </a:rPr>
              <a:t>6   48   31   43   35  24   49   42   17   21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554400" indent="-554400">
              <a:lnSpc>
                <a:spcPct val="80000"/>
              </a:lnSpc>
              <a:spcBef>
                <a:spcPts val="901"/>
              </a:spcBef>
              <a:buClr>
                <a:srgbClr val="ff3300"/>
              </a:buClr>
              <a:buFont typeface="Monotype Corsiva"/>
              <a:buAutoNum type="arabicPlain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Monotype Corsiva"/>
              </a:rPr>
              <a:t>23  18   40     2    9    37   7     39  14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554400" indent="-554400">
              <a:lnSpc>
                <a:spcPct val="80000"/>
              </a:lnSpc>
              <a:spcBef>
                <a:spcPts val="901"/>
              </a:spcBef>
              <a:buClr>
                <a:srgbClr val="ff3300"/>
              </a:buClr>
              <a:buFont typeface="Monotype Corsiva"/>
              <a:buAutoNum type="arabicPlain" startAt="2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Monotype Corsiva"/>
              </a:rPr>
              <a:t>3    47   32   50   36   41  34   46   25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554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Monotype Corsiva"/>
              </a:rPr>
              <a:t>26  8   16   22   13   44    5    10   38   19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5544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554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839c7"/>
                </a:solidFill>
                <a:latin typeface="Arial Narrow"/>
              </a:rPr>
              <a:t> </a:t>
            </a:r>
            <a:br>
              <a:rPr sz="4400"/>
            </a:br>
            <a:r>
              <a:rPr b="1" lang="ru-RU" sz="8000" spc="-1" strike="noStrike">
                <a:solidFill>
                  <a:srgbClr val="6839c7"/>
                </a:solidFill>
                <a:latin typeface="Arial Narrow"/>
              </a:rPr>
              <a:t>Конкурс  песен</a:t>
            </a:r>
            <a:br>
              <a:rPr sz="6000"/>
            </a:br>
            <a:endParaRPr b="0" lang="en-US" sz="80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349000"/>
            <a:ext cx="7772400" cy="374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Monotype Corsiva"/>
              </a:rPr>
              <a:t>Каждая команда по очереди исполняет куплет песни, где встречаются цифры.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 Narrow"/>
              </a:rPr>
              <a:t>КТО   ВНИМАТЕЛЬНЕЕ?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Monotype Corsiva"/>
              </a:rPr>
              <a:t>Автобус  вез 30  пассажиров. На остановке 5 человек  вышли, а шесть человек вошли. На следующей  остановке  15 человек  вышли, а 2 человека вошли. Автобус поехал. На следующей остановке  никто не вышел, но 5 человек вошли. На следующей остановке 10 человек вышли, но никто не вошел. Едем дальше. Опять остановка. 7 человек вышли  и 10 вошли.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88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Monotype Corsiva"/>
              </a:rPr>
              <a:t>Сколько  было всего остановок? 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88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Monotype Corsiva"/>
              </a:rPr>
              <a:t>                                                               </a:t>
            </a:r>
            <a:r>
              <a:rPr b="0" lang="ru-RU" sz="2800" spc="-1" strike="noStrike">
                <a:solidFill>
                  <a:srgbClr val="0066ff"/>
                </a:solidFill>
                <a:latin typeface="Monotype Corsiva"/>
              </a:rPr>
              <a:t>Ответ:  </a:t>
            </a:r>
            <a:r>
              <a:rPr b="0" lang="ru-RU" sz="2800" spc="-1" strike="noStrike">
                <a:solidFill>
                  <a:srgbClr val="ff0066"/>
                </a:solidFill>
                <a:latin typeface="Monotype Corsiv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33"/>
                </a:solidFill>
                <a:latin typeface="Arial Narrow"/>
              </a:rPr>
              <a:t>Игра  «Таблицу знаю»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Monotype Corsiva"/>
              </a:rPr>
              <a:t>Становимся в один ряд полукругом. Будем считать  числа по порядку  </a:t>
            </a:r>
            <a:r>
              <a:rPr b="0" lang="en-US" sz="3200" spc="-1" strike="noStrike">
                <a:solidFill>
                  <a:srgbClr val="0066ff"/>
                </a:solidFill>
                <a:latin typeface="Monotype Corsiva"/>
              </a:rPr>
              <a:t>1</a:t>
            </a:r>
            <a:r>
              <a:rPr b="0" lang="ru-RU" sz="3200" spc="-1" strike="noStrike">
                <a:solidFill>
                  <a:srgbClr val="0066ff"/>
                </a:solidFill>
                <a:latin typeface="Monotype Corsiva"/>
              </a:rPr>
              <a:t>,</a:t>
            </a:r>
            <a:r>
              <a:rPr b="0" lang="en-US" sz="3200" spc="-1" strike="noStrike">
                <a:solidFill>
                  <a:srgbClr val="0066ff"/>
                </a:solidFill>
                <a:latin typeface="Monotype Corsiva"/>
              </a:rPr>
              <a:t>2</a:t>
            </a:r>
            <a:r>
              <a:rPr b="0" lang="ru-RU" sz="3200" spc="-1" strike="noStrike">
                <a:solidFill>
                  <a:srgbClr val="0066ff"/>
                </a:solidFill>
                <a:latin typeface="Monotype Corsiva"/>
              </a:rPr>
              <a:t>,…..</a:t>
            </a:r>
            <a:r>
              <a:rPr b="0" lang="en-US" sz="3200" spc="-1" strike="noStrike">
                <a:solidFill>
                  <a:srgbClr val="0066ff"/>
                </a:solidFill>
                <a:latin typeface="Monotype Corsiva"/>
              </a:rPr>
              <a:t>? </a:t>
            </a:r>
            <a:r>
              <a:rPr b="0" lang="ru-RU" sz="3200" spc="-1" strike="noStrike">
                <a:solidFill>
                  <a:srgbClr val="0066ff"/>
                </a:solidFill>
                <a:latin typeface="Monotype Corsiva"/>
              </a:rPr>
              <a:t>Но вместо чисел, которые оканчиваются на  3 и делятся на 3  , говорим  «Таблицу знаю». Кто ошибся  - выбывает из игры. Выигрывает та команда, чей игрок остается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134200" cy="512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ff"/>
                </a:solidFill>
                <a:latin typeface="Arial Narrow"/>
              </a:rPr>
              <a:t>Конкурс художественной самодеятельности</a:t>
            </a:r>
            <a:br>
              <a:rPr sz="8000"/>
            </a:br>
            <a:r>
              <a:rPr b="1" lang="ru-RU" sz="6000" spc="-1" strike="noStrike">
                <a:solidFill>
                  <a:srgbClr val="ff0066"/>
                </a:solidFill>
                <a:latin typeface="Arial Narrow"/>
              </a:rPr>
              <a:t>(домашнее задание)</a:t>
            </a:r>
            <a:endParaRPr b="0" lang="en-US" sz="6000" spc="-1" strike="noStrike">
              <a:solidFill>
                <a:srgbClr val="33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5" descr=""/>
          <p:cNvPicPr/>
          <p:nvPr/>
        </p:nvPicPr>
        <p:blipFill>
          <a:blip r:embed="rId1"/>
          <a:stretch/>
        </p:blipFill>
        <p:spPr>
          <a:xfrm>
            <a:off x="539640" y="442800"/>
            <a:ext cx="8128080" cy="60962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7" descr=""/>
          <p:cNvPicPr/>
          <p:nvPr/>
        </p:nvPicPr>
        <p:blipFill>
          <a:blip r:embed="rId2"/>
          <a:stretch/>
        </p:blipFill>
        <p:spPr>
          <a:xfrm>
            <a:off x="3276720" y="476280"/>
            <a:ext cx="1066680" cy="14479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8" descr=""/>
          <p:cNvPicPr/>
          <p:nvPr/>
        </p:nvPicPr>
        <p:blipFill>
          <a:blip r:embed="rId3"/>
          <a:stretch/>
        </p:blipFill>
        <p:spPr>
          <a:xfrm>
            <a:off x="4211640" y="4437000"/>
            <a:ext cx="3228840" cy="18954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" descr=""/>
          <p:cNvPicPr/>
          <p:nvPr/>
        </p:nvPicPr>
        <p:blipFill>
          <a:blip r:embed="rId4"/>
          <a:stretch/>
        </p:blipFill>
        <p:spPr>
          <a:xfrm>
            <a:off x="826920" y="3716280"/>
            <a:ext cx="201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6839c7"/>
                </a:solidFill>
                <a:latin typeface="Arial Narrow"/>
              </a:rPr>
              <a:t>«В математике есть  своя красота, как в живописи и поэзии»</a:t>
            </a:r>
            <a:br>
              <a:rPr sz="4000"/>
            </a:br>
            <a:endParaRPr b="0" lang="en-US" sz="40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Monotype Corsiva"/>
              </a:rPr>
              <a:t>Тем, кто учит математику,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Monotype Corsiva"/>
              </a:rPr>
              <a:t>Тем, кто учит математике,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Monotype Corsiva"/>
              </a:rPr>
              <a:t>Тем, кто любит  математику,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Monotype Corsiva"/>
              </a:rPr>
              <a:t>Тем, кто еще не знает, что может любить математику,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Monotype Corsiva"/>
              </a:rPr>
              <a:t>Вечер математики посвящается!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839c7"/>
                </a:solidFill>
                <a:latin typeface="Arial Narrow"/>
              </a:rPr>
              <a:t>Решить задачу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Monotype Corsiva"/>
              </a:rPr>
              <a:t>Доказать, что 2=1;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Monotype Corsiva"/>
              </a:rPr>
              <a:t>Очевидно, что а</a:t>
            </a:r>
            <a:r>
              <a:rPr b="1" lang="en-US" sz="2800" spc="-1" strike="noStrike">
                <a:solidFill>
                  <a:srgbClr val="a50021"/>
                </a:solidFill>
                <a:latin typeface="Monotype Corsiva"/>
              </a:rPr>
              <a:t>^2 - a^2 = </a:t>
            </a:r>
            <a:r>
              <a:rPr b="1" lang="ru-RU" sz="2800" spc="-1" strike="noStrike">
                <a:solidFill>
                  <a:srgbClr val="a50021"/>
                </a:solidFill>
                <a:latin typeface="Monotype Corsiva"/>
              </a:rPr>
              <a:t>а</a:t>
            </a:r>
            <a:r>
              <a:rPr b="1" lang="en-US" sz="2800" spc="-1" strike="noStrike">
                <a:solidFill>
                  <a:srgbClr val="a50021"/>
                </a:solidFill>
                <a:latin typeface="Monotype Corsiva"/>
              </a:rPr>
              <a:t>^2 - a^2 ;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Monotype Corsiva"/>
              </a:rPr>
              <a:t>Разложим левую часть по формуле разности квадратов, а в правой вынесем общий множитель за скобки.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Monotype Corsiva"/>
              </a:rPr>
              <a:t>Получим: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Monotype Corsiva"/>
              </a:rPr>
              <a:t>     </a:t>
            </a:r>
            <a:r>
              <a:rPr b="1" lang="ru-RU" sz="2800" spc="-1" strike="noStrike">
                <a:solidFill>
                  <a:srgbClr val="a50021"/>
                </a:solidFill>
                <a:latin typeface="Monotype Corsiva"/>
              </a:rPr>
              <a:t>(а-а) (</a:t>
            </a:r>
            <a:r>
              <a:rPr b="1" lang="en-US" sz="2800" spc="-1" strike="noStrike">
                <a:solidFill>
                  <a:srgbClr val="a50021"/>
                </a:solidFill>
                <a:latin typeface="Monotype Corsiva"/>
              </a:rPr>
              <a:t>a+a) = a (a-a)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a50021"/>
                </a:solidFill>
                <a:latin typeface="Monotype Corsiva"/>
              </a:rPr>
              <a:t>Разделим обе части равенства на (а-а), получим:  а+а=а; 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Monotype Corsiva"/>
              </a:rPr>
              <a:t>            </a:t>
            </a:r>
            <a:r>
              <a:rPr b="1" lang="ru-RU" sz="2800" spc="-1" strike="noStrike">
                <a:solidFill>
                  <a:srgbClr val="a50021"/>
                </a:solidFill>
                <a:latin typeface="Monotype Corsiva"/>
              </a:rPr>
              <a:t>2а=а  или 2=1   ( что и требовалось доказать)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91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Monotype Corsiva"/>
              </a:rPr>
              <a:t>Где ошибка?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ff"/>
                </a:solidFill>
                <a:latin typeface="Arial Narrow"/>
              </a:rPr>
              <a:t>Загадочный курьез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Monotype Corsiva"/>
              </a:rPr>
              <a:t>Даны дроби:  26/65  и  16/64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ократим эти дроби  на 13 и на 16.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лучим:  </a:t>
            </a:r>
            <a:r>
              <a:rPr b="1" lang="ru-RU" sz="3200" spc="-1" strike="noStrike">
                <a:solidFill>
                  <a:srgbClr val="a50021"/>
                </a:solidFill>
                <a:latin typeface="Monotype Corsiva"/>
              </a:rPr>
              <a:t>2/5 и ¼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Если мы сократим эти дроби зачеркнув цифру </a:t>
            </a:r>
            <a:r>
              <a:rPr b="1" lang="ru-RU" sz="3200" spc="-1" strike="noStrike">
                <a:solidFill>
                  <a:srgbClr val="a50021"/>
                </a:solidFill>
                <a:latin typeface="Monotype Corsiva"/>
              </a:rPr>
              <a:t>6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 числителе и знаменателе, то получим тоже верный ответ: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Monotype Corsiva"/>
              </a:rPr>
              <a:t>2/5  и 1/4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 Narrow"/>
              </a:rPr>
              <a:t>Математический курьез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Дано  число  1 2 3 4 5 6 7 8 9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Если его умножить на 9 ,то получится число, записанное только цифрой 1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Monotype Corsiva"/>
              </a:rPr>
              <a:t>1 1 1 1 1 1 1 1 1 1 1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Если умножить на 18, то получится число, записанное  только цифрой 2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Monotype Corsiva"/>
              </a:rPr>
              <a:t>2 2 2 2 2 2 2 2 2 2 2 2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Если умножить на 27, то получится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Monotype Corsiva"/>
              </a:rPr>
              <a:t>3 3 3 3 3 3 3 3 3 3 3 3 3 3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609120"/>
            <a:ext cx="7773840" cy="17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Arial Narrow"/>
              </a:rPr>
              <a:t>Древнегреческая задача  о статуе Минервы (богини мудрости)</a:t>
            </a:r>
            <a:endParaRPr b="0" lang="en-US" sz="44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57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Monotype Corsiva"/>
              </a:rPr>
              <a:t>Я изваяние из злато. Поэты то злато в дар принесли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57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Monotype Corsiva"/>
              </a:rPr>
              <a:t>Хоризий принес половину всей жертвы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57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Monotype Corsiva"/>
              </a:rPr>
              <a:t>Фестия часть восьмую дала, десятую _Солон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57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Monotype Corsiva"/>
              </a:rPr>
              <a:t>Часть двадцатая – жертва певца Фемисона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57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Monotype Corsiva"/>
              </a:rPr>
              <a:t>А девять – все завершивших талантов-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57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Monotype Corsiva"/>
              </a:rPr>
              <a:t>Обет, Аристоником данный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57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Monotype Corsiva"/>
              </a:rPr>
              <a:t>Сколько  же злата  поэты  все вместе  в дар принесли?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57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Monotype Corsiva"/>
              </a:rPr>
              <a:t>Ответ :     </a:t>
            </a:r>
            <a:r>
              <a:rPr b="1" lang="ru-RU" sz="2800" spc="-1" strike="noStrike">
                <a:solidFill>
                  <a:srgbClr val="6839c7"/>
                </a:solidFill>
                <a:latin typeface="Monotype Corsiva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 Narrow"/>
              </a:rPr>
              <a:t>Свойства чисел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Monotype Corsiva"/>
              </a:rPr>
              <a:t>Если число 12 записать  наоборот  - 21,  то квадрат вновь образованного числа окажется квадратом  числа тоже записанного наоборот: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Monotype Corsiva"/>
              </a:rPr>
              <a:t>12</a:t>
            </a:r>
            <a:r>
              <a:rPr b="0" lang="en-US" sz="3200" spc="-1" strike="noStrike">
                <a:solidFill>
                  <a:srgbClr val="0066ff"/>
                </a:solidFill>
                <a:latin typeface="Monotype Corsiva"/>
              </a:rPr>
              <a:t>^2 = 144;  21^2 = 441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Monotype Corsiva"/>
              </a:rPr>
              <a:t>А таких чисел много:   13, 102, 112, 122, 221, 331 и другие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9933"/>
                </a:solidFill>
                <a:latin typeface="Arial Narrow"/>
              </a:rPr>
              <a:t>Сравнение Л.Н. Толстого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839c7"/>
                </a:solidFill>
                <a:latin typeface="Monotype Corsiva"/>
              </a:rPr>
              <a:t>«Человек  - есть дробь».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Числитель – это достоинства человека,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Знаменатель – это оценка человеком самого себя.   Если увеличить  числителя , то дробь становится больше, а если увеличить знаменателя – то дробь становится меньше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Monotype Corsiva"/>
              </a:rPr>
              <a:t>Увеличить своего  числителя не во власти человека, но всякий может кменьшить своего знаменателя и приблизиться к совершенству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09:05:20Z</dcterms:created>
  <dc:creator>света</dc:creator>
  <dc:description/>
  <dc:language>en-US</dc:language>
  <cp:lastModifiedBy>Борис Борисыч Сафрыгин</cp:lastModifiedBy>
  <dcterms:modified xsi:type="dcterms:W3CDTF">2017-09-05T17:04:31Z</dcterms:modified>
  <cp:revision>8</cp:revision>
  <dc:subject/>
  <dc:title>Математический вечер</dc:title>
</cp:coreProperties>
</file>