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81252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77407-3B4F-4716-82AA-F60DE8DE4E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7276F-52CD-41D8-A7B8-427E65BBCE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05EA4-E139-484B-B112-9570479B33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3C638-BEBB-4CDC-9A37-12A33B4A89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F041F-DE08-42BE-87C3-91BBC9AB3D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F1796-4C4D-48A0-B983-F6D72CFF04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40849-B4A1-41ED-8C7C-A84089CA39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9A666-8E0C-4362-A0F9-191091CEEC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C13FE-CFB5-4E24-8929-C87D0F588B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52F72-6220-485A-BB80-A4CF7D4A54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144F5-F86C-428B-A8FB-8397855F8E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58B-BAAD-4DE7-AF76-44A552B1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B5C-23D9-41A1-A6F5-7CC453B4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A37-492D-4EDC-9336-65C00411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3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080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3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EF0-6E98-427C-AA89-85D73B24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6DD6-0E77-420A-B7F7-43838A2A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E31C-4C3C-4E8D-9B5E-D63B0D4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E6A0-6A26-48EC-87B1-0F7481B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C7AE-EAFA-4EB7-BAF6-774C8D4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265F-9FA5-4C3A-87AA-E467555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0600" y="42840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66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F5DE-AABB-4987-A574-304050B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4E42-801C-4677-B3E5-13C173F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FED-1A60-4B83-BDA7-BD6C2AD5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30B4-5629-497D-91DF-0096452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6C3D-6E5E-4841-BCD6-9B60081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3F70-87E7-4117-9643-6DC3C10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7C65-2049-4BC9-AEC6-4A255818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3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18698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080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3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159440"/>
            <a:ext cx="271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739D-F7CD-453D-86C6-12F0C21F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DA2-DB86-42EF-9067-9421F42F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F33-5FA0-4E49-98CD-A36FCC81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970-A2A8-4081-B295-569A6B2D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0600" y="42840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66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1BB-5F9B-464F-AB06-C15F5F9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597-6856-4450-9D8B-3F87897B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0" y="41594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D36-3A71-4FE1-A820-6765EAF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0" y="1869840"/>
            <a:ext cx="4117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0800" y="4159440"/>
            <a:ext cx="843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3B6-96D9-43B1-BDA2-FE12467E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218C99-F6DF-4DAD-B118-06B28BD6FE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7480" cy="756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86000"/>
          </a:bodyPr>
          <a:p>
            <a:pPr marL="294840" indent="-29484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2" marL="98280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3" marL="137592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4" marL="176904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5" marL="176904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6" marL="1769040" indent="-19656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9D1375-AAAB-4034-B1F3-1457C9082F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539640"/>
            <a:ext cx="85694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1" lang="ru-RU" sz="5700" spc="-1" strike="noStrike">
                <a:solidFill>
                  <a:srgbClr val="6600ff"/>
                </a:solidFill>
                <a:latin typeface="Arial"/>
              </a:rPr>
              <a:t>«Текстильная кукла»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79640" y="4284720"/>
            <a:ext cx="4753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ученица 8 «А»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атолкина Анастас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5" descr="DSCN2111"/>
          <p:cNvPicPr/>
          <p:nvPr/>
        </p:nvPicPr>
        <p:blipFill>
          <a:blip r:embed="rId1"/>
          <a:stretch/>
        </p:blipFill>
        <p:spPr>
          <a:xfrm>
            <a:off x="647640" y="2266920"/>
            <a:ext cx="369576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ое обоснование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63640" y="1870200"/>
          <a:ext cx="8394840" cy="5438520"/>
        </p:xfrm>
        <a:graphic>
          <a:graphicData uri="http://schemas.openxmlformats.org/drawingml/2006/table">
            <a:tbl>
              <a:tblPr/>
              <a:tblGrid>
                <a:gridCol w="2100240"/>
                <a:gridCol w="2097000"/>
                <a:gridCol w="2097000"/>
                <a:gridCol w="210060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на кук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кань габард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итки х/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Тесь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Лента атлас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интеп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7640" indent="-647640"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Мул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ат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66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 руб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04000" y="250920"/>
            <a:ext cx="3887640" cy="30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44360" y="3419640"/>
            <a:ext cx="3132360" cy="4024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0600" y="179280"/>
            <a:ext cx="90709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000066"/>
                </a:solidFill>
                <a:latin typeface="Arial"/>
              </a:rPr>
              <a:t>Реклама моего изделия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003560" y="2927520"/>
            <a:ext cx="3988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1640" y="1116000"/>
            <a:ext cx="49690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 дальше в будущее вхо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 больше прошлым дорож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 старом красоту нахо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новому принадлежи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760" y="4160520"/>
            <a:ext cx="41180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616720" y="4356000"/>
            <a:ext cx="417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кла – просто заглядень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ослым всем на удивлень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забавы малышам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мотри, как хороша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ь хотите научить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у куклу мастер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м придется не ленить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таранье прилож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дкая паро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7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2" name="Picture 4" descr="DSCN2112"/>
          <p:cNvPicPr/>
          <p:nvPr/>
        </p:nvPicPr>
        <p:blipFill>
          <a:blip r:embed="rId1"/>
          <a:stretch/>
        </p:blipFill>
        <p:spPr>
          <a:xfrm>
            <a:off x="5545080" y="2124000"/>
            <a:ext cx="3854520" cy="513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SCN2111"/>
          <p:cNvPicPr/>
          <p:nvPr/>
        </p:nvPicPr>
        <p:blipFill>
          <a:blip r:embed="rId2"/>
          <a:stretch/>
        </p:blipFill>
        <p:spPr>
          <a:xfrm>
            <a:off x="1008000" y="684360"/>
            <a:ext cx="405144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60360" y="1258920"/>
            <a:ext cx="4960800" cy="330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456000" y="4356000"/>
            <a:ext cx="4248000" cy="265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6335640" y="183528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03280" y="1258920"/>
            <a:ext cx="9001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Я поставила для себя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иться с историей русской народной игруш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технологию изготовления народной тряпичной ку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явить фантазию и творчество, сохраняя традиции мордовского костюма кук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0440" y="1869840"/>
            <a:ext cx="41180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45120" y="1870200"/>
            <a:ext cx="41180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45120" y="4160880"/>
            <a:ext cx="41180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216000" y="611280"/>
            <a:ext cx="2592360" cy="3174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7416720" y="611280"/>
            <a:ext cx="2381400" cy="345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4535640" y="3924360"/>
            <a:ext cx="3043080" cy="306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4"/>
          <a:stretch/>
        </p:blipFill>
        <p:spPr>
          <a:xfrm>
            <a:off x="2087640" y="3635280"/>
            <a:ext cx="1884240" cy="325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5"/>
          <a:stretch/>
        </p:blipFill>
        <p:spPr>
          <a:xfrm>
            <a:off x="3095640" y="826920"/>
            <a:ext cx="345600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300" spc="-1" strike="noStrike">
                <a:solidFill>
                  <a:srgbClr val="000066"/>
                </a:solidFill>
                <a:latin typeface="Arial"/>
              </a:rPr>
              <a:t>Схема обдумывания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2646360" y="1979640"/>
            <a:ext cx="4554720" cy="4753080"/>
            <a:chOff x="2646360" y="1979640"/>
            <a:chExt cx="4554720" cy="4753080"/>
          </a:xfrm>
        </p:grpSpPr>
        <p:sp>
          <p:nvSpPr>
            <p:cNvPr id="113" name="AutoShape 4"/>
            <p:cNvSpPr/>
            <p:nvPr/>
          </p:nvSpPr>
          <p:spPr>
            <a:xfrm>
              <a:off x="2646360" y="1979640"/>
              <a:ext cx="4554720" cy="4753080"/>
            </a:xfrm>
            <a:custGeom>
              <a:avLst/>
              <a:gdLst>
                <a:gd name="textAreaLeft" fmla="*/ 360 w 4554720"/>
                <a:gd name="textAreaRight" fmla="*/ 4554360 w 4554720"/>
                <a:gd name="textAreaTop" fmla="*/ 360 h 4753080"/>
                <a:gd name="textAreaBottom" fmla="*/ 4752720 h 4753080"/>
              </a:gdLst>
              <a:ahLst/>
              <a:rect l="textAreaLeft" t="textAreaTop" r="textAreaRight" b="textAreaBottom"/>
              <a:pathLst>
                <a:path w="21600" h="22541">
                  <a:moveTo>
                    <a:pt x="7" y="0"/>
                  </a:moveTo>
                  <a:arcTo wR="7" hR="7" stAng="16200000" swAng="-5400000"/>
                  <a:lnTo>
                    <a:pt x="0" y="22534"/>
                  </a:lnTo>
                  <a:arcTo wR="7" hR="7" stAng="10800000" swAng="-5400000"/>
                  <a:lnTo>
                    <a:pt x="21593" y="22541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 flipH="1" flipV="1">
              <a:off x="4158720" y="3557520"/>
              <a:ext cx="382320" cy="399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3235320" y="259416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потреб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3842280" y="4356720"/>
              <a:ext cx="54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760480" y="379224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ном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ское обоснов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 flipH="1">
              <a:off x="4158720" y="4755960"/>
              <a:ext cx="382320" cy="396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3235320" y="499032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ло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ское обоснов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4924440" y="4921200"/>
              <a:ext cx="0" cy="561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4383360" y="548568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олог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готовл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кл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>
              <a:off x="5307120" y="4755960"/>
              <a:ext cx="379440" cy="39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4"/>
            <p:cNvSpPr/>
            <p:nvPr/>
          </p:nvSpPr>
          <p:spPr>
            <a:xfrm>
              <a:off x="5531400" y="498888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б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ов, инструме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в, обор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в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5"/>
            <p:cNvSpPr/>
            <p:nvPr/>
          </p:nvSpPr>
          <p:spPr>
            <a:xfrm>
              <a:off x="5465160" y="4356720"/>
              <a:ext cx="53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6"/>
            <p:cNvSpPr/>
            <p:nvPr/>
          </p:nvSpPr>
          <p:spPr>
            <a:xfrm>
              <a:off x="6006240" y="379224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ализ ид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обоснован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бо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7"/>
            <p:cNvSpPr/>
            <p:nvPr/>
          </p:nvSpPr>
          <p:spPr>
            <a:xfrm flipV="1">
              <a:off x="5307120" y="3556080"/>
              <a:ext cx="380880" cy="400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8"/>
            <p:cNvSpPr/>
            <p:nvPr/>
          </p:nvSpPr>
          <p:spPr>
            <a:xfrm>
              <a:off x="5531400" y="259416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риант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"/>
            <p:cNvSpPr/>
            <p:nvPr/>
          </p:nvSpPr>
          <p:spPr>
            <a:xfrm flipV="1">
              <a:off x="4924440" y="3224520"/>
              <a:ext cx="0" cy="56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0"/>
            <p:cNvSpPr/>
            <p:nvPr/>
          </p:nvSpPr>
          <p:spPr>
            <a:xfrm>
              <a:off x="4383360" y="209880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м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тор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1"/>
            <p:cNvSpPr/>
            <p:nvPr/>
          </p:nvSpPr>
          <p:spPr>
            <a:xfrm>
              <a:off x="4383360" y="3792240"/>
              <a:ext cx="1080000" cy="1127160"/>
            </a:xfrm>
            <a:prstGeom prst="ellipse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48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ягк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укл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 мордовск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стюм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зработка идей и вариантов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арианты куко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0440" y="1869840"/>
            <a:ext cx="41180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4760" y="1869840"/>
            <a:ext cx="41180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8000" y="1309680"/>
            <a:ext cx="4572000" cy="221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103640" y="1944720"/>
            <a:ext cx="2664000" cy="307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6408720" y="3959280"/>
            <a:ext cx="35942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0600" y="-287640"/>
            <a:ext cx="907092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04880" y="936360"/>
            <a:ext cx="84391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66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224000" y="1422360"/>
            <a:ext cx="7632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:синтепон - для набивки куклы, эластичные колготки - для головы,вышивальные нитки мулине – для вышивания рта, бровей,швейные хлопчатобумажные нитки,ткань – для платья,лента атласная, тесьма отделоч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ы, оборудование, принадлежности: игла длинная и короткая, набор булавок, ножницы, клей «Момент»,линейка, карандаши, мел, швейная маши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95280" y="431640"/>
            <a:ext cx="72010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териалы, инструменты и обору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DSCN2113"/>
          <p:cNvPicPr/>
          <p:nvPr/>
        </p:nvPicPr>
        <p:blipFill>
          <a:blip r:embed="rId1"/>
          <a:stretch/>
        </p:blipFill>
        <p:spPr>
          <a:xfrm>
            <a:off x="5826240" y="5102280"/>
            <a:ext cx="366228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0600" y="161640"/>
            <a:ext cx="9070920" cy="179532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Arial"/>
              </a:rPr>
              <a:t>Технология изготовления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7920" y="2255760"/>
            <a:ext cx="100789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0600" y="161640"/>
            <a:ext cx="9070920" cy="179532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Arial"/>
              </a:rPr>
              <a:t>Этапы изготовления лица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0800" y="1869840"/>
            <a:ext cx="84391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>
              <a:lnSpc>
                <a:spcPct val="93000"/>
              </a:lnSpc>
              <a:spcAft>
                <a:spcPts val="166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76360" y="1722600"/>
            <a:ext cx="1619280" cy="238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2703600" y="237168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4967280" y="345600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7415280" y="434340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6:21:44Z</dcterms:created>
  <dc:creator/>
  <dc:description/>
  <dc:language>en-US</dc:language>
  <cp:lastModifiedBy>Школа №17</cp:lastModifiedBy>
  <dcterms:modified xsi:type="dcterms:W3CDTF">2013-12-02T07:30:21Z</dcterms:modified>
  <cp:revision>3</cp:revision>
  <dc:subject/>
  <dc:title>Творческий проект «Текстильная кукла»</dc:title>
</cp:coreProperties>
</file>