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-360" y="81252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13CAA-D24D-43BC-A1B2-3B6BD5C861D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A73EE-D7C3-4D22-996C-E6D645AB96B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0" y="8128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7CC99-4642-453F-8CDA-72D19975136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0" y="8128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F444C-BC20-4DFF-B10A-CDFCABE9ED5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0" y="8128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41BD6-4FB6-4931-9534-4B1F6A8EBFF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0" y="8128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9B7AC-729A-4A74-8CBD-E6FE967C7E1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0" y="8128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BC70D0-8742-4210-ABC0-66ACDD8F8FB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0" y="8128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51D6F-DD80-4C7B-BA7C-34C22BEDB5A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0" y="8128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7C62C-480D-4001-A4A1-B0B6FA18D34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0" y="8128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3D842-BE18-4C41-8390-52026F2ECAD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0" y="8128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DABEAC-DCDC-40E4-AD7C-9660EE71AA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0" y="8128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3D8D-83D0-4F69-99E3-F38407E49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0600" y="4284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0800" y="1869840"/>
            <a:ext cx="8437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0800" y="4159440"/>
            <a:ext cx="8437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3DAD-D177-41E3-BEE4-72B8C8E7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0600" y="4284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0800" y="1869840"/>
            <a:ext cx="4117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4400" y="1869840"/>
            <a:ext cx="4117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0800" y="4159440"/>
            <a:ext cx="4117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4400" y="4159440"/>
            <a:ext cx="4117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ABFA-5C95-48A0-9D71-A0652D5A2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0600" y="4284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0800" y="1869840"/>
            <a:ext cx="271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73440" y="1869840"/>
            <a:ext cx="271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440" y="1869840"/>
            <a:ext cx="271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0800" y="4159440"/>
            <a:ext cx="271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73440" y="4159440"/>
            <a:ext cx="271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440" y="4159440"/>
            <a:ext cx="271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F9A0-635B-4F6F-B22E-532263D4F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D5D7-A17C-48FD-BD5F-868664C8F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80600" y="4284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20800" y="1869840"/>
            <a:ext cx="84376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66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AEBA-EEC2-491F-AE6A-940ECC26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0600" y="4284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0800" y="1869840"/>
            <a:ext cx="84376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CD25-FEF5-472D-8D97-E1D97C66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0600" y="4284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0800" y="1869840"/>
            <a:ext cx="41173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4400" y="1869840"/>
            <a:ext cx="41173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27C8-01BD-44ED-BA0F-349A699D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0600" y="4284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9842-8776-4A51-BD56-BEAFB0D2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80600" y="42840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66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F800-C002-472E-9083-0961D898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0600" y="4284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0800" y="1869840"/>
            <a:ext cx="4117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4400" y="1869840"/>
            <a:ext cx="41173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20800" y="4159440"/>
            <a:ext cx="4117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C759-1C0D-4696-AE6C-006B5F5C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0600" y="4284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0800" y="1869840"/>
            <a:ext cx="84376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66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C2C3-00E9-4B92-9AAE-17F68C89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0600" y="4284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0800" y="1869840"/>
            <a:ext cx="41173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4400" y="1869840"/>
            <a:ext cx="4117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4400" y="4159440"/>
            <a:ext cx="4117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7011-681E-4145-AF09-483CA8D2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80600" y="4284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0800" y="1869840"/>
            <a:ext cx="4117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4400" y="1869840"/>
            <a:ext cx="4117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20800" y="4159440"/>
            <a:ext cx="8437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A856-6B7D-4FB0-ACA8-E5F27A19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0600" y="4284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0800" y="1869840"/>
            <a:ext cx="8437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20800" y="4159440"/>
            <a:ext cx="8437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CC5A-3197-4DA3-8AF7-7B292E78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80600" y="4284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0800" y="1869840"/>
            <a:ext cx="4117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4400" y="1869840"/>
            <a:ext cx="4117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20800" y="4159440"/>
            <a:ext cx="4117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44400" y="4159440"/>
            <a:ext cx="4117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F05D-CDF3-4D1F-881A-3A9B63F43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80600" y="4284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0800" y="1869840"/>
            <a:ext cx="271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73440" y="1869840"/>
            <a:ext cx="271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6440" y="1869840"/>
            <a:ext cx="271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20800" y="4159440"/>
            <a:ext cx="271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73440" y="4159440"/>
            <a:ext cx="271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6440" y="4159440"/>
            <a:ext cx="271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30DB-0D63-411B-AF85-8926B95D4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0600" y="4284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0800" y="1869840"/>
            <a:ext cx="84376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6514-02E6-4180-8521-2DEC4817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0600" y="4284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0800" y="1869840"/>
            <a:ext cx="41173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4400" y="1869840"/>
            <a:ext cx="41173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CD15-A66A-490E-8FC4-80803873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0600" y="4284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6A81-98EA-4043-BE74-EF7B8D68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0600" y="42840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66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4A75-C8AD-4072-8559-FB628E07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0600" y="4284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0800" y="1869840"/>
            <a:ext cx="4117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4400" y="1869840"/>
            <a:ext cx="41173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0800" y="4159440"/>
            <a:ext cx="4117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F54A-49A7-4962-B954-1F4A29BE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0600" y="4284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0800" y="1869840"/>
            <a:ext cx="41173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4400" y="1869840"/>
            <a:ext cx="4117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4400" y="4159440"/>
            <a:ext cx="4117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BA9D-7411-40C4-9DE1-D0DD90CA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0600" y="4284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0800" y="1869840"/>
            <a:ext cx="4117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4400" y="1869840"/>
            <a:ext cx="4117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0800" y="4159440"/>
            <a:ext cx="8437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CE1E-3877-4DE9-A946-F9F9248E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817A54B-DDC7-4A8F-96CE-D832BEB8FD1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77480" cy="7562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0600" y="4284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0800" y="1869840"/>
            <a:ext cx="84376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 fontScale="86000"/>
          </a:bodyPr>
          <a:p>
            <a:pPr marL="294840" indent="-294840">
              <a:lnSpc>
                <a:spcPct val="93000"/>
              </a:lnSpc>
              <a:spcAft>
                <a:spcPts val="1661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  <a:p>
            <a:pPr lvl="1" marL="639000" indent="-245520">
              <a:lnSpc>
                <a:spcPct val="93000"/>
              </a:lnSpc>
              <a:spcAft>
                <a:spcPts val="1661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  <a:p>
            <a:pPr lvl="2" marL="982800" indent="-196560">
              <a:lnSpc>
                <a:spcPct val="93000"/>
              </a:lnSpc>
              <a:spcAft>
                <a:spcPts val="1661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  <a:p>
            <a:pPr lvl="3" marL="1375920" indent="-196560">
              <a:lnSpc>
                <a:spcPct val="93000"/>
              </a:lnSpc>
              <a:spcAft>
                <a:spcPts val="1661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  <a:p>
            <a:pPr lvl="4" marL="1769040" indent="-196560">
              <a:lnSpc>
                <a:spcPct val="93000"/>
              </a:lnSpc>
              <a:spcAft>
                <a:spcPts val="166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  <a:p>
            <a:pPr lvl="5" marL="1769040" indent="-196560">
              <a:lnSpc>
                <a:spcPct val="93000"/>
              </a:lnSpc>
              <a:spcAft>
                <a:spcPts val="166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  <a:p>
            <a:pPr lvl="6" marL="1769040" indent="-196560">
              <a:lnSpc>
                <a:spcPct val="93000"/>
              </a:lnSpc>
              <a:spcAft>
                <a:spcPts val="166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664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D10D6CF-4873-47AD-9048-4440B11F741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539640"/>
            <a:ext cx="856944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55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Творческий проект</a:t>
            </a:r>
            <a:br>
              <a:rPr sz="3600"/>
            </a:br>
            <a:r>
              <a:rPr b="1" lang="ru-RU" sz="5700" spc="-1" strike="noStrike">
                <a:solidFill>
                  <a:srgbClr val="6600ff"/>
                </a:solidFill>
                <a:latin typeface="Arial"/>
              </a:rPr>
              <a:t>«Текстильная кукла»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79640" y="4284720"/>
            <a:ext cx="4753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Выполнила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ученица 8 «А»класса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Ватолкина Анастасия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2" name="Picture 5" descr="DSCN2111"/>
          <p:cNvPicPr/>
          <p:nvPr/>
        </p:nvPicPr>
        <p:blipFill>
          <a:blip r:embed="rId1"/>
          <a:stretch/>
        </p:blipFill>
        <p:spPr>
          <a:xfrm>
            <a:off x="647640" y="2266920"/>
            <a:ext cx="3695760" cy="49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80600" y="4284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кономическое обоснование проек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863640" y="1870200"/>
          <a:ext cx="8394840" cy="5438520"/>
        </p:xfrm>
        <a:graphic>
          <a:graphicData uri="http://schemas.openxmlformats.org/drawingml/2006/table">
            <a:tbl>
              <a:tblPr/>
              <a:tblGrid>
                <a:gridCol w="2100240"/>
                <a:gridCol w="2097000"/>
                <a:gridCol w="2097000"/>
                <a:gridCol w="2100600"/>
              </a:tblGrid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материа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 (руб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 на кукл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(руб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47640" indent="-647640"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Ткань габард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7640" indent="-647640"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Нитки х/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7640" indent="-647640"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Тесь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7640" indent="-647640"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дело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7640" indent="-647640"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Лента атлас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7640" indent="-647640"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Синтеп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7640" indent="-647640"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Мулин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-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-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-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3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катуш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ш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 руб.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5904000" y="250920"/>
            <a:ext cx="3887640" cy="3090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" descr=""/>
          <p:cNvPicPr/>
          <p:nvPr/>
        </p:nvPicPr>
        <p:blipFill>
          <a:blip r:embed="rId2"/>
          <a:stretch/>
        </p:blipFill>
        <p:spPr>
          <a:xfrm>
            <a:off x="144360" y="3419640"/>
            <a:ext cx="3132360" cy="40240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80600" y="179280"/>
            <a:ext cx="90709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55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700" spc="-1" strike="noStrike">
                <a:solidFill>
                  <a:srgbClr val="000066"/>
                </a:solidFill>
                <a:latin typeface="Arial"/>
              </a:rPr>
              <a:t>Реклама моего изделия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4003560" y="2927520"/>
            <a:ext cx="39880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431640" y="1116000"/>
            <a:ext cx="496908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м дальше в будущее входи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 больше прошлым дорожи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в старом красоту наход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оть новому принадлежи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144760" y="4160520"/>
            <a:ext cx="41180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5616720" y="4356000"/>
            <a:ext cx="4176720" cy="26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укла – просто загляденье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зрослым всем на удивленье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забавы малышам!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мотри, как хороша!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ь хотите научитьс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у куклу мастерить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м придется не ленитьс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старанье приложи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0600" y="4284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ладкая пароч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0800" y="1869840"/>
            <a:ext cx="84376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2" name="Picture 4" descr="DSCN2112"/>
          <p:cNvPicPr/>
          <p:nvPr/>
        </p:nvPicPr>
        <p:blipFill>
          <a:blip r:embed="rId1"/>
          <a:stretch/>
        </p:blipFill>
        <p:spPr>
          <a:xfrm>
            <a:off x="5545080" y="2124000"/>
            <a:ext cx="3854520" cy="5137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DSCN2111"/>
          <p:cNvPicPr/>
          <p:nvPr/>
        </p:nvPicPr>
        <p:blipFill>
          <a:blip r:embed="rId2"/>
          <a:stretch/>
        </p:blipFill>
        <p:spPr>
          <a:xfrm>
            <a:off x="1008000" y="684360"/>
            <a:ext cx="4051440" cy="54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0600" y="-287640"/>
            <a:ext cx="9070920" cy="26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0800" y="1869840"/>
            <a:ext cx="84391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360360" y="1258920"/>
            <a:ext cx="4960800" cy="3301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3456000" y="4356000"/>
            <a:ext cx="4248000" cy="2654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3"/>
          <a:stretch/>
        </p:blipFill>
        <p:spPr>
          <a:xfrm>
            <a:off x="6335640" y="1835280"/>
            <a:ext cx="304812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0600" y="-287640"/>
            <a:ext cx="9070920" cy="26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20800" y="1869840"/>
            <a:ext cx="84391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66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503280" y="1258920"/>
            <a:ext cx="90010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Я поставила для себя следующие 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знакомиться с историей русской народной игруш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ить технологию изготовления народной тряпичной кук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явить фантазию и творчество, сохраняя традиции мордовского костюма кукл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0600" y="-287640"/>
            <a:ext cx="9070920" cy="26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0440" y="1869840"/>
            <a:ext cx="41180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5145120" y="1870200"/>
            <a:ext cx="411804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5145120" y="4160880"/>
            <a:ext cx="411804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216000" y="611280"/>
            <a:ext cx="2592360" cy="3174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7416720" y="611280"/>
            <a:ext cx="2381400" cy="3456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3"/>
          <a:stretch/>
        </p:blipFill>
        <p:spPr>
          <a:xfrm>
            <a:off x="4535640" y="3924360"/>
            <a:ext cx="3043080" cy="3062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"/>
          <p:cNvPicPr/>
          <p:nvPr/>
        </p:nvPicPr>
        <p:blipFill>
          <a:blip r:embed="rId4"/>
          <a:stretch/>
        </p:blipFill>
        <p:spPr>
          <a:xfrm>
            <a:off x="2087640" y="3635280"/>
            <a:ext cx="1884240" cy="3252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"/>
          <p:cNvPicPr/>
          <p:nvPr/>
        </p:nvPicPr>
        <p:blipFill>
          <a:blip r:embed="rId5"/>
          <a:stretch/>
        </p:blipFill>
        <p:spPr>
          <a:xfrm>
            <a:off x="3095640" y="826920"/>
            <a:ext cx="3456000" cy="219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0600" y="42840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55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300" spc="-1" strike="noStrike">
                <a:solidFill>
                  <a:srgbClr val="000066"/>
                </a:solidFill>
                <a:latin typeface="Arial"/>
              </a:rPr>
              <a:t>Схема обдумывания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0800" y="1869840"/>
            <a:ext cx="84391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2" name="Group 3"/>
          <p:cNvGrpSpPr/>
          <p:nvPr/>
        </p:nvGrpSpPr>
        <p:grpSpPr>
          <a:xfrm>
            <a:off x="2646360" y="1979640"/>
            <a:ext cx="4554720" cy="4753080"/>
            <a:chOff x="2646360" y="1979640"/>
            <a:chExt cx="4554720" cy="4753080"/>
          </a:xfrm>
        </p:grpSpPr>
        <p:sp>
          <p:nvSpPr>
            <p:cNvPr id="113" name="AutoShape 4"/>
            <p:cNvSpPr/>
            <p:nvPr/>
          </p:nvSpPr>
          <p:spPr>
            <a:xfrm>
              <a:off x="2646360" y="1979640"/>
              <a:ext cx="4554720" cy="4753080"/>
            </a:xfrm>
            <a:custGeom>
              <a:avLst/>
              <a:gdLst>
                <a:gd name="textAreaLeft" fmla="*/ 360 w 4554720"/>
                <a:gd name="textAreaRight" fmla="*/ 4554360 w 4554720"/>
                <a:gd name="textAreaTop" fmla="*/ 360 h 4753080"/>
                <a:gd name="textAreaBottom" fmla="*/ 4752720 h 4753080"/>
              </a:gdLst>
              <a:ahLst/>
              <a:rect l="textAreaLeft" t="textAreaTop" r="textAreaRight" b="textAreaBottom"/>
              <a:pathLst>
                <a:path w="21600" h="22541">
                  <a:moveTo>
                    <a:pt x="7" y="0"/>
                  </a:moveTo>
                  <a:arcTo wR="7" hR="7" stAng="16200000" swAng="-5400000"/>
                  <a:lnTo>
                    <a:pt x="0" y="22534"/>
                  </a:lnTo>
                  <a:arcTo wR="7" hR="7" stAng="10800000" swAng="-5400000"/>
                  <a:lnTo>
                    <a:pt x="21593" y="22541"/>
                  </a:lnTo>
                  <a:arcTo wR="7" hR="7" stAng="5400000" swAng="-5400000"/>
                  <a:lnTo>
                    <a:pt x="21600" y="7"/>
                  </a:lnTo>
                  <a:arcTo wR="7" hR="7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5"/>
            <p:cNvSpPr/>
            <p:nvPr/>
          </p:nvSpPr>
          <p:spPr>
            <a:xfrm flipH="1" flipV="1">
              <a:off x="4158720" y="3557520"/>
              <a:ext cx="382320" cy="3992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6"/>
            <p:cNvSpPr/>
            <p:nvPr/>
          </p:nvSpPr>
          <p:spPr>
            <a:xfrm>
              <a:off x="3235320" y="2594160"/>
              <a:ext cx="1080000" cy="1127160"/>
            </a:xfrm>
            <a:prstGeom prst="ellipse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6480" bIns="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блем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потребность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7"/>
            <p:cNvSpPr/>
            <p:nvPr/>
          </p:nvSpPr>
          <p:spPr>
            <a:xfrm flipH="1">
              <a:off x="3842280" y="4356720"/>
              <a:ext cx="5407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8"/>
            <p:cNvSpPr/>
            <p:nvPr/>
          </p:nvSpPr>
          <p:spPr>
            <a:xfrm>
              <a:off x="2760480" y="3792240"/>
              <a:ext cx="1080000" cy="1127160"/>
            </a:xfrm>
            <a:prstGeom prst="ellipse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6480" bIns="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Эконом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еское обоснован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9"/>
            <p:cNvSpPr/>
            <p:nvPr/>
          </p:nvSpPr>
          <p:spPr>
            <a:xfrm flipH="1">
              <a:off x="4158720" y="4755960"/>
              <a:ext cx="382320" cy="396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0"/>
            <p:cNvSpPr/>
            <p:nvPr/>
          </p:nvSpPr>
          <p:spPr>
            <a:xfrm>
              <a:off x="3235320" y="4990320"/>
              <a:ext cx="1080000" cy="1127160"/>
            </a:xfrm>
            <a:prstGeom prst="ellipse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6480" bIns="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Эколог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еское обоснован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1"/>
            <p:cNvSpPr/>
            <p:nvPr/>
          </p:nvSpPr>
          <p:spPr>
            <a:xfrm>
              <a:off x="4924440" y="4921200"/>
              <a:ext cx="0" cy="5612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2"/>
            <p:cNvSpPr/>
            <p:nvPr/>
          </p:nvSpPr>
          <p:spPr>
            <a:xfrm>
              <a:off x="4383360" y="5485680"/>
              <a:ext cx="1080000" cy="1127160"/>
            </a:xfrm>
            <a:prstGeom prst="ellipse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6480" bIns="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хнологи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готовлен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укл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3"/>
            <p:cNvSpPr/>
            <p:nvPr/>
          </p:nvSpPr>
          <p:spPr>
            <a:xfrm>
              <a:off x="5307120" y="4755960"/>
              <a:ext cx="379440" cy="397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4"/>
            <p:cNvSpPr/>
            <p:nvPr/>
          </p:nvSpPr>
          <p:spPr>
            <a:xfrm>
              <a:off x="5531400" y="4988880"/>
              <a:ext cx="1080000" cy="1127160"/>
            </a:xfrm>
            <a:prstGeom prst="ellipse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6480" bIns="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бо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атериалов, инструме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ов, обор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ван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5"/>
            <p:cNvSpPr/>
            <p:nvPr/>
          </p:nvSpPr>
          <p:spPr>
            <a:xfrm>
              <a:off x="5465160" y="4356720"/>
              <a:ext cx="537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6"/>
            <p:cNvSpPr/>
            <p:nvPr/>
          </p:nvSpPr>
          <p:spPr>
            <a:xfrm>
              <a:off x="6006240" y="3792240"/>
              <a:ext cx="1080000" cy="1127160"/>
            </a:xfrm>
            <a:prstGeom prst="ellipse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6480" bIns="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нализ иде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обосновани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бор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7"/>
            <p:cNvSpPr/>
            <p:nvPr/>
          </p:nvSpPr>
          <p:spPr>
            <a:xfrm flipV="1">
              <a:off x="5307120" y="3556080"/>
              <a:ext cx="380880" cy="400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8"/>
            <p:cNvSpPr/>
            <p:nvPr/>
          </p:nvSpPr>
          <p:spPr>
            <a:xfrm>
              <a:off x="5531400" y="2594160"/>
              <a:ext cx="1080000" cy="1127160"/>
            </a:xfrm>
            <a:prstGeom prst="ellipse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6480" bIns="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работк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де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ариант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9"/>
            <p:cNvSpPr/>
            <p:nvPr/>
          </p:nvSpPr>
          <p:spPr>
            <a:xfrm flipV="1">
              <a:off x="4924440" y="3224520"/>
              <a:ext cx="0" cy="565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0"/>
            <p:cNvSpPr/>
            <p:nvPr/>
          </p:nvSpPr>
          <p:spPr>
            <a:xfrm>
              <a:off x="4383360" y="2098800"/>
              <a:ext cx="1080000" cy="1127160"/>
            </a:xfrm>
            <a:prstGeom prst="ellipse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6480" bIns="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мног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стори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1"/>
            <p:cNvSpPr/>
            <p:nvPr/>
          </p:nvSpPr>
          <p:spPr>
            <a:xfrm>
              <a:off x="4383360" y="3792240"/>
              <a:ext cx="1080000" cy="1127160"/>
            </a:xfrm>
            <a:prstGeom prst="ellipse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6480" bIns="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Мягка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кукл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в мордовском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костюм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80600" y="42840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Разработка идей и вариантов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арианты кукол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0440" y="1869840"/>
            <a:ext cx="41180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44760" y="1869840"/>
            <a:ext cx="41180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108000" y="1309680"/>
            <a:ext cx="4572000" cy="2219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4103640" y="1944720"/>
            <a:ext cx="2664000" cy="307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"/>
          <p:cNvPicPr/>
          <p:nvPr/>
        </p:nvPicPr>
        <p:blipFill>
          <a:blip r:embed="rId3"/>
          <a:stretch/>
        </p:blipFill>
        <p:spPr>
          <a:xfrm>
            <a:off x="6408720" y="3959280"/>
            <a:ext cx="3594240" cy="34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80600" y="-287640"/>
            <a:ext cx="9070920" cy="26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704880" y="936360"/>
            <a:ext cx="8439120" cy="53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66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224000" y="1422360"/>
            <a:ext cx="763272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риалы:синтепон - для набивки куклы, эластичные колготки - для головы,вышивальные нитки мулине – для вышивания рта, бровей,швейные хлопчатобумажные нитки,ткань – для платья,лента атласная, тесьма отделочна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рументы, оборудование, принадлежности: игла длинная и короткая, набор булавок, ножницы, клей «Момент»,линейка, карандаши, мел, швейная маши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295280" y="431640"/>
            <a:ext cx="720108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Материалы, инструменты и оборуд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DSCN2113"/>
          <p:cNvPicPr/>
          <p:nvPr/>
        </p:nvPicPr>
        <p:blipFill>
          <a:blip r:embed="rId1"/>
          <a:stretch/>
        </p:blipFill>
        <p:spPr>
          <a:xfrm>
            <a:off x="5826240" y="5102280"/>
            <a:ext cx="3662280" cy="221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80600" y="161640"/>
            <a:ext cx="9070920" cy="1795320"/>
          </a:xfrm>
          <a:prstGeom prst="rect">
            <a:avLst/>
          </a:prstGeom>
          <a:noFill/>
          <a:ln w="0">
            <a:noFill/>
          </a:ln>
        </p:spPr>
        <p:txBody>
          <a:bodyPr lIns="0" rIns="0" tIns="55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300" spc="-1" strike="noStrike">
                <a:solidFill>
                  <a:srgbClr val="ffffff"/>
                </a:solidFill>
                <a:latin typeface="Arial"/>
              </a:rPr>
              <a:t>Технология изготовления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20800" y="1869840"/>
            <a:ext cx="84391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7920" y="2255760"/>
            <a:ext cx="10078920" cy="30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80600" y="161640"/>
            <a:ext cx="9070920" cy="1795320"/>
          </a:xfrm>
          <a:prstGeom prst="rect">
            <a:avLst/>
          </a:prstGeom>
          <a:noFill/>
          <a:ln w="0">
            <a:noFill/>
          </a:ln>
        </p:spPr>
        <p:txBody>
          <a:bodyPr lIns="0" rIns="0" tIns="55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300" spc="-1" strike="noStrike">
                <a:solidFill>
                  <a:srgbClr val="ffffff"/>
                </a:solidFill>
                <a:latin typeface="Arial"/>
              </a:rPr>
              <a:t>Этапы изготовления лица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0800" y="1869840"/>
            <a:ext cx="84391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576360" y="1722600"/>
            <a:ext cx="1619280" cy="2381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2703600" y="2371680"/>
            <a:ext cx="1904760" cy="2381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3"/>
          <a:stretch/>
        </p:blipFill>
        <p:spPr>
          <a:xfrm>
            <a:off x="4967280" y="3456000"/>
            <a:ext cx="2286000" cy="2857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4"/>
          <a:stretch/>
        </p:blipFill>
        <p:spPr>
          <a:xfrm>
            <a:off x="7415280" y="4343400"/>
            <a:ext cx="2095560" cy="2857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7T16:21:44Z</dcterms:created>
  <dc:creator/>
  <dc:description/>
  <dc:language>en-US</dc:language>
  <cp:lastModifiedBy>Школа №17</cp:lastModifiedBy>
  <dcterms:modified xsi:type="dcterms:W3CDTF">2013-12-02T07:30:21Z</dcterms:modified>
  <cp:revision>3</cp:revision>
  <dc:subject/>
  <dc:title>Творческий проект «Текстильная кукла»</dc:title>
</cp:coreProperties>
</file>