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D98-7789-405A-B433-000A7A5E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204-517F-453A-9C95-7139E0B7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27D-3D8F-464A-B55E-3867611C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DBD-438B-45F3-BA87-5F495DDF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0306-881A-4017-BF04-E26E237E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CCF5-587A-4FA2-8139-F4DD605C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4199-143F-40CA-8221-E02B96EE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ED03-5FA8-49D7-BAF8-7724D6B3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60FA-DB08-42E5-AF86-6AD55B99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1AF9-80FD-4AB7-B92B-E602841E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5F4F-03E3-41E0-B1A1-3036F9B7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37B-FE87-461D-82E9-E4391637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E52A-2988-4520-AC42-091B065B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F78E-E144-40F5-9E0E-E279FC78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ED5F-389B-4433-8428-2DC9CE1B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96AA-2C5D-452D-BB5B-DC96E7A7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E24C-220F-4EBA-9D05-3EF642E5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94CD6-271F-40E2-8F89-882B1089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11DAA-E73B-4871-814C-CC26F537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1D6BF-01D8-4675-A9E2-2EB9AD8D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13D86-7EFF-4E01-85ED-1F4B099D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ABE35-0CBC-4839-B48D-1B4B1299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F57-CF2A-47BD-B0C8-A3544EBE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8272F-D0EA-4D7F-9987-506EF73B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BC4EB-DB97-4DAE-9DDA-5F03FFD1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7AAE1-E23E-4948-A3BC-356C3CE9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A04B4-4D4E-4663-A97F-7601680C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42EBA-95D5-4E02-8BCE-BBBC367D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A43DF-916D-40FA-844E-AFE3B0C5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11CC2-81EE-4791-B73D-2D803637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322F3-5075-49C1-A54F-09C2B146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FDE2-8028-43D9-BFFC-31ED1F5E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A6F58-C36E-49A3-983A-599DC2E3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670-0F43-45DF-B399-961612FE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298FB-B410-4DE2-BC58-0A8CEFB8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0EF08-E0D0-4F6D-87EB-BD339633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E063D-5824-4F08-A8AC-DD5AC12B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5F9E7-2A36-46E3-9433-17515B1C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D7B39-F784-4863-87AE-E7AE37F5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F370C-21D8-4D7D-A998-AA867AFC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D267D-8745-4F49-8B35-8A4341B1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F59B7-8278-4C30-8439-E7037D6D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124BB-F001-4791-9E37-75C0B1E3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1D35F-1824-49CC-9352-300C5A01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370-98A9-4286-BB7D-EA97B2FD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45227-FD11-4A4F-8690-3D387B89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516AE-4839-4487-AA09-F72FD819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0D965E-E295-420E-B016-73F7B68B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B0521-AD46-4BBF-A12A-3B8C6D2B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F1BBA-D386-4151-B39B-B36F7538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E9FF7-8BF0-442E-B7EF-7B423302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8C63E-A975-45D6-9BA7-5CA79A0D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9236F-D6E7-4301-B899-B991CED5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03009-57A8-401A-86AE-10D08309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22CCD-7FCF-49CD-948A-AEFFFA6D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439-5369-4FD2-9B79-3EB172DE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4FE1BC-6518-45A3-8CFB-393ED5D3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BC9B3-A8CA-4F82-B99F-04919ADE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2B606-9433-409F-8060-D408CB56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348677-4BFA-4B55-A7A3-DFB49B83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54C77-FE28-4021-A4DA-0CD585E9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0C5FB-85A3-41C5-BFF9-801D4B11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F784E-7EFA-4814-A1AD-14CB0792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7EC2E-15B4-4870-B6BC-30F24FAA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AE5E0-DD81-43D3-A6FF-F63DC5D2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3DD676-8EC8-44B1-83CB-CC3A1A18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444-8D68-402A-9DAD-479C001A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7FB996-5EB9-446B-A918-D304581C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9C51D-92D3-4175-BA8C-014DEA8C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D2027-F80F-4696-AC28-FBB92172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FCD4BF-BB27-4D09-A99E-7F0EA8CC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05341-53C6-4958-B74B-7AEA53D2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4F738A-1CC7-4A7F-8CA6-C573A980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9B82C-F2AD-4D8D-B333-6265CAD6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C7D7D-7A1B-4B44-82F5-F82105B8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AF8B4-49A7-452D-A8E6-C86BBDFD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AA9B75-8868-4600-8EC9-23EBC8E9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B20F-FAC5-4E5D-A18C-A7B94B14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028DB2-79D4-4670-A3BC-D52BB336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CB62F3-2B0A-432D-AF35-504D6DAB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A8F1B2-BE7C-4DFD-9C7D-5A91C0D3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53F28-2DA8-4F13-B9F1-659931F1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9D6223-8243-4380-A5DB-BCBF30FC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EF3-DEBA-4FD3-93F6-B4ED46A3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a17c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45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B95A-97FE-4387-92B4-B0B0316987B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a17c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3b3c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1d1d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1d1d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9ed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3b3c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9ed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3b3c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3b3c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45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60F2-1C26-4A19-86A0-9A2D8061AAF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a17c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45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EEF6-AD83-40E3-9209-77E19574C0D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a17c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3b3c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1d1d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1d1d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9ed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3b3c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9ed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3b3c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3b3c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ded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dede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edede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dede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4D1B-3263-4A27-B850-83302777E77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a17c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45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1BF8-CEA3-4F46-8B76-66960B0EA0D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a17c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45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6249-B2DF-4405-AECD-76051310AAF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a17c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45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D266-9106-42FF-961C-E6E9C1EC23D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050920" y="476280"/>
            <a:ext cx="6408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entury Schoolbook"/>
              </a:rPr>
              <a:t>ПРОЕКТ:</a:t>
            </a:r>
            <a:br>
              <a:rPr sz="3200"/>
            </a:br>
            <a:r>
              <a:rPr b="1" lang="ru-RU" sz="3200" spc="-1" strike="noStrike">
                <a:solidFill>
                  <a:srgbClr val="6600cc"/>
                </a:solidFill>
                <a:latin typeface="Century Schoolbook"/>
              </a:rPr>
              <a:t> «МЫ ПОМОГАЕМ ПТИЦАМ ЗИМОЙ»</a:t>
            </a: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123640" y="2204640"/>
            <a:ext cx="61722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entury Schoolbook"/>
              </a:rPr>
              <a:t>Участники проекта: ученики 3 класса ГОУ ТО «Новогуровская школа для детей с ОВЗ» (в составе 10 человек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entury Schoolbook"/>
              </a:rPr>
              <a:t>Руководители: Сонкина Т. А. (Классный руководитель) и Минаева О.Н. (воспитатель группы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C:\Users\Лиса\Desktop\на титул.jpg"/>
          <p:cNvPicPr/>
          <p:nvPr/>
        </p:nvPicPr>
        <p:blipFill>
          <a:blip r:embed="rId1"/>
          <a:stretch/>
        </p:blipFill>
        <p:spPr>
          <a:xfrm>
            <a:off x="4986360" y="314172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4"/>
          <p:cNvSpPr/>
          <p:nvPr/>
        </p:nvSpPr>
        <p:spPr>
          <a:xfrm>
            <a:off x="2627280" y="623736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14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января 201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– 29 февраля 2016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УДОЖЕСТВЕННО-ЭСТЕТИЧЕСКАЯ ДЕЯТЕЛЬНОСТЬ</a:t>
            </a:r>
            <a:endParaRPr b="0" lang="en-US" sz="2700" spc="-1" strike="noStrike">
              <a:solidFill>
                <a:srgbClr val="424456"/>
              </a:solidFill>
              <a:latin typeface="Century Schoolbook"/>
            </a:endParaRPr>
          </a:p>
        </p:txBody>
      </p:sp>
      <p:pic>
        <p:nvPicPr>
          <p:cNvPr id="406" name="Picture 2" descr="C:\Users\Лиса\Desktop\Новая папка\IMG_20160125_191821.jpg"/>
          <p:cNvPicPr/>
          <p:nvPr/>
        </p:nvPicPr>
        <p:blipFill>
          <a:blip r:embed="rId1"/>
          <a:stretch/>
        </p:blipFill>
        <p:spPr>
          <a:xfrm>
            <a:off x="5931000" y="3786120"/>
            <a:ext cx="2463840" cy="29005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5435280" y="907920"/>
            <a:ext cx="3384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На экскурсию ходили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Вот поделку смастерил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а природой наблюдали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тичкам корм все насыпал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Снегири, синички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тички-невелички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Вам мы будем помогат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К себе в гости чаще ждат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324000" y="1268280"/>
          <a:ext cx="3527280" cy="1766880"/>
        </p:xfrm>
        <a:graphic>
          <a:graphicData uri="http://schemas.openxmlformats.org/drawingml/2006/table">
            <a:tbl>
              <a:tblPr/>
              <a:tblGrid>
                <a:gridCol w="3527280"/>
              </a:tblGrid>
              <a:tr h="176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entury Schoolbook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entury Schoolbook"/>
                        </a:rPr>
                        <a:t>Вот так чудо! Что за птичк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entury Schoolbook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entury Schoolbook"/>
                        </a:rPr>
                        <a:t>Нам не важно, кто о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entury Schoolbook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entury Schoolbook"/>
                        </a:rPr>
                        <a:t>Главное – сидит в кормуш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entury Schoolbook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entury Schoolbook"/>
                        </a:rPr>
                        <a:t>Зёрна есть, она сы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</a:tbl>
          </a:graphicData>
        </a:graphic>
      </p:graphicFrame>
      <p:pic>
        <p:nvPicPr>
          <p:cNvPr id="409" name="Picture 2" descr="C:\Users\Лиса\Desktop\Новая папка\IMG_20160125_192206.jpg"/>
          <p:cNvPicPr/>
          <p:nvPr/>
        </p:nvPicPr>
        <p:blipFill>
          <a:blip r:embed="rId2"/>
          <a:stretch/>
        </p:blipFill>
        <p:spPr>
          <a:xfrm>
            <a:off x="324000" y="3141720"/>
            <a:ext cx="2952720" cy="2303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Users\Лиса\Desktop\Новая папка\IMG_20160125_191840.jpg"/>
          <p:cNvPicPr/>
          <p:nvPr/>
        </p:nvPicPr>
        <p:blipFill>
          <a:blip r:embed="rId3"/>
          <a:stretch/>
        </p:blipFill>
        <p:spPr>
          <a:xfrm>
            <a:off x="3276720" y="4437000"/>
            <a:ext cx="26398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-Й ЭТАП – ПОДВЕДЕНИЕ ИТОГОВ: ПРЕЗЕНТАЦИЯ КОРМУШЕК</a:t>
            </a:r>
            <a:endParaRPr b="0" lang="en-US" sz="2700" spc="-1" strike="noStrike">
              <a:solidFill>
                <a:srgbClr val="424456"/>
              </a:solidFill>
              <a:latin typeface="Century Schoolbook"/>
            </a:endParaRPr>
          </a:p>
        </p:txBody>
      </p:sp>
      <p:pic>
        <p:nvPicPr>
          <p:cNvPr id="412" name="Picture 4" descr="C:\Users\Лиса\Desktop\проект помогаем птицам зимой\Новая папка\DSCI0242.JPG"/>
          <p:cNvPicPr/>
          <p:nvPr/>
        </p:nvPicPr>
        <p:blipFill>
          <a:blip r:embed="rId1"/>
          <a:stretch/>
        </p:blipFill>
        <p:spPr>
          <a:xfrm>
            <a:off x="250920" y="3573360"/>
            <a:ext cx="4465440" cy="3116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C:\Users\Лиса\Desktop\проект помогаем птицам зимой\Новая папка\DSCI0246.JPG"/>
          <p:cNvPicPr/>
          <p:nvPr/>
        </p:nvPicPr>
        <p:blipFill>
          <a:blip r:embed="rId2"/>
          <a:stretch/>
        </p:blipFill>
        <p:spPr>
          <a:xfrm>
            <a:off x="4356000" y="981000"/>
            <a:ext cx="4140360" cy="2879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C:\Users\Лиса\Desktop\проект помогаем птицам зимой\Новая папка\DSCI0251.JPG"/>
          <p:cNvPicPr/>
          <p:nvPr/>
        </p:nvPicPr>
        <p:blipFill>
          <a:blip r:embed="rId3"/>
          <a:stretch/>
        </p:blipFill>
        <p:spPr>
          <a:xfrm>
            <a:off x="4932360" y="4005360"/>
            <a:ext cx="3672000" cy="2736720"/>
          </a:xfrm>
          <a:prstGeom prst="rect">
            <a:avLst/>
          </a:prstGeom>
          <a:ln w="0">
            <a:noFill/>
          </a:ln>
        </p:spPr>
      </p:pic>
      <p:sp>
        <p:nvSpPr>
          <p:cNvPr id="415" name="TextBox 7"/>
          <p:cNvSpPr/>
          <p:nvPr/>
        </p:nvSpPr>
        <p:spPr>
          <a:xfrm>
            <a:off x="324000" y="981000"/>
            <a:ext cx="403200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Снег засыпал все тропин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 сугробам пробра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И на школьной на площад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тиц кормушки мы наш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Накормили птичек наши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том стали обсужд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Как ещё зимой хол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Сможем им мы помог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9280" y="2852280"/>
            <a:ext cx="4176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РАЗВЕ МОЖНО ЗАБЫВАТЬ: </a:t>
            </a:r>
            <a:br>
              <a:rPr sz="2000"/>
            </a:br>
            <a:r>
              <a:rPr b="1" i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УЛЕТЕТЬ МОГЛИ, </a:t>
            </a:r>
            <a:br>
              <a:rPr sz="2000"/>
            </a:br>
            <a:r>
              <a:rPr b="1" i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А ОСТАЛИСЬ ЗИМОВАТЬ </a:t>
            </a:r>
            <a:br>
              <a:rPr sz="2000"/>
            </a:br>
            <a:r>
              <a:rPr b="1" i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АОДНО С ЛЮДЬМИ. </a:t>
            </a:r>
            <a:br>
              <a:rPr sz="2000"/>
            </a:br>
            <a:r>
              <a:rPr b="1" i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РИУЧИТЕ ПТИЦ В МОРОЗ </a:t>
            </a:r>
            <a:br>
              <a:rPr sz="2000"/>
            </a:br>
            <a:r>
              <a:rPr b="1" i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К СВОЕМУ ОКНУ, </a:t>
            </a:r>
            <a:br>
              <a:rPr sz="2000"/>
            </a:br>
            <a:r>
              <a:rPr b="1" i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ЧТОБ БЕЗ ПЕСЕН НЕ ПРИШЛОСЬ </a:t>
            </a:r>
            <a:br>
              <a:rPr sz="2000"/>
            </a:br>
            <a:r>
              <a:rPr b="1" i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НАМ ВСТРЕЧАТЬ ВЕСНУ!</a:t>
            </a:r>
            <a:br>
              <a:rPr sz="2000"/>
            </a:br>
            <a:br>
              <a:rPr sz="1800"/>
            </a:br>
            <a:r>
              <a:rPr b="1" lang="ru-RU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       АЛЕКСАНДР ЯШИН.</a:t>
            </a:r>
            <a:endParaRPr b="0" lang="en-US" sz="1800" spc="-1" strike="noStrike">
              <a:solidFill>
                <a:srgbClr val="424456"/>
              </a:solidFill>
              <a:latin typeface="Century Schoolbook"/>
            </a:endParaRPr>
          </a:p>
        </p:txBody>
      </p:sp>
      <p:pic>
        <p:nvPicPr>
          <p:cNvPr id="417" name="Picture 2" descr="C:\Users\Лиса\Desktop\проект помогаем птицам зимой\Новая папка\DSCI0237.JPG"/>
          <p:cNvPicPr/>
          <p:nvPr/>
        </p:nvPicPr>
        <p:blipFill>
          <a:blip r:embed="rId1"/>
          <a:stretch/>
        </p:blipFill>
        <p:spPr>
          <a:xfrm>
            <a:off x="3780000" y="189000"/>
            <a:ext cx="5184720" cy="62643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2"/>
          <a:stretch/>
        </p:blipFill>
        <p:spPr>
          <a:xfrm>
            <a:off x="225360" y="100080"/>
            <a:ext cx="3313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C:\Users\Лиса\Desktop\0_1314b0_287b3a8e_XXXL.jpg"/>
          <p:cNvPicPr/>
          <p:nvPr/>
        </p:nvPicPr>
        <p:blipFill>
          <a:blip r:embed="rId1"/>
          <a:stretch/>
        </p:blipFill>
        <p:spPr>
          <a:xfrm>
            <a:off x="755640" y="260280"/>
            <a:ext cx="7488360" cy="6397560"/>
          </a:xfrm>
          <a:prstGeom prst="rect">
            <a:avLst/>
          </a:prstGeom>
          <a:ln w="0">
            <a:noFill/>
          </a:ln>
        </p:spPr>
      </p:pic>
      <p:pic>
        <p:nvPicPr>
          <p:cNvPr id="420" name="Прямоугольник 3" descr=""/>
          <p:cNvPicPr/>
          <p:nvPr/>
        </p:nvPicPr>
        <p:blipFill>
          <a:blip r:embed="rId2"/>
          <a:stretch/>
        </p:blipFill>
        <p:spPr>
          <a:xfrm>
            <a:off x="12600" y="2614680"/>
            <a:ext cx="8929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entury Schoolbook"/>
              </a:rPr>
              <a:t>АННОТАЦИЯ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4920" y="2781000"/>
            <a:ext cx="7777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В презентации освещены три этапа работы по проекту: подготовительный, реализация и подведение итогов (презентация кормушек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600cc"/>
                </a:solidFill>
                <a:latin typeface="Century Schoolbook"/>
              </a:rPr>
              <a:t>В соответствии с темой поставлены цели и задачи работы, указаны прогнозируемый и полученный результаты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600cc"/>
                </a:solidFill>
                <a:latin typeface="Century Schoolbook"/>
              </a:rPr>
              <a:t>Также перечислены формы работы с детьми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600cc"/>
                </a:solidFill>
                <a:latin typeface="Century Schoolbook"/>
              </a:rPr>
              <a:t>Использованы эпиграфами к фотографиям авторские стихотворения Сонкиной Т.А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4" descr="I:\проект помогаем птицам зимой\Новая папка\DSCI0242.JPG"/>
          <p:cNvPicPr/>
          <p:nvPr/>
        </p:nvPicPr>
        <p:blipFill>
          <a:blip r:embed="rId1"/>
          <a:stretch/>
        </p:blipFill>
        <p:spPr>
          <a:xfrm>
            <a:off x="4859280" y="260280"/>
            <a:ext cx="302580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394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Schoolbook"/>
              </a:rPr>
              <a:t>ЦЕЛИ ПРОЕКТА:</a:t>
            </a:r>
            <a:endParaRPr b="0" lang="en-US" sz="27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8000" y="836280"/>
            <a:ext cx="74674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entury Schoolbook"/>
              </a:rPr>
              <a:t>Помочь птицам на территории школы пережить морозную зиму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entury Schoolbook"/>
              </a:rPr>
              <a:t>Привлечь к решению проблемы детей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entury Schoolbook"/>
              </a:rPr>
              <a:t>Актуализировать потребность в творческом выражении отношения школьников к проблеме помощи птицам зимо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Заголовок 1"/>
          <p:cNvSpPr/>
          <p:nvPr/>
        </p:nvSpPr>
        <p:spPr>
          <a:xfrm>
            <a:off x="4284720" y="2708280"/>
            <a:ext cx="41749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Schoolbook"/>
              </a:rPr>
              <a:t>ЗАДАЧИ ПРОЕКТА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одержимое 2"/>
          <p:cNvSpPr/>
          <p:nvPr/>
        </p:nvSpPr>
        <p:spPr>
          <a:xfrm>
            <a:off x="611280" y="3429000"/>
            <a:ext cx="7848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entury Schoolbook"/>
              </a:rPr>
              <a:t>Формировать экологическую культуру у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entury Schoolbook"/>
              </a:rPr>
              <a:t>Уточнить и расширить знания детей о зимующих птиц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entury Schoolbook"/>
              </a:rPr>
              <a:t>Формировать умения и навыки наблюдения за птиц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entury Schoolbook"/>
              </a:rPr>
              <a:t>Воспитывать доброжелательное отношение к птиц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entury Schoolbook"/>
              </a:rPr>
              <a:t>Вызывать стремление беречь птиц, помогать им в трудное врем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entury Schoolbook"/>
              </a:rPr>
              <a:t>Воспитывать интерес к творческому выражению своего отношения к окружающему ми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entury Schoolbook"/>
              </a:rPr>
              <a:t>ПРОГНОЗИРУЕМЫЙ РЕЗУЛЬТАТ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00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Заинтересованность детей в заботе о птицах, желание помогать им в зимний период (изготовление кормушек, подкормка птиц зимой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Развитие у детей любознательности, творческих способностей, , познавательной активности, коммуникативных навы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У детей сформируется определенная система экологических знаний, позволяющая осознавать единство всей природы и место человека в н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entury Schoolbook"/>
              </a:rPr>
              <a:t>1-Й ЭТАП - ПОДГОТОВИТЕЛЬНЫЙ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8360" y="981000"/>
            <a:ext cx="4680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Определение темы, цели, задач, содержания проек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Прогнозирование результа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Опрос детей «Что я знаю о птицах?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Выяснение возможностей, средств, необходимых для реализации проекта, определение содержания деятельности всех участников проек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C:\Users\Лиса\Desktop\снегирь.jpg"/>
          <p:cNvPicPr/>
          <p:nvPr/>
        </p:nvPicPr>
        <p:blipFill>
          <a:blip r:embed="rId1"/>
          <a:stretch/>
        </p:blipFill>
        <p:spPr>
          <a:xfrm>
            <a:off x="5219640" y="1773360"/>
            <a:ext cx="285768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Century Schoolbook"/>
              </a:rPr>
              <a:t>ФОРМЫ РАБОТЫ С ДЕТЬМИ:</a:t>
            </a:r>
            <a:endParaRPr b="0" lang="en-US" sz="27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765000"/>
            <a:ext cx="78598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cc"/>
                </a:solidFill>
                <a:latin typeface="Century Schoolbook"/>
              </a:rPr>
              <a:t>Рассматривание плакатов, иллюстраций с изображением зимующих птиц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cc"/>
                </a:solidFill>
                <a:latin typeface="Century Schoolbook"/>
              </a:rPr>
              <a:t>Наблюдение за птицами во время тематических прогулок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cc"/>
                </a:solidFill>
                <a:latin typeface="Century Schoolbook"/>
              </a:rPr>
              <a:t>Чтение художественной литературы, разучивание стихов, отгадывание загадок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4" descr="C:\Users\Лиса\Desktop\чем кормить птиц.jpg"/>
          <p:cNvPicPr/>
          <p:nvPr/>
        </p:nvPicPr>
        <p:blipFill>
          <a:blip r:embed="rId1"/>
          <a:stretch/>
        </p:blipFill>
        <p:spPr>
          <a:xfrm>
            <a:off x="4140360" y="3133800"/>
            <a:ext cx="4278240" cy="3340080"/>
          </a:xfrm>
          <a:prstGeom prst="rect">
            <a:avLst/>
          </a:prstGeom>
          <a:ln w="0">
            <a:noFill/>
          </a:ln>
        </p:spPr>
      </p:pic>
      <p:sp>
        <p:nvSpPr>
          <p:cNvPr id="394" name="Содержимое 2"/>
          <p:cNvSpPr/>
          <p:nvPr/>
        </p:nvSpPr>
        <p:spPr>
          <a:xfrm>
            <a:off x="539640" y="3141720"/>
            <a:ext cx="3672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c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cc"/>
                </a:solidFill>
                <a:latin typeface="Century Schoolbook"/>
              </a:rPr>
              <a:t>Поведение экскурсий данной темати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cc"/>
                </a:solidFill>
                <a:latin typeface="Century Schoolbook"/>
              </a:rPr>
              <a:t>Выполнение творческих заданий: поделок, рисун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C:\Users\Лиса\Desktop\зимующие птицы средней полосы России.jpg"/>
          <p:cNvPicPr/>
          <p:nvPr/>
        </p:nvPicPr>
        <p:blipFill>
          <a:blip r:embed="rId1"/>
          <a:stretch/>
        </p:blipFill>
        <p:spPr>
          <a:xfrm>
            <a:off x="5219640" y="1197000"/>
            <a:ext cx="3457800" cy="44989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entury Schoolbook"/>
              </a:rPr>
              <a:t>ПОЗНАВАТЕЛЬНАЯ ДЕЯТЕЛЬНОСТЬ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68360" y="1196640"/>
            <a:ext cx="4751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entury Schoolbook"/>
              </a:rPr>
              <a:t>Беседы «Зимующие птицы», «Кто как проводит зиму в лесу?»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entury Schoolbook"/>
              </a:rPr>
              <a:t>Экскурсия по экологической тропе к рябинке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entury Schoolbook"/>
              </a:rPr>
              <a:t>Дидактические игры «Меню для птиц», «Каких птиц зимой у кормушки не увидишь?», «Птичья столовая», «четвертый лишний», «Чей клюв?»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entury Schoolbook"/>
              </a:rPr>
              <a:t>Просмотр презентации «Зимующие птицы»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entury Schoolbook"/>
              </a:rPr>
              <a:t>Наблюдение за поведением птиц во время прогулк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entury Schoolbook"/>
              </a:rPr>
              <a:t>Наблюдение и сравнение следов птиц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entury Schoolbook"/>
              </a:rPr>
              <a:t>2-Й ЭТАП - РЕАЛИЗАЦИЯ ПРОЕКТА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pic>
        <p:nvPicPr>
          <p:cNvPr id="399" name="Picture 2" descr="C:\Users\Лиса\Desktop\проект помогаем птицам зимой\Новая папка\DSCI0255.JPG"/>
          <p:cNvPicPr/>
          <p:nvPr/>
        </p:nvPicPr>
        <p:blipFill>
          <a:blip r:embed="rId1"/>
          <a:stretch/>
        </p:blipFill>
        <p:spPr>
          <a:xfrm>
            <a:off x="4024440" y="3141720"/>
            <a:ext cx="4127400" cy="30956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5"/>
          <p:cNvSpPr/>
          <p:nvPr/>
        </p:nvSpPr>
        <p:spPr>
          <a:xfrm>
            <a:off x="468360" y="1125360"/>
            <a:ext cx="79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Дидактическая игра “Накорми птиц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Цель: Дать знания о птицах и о том, чем они питаются, развивать познавательные спосо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Дидактическая игра «Зимние гость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Цель: активизировать в речи пространственные термины и предл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6"/>
          <p:cNvSpPr/>
          <p:nvPr/>
        </p:nvSpPr>
        <p:spPr>
          <a:xfrm>
            <a:off x="611280" y="335772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Совместная деятельность по ознакомлению с природой, тема «птички-невели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Цели: познакомить детей с жизнью птиц зимой, развивать мелкую мотор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C:\Users\Лиса\Desktop\проект помогаем птицам зимой\Новая папка\DSCI0244.JPG"/>
          <p:cNvPicPr/>
          <p:nvPr/>
        </p:nvPicPr>
        <p:blipFill>
          <a:blip r:embed="rId1"/>
          <a:stretch/>
        </p:blipFill>
        <p:spPr>
          <a:xfrm>
            <a:off x="4500720" y="3556080"/>
            <a:ext cx="3479760" cy="26096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entury Schoolbook"/>
              </a:rPr>
              <a:t>ТРУДОВАЯ ДЕЯТЕЛЬНОСТЬ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94920" y="1125360"/>
            <a:ext cx="7467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Изготовление кормушек совместно с воспитателям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Конкурс кормушек «птичья столовая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Ежедневная заготовка корма для птиц и их кормление (сушим хлеб, используем несоленое сало, орешки, необжаренные семена подсолнечника и др.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творческих рабо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по тем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10:37:34Z</dcterms:created>
  <dc:creator>Лиса</dc:creator>
  <dc:description/>
  <dc:language>en-US</dc:language>
  <cp:lastModifiedBy>User</cp:lastModifiedBy>
  <dcterms:modified xsi:type="dcterms:W3CDTF">2017-09-05T18:14:35Z</dcterms:modified>
  <cp:revision>36</cp:revision>
  <dc:subject/>
  <dc:title>Слайд 1</dc:title>
</cp:coreProperties>
</file>