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jpeg" ContentType="image/jpeg"/>
  <Override PartName="/ppt/media/image5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1200" spc="-1" strike="noStrike">
                <a:solidFill>
                  <a:srgbClr val="000000"/>
                </a:solidFill>
                <a:latin typeface="Times New Roman"/>
              </a:defRPr>
            </a:pP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Результаты проведения методики "Два дома" Т.Д. Марцинковской в средней группе №12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"звезды"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"/>
                <c:pt idx="0">
                  <c:v/>
                </c:pt>
              </c:strCache>
            </c:strRef>
          </c:cat>
          <c:val>
            <c:numRef>
              <c:f>0</c:f>
              <c:numCache>
                <c:formatCode>General</c:formatCode>
                <c:ptCount val="1"/>
                <c:pt idx="0">
                  <c:v>4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предпочитаемые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"/>
                <c:pt idx="0">
                  <c:v/>
                </c:pt>
              </c:strCache>
            </c:strRef>
          </c:cat>
          <c:val>
            <c:numRef>
              <c:f>1</c:f>
              <c:numCache>
                <c:formatCode>General</c:formatCode>
                <c:ptCount val="1"/>
                <c:pt idx="0">
                  <c:v>6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пренебрегаемые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"/>
                <c:pt idx="0">
                  <c:v/>
                </c:pt>
              </c:strCache>
            </c:strRef>
          </c:cat>
          <c:val>
            <c:numRef>
              <c:f>2</c:f>
              <c:numCache>
                <c:formatCode>General</c:formatCode>
                <c:ptCount val="1"/>
                <c:pt idx="0">
                  <c:v>5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изолированные</c:v>
                </c:pt>
              </c:strCache>
            </c:strRef>
          </c:tx>
          <c:spPr>
            <a:solidFill>
              <a:srgbClr val="579d1c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"/>
                <c:pt idx="0">
                  <c:v/>
                </c:pt>
              </c:strCache>
            </c:strRef>
          </c:cat>
          <c:val>
            <c:numRef>
              <c:f>3</c:f>
              <c:numCache>
                <c:formatCode>General</c:formatCode>
                <c:ptCount val="1"/>
                <c:pt idx="0">
                  <c:v>6</c:v>
                </c:pt>
              </c:numCache>
            </c:numRef>
          </c:val>
        </c:ser>
        <c:gapWidth val="100"/>
        <c:overlap val="0"/>
        <c:axId val="76053281"/>
        <c:axId val="86397776"/>
      </c:barChart>
      <c:catAx>
        <c:axId val="76053281"/>
        <c:scaling>
          <c:orientation val="minMax"/>
        </c:scaling>
        <c:delete val="0"/>
        <c:axPos val="b"/>
        <c:title>
          <c:tx>
            <c:rich>
              <a:bodyPr rot="0"/>
              <a:lstStyle/>
              <a:p>
                <a:pPr>
                  <a:defRPr b="0" sz="900" spc="-1" strike="noStrike">
                    <a:solidFill>
                      <a:srgbClr val="000000"/>
                    </a:solidFill>
                    <a:latin typeface="Arial"/>
                  </a:defRPr>
                </a:pPr>
                <a:r>
                  <a:rPr b="0" sz="900" spc="-1" strike="noStrike">
                    <a:solidFill>
                      <a:srgbClr val="000000"/>
                    </a:solidFill>
                    <a:latin typeface="Arial"/>
                  </a:rPr>
                  <a:t>зоны общения</a:t>
                </a:r>
              </a:p>
            </c:rich>
          </c:tx>
          <c:overlay val="0"/>
          <c:spPr>
            <a:noFill/>
            <a:ln w="0">
              <a:noFill/>
            </a:ln>
          </c:spPr>
        </c:title>
        <c:numFmt formatCode="[$-419]dd/mm/yyyy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397776"/>
        <c:crosses val="autoZero"/>
        <c:auto val="1"/>
        <c:lblAlgn val="ctr"/>
        <c:lblOffset val="100"/>
        <c:noMultiLvlLbl val="0"/>
      </c:catAx>
      <c:valAx>
        <c:axId val="86397776"/>
        <c:scaling>
          <c:orientation val="minMax"/>
          <c:max val="7"/>
          <c:min val="3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title>
          <c:tx>
            <c:rich>
              <a:bodyPr rot="-5400000"/>
              <a:lstStyle/>
              <a:p>
                <a:pPr>
                  <a:defRPr b="0" sz="900" spc="-1" strike="noStrike">
                    <a:solidFill>
                      <a:srgbClr val="000000"/>
                    </a:solidFill>
                    <a:latin typeface="Arial"/>
                  </a:defRPr>
                </a:pPr>
                <a:r>
                  <a:rPr b="0" sz="900" spc="-1" strike="noStrike">
                    <a:solidFill>
                      <a:srgbClr val="000000"/>
                    </a:solidFill>
                    <a:latin typeface="Arial"/>
                  </a:rPr>
                  <a:t>количество детей</a:t>
                </a:r>
              </a:p>
            </c:rich>
          </c:tx>
          <c:overlay val="0"/>
          <c:spPr>
            <a:noFill/>
            <a:ln w="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053281"/>
        <c:crosses val="autoZero"/>
        <c:crossBetween val="between"/>
        <c:majorUnit val="1"/>
      </c:valAx>
      <c:spPr>
        <a:noFill/>
        <a:ln w="0">
          <a:solidFill>
            <a:srgbClr val="b3b3b3"/>
          </a:solidFill>
        </a:ln>
      </c:spPr>
    </c:plotArea>
    <c:legend>
      <c:legendPos val="b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solidFill>
      <a:srgbClr val="ffffff"/>
    </a:solidFill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1200" spc="-1" strike="noStrike">
                <a:solidFill>
                  <a:srgbClr val="000000"/>
                </a:solidFill>
                <a:latin typeface="Times New Roman"/>
              </a:defRPr>
            </a:pP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Результаты повторного проведения методики "Два дома" Т.Д. Марцинковской в группе №12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"звезды"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"/>
                <c:pt idx="0">
                  <c:v/>
                </c:pt>
              </c:strCache>
            </c:strRef>
          </c:cat>
          <c:val>
            <c:numRef>
              <c:f>0</c:f>
              <c:numCache>
                <c:formatCode>General</c:formatCode>
                <c:ptCount val="1"/>
                <c:pt idx="0">
                  <c:v>2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предпочитаемые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"/>
                <c:pt idx="0">
                  <c:v/>
                </c:pt>
              </c:strCache>
            </c:strRef>
          </c:cat>
          <c:val>
            <c:numRef>
              <c:f>1</c:f>
              <c:numCache>
                <c:formatCode>General</c:formatCode>
                <c:ptCount val="1"/>
                <c:pt idx="0">
                  <c:v>15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пренебрегаемые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"/>
                <c:pt idx="0">
                  <c:v/>
                </c:pt>
              </c:strCache>
            </c:strRef>
          </c:cat>
          <c:val>
            <c:numRef>
              <c:f>2</c:f>
              <c:numCache>
                <c:formatCode>General</c:formatCode>
                <c:ptCount val="1"/>
                <c:pt idx="0">
                  <c:v>4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изолированные</c:v>
                </c:pt>
              </c:strCache>
            </c:strRef>
          </c:tx>
          <c:spPr>
            <a:solidFill>
              <a:srgbClr val="579d1c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"/>
                <c:pt idx="0">
                  <c:v/>
                </c:pt>
              </c:strCache>
            </c:strRef>
          </c:cat>
          <c:val>
            <c:numRef>
              <c:f>3</c:f>
              <c:numCache>
                <c:formatCode>General</c:formatCode>
                <c:ptCount val="1"/>
                <c:pt idx="0">
                  <c:v>0</c:v>
                </c:pt>
              </c:numCache>
            </c:numRef>
          </c:val>
        </c:ser>
        <c:gapWidth val="100"/>
        <c:overlap val="0"/>
        <c:axId val="16087065"/>
        <c:axId val="75287079"/>
      </c:barChart>
      <c:catAx>
        <c:axId val="16087065"/>
        <c:scaling>
          <c:orientation val="minMax"/>
        </c:scaling>
        <c:delete val="0"/>
        <c:axPos val="b"/>
        <c:title>
          <c:tx>
            <c:rich>
              <a:bodyPr rot="0"/>
              <a:lstStyle/>
              <a:p>
                <a:pPr>
                  <a:defRPr b="0" sz="900" spc="-1" strike="noStrike">
                    <a:solidFill>
                      <a:srgbClr val="000000"/>
                    </a:solidFill>
                    <a:latin typeface="Arial"/>
                  </a:defRPr>
                </a:pPr>
                <a:r>
                  <a:rPr b="0" sz="900" spc="-1" strike="noStrike">
                    <a:solidFill>
                      <a:srgbClr val="000000"/>
                    </a:solidFill>
                    <a:latin typeface="Arial"/>
                  </a:rPr>
                  <a:t>зоны общения</a:t>
                </a:r>
              </a:p>
            </c:rich>
          </c:tx>
          <c:overlay val="0"/>
          <c:spPr>
            <a:noFill/>
            <a:ln w="0">
              <a:noFill/>
            </a:ln>
          </c:spPr>
        </c:title>
        <c:numFmt formatCode="[$-419]dd/mm/yyyy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287079"/>
        <c:crosses val="autoZero"/>
        <c:auto val="1"/>
        <c:lblAlgn val="ctr"/>
        <c:lblOffset val="100"/>
        <c:noMultiLvlLbl val="0"/>
      </c:catAx>
      <c:valAx>
        <c:axId val="75287079"/>
        <c:scaling>
          <c:orientation val="minMax"/>
          <c:min val="1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title>
          <c:tx>
            <c:rich>
              <a:bodyPr rot="-5400000"/>
              <a:lstStyle/>
              <a:p>
                <a:pPr>
                  <a:defRPr b="0" sz="900" spc="-1" strike="noStrike">
                    <a:solidFill>
                      <a:srgbClr val="000000"/>
                    </a:solidFill>
                    <a:latin typeface="Arial"/>
                  </a:defRPr>
                </a:pPr>
                <a:r>
                  <a:rPr b="0" sz="900" spc="-1" strike="noStrike">
                    <a:solidFill>
                      <a:srgbClr val="000000"/>
                    </a:solidFill>
                    <a:latin typeface="Arial"/>
                  </a:rPr>
                  <a:t>количество детей</a:t>
                </a:r>
              </a:p>
            </c:rich>
          </c:tx>
          <c:overlay val="0"/>
          <c:spPr>
            <a:noFill/>
            <a:ln w="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0870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b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solidFill>
      <a:srgbClr val="ffffff"/>
    </a:solidFill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8824F-04EF-43CA-8F4C-5E2EF0D4A9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6736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76736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5600"/>
            <a:ext cx="776736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BA4FC-DB9E-4568-AF80-FE6B5F9E5C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6736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79044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99840" y="1599840"/>
            <a:ext cx="379044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5600"/>
            <a:ext cx="379044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99840" y="3945600"/>
            <a:ext cx="379044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7F4B1-47C5-4E63-A460-F2418B2485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6736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25009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5520" y="1599840"/>
            <a:ext cx="25009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2080" y="1599840"/>
            <a:ext cx="25009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5600"/>
            <a:ext cx="25009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5520" y="3945600"/>
            <a:ext cx="25009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2080" y="3945600"/>
            <a:ext cx="25009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B9A6C-B7AF-4175-A412-17D1C4393A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E3E94-6AB6-4D25-BC90-12BBCA639DD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6736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599840"/>
            <a:ext cx="776736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7FE41-8C8A-41CA-BE8C-363B66A0EAC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6736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76736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89A40-3FBC-4CE5-94FD-DA12DD1B1E1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6736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79044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840" y="1599840"/>
            <a:ext cx="379044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65339-8F12-4CED-9E56-827AE65FA64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6736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437D6-4701-4922-A355-79E10C0725D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920"/>
            <a:ext cx="776736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A69A6-5E7E-4082-B01C-517D2ADD0C8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6736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79044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99840" y="1599840"/>
            <a:ext cx="379044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5600"/>
            <a:ext cx="379044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FA9FD-78A4-483B-B7D9-B75B941FAA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6736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599840"/>
            <a:ext cx="776736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03315-2D2D-4C38-A2E1-5B92758AAC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6736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79044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99840" y="1599840"/>
            <a:ext cx="379044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99840" y="3945600"/>
            <a:ext cx="379044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A7DED-46BD-4859-B1A5-276989FBE60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6736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79044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99840" y="1599840"/>
            <a:ext cx="379044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5600"/>
            <a:ext cx="776736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99B4F-CE2E-4F99-B787-18273F6AC45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6736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76736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5600"/>
            <a:ext cx="776736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DE443-84FF-49D9-9B68-18FC0E1E0B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6736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79044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99840" y="1599840"/>
            <a:ext cx="379044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5600"/>
            <a:ext cx="379044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99840" y="3945600"/>
            <a:ext cx="379044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66D57-5CB0-4AA2-B273-7D6AD54913A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6736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25009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5520" y="1599840"/>
            <a:ext cx="25009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2080" y="1599840"/>
            <a:ext cx="25009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5600"/>
            <a:ext cx="25009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5520" y="3945600"/>
            <a:ext cx="25009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2080" y="3945600"/>
            <a:ext cx="25009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8B44E-2E9D-4D6A-A902-4007BF8609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6736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76736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D37B3-817C-4638-B43F-E75EA1B157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6736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79044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99840" y="1599840"/>
            <a:ext cx="379044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A5DEF-6FD2-48D0-ADDF-0562935799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6736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74FD4-DFA8-4FD6-8F81-E6C4469C9C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920"/>
            <a:ext cx="776736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6960B-D925-4512-B6FA-3C7E266924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6736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79044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9840" y="1599840"/>
            <a:ext cx="379044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5600"/>
            <a:ext cx="379044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6E100-1D67-412C-BE3D-9FFF4F39E7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6736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79044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9840" y="1599840"/>
            <a:ext cx="379044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99840" y="3945600"/>
            <a:ext cx="379044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750DE-F2F1-4DE0-B647-EAF349431D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6736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79044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99840" y="1599840"/>
            <a:ext cx="379044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5600"/>
            <a:ext cx="776736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E708C-6337-46FF-A9F2-D59D654E3D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1138320" cy="6851520"/>
            <a:chOff x="0" y="0"/>
            <a:chExt cx="1138320" cy="6851520"/>
          </a:xfrm>
        </p:grpSpPr>
        <p:sp>
          <p:nvSpPr>
            <p:cNvPr id="1" name="Rectangle 2"/>
            <p:cNvSpPr/>
            <p:nvPr/>
          </p:nvSpPr>
          <p:spPr>
            <a:xfrm>
              <a:off x="0" y="0"/>
              <a:ext cx="1138320" cy="52848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0" y="3200400"/>
              <a:ext cx="1138320" cy="365112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" name="Picture 4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38320" cy="2967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6736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599840"/>
            <a:ext cx="776736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Text Box 7"/>
          <p:cNvSpPr/>
          <p:nvPr/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Text Box 8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7238520" y="6400440"/>
            <a:ext cx="190044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C627F0C-C500-40F2-926C-CD1FFE14202F}" type="slidenum"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1"/>
          <p:cNvGrpSpPr/>
          <p:nvPr/>
        </p:nvGrpSpPr>
        <p:grpSpPr>
          <a:xfrm>
            <a:off x="0" y="0"/>
            <a:ext cx="1824120" cy="6851520"/>
            <a:chOff x="0" y="0"/>
            <a:chExt cx="1824120" cy="6851520"/>
          </a:xfrm>
        </p:grpSpPr>
        <p:sp>
          <p:nvSpPr>
            <p:cNvPr id="46" name="Rectangle 2"/>
            <p:cNvSpPr/>
            <p:nvPr/>
          </p:nvSpPr>
          <p:spPr>
            <a:xfrm>
              <a:off x="0" y="0"/>
              <a:ext cx="1824120" cy="162396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Rectangle 3"/>
            <p:cNvSpPr/>
            <p:nvPr/>
          </p:nvSpPr>
          <p:spPr>
            <a:xfrm>
              <a:off x="0" y="3809880"/>
              <a:ext cx="1824120" cy="304164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8" name="Picture 4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4120" cy="2217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6736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599840"/>
            <a:ext cx="776736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39625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2"/>
          </p:nvPr>
        </p:nvSpPr>
        <p:spPr>
          <a:xfrm>
            <a:off x="7238520" y="6400440"/>
            <a:ext cx="190044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FBC6E9F-D577-4C53-A039-BA58855A3CDA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chart" Target="../charts/chart2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08000" y="1052640"/>
            <a:ext cx="693432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Times New Roman"/>
              </a:rPr>
              <a:t>«РАЗВИТИЕ ОБЩЕНИЯ И ВЗАИМОДЕЙСТВИЯ ДЕТЕЙ В ШКОЛЬНОМ КОЛЛЕКТИВЕ»</a:t>
            </a:r>
            <a:br>
              <a:rPr sz="3600"/>
            </a:b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4500720" y="4437000"/>
            <a:ext cx="42670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Подготовила: Минаева О.Н. Воспитатель Новогуровской школы для обучающихся с ОВ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219320" y="475920"/>
            <a:ext cx="7767360" cy="56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Игры («Путаница», «Все-некоторые-только я», «на льдине», «части моего я», «волшебный магазин», «контакт-слово» и др.);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Выполнение коллективных фотографий, коллажей и других наглядных действий по соединению детей, не общающихся друг с другом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1511280" y="439560"/>
            <a:ext cx="7480440" cy="17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ffcc66"/>
                </a:solidFill>
                <a:latin typeface="Times New Roman"/>
              </a:rPr>
              <a:t>Подобная работа уже проводилась мною ранее на детях дошкольного возраста: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1476360" y="2637000"/>
            <a:ext cx="719928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Была использована психологическая методика </a:t>
            </a: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«Два дома» (По Т.Д. Марцинковской)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, где с</a:t>
            </a:r>
            <a:r>
              <a:rPr b="0" lang="ru-RU" sz="2600" spc="-1" strike="noStrike">
                <a:solidFill>
                  <a:srgbClr val="eaeaea"/>
                </a:solidFill>
                <a:latin typeface="Times New Roman"/>
              </a:rPr>
              <a:t>оциограмма наглядно представляет наличие группировок в коллективе и взаимоотношения между ними (симпатии, контакты). Группировки составляются из взаимосвязанных лиц, стремящихся выбирать друг друга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"/>
          <p:cNvPicPr/>
          <p:nvPr/>
        </p:nvPicPr>
        <p:blipFill>
          <a:blip r:embed="rId2"/>
          <a:stretch/>
        </p:blipFill>
        <p:spPr>
          <a:xfrm>
            <a:off x="1655640" y="360360"/>
            <a:ext cx="6624720" cy="61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" descr=""/>
          <p:cNvPicPr/>
          <p:nvPr/>
        </p:nvPicPr>
        <p:blipFill>
          <a:blip r:embed="rId2"/>
          <a:stretch/>
        </p:blipFill>
        <p:spPr>
          <a:xfrm>
            <a:off x="1655640" y="287280"/>
            <a:ext cx="6623280" cy="62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1258920" y="1557360"/>
            <a:ext cx="748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первую очередь, в комплексы утренней гимнастики были добавлены упражнения, направленные на повышение самооценки дете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3995640" y="3141720"/>
            <a:ext cx="4740480" cy="3554280"/>
          </a:xfrm>
          <a:prstGeom prst="rect">
            <a:avLst/>
          </a:prstGeom>
          <a:ln w="0">
            <a:noFill/>
          </a:ln>
        </p:spPr>
      </p:pic>
      <p:sp>
        <p:nvSpPr>
          <p:cNvPr id="112" name="Заголовок 1"/>
          <p:cNvSpPr/>
          <p:nvPr/>
        </p:nvSpPr>
        <p:spPr>
          <a:xfrm>
            <a:off x="1219320" y="304920"/>
            <a:ext cx="776736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imes New Roman"/>
              </a:rPr>
              <a:t>В течении 7 месяцев применялись такие способы, как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Подзаголовок 2"/>
          <p:cNvSpPr/>
          <p:nvPr/>
        </p:nvSpPr>
        <p:spPr>
          <a:xfrm>
            <a:off x="1187280" y="3213000"/>
            <a:ext cx="28083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Добавлены элементы массажа и самомассажа, направленные на принятие себя и други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"/>
          <p:cNvPicPr/>
          <p:nvPr/>
        </p:nvPicPr>
        <p:blipFill>
          <a:blip r:embed="rId1"/>
          <a:stretch/>
        </p:blipFill>
        <p:spPr>
          <a:xfrm>
            <a:off x="1332000" y="2421000"/>
            <a:ext cx="2992320" cy="4105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572000" y="476280"/>
            <a:ext cx="4327560" cy="28954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"/>
          <p:cNvPicPr/>
          <p:nvPr/>
        </p:nvPicPr>
        <p:blipFill>
          <a:blip r:embed="rId3"/>
          <a:stretch/>
        </p:blipFill>
        <p:spPr>
          <a:xfrm>
            <a:off x="4643280" y="3573360"/>
            <a:ext cx="4224600" cy="301176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4"/>
          <p:cNvSpPr/>
          <p:nvPr/>
        </p:nvSpPr>
        <p:spPr>
          <a:xfrm>
            <a:off x="1258920" y="476280"/>
            <a:ext cx="3116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Times New Roman"/>
              </a:rPr>
              <a:t>Выполнены коллективные работ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" descr=""/>
          <p:cNvPicPr/>
          <p:nvPr/>
        </p:nvPicPr>
        <p:blipFill>
          <a:blip r:embed="rId1"/>
          <a:stretch/>
        </p:blipFill>
        <p:spPr>
          <a:xfrm>
            <a:off x="6012000" y="1628640"/>
            <a:ext cx="2952720" cy="374364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"/>
          <p:cNvSpPr/>
          <p:nvPr/>
        </p:nvSpPr>
        <p:spPr>
          <a:xfrm>
            <a:off x="1332000" y="620640"/>
            <a:ext cx="5497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Times New Roman"/>
              </a:rPr>
              <a:t>Создан почтовый ящик «Ах, какая новость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2"/>
          <a:stretch/>
        </p:blipFill>
        <p:spPr>
          <a:xfrm>
            <a:off x="1332000" y="3357720"/>
            <a:ext cx="4446360" cy="31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Object 2"/>
          <p:cNvGraphicFramePr/>
          <p:nvPr/>
        </p:nvGraphicFramePr>
        <p:xfrm>
          <a:off x="1332000" y="476280"/>
          <a:ext cx="4824360" cy="29955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122" name="Object 3"/>
          <p:cNvGraphicFramePr/>
          <p:nvPr/>
        </p:nvGraphicFramePr>
        <p:xfrm>
          <a:off x="3922560" y="3645000"/>
          <a:ext cx="4989600" cy="2979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/>
          <p:cNvPicPr/>
          <p:nvPr/>
        </p:nvPicPr>
        <p:blipFill>
          <a:blip r:embed="rId2"/>
          <a:stretch/>
        </p:blipFill>
        <p:spPr>
          <a:xfrm>
            <a:off x="938160" y="2298600"/>
            <a:ext cx="7931160" cy="152424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2"/>
          <p:cNvSpPr/>
          <p:nvPr/>
        </p:nvSpPr>
        <p:spPr>
          <a:xfrm>
            <a:off x="3282480" y="5732640"/>
            <a:ext cx="39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Пос. Новогуровский– 2015 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2664000" y="722160"/>
            <a:ext cx="441000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cc66"/>
                </a:solidFill>
                <a:latin typeface="Times New Roman"/>
              </a:rPr>
              <a:t>В рамках ФГОС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1398600" y="2016000"/>
            <a:ext cx="6448320" cy="33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разработана и реализуется Концепция духовно-нравственного развития и воспитания личности гражданина России</a:t>
            </a:r>
            <a:r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31640" y="476280"/>
            <a:ext cx="72723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Процессы развития личности и коллектива неразрывно связаны между собой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32000" y="691920"/>
            <a:ext cx="7416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ffcc66"/>
                </a:solidFill>
                <a:latin typeface="Times New Roman"/>
              </a:rPr>
              <a:t>Ш.А. Амонашвили считал основной целью воспитания творение счастья каждого из воспитанников.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32000" y="2708280"/>
            <a:ext cx="748800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«Воспитание заключается в том, чтобы умело, умно, мудро, тонко, сердечно прикоснуться к каждой из тысячи граней, найти ту, которая, если ее как алмаз шлифовать, засияет неповторимым сиянием человеческого  таланта, а это принесет человеку личное счастье.»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86920" y="692280"/>
            <a:ext cx="776772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Некоторые особенности детей и групп детей с ОВЗ: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186920" y="2491920"/>
            <a:ext cx="7767720" cy="38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эмоциональная неустойчивость;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неустойчивость дружественных групп;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агрессивность и самоагрессивность (аутоагрессия);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овышенная тревожность;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неадекватная самооценка и др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Содержимое 3" descr=""/>
          <p:cNvPicPr/>
          <p:nvPr/>
        </p:nvPicPr>
        <p:blipFill>
          <a:blip r:embed="rId1"/>
          <a:stretch/>
        </p:blipFill>
        <p:spPr>
          <a:xfrm>
            <a:off x="1200240" y="804960"/>
            <a:ext cx="7804080" cy="53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6736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ffcc66"/>
                </a:solidFill>
                <a:latin typeface="Times New Roman"/>
              </a:rPr>
              <a:t>Что способствует выработке какого-либо качества: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1" name="Содержимое 6" descr=""/>
          <p:cNvPicPr/>
          <p:nvPr/>
        </p:nvPicPr>
        <p:blipFill>
          <a:blip r:embed="rId1"/>
          <a:stretch/>
        </p:blipFill>
        <p:spPr>
          <a:xfrm>
            <a:off x="1212840" y="1682640"/>
            <a:ext cx="7778880" cy="47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6736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Способы формирования детского коллектива: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187280" y="1915920"/>
            <a:ext cx="763272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Рассказ (должен соответствовать социальному опыту воспитанников, приведен с наглядными иллюстрациями и в подходящей эмоциональной обстановке, должен быть коротким), а также составление рассказов воспитанниками на темы дружбы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Беседа (групповая и индивидуальная)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258560" y="549360"/>
            <a:ext cx="741852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Внушение (только в случае, когда необходимо затормозить какое-либо нежелательное проявление ребенка или наоборот стимулировать нравственно-оправданное поведение;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Поручения и распределение обязанностей;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Воспитывающие ситуации (искусственно созданные в естественных условиях);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Соревнование (важна правильная организация);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6T13:08:03Z</dcterms:created>
  <dc:creator>User</dc:creator>
  <dc:description/>
  <dc:language>en-US</dc:language>
  <cp:lastModifiedBy>Лиса</cp:lastModifiedBy>
  <dcterms:modified xsi:type="dcterms:W3CDTF">2015-12-27T21:05:28Z</dcterms:modified>
  <cp:revision>14</cp:revision>
  <dc:subject/>
  <dc:title>Роль народных традиций в семейном воспитании</dc:title>
</cp:coreProperties>
</file>