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19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3.jpeg" ContentType="image/jpeg"/>
  <Override PartName="/ppt/media/image27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97C-2948-445F-AD94-F0477606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2C8-D5FB-4B05-9453-E1CE852A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5FC-83F5-410F-BE79-2D007019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420-C3AA-4E1A-ADD2-FBE30B08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14E-6428-46F2-B175-7F145ACC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CDA-7FDA-40E6-A1A1-ECFD0A9B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1E4-B6F7-4189-A11A-D36AB2EB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8D1-C8A5-4442-95B6-F32678EF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06F-2608-4414-9C3C-FB54F65E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11B-AB7C-4DF9-9F27-EB3B5E7B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707-548F-4D50-B63E-D0A03CE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CBD-1D21-4619-8C6F-3C6F1165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2A88-6332-431D-BBAE-F4A2A52B97F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CC82-15CD-405D-8D03-5E0E0910465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407880" y="841320"/>
            <a:ext cx="8259840" cy="1243080"/>
            <a:chOff x="407880" y="841320"/>
            <a:chExt cx="8259840" cy="124308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07880" y="841320"/>
              <a:ext cx="82598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28760" y="857160"/>
              <a:ext cx="82296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0" lang="ru-RU" sz="4400" spc="-1" strike="noStrike">
                  <a:solidFill>
                    <a:srgbClr val="8e0000"/>
                  </a:solidFill>
                  <a:latin typeface="Monotype Corsiva"/>
                </a:rPr>
                <a:t>Родительское собрание на тему:</a:t>
              </a:r>
              <a:br>
                <a:rPr sz="4400"/>
              </a:br>
              <a:r>
                <a:rPr b="1" lang="ru-RU" sz="3600" spc="-1" strike="noStrike">
                  <a:solidFill>
                    <a:srgbClr val="002060"/>
                  </a:solidFill>
                  <a:latin typeface="Monotype Corsiva"/>
                  <a:ea typeface="NSimSun"/>
                </a:rPr>
                <a:t>«Путешествие в страну – Развитие речи»</a:t>
              </a:r>
              <a:br>
                <a:rPr sz="3600"/>
              </a:br>
              <a:endParaRPr b="0" lang="en-US" sz="3600" spc="-1" strike="noStrike">
                <a:solidFill>
                  <a:srgbClr val="8e0000"/>
                </a:solidFill>
                <a:latin typeface="Arial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456840" y="2143080"/>
            <a:ext cx="76150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(формирование речи детей дошкольного возраста)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0E6B-63D6-400A-9A01-FB05D708411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329B-E77A-4B4D-AB63-6B624C75E09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48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2"/>
          <a:stretch/>
        </p:blipFill>
        <p:spPr>
          <a:xfrm>
            <a:off x="4572000" y="321480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3"/>
          <a:stretch/>
        </p:blipFill>
        <p:spPr>
          <a:xfrm>
            <a:off x="500040" y="3071880"/>
            <a:ext cx="4388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Практическое задание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E070-7182-4317-BC9B-F8A2F12A135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BB72-C95A-4DC0-9BB7-237C9E8BF51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0" name="Picture 2" descr="C:\Users\Елена\Desktop\родительское собрание\img1.jpg"/>
          <p:cNvPicPr/>
          <p:nvPr/>
        </p:nvPicPr>
        <p:blipFill>
          <a:blip r:embed="rId1"/>
          <a:stretch/>
        </p:blipFill>
        <p:spPr>
          <a:xfrm>
            <a:off x="754200" y="1571760"/>
            <a:ext cx="77468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танция Сказочная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3280" y="1143000"/>
            <a:ext cx="4043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знакомит с задачами развития связной речи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Calibri"/>
              </a:rPr>
              <a:t>Развитие диалогической речи. Вовлечение детей в разговор во время рассматриваний предметов, иллюстраций; наблюдений за живой и неживой природой ; после просмотра мультфильмов и спектаклей.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Calibri"/>
              </a:rPr>
              <a:t>Развитие инициативной речи во взаимодействии со взрослыми и сверстниками.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0725-3325-4263-A1BD-0BE5A00267E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4A48-2F24-4358-874B-FED1C1EB0F7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6" name="Picture 3" descr="C:\Users\Елена\Desktop\родительское собрание\0003.jpg"/>
          <p:cNvPicPr/>
          <p:nvPr/>
        </p:nvPicPr>
        <p:blipFill>
          <a:blip r:embed="rId1"/>
          <a:stretch/>
        </p:blipFill>
        <p:spPr>
          <a:xfrm>
            <a:off x="571680" y="1285920"/>
            <a:ext cx="40716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елефон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разговоры по телефону (настоящему с бабушкой или игрушечному) способствуют развитию активной устной речи детей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Ситуация общения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«Расскажи…».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Взрослый с помощью наводящих вопросов побуждает ребенка делиться своими впечатлениями, опытом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( …А меня научишь???)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еобходимо создавать ситуацию успеха. Похвалить ребенка за интересный рассказ или за то, чему он вас научил.  У ребенка постепенно будет складываться понимание того, что делиться чем-то, рассказывать- это интересно и здорово!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AE06-AEF9-4F21-93C0-1150B12F47E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39CD-B14B-4F38-BDAC-C35E637D326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3735"/>
                </a:solidFill>
                <a:latin typeface="Arial"/>
              </a:rPr>
              <a:t>Дл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обучения пересказыванию и составлению рассказов в нашей практике мы широко используем метод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немотехник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Мнемотехника - это совокупность правил и приемов, облегчающих процесс запоминания информации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Мнемотехника помогает развивать: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ассоциативное мышле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зрительную и слуховую память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зрительное и слуховое внима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Воображе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8E85-7D3B-48D5-98D5-A3AA64E8A47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A317-2DD0-4E5E-A6B4-FFD5D7AFEEE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e0000"/>
                </a:solidFill>
                <a:latin typeface="Calibri"/>
              </a:rPr>
              <a:t>Для этого используются следующие таблицы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809-97C9-4FFC-A5F4-93D8E3E8653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DDE8-2059-41B4-B289-DA7FE894611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9" name="Рисунок 6" descr="SNC00149.jpg"/>
          <p:cNvPicPr/>
          <p:nvPr/>
        </p:nvPicPr>
        <p:blipFill>
          <a:blip r:embed="rId1"/>
          <a:stretch/>
        </p:blipFill>
        <p:spPr>
          <a:xfrm rot="20591400">
            <a:off x="596880" y="1562040"/>
            <a:ext cx="3214800" cy="2129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SNC00146.jpg"/>
          <p:cNvPicPr/>
          <p:nvPr/>
        </p:nvPicPr>
        <p:blipFill>
          <a:blip r:embed="rId2"/>
          <a:stretch/>
        </p:blipFill>
        <p:spPr>
          <a:xfrm>
            <a:off x="6143760" y="1214280"/>
            <a:ext cx="2214360" cy="2659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SNC00148.jpg"/>
          <p:cNvPicPr/>
          <p:nvPr/>
        </p:nvPicPr>
        <p:blipFill>
          <a:blip r:embed="rId3"/>
          <a:stretch/>
        </p:blipFill>
        <p:spPr>
          <a:xfrm>
            <a:off x="1357200" y="3286080"/>
            <a:ext cx="2643480" cy="3151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SNC00150.jpg"/>
          <p:cNvPicPr/>
          <p:nvPr/>
        </p:nvPicPr>
        <p:blipFill>
          <a:blip r:embed="rId4"/>
          <a:stretch/>
        </p:blipFill>
        <p:spPr>
          <a:xfrm rot="691200">
            <a:off x="4571640" y="4016160"/>
            <a:ext cx="3597120" cy="250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Елена\Pictures\50825_html_86a5bb0.jpg"/>
          <p:cNvPicPr/>
          <p:nvPr/>
        </p:nvPicPr>
        <p:blipFill>
          <a:blip r:embed="rId5"/>
          <a:stretch/>
        </p:blipFill>
        <p:spPr>
          <a:xfrm>
            <a:off x="4143240" y="1857240"/>
            <a:ext cx="18576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Практическое задание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810A-133E-45B7-8486-500CFD64433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545D-C09D-4E6E-9899-0291A89FEFA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8" name="Picture 2" descr="C:\Users\Елена\Pictures\50825_html_86a5bb0.jpg"/>
          <p:cNvPicPr/>
          <p:nvPr/>
        </p:nvPicPr>
        <p:blipFill>
          <a:blip r:embed="rId1"/>
          <a:stretch/>
        </p:blipFill>
        <p:spPr>
          <a:xfrm rot="20614800">
            <a:off x="857160" y="1804680"/>
            <a:ext cx="2502000" cy="2381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Елена\Downloads\imgpreview (2).jpg"/>
          <p:cNvPicPr/>
          <p:nvPr/>
        </p:nvPicPr>
        <p:blipFill>
          <a:blip r:embed="rId2"/>
          <a:stretch/>
        </p:blipFill>
        <p:spPr>
          <a:xfrm>
            <a:off x="5929200" y="15717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214800" y="2286000"/>
            <a:ext cx="24289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57D7-F50F-46B7-B48E-1A0A8CE9AC5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CA12-AF1F-44DC-A374-F2ADF0B7AF0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34" name="Picture 4" descr="C:\Users\Елена\Downloads\3925202labmoiu1221769130.jpg"/>
          <p:cNvPicPr/>
          <p:nvPr/>
        </p:nvPicPr>
        <p:blipFill>
          <a:blip r:embed="rId1"/>
          <a:stretch/>
        </p:blipFill>
        <p:spPr>
          <a:xfrm>
            <a:off x="928800" y="785880"/>
            <a:ext cx="7343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танция «Веселые пальчики»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1680" y="2143080"/>
            <a:ext cx="81151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Моторные центры в коре головного мозга человека находятся рядом с моторными центрами пальцев, поэтому, развивая речь и стимулируя моторику пальцев, мы передаем импульсы в речевые центры, что активизирует речь</a:t>
            </a: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D1EC-6339-42CE-8F98-BE9E9289A88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F3EF-5DB2-4661-9228-1134E882D12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Самомассаж пальцев рук.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BAB9-AFDB-47D4-9844-C9AC68302D0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F5E3-22BC-42CE-AD37-E512C88D603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071880" y="2000160"/>
            <a:ext cx="2643120" cy="28447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7"/>
          <p:cNvSpPr/>
          <p:nvPr/>
        </p:nvSpPr>
        <p:spPr>
          <a:xfrm>
            <a:off x="3286080" y="1500120"/>
            <a:ext cx="238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Cambria"/>
              </a:rPr>
              <a:t>средний</a:t>
            </a:r>
            <a:r>
              <a:rPr b="0" lang="ru-RU" sz="2000" spc="-1" strike="noStrike">
                <a:solidFill>
                  <a:srgbClr val="8e0000"/>
                </a:solidFill>
                <a:latin typeface="Cambria"/>
              </a:rPr>
              <a:t> – </a:t>
            </a:r>
            <a:r>
              <a:rPr b="0" lang="ru-RU" sz="1800" spc="-1" strike="noStrike">
                <a:solidFill>
                  <a:srgbClr val="8e0000"/>
                </a:solidFill>
                <a:latin typeface="Cambria"/>
              </a:rPr>
              <a:t>кишечник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00040" y="20001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указательный палец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же </a:t>
            </a: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желудок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желудок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571680" y="3071880"/>
            <a:ext cx="25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большой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</a:t>
            </a: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палец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</a:t>
            </a: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голова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5929200" y="22147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Безымянный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-– </a:t>
            </a: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печень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5983200" y="307188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Cambria"/>
                <a:ea typeface="HGｺﾞｼｯｸE"/>
              </a:rPr>
              <a:t>мизинец –сердце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428760" y="4429080"/>
            <a:ext cx="664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0000"/>
                </a:solidFill>
                <a:latin typeface="Arial"/>
              </a:rPr>
              <a:t>На ладони находится множество биологически активных точек. Воздействуя на них, можно регулировать функционирование внутренних органов. </a:t>
            </a:r>
            <a:br>
              <a:rPr sz="2000"/>
            </a:br>
            <a:r>
              <a:rPr b="1" i="1" lang="ru-RU" sz="2000" spc="-1" strike="noStrike">
                <a:solidFill>
                  <a:srgbClr val="8e0000"/>
                </a:solidFill>
                <a:latin typeface="Arial"/>
              </a:rPr>
              <a:t> Следовательно, воздействуя на определенные точки, можно влиять на соответствующие этой точке органы человека.</a:t>
            </a:r>
            <a:endParaRPr b="0" lang="en-US" sz="20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альчиковая гимнастика.</a:t>
            </a:r>
            <a:br>
              <a:rPr sz="2400"/>
            </a:b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Развивает ловкость, подвижность, творческие способности, внимание и скорость реакции, а веселые стихи помогают снять нервное напряжение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Пальчиковая игра «Медведь» (с предметом)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(медленно засовывайте платочек одним пальцем в кулак)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Лез медведь в свою берлогу,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се бока свои помял,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Эй, скорее, на подмогу,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ишка, кажется, застрял!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(с силой вытянуть платочек)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A3A-1695-4056-B290-F1C1538BC74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FFA5-C552-4385-B2D3-DD996E0127E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e0000"/>
                </a:solidFill>
                <a:latin typeface="Ariston"/>
              </a:rPr>
              <a:t>Хорошо развитая речь ребенка способствует успешному обучению в школе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новные задачи речевого развития детей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- овладение нормами и правилами родного языка, определёнными для каждого возраста;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- развитие у детей коммуникативных способностей (способности общаться) 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развитие словаря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B3D4-075C-408B-B183-2B84A7009108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F59F-FA1F-4483-89E7-8C3E321F5B7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6840" y="928440"/>
            <a:ext cx="42577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альчиками можно рассказывать стихи. </a:t>
            </a:r>
            <a:br>
              <a:rPr sz="32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«Под берёзой на пригорке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тарый ёж устроил норку.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А под листьями лежат </a:t>
            </a:r>
            <a:br>
              <a:rPr sz="2800"/>
            </a:b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вое маленьких ежат. </a:t>
            </a:r>
            <a:br>
              <a:rPr sz="2800"/>
            </a:b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6EDF-9C84-4C85-AA7F-CBA0EAF34DE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51F-79AB-4AEF-919D-C710F74FD9E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60" name="Picture 3" descr="F:\DCIM\111NIKON\DSCN2338.JPG"/>
          <p:cNvPicPr/>
          <p:nvPr/>
        </p:nvPicPr>
        <p:blipFill>
          <a:blip r:embed="rId1"/>
          <a:stretch/>
        </p:blipFill>
        <p:spPr>
          <a:xfrm>
            <a:off x="4643280" y="1714680"/>
            <a:ext cx="3738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танция «Игровая»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F4B0-D9F9-4E37-9202-4A79923FD24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1CE5-44AB-4ABA-81AC-703D836BF1D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8e0000"/>
                </a:solidFill>
                <a:latin typeface="Calibri"/>
              </a:rPr>
              <a:t>На этой станции мы рассмотрим задачи по  формированию звуковой культуры речи: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Совершенствовать умение детей внятно произносить в словах гласные звуки (а,у,и,о,э,ы) и некоторые согласные звуки ( п-б-т-д-к-г-ф-в-т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-д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с-з-ц)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Наибольшее беспокойство у родителей вызывает звукопроизношение детей, так как это наиболее заметный дефект. Окружающие могут не заметить ограниченность словаря или особенности грамматического строя речи, а вот не правильное произношение – как на ладошке. Здесь на помощь придут </a:t>
            </a:r>
            <a:r>
              <a:rPr b="1" i="1" lang="ru-RU" sz="2400" spc="-1" strike="noStrike">
                <a:solidFill>
                  <a:srgbClr val="8e0000"/>
                </a:solidFill>
                <a:latin typeface="Calibri"/>
              </a:rPr>
              <a:t>игры.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Calibri"/>
              </a:rPr>
              <a:t>Чистоговорки: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Уп , уп , уп – мама варит суп. (зв. П.)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БЫ, бы, бы – идёт дым из трубы. (зв. Б)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«Бублик, баранку, батон и буханку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Пекарь из теста испёк спозаранку». (зв. П-б)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«Жа- жа –жа, есть иголки у ежа» 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66ff"/>
                </a:solidFill>
                <a:latin typeface="Calibri"/>
              </a:rPr>
              <a:t>Речев</a:t>
            </a: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ые</a:t>
            </a:r>
            <a:r>
              <a:rPr b="0" i="1" lang="ru-RU" sz="2800" spc="-1" strike="noStrike">
                <a:solidFill>
                  <a:srgbClr val="0066ff"/>
                </a:solidFill>
                <a:latin typeface="Calibri"/>
              </a:rPr>
              <a:t> игр</a:t>
            </a: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ы</a:t>
            </a:r>
            <a:r>
              <a:rPr b="0" i="1" lang="ru-RU" sz="2800" spc="-1" strike="noStrike">
                <a:solidFill>
                  <a:srgbClr val="8e0000"/>
                </a:solidFill>
                <a:latin typeface="Arial"/>
              </a:rPr>
              <a:t>:</a:t>
            </a:r>
            <a:r>
              <a:rPr b="0" i="1" lang="ru-RU" sz="2800" spc="-1" strike="noStrike">
                <a:solidFill>
                  <a:srgbClr val="8e0000"/>
                </a:solidFill>
                <a:latin typeface="Calibri"/>
              </a:rPr>
              <a:t>«Насос»</a:t>
            </a:r>
            <a:r>
              <a:rPr b="0" i="1" lang="ru-RU" sz="2800" spc="-1" strike="noStrike">
                <a:solidFill>
                  <a:srgbClr val="8e0000"/>
                </a:solidFill>
                <a:latin typeface="Arial"/>
              </a:rPr>
              <a:t>, «Комар», «Жук».</a:t>
            </a:r>
            <a:r>
              <a:rPr b="0" i="1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ети, подражая действию насоса, произносят звук «С-С-С…»</a:t>
            </a:r>
            <a:r>
              <a:rPr b="0" lang="ru-RU" sz="2800" spc="-1" strike="noStrike">
                <a:solidFill>
                  <a:srgbClr val="8e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Arial"/>
              </a:rPr>
              <a:t>комара- «з-з-з», «ж-ж-ж» и др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Логоритмика -упражнения, где движения сопровождаются произнесением соответствующего текста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C665-2C00-4E7B-860F-E6E930F219E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AE33-F6B8-47A1-8662-3B20CA2B044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Практическое задание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e0000"/>
                </a:solidFill>
                <a:uFillTx/>
                <a:latin typeface="Calibri"/>
              </a:rPr>
              <a:t>Словесная игра «Почемучка»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Определить из каких слов состоят слова: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амосвал, пылесос, самолет, мясорубка, сороконожка, босоножка, соковыжималка, листопад, снегопад, мотокросс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420B-4C17-4E30-80DD-478E827251B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B0C9-C6B3-4ED3-877C-C47C367BE59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75" name="Picture 3" descr="C:\Users\Елена\Pictures\pape31.jpg"/>
          <p:cNvPicPr/>
          <p:nvPr/>
        </p:nvPicPr>
        <p:blipFill>
          <a:blip r:embed="rId1"/>
          <a:stretch/>
        </p:blipFill>
        <p:spPr>
          <a:xfrm>
            <a:off x="571680" y="4214880"/>
            <a:ext cx="1962000" cy="147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2857680" y="4786200"/>
            <a:ext cx="2442960" cy="1636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:\Users\Елена\Downloads\best-of-national-geographic-february-2015-artnaz-com-16.jpg"/>
          <p:cNvPicPr/>
          <p:nvPr/>
        </p:nvPicPr>
        <p:blipFill>
          <a:blip r:embed="rId3"/>
          <a:stretch/>
        </p:blipFill>
        <p:spPr>
          <a:xfrm>
            <a:off x="5643720" y="4108320"/>
            <a:ext cx="27619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Что влияет на развитие речи ребенка?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Большое значение для развития речи дошкольника имеет обогащение словаря на основе знаний и представлений об окружающей жизни и в процессе наблюдений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4D77-EF4C-449A-9AAE-DEC3D079532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7CC1-F30F-4C07-A38B-1A27FDC64D9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82" name="Picture 2" descr="F:\DCIM\111NIKON\DSCN2356.JPG"/>
          <p:cNvPicPr/>
          <p:nvPr/>
        </p:nvPicPr>
        <p:blipFill>
          <a:blip r:embed="rId1"/>
          <a:stretch/>
        </p:blipFill>
        <p:spPr>
          <a:xfrm rot="19924800">
            <a:off x="390240" y="2776320"/>
            <a:ext cx="3321000" cy="249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F:\DCIM\111NIKON\DSCN2358.JPG"/>
          <p:cNvPicPr/>
          <p:nvPr/>
        </p:nvPicPr>
        <p:blipFill>
          <a:blip r:embed="rId2"/>
          <a:stretch/>
        </p:blipFill>
        <p:spPr>
          <a:xfrm rot="1351200">
            <a:off x="5446440" y="2825640"/>
            <a:ext cx="287172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F:\DCIM\111NIKON\DSCN2361.JPG"/>
          <p:cNvPicPr/>
          <p:nvPr/>
        </p:nvPicPr>
        <p:blipFill>
          <a:blip r:embed="rId3"/>
          <a:stretch/>
        </p:blipFill>
        <p:spPr>
          <a:xfrm>
            <a:off x="2976480" y="38577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9768-39BD-4647-9CAF-A3361A58FFD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0875-1976-4265-86F8-DF94385C7A6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88" name="Picture 2" descr="F:\DCIM\111NIKON\DSCN2362.JPG"/>
          <p:cNvPicPr/>
          <p:nvPr/>
        </p:nvPicPr>
        <p:blipFill>
          <a:blip r:embed="rId1"/>
          <a:stretch/>
        </p:blipFill>
        <p:spPr>
          <a:xfrm>
            <a:off x="642960" y="857160"/>
            <a:ext cx="3143160" cy="235764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  <p:pic>
        <p:nvPicPr>
          <p:cNvPr id="189" name="Picture 3" descr="F:\DCIM\111NIKON\DSCN2367.JPG"/>
          <p:cNvPicPr/>
          <p:nvPr/>
        </p:nvPicPr>
        <p:blipFill>
          <a:blip r:embed="rId2"/>
          <a:stretch/>
        </p:blipFill>
        <p:spPr>
          <a:xfrm>
            <a:off x="4071960" y="428760"/>
            <a:ext cx="2857320" cy="214308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  <p:pic>
        <p:nvPicPr>
          <p:cNvPr id="190" name="Picture 5" descr="F:\DCIM\110NIKON\DSCN2228.JPG"/>
          <p:cNvPicPr/>
          <p:nvPr/>
        </p:nvPicPr>
        <p:blipFill>
          <a:blip r:embed="rId3"/>
          <a:stretch/>
        </p:blipFill>
        <p:spPr>
          <a:xfrm>
            <a:off x="4643280" y="4214880"/>
            <a:ext cx="3643560" cy="228600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  <p:pic>
        <p:nvPicPr>
          <p:cNvPr id="191" name="Picture 6" descr="C:\Users\Елена\Desktop\DSCN2336.JPG"/>
          <p:cNvPicPr/>
          <p:nvPr/>
        </p:nvPicPr>
        <p:blipFill>
          <a:blip r:embed="rId4"/>
          <a:stretch/>
        </p:blipFill>
        <p:spPr>
          <a:xfrm>
            <a:off x="1071720" y="2928960"/>
            <a:ext cx="3619440" cy="271476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  <p:pic>
        <p:nvPicPr>
          <p:cNvPr id="192" name="Picture 7" descr="C:\Users\Елена\Desktop\DSCN2310.JPG"/>
          <p:cNvPicPr/>
          <p:nvPr/>
        </p:nvPicPr>
        <p:blipFill>
          <a:blip r:embed="rId5"/>
          <a:stretch/>
        </p:blipFill>
        <p:spPr>
          <a:xfrm>
            <a:off x="5572080" y="2143080"/>
            <a:ext cx="3048120" cy="2286000"/>
          </a:xfrm>
          <a:prstGeom prst="rect">
            <a:avLst/>
          </a:prstGeom>
          <a:ln w="9360">
            <a:solidFill>
              <a:srgbClr val="8e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C617-DDC0-4A68-BD10-AE549BC7A99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6243-9B72-4DD7-802D-257FE248EE7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96" name="Picture 2" descr="D:\Фото\Фото0138.jpg"/>
          <p:cNvPicPr/>
          <p:nvPr/>
        </p:nvPicPr>
        <p:blipFill>
          <a:blip r:embed="rId1"/>
          <a:stretch/>
        </p:blipFill>
        <p:spPr>
          <a:xfrm>
            <a:off x="714240" y="1571760"/>
            <a:ext cx="2822760" cy="3763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D:\Фото\Ar8002.jpg"/>
          <p:cNvPicPr/>
          <p:nvPr/>
        </p:nvPicPr>
        <p:blipFill>
          <a:blip r:embed="rId2"/>
          <a:stretch/>
        </p:blipFill>
        <p:spPr>
          <a:xfrm>
            <a:off x="3714840" y="1643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D:\Фото\Ar6172.jpg"/>
          <p:cNvPicPr/>
          <p:nvPr/>
        </p:nvPicPr>
        <p:blipFill>
          <a:blip r:embed="rId3"/>
          <a:stretch/>
        </p:blipFill>
        <p:spPr>
          <a:xfrm>
            <a:off x="6143760" y="2428920"/>
            <a:ext cx="2404800" cy="180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D:\Фото\Фото\Фото0075.jpg"/>
          <p:cNvPicPr/>
          <p:nvPr/>
        </p:nvPicPr>
        <p:blipFill>
          <a:blip r:embed="rId4"/>
          <a:stretch/>
        </p:blipFill>
        <p:spPr>
          <a:xfrm>
            <a:off x="3714840" y="385776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0"/>
          <p:cNvSpPr/>
          <p:nvPr/>
        </p:nvSpPr>
        <p:spPr>
          <a:xfrm>
            <a:off x="571680" y="714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Природа имеет уникальные возможности для развития речи детей. </a:t>
            </a:r>
            <a:endParaRPr b="0" lang="en-US" sz="2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8e0000"/>
                </a:solidFill>
                <a:latin typeface="Calibri"/>
              </a:rPr>
              <a:t>Советы родителям по развитию речи детей младшего дошкольного возраста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речь взрослых (родителей и педагогов): четкая, неторопливая грамматически  и фонетически правильно оформленная, не следует искажать слова, имитировать детскую речь;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обращайте внимание детей, на то, как дети согласовывают слова в предложении, поправляйте ребенка (исправлять допущенные ошибки);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играя с ребенком упражняйте его  в согласовании имен существительных с разными частями речи, например с глаголами: возьмите куклу и спросите: «Кто к нам приехал в гости? и ребенок дает вам полный ответ: «К нам в гости приехала кукла»;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7D98-50EF-420D-9AC8-B4C6EBD8DBA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FF63-2D43-402F-90D4-33470480356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используйте игру «Чего не стало?» называть существительное в Р.п. ед.ч. (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поставить 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3-4 игр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ушки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и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 поочерёдно прятать одну из них…)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учите ребенка самостоятельно описывать игрушку. Для этого ну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о: поставить игрушку, посмотреть, затем задать вопросы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1. Что это? или кто это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2. Какого цвета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3. Это что у зайки? (показать на ушки, хвостик, лапки)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4. Как можно назвать зайку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859E-9458-472D-9969-C503DAEFE6C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882D-70BB-4A78-AB38-704794D0327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учите детей сравнивать предметы находить общее; чем отличается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учите подбирать слова к определенным глаголам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, существительным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: собака бежит, а кто еще может бегать и т.д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для совершенствования правильного звукопроизношения используйте артикуляционную гимнастику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3A91-11D3-43DB-A4A1-F7775A0C6AF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746A-BB37-4C67-A33F-DADDA952AF0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alibri"/>
                <a:ea typeface="Aldhabi"/>
              </a:rPr>
              <a:t>В дошкольном возрасте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  <a:ea typeface="Aldhabi"/>
              </a:rPr>
              <a:t>происходит 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  <a:ea typeface="Aldhabi"/>
              </a:rPr>
              <a:t>активное накопление словаря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E3F-555C-4CCF-BAE1-82C0ED17547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2694-1E6D-454F-9B59-79213BF6F81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grpSp>
        <p:nvGrpSpPr>
          <p:cNvPr id="59" name="Organization Chart 7"/>
          <p:cNvGrpSpPr/>
          <p:nvPr/>
        </p:nvGrpSpPr>
        <p:grpSpPr>
          <a:xfrm>
            <a:off x="1214280" y="2071800"/>
            <a:ext cx="7142760" cy="4499280"/>
            <a:chOff x="1214280" y="2071800"/>
            <a:chExt cx="7142760" cy="4499280"/>
          </a:xfrm>
        </p:grpSpPr>
        <p:cxnSp>
          <p:nvCxnSpPr>
            <p:cNvPr id="60" name="_s1028"/>
            <p:cNvCxnSpPr>
              <a:stCxn id="61" idx="0"/>
              <a:endCxn id="62" idx="2"/>
            </p:cNvCxnSpPr>
            <p:nvPr/>
          </p:nvCxnSpPr>
          <p:spPr>
            <a:xfrm flipV="1" rot="16200000">
              <a:off x="5168160" y="3354120"/>
              <a:ext cx="1164240" cy="1933920"/>
            </a:xfrm>
            <a:prstGeom prst="bentConnector3">
              <a:avLst>
                <a:gd name="adj1" fmla="val 9805"/>
              </a:avLst>
            </a:prstGeom>
            <a:ln w="28440">
              <a:solidFill>
                <a:srgbClr val="8e0000"/>
              </a:solidFill>
              <a:miter/>
            </a:ln>
          </p:spPr>
        </p:cxnSp>
        <p:cxnSp>
          <p:nvCxnSpPr>
            <p:cNvPr id="63" name="_s1029"/>
            <p:cNvCxnSpPr>
              <a:stCxn id="64" idx="0"/>
              <a:endCxn id="62" idx="2"/>
            </p:cNvCxnSpPr>
            <p:nvPr/>
          </p:nvCxnSpPr>
          <p:spPr>
            <a:xfrm flipH="1" flipV="1" rot="5400000">
              <a:off x="3236760" y="3356640"/>
              <a:ext cx="1164240" cy="1929600"/>
            </a:xfrm>
            <a:prstGeom prst="bentConnector3">
              <a:avLst>
                <a:gd name="adj1" fmla="val 9805"/>
              </a:avLst>
            </a:prstGeom>
            <a:ln w="28440">
              <a:solidFill>
                <a:srgbClr val="8e0000"/>
              </a:solidFill>
              <a:miter/>
            </a:ln>
          </p:spPr>
        </p:cxnSp>
        <p:sp>
          <p:nvSpPr>
            <p:cNvPr id="62" name="_s1030"/>
            <p:cNvSpPr/>
            <p:nvPr/>
          </p:nvSpPr>
          <p:spPr>
            <a:xfrm>
              <a:off x="3143160" y="2071800"/>
              <a:ext cx="3280680" cy="1667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ЛОВАРЬ</a:t>
              </a:r>
              <a:endParaRPr b="0" lang="en-US" sz="3000" spc="-1" strike="noStrike">
                <a:solidFill>
                  <a:srgbClr val="8e0000"/>
                </a:solidFill>
                <a:latin typeface="Arial"/>
              </a:endParaRPr>
            </a:p>
          </p:txBody>
        </p:sp>
        <p:sp>
          <p:nvSpPr>
            <p:cNvPr id="64" name="_s1031"/>
            <p:cNvSpPr/>
            <p:nvPr/>
          </p:nvSpPr>
          <p:spPr>
            <a:xfrm>
              <a:off x="1214280" y="4903200"/>
              <a:ext cx="3280680" cy="1667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ТИВНЫ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</a:t>
              </a:r>
              <a:endParaRPr b="0" lang="en-US" sz="30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лова, которые </a:t>
              </a:r>
              <a:endParaRPr b="0" lang="en-US" sz="20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бенок произносит </a:t>
              </a:r>
              <a:endParaRPr b="0" lang="en-US" sz="20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своей речи.</a:t>
              </a:r>
              <a:endParaRPr b="0" lang="en-US" sz="2000" spc="-1" strike="noStrike">
                <a:solidFill>
                  <a:srgbClr val="8e0000"/>
                </a:solidFill>
                <a:latin typeface="Arial"/>
              </a:endParaRPr>
            </a:p>
          </p:txBody>
        </p:sp>
        <p:sp>
          <p:nvSpPr>
            <p:cNvPr id="61" name="_s1032"/>
            <p:cNvSpPr/>
            <p:nvPr/>
          </p:nvSpPr>
          <p:spPr>
            <a:xfrm>
              <a:off x="5076360" y="4903200"/>
              <a:ext cx="3280680" cy="1667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ССИВНЫЙ</a:t>
              </a:r>
              <a:r>
                <a:rPr b="0" lang="en-US" sz="3000" spc="-1" strike="noStrike">
                  <a:solidFill>
                    <a:srgbClr val="8e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</a:t>
              </a:r>
              <a:endParaRPr b="0" lang="en-US" sz="30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лова ребенок</a:t>
              </a:r>
              <a:endParaRPr b="0" lang="en-US" sz="21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произносит, </a:t>
              </a:r>
              <a:endParaRPr b="0" lang="en-US" sz="21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 соотносит </a:t>
              </a:r>
              <a:endParaRPr b="0" lang="en-US" sz="2100" spc="-1" strike="noStrike">
                <a:solidFill>
                  <a:srgbClr val="8e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 предметами.</a:t>
              </a:r>
              <a:endParaRPr b="0" lang="en-US" sz="2100" spc="-1" strike="noStrike">
                <a:solidFill>
                  <a:srgbClr val="8e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8e0000"/>
                </a:solidFill>
                <a:latin typeface="Calibri"/>
              </a:rPr>
              <a:t>На основе проводимой работы и наблюдений за развитием речи детей можно сделать вывод: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lvl="1"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8e0000"/>
                </a:solidFill>
                <a:latin typeface="Calibri"/>
              </a:rPr>
              <a:t>     </a:t>
            </a:r>
            <a:r>
              <a:rPr b="0" lang="ru-RU" sz="3300" spc="-1" strike="noStrike">
                <a:solidFill>
                  <a:srgbClr val="8e0000"/>
                </a:solidFill>
                <a:latin typeface="Calibri"/>
              </a:rPr>
              <a:t>Слаженная работа педагогов и родителей даёт положительные результаты. Дети овладевают правильной речью. У них формируются навыки чёткого, грамматически правильного оформления высказывания и выражения мыслей.</a:t>
            </a:r>
            <a:endParaRPr b="0" lang="en-US" sz="33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846-6BE9-49BA-B97C-E81C54B9AAF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A649-EFEB-4FCF-9253-E4BFB503A36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CB83-094B-4FA2-829A-75288CEF3E1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219" name="Нижний колонтитул 4" descr=""/>
          <p:cNvPicPr/>
          <p:nvPr/>
        </p:nvPicPr>
        <p:blipFill>
          <a:blip r:embed="rId1"/>
          <a:stretch/>
        </p:blipFill>
        <p:spPr>
          <a:xfrm>
            <a:off x="2066760" y="4456080"/>
            <a:ext cx="4815000" cy="1438200"/>
          </a:xfrm>
          <a:prstGeom prst="rect">
            <a:avLst/>
          </a:prstGeom>
          <a:ln w="0">
            <a:noFill/>
          </a:ln>
        </p:spPr>
      </p:pic>
      <p:sp>
        <p:nvSpPr>
          <p:cNvPr id="2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F2F9-566C-43A0-A9DA-FCD64EDA2AD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221" name="Содержимое 6" descr=""/>
          <p:cNvPicPr/>
          <p:nvPr/>
        </p:nvPicPr>
        <p:blipFill>
          <a:blip r:embed="rId2"/>
          <a:stretch/>
        </p:blipFill>
        <p:spPr>
          <a:xfrm>
            <a:off x="433440" y="706320"/>
            <a:ext cx="6662520" cy="3895920"/>
          </a:xfrm>
          <a:prstGeom prst="rect">
            <a:avLst/>
          </a:prstGeom>
          <a:ln w="0">
            <a:noFill/>
          </a:ln>
        </p:spPr>
      </p:pic>
      <p:sp>
        <p:nvSpPr>
          <p:cNvPr id="222" name="5-конечная звезда 8"/>
          <p:cNvSpPr/>
          <p:nvPr/>
        </p:nvSpPr>
        <p:spPr>
          <a:xfrm>
            <a:off x="5072040" y="364320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13" h="1143000">
                <a:moveTo>
                  <a:pt x="1" y="436586"/>
                </a:moveTo>
                <a:lnTo>
                  <a:pt x="518450" y="436589"/>
                </a:lnTo>
                <a:lnTo>
                  <a:pt x="678657" y="0"/>
                </a:lnTo>
                <a:lnTo>
                  <a:pt x="838863" y="436589"/>
                </a:lnTo>
                <a:lnTo>
                  <a:pt x="1357312" y="436586"/>
                </a:lnTo>
                <a:lnTo>
                  <a:pt x="937876" y="706409"/>
                </a:lnTo>
                <a:lnTo>
                  <a:pt x="1098090" y="1142996"/>
                </a:lnTo>
                <a:lnTo>
                  <a:pt x="678657" y="873168"/>
                </a:lnTo>
                <a:lnTo>
                  <a:pt x="259223" y="1142996"/>
                </a:lnTo>
                <a:lnTo>
                  <a:pt x="419437" y="7064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23" name="5-конечная звезда 9"/>
          <p:cNvSpPr/>
          <p:nvPr/>
        </p:nvSpPr>
        <p:spPr>
          <a:xfrm>
            <a:off x="6929280" y="714240"/>
            <a:ext cx="1357560" cy="1143000"/>
          </a:xfrm>
          <a:custGeom>
            <a:avLst/>
            <a:gdLst>
              <a:gd name="textAreaLeft" fmla="*/ 419400 w 1357560"/>
              <a:gd name="textAreaRight" fmla="*/ 938160 w 135756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13" h="1143000">
                <a:moveTo>
                  <a:pt x="1" y="436586"/>
                </a:moveTo>
                <a:lnTo>
                  <a:pt x="518450" y="436589"/>
                </a:lnTo>
                <a:lnTo>
                  <a:pt x="678657" y="0"/>
                </a:lnTo>
                <a:lnTo>
                  <a:pt x="838863" y="436589"/>
                </a:lnTo>
                <a:lnTo>
                  <a:pt x="1357312" y="436586"/>
                </a:lnTo>
                <a:lnTo>
                  <a:pt x="937876" y="706409"/>
                </a:lnTo>
                <a:lnTo>
                  <a:pt x="1098090" y="1142996"/>
                </a:lnTo>
                <a:lnTo>
                  <a:pt x="678657" y="873168"/>
                </a:lnTo>
                <a:lnTo>
                  <a:pt x="259223" y="1142996"/>
                </a:lnTo>
                <a:lnTo>
                  <a:pt x="419437" y="7064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24" name="5-конечная звезда 10"/>
          <p:cNvSpPr/>
          <p:nvPr/>
        </p:nvSpPr>
        <p:spPr>
          <a:xfrm>
            <a:off x="428760" y="321480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13" h="1143000">
                <a:moveTo>
                  <a:pt x="1" y="436586"/>
                </a:moveTo>
                <a:lnTo>
                  <a:pt x="518450" y="436589"/>
                </a:lnTo>
                <a:lnTo>
                  <a:pt x="678657" y="0"/>
                </a:lnTo>
                <a:lnTo>
                  <a:pt x="838863" y="436589"/>
                </a:lnTo>
                <a:lnTo>
                  <a:pt x="1357312" y="436586"/>
                </a:lnTo>
                <a:lnTo>
                  <a:pt x="937876" y="706409"/>
                </a:lnTo>
                <a:lnTo>
                  <a:pt x="1098090" y="1142996"/>
                </a:lnTo>
                <a:lnTo>
                  <a:pt x="678657" y="873168"/>
                </a:lnTo>
                <a:lnTo>
                  <a:pt x="259223" y="1142996"/>
                </a:lnTo>
                <a:lnTo>
                  <a:pt x="419437" y="7064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225" name="Picture 2" descr="D:\Оксане\картинки\шары\b9.gif"/>
          <p:cNvPicPr/>
          <p:nvPr/>
        </p:nvPicPr>
        <p:blipFill>
          <a:blip r:embed="rId3"/>
          <a:stretch/>
        </p:blipFill>
        <p:spPr>
          <a:xfrm>
            <a:off x="6357960" y="1214280"/>
            <a:ext cx="2182680" cy="357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Оксане\картинки\шары\b9.gif"/>
          <p:cNvPicPr/>
          <p:nvPr/>
        </p:nvPicPr>
        <p:blipFill>
          <a:blip r:embed="rId4"/>
          <a:stretch/>
        </p:blipFill>
        <p:spPr>
          <a:xfrm>
            <a:off x="4286160" y="2905200"/>
            <a:ext cx="571680" cy="1047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:\Оксане\картинки\шары\b9.gif"/>
          <p:cNvPicPr/>
          <p:nvPr/>
        </p:nvPicPr>
        <p:blipFill>
          <a:blip r:embed="rId5"/>
          <a:stretch/>
        </p:blipFill>
        <p:spPr>
          <a:xfrm>
            <a:off x="4286160" y="2905200"/>
            <a:ext cx="571680" cy="1047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D:\Оксане\картинки\шары\bestgif.narod.ru_10269.gif"/>
          <p:cNvPicPr/>
          <p:nvPr/>
        </p:nvPicPr>
        <p:blipFill>
          <a:blip r:embed="rId6"/>
          <a:stretch/>
        </p:blipFill>
        <p:spPr>
          <a:xfrm>
            <a:off x="571680" y="4572000"/>
            <a:ext cx="207144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dine Kirnberg"/>
                <a:ea typeface="Times New Roman"/>
              </a:rPr>
              <a:t>Задачи по развитию речи, которые  решаются </a:t>
            </a:r>
            <a:br>
              <a:rPr sz="3200"/>
            </a:br>
            <a:r>
              <a:rPr b="1" lang="ru-RU" sz="3200" spc="-1" strike="noStrike">
                <a:solidFill>
                  <a:srgbClr val="10253f"/>
                </a:solidFill>
                <a:latin typeface="Adine Kirnberg"/>
                <a:ea typeface="Times New Roman"/>
              </a:rPr>
              <a:t>в младшем дошкольном возрасте в ДОУ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8002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Формирование звуковой культуры речи (учим произносить внятно определённые звуки - водичка льётся с-с-с; комар пищит – з-з-з-з).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Обогащение словаря (помогаем активизировать и расширить словарный запас)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Формирование грамматического строя (учим согласовывать существительное с прилагательным - морковь большая; учим употреблять предлоги – в, на, под, за; учимся употреблять существительные во мн. ч и ед. ч. –  кошка-котята,  утка-утята).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Обучение рассказыванию, развитие связной речи (Учим слушать внимательно, понимать заданный вопрос, отвечать на него, говорить не перебивая друг друга, употреблять в речи вежливые слова)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e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Развитие интонационной выразительности (рассказывать стихи с разной интонацией – громко, тихо, медленно, быстро).</a:t>
            </a:r>
            <a:br>
              <a:rPr sz="1600"/>
            </a:b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8e0000"/>
                </a:solidFill>
                <a:latin typeface="Calibri"/>
              </a:rPr>
              <a:t>В детском саду работа по развитию речи ведётся на протяжении всех режимных моментов (утренняя зарядка в стихах, на занятиях, на прогулке и т.д.)</a:t>
            </a: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04D7-E1C8-4A8B-87A8-6851E1798AC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081C-5781-4EE3-96F7-8F91E6975B6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B7CE-3D22-440F-9687-026BDBAA035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86C7-7172-4D00-AD7E-C581BE4D4BE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00040" y="3429000"/>
            <a:ext cx="8001000" cy="293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71680" y="887400"/>
            <a:ext cx="2857320" cy="3284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3" descr=""/>
          <p:cNvPicPr/>
          <p:nvPr/>
        </p:nvPicPr>
        <p:blipFill>
          <a:blip r:embed="rId3"/>
          <a:stretch/>
        </p:blipFill>
        <p:spPr>
          <a:xfrm>
            <a:off x="3328920" y="835200"/>
            <a:ext cx="561348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танция Творческая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4642920"/>
            <a:ext cx="857268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Подскажет Вам как помочь Вашему ребенку овладеть образной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речью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Расскажет  о  важности формирования грамматического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8e0000"/>
                </a:solidFill>
                <a:latin typeface="Calibri"/>
              </a:rPr>
              <a:t>строя речи и простейших способах решения этой проблемы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0B3F-62CF-4BFD-A23A-2360CD11587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0FD5-800E-419C-BF97-83B36B47B1B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81" name="Picture 2" descr="C:\Users\Елена\Desktop\родительское собрание\29766e2a37e979b18d18c428ff9c5aba_XL.jpg"/>
          <p:cNvPicPr/>
          <p:nvPr/>
        </p:nvPicPr>
        <p:blipFill>
          <a:blip r:embed="rId1"/>
          <a:stretch/>
        </p:blipFill>
        <p:spPr>
          <a:xfrm>
            <a:off x="714240" y="1500120"/>
            <a:ext cx="68342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8e0000"/>
                </a:solidFill>
                <a:latin typeface="Calibri"/>
              </a:rPr>
              <a:t>Грамматический строй речи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дача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совершенствовать умение согласовывать прилагательные с существительными в роде, числе, падеже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Упражнение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Жёлтое…. (солнце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Пушистые…(           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Машина…какая? (        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B102-6471-45E5-BFAE-E378A465A05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0CEF-9B6C-4B44-8BD7-14622CBE4E0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8e0000"/>
                </a:solidFill>
                <a:latin typeface="Calibri"/>
              </a:rPr>
              <a:t>Грамматический строй речи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дача: научить употреблять существительные с предлогами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Упражнение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йчик ( под столом, над столом, на столе 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Ворона (над крышей, на крыши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Мячик (под столом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Поросенок (в коробке)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1B25-8AE7-4B5C-826D-F0801118C58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1992-87E7-480B-A69A-1C4CB96B5B8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8e0000"/>
                </a:solidFill>
                <a:latin typeface="Calibri"/>
              </a:rPr>
              <a:t>Грамматический строй речи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дача: Учить детей употреблять в речи существительные в форме единственного и множественного числа, обозначающих животных и их детенышей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Упражнение: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Утка- утенок- утята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Кошка- ……..- …….. 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Собака-………- …….. и т.д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252A-E611-4E2D-8AB4-19301371DC6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44C6-2869-4856-A70F-05DDADC0932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9:15:12Z</dcterms:created>
  <dc:creator>Admin</dc:creator>
  <dc:description>http://aida.ucoz.ru</dc:description>
  <dc:language>en-US</dc:language>
  <cp:lastModifiedBy>Ирина</cp:lastModifiedBy>
  <dcterms:modified xsi:type="dcterms:W3CDTF">2017-09-04T22:06:54Z</dcterms:modified>
  <cp:revision>55</cp:revision>
  <dc:subject/>
  <dc:title>Слайд 1</dc:title>
</cp:coreProperties>
</file>