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19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image2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33.jpeg" ContentType="image/jpeg"/>
  <Override PartName="/ppt/media/image27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8B1C-8B0B-40F6-973E-1B2E921F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4AD8-AC43-4F28-AE2E-6103D49A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5D9A-7CD6-43D7-BF01-CB7F3EB6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99FE-E413-41FB-A2FD-647568A5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C5FD-AB8C-4EA6-B0CC-D9ED76E6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8501-CC86-4EB3-9D1E-7F73C372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8C46-760C-446E-A3A5-EA4F1671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EA11-E252-4CDD-9F3F-7BCBFA18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ACC1-D40A-420E-BD05-8B234294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7B62-5044-45B3-83D1-F0B640F3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C97E-C7F1-43E6-9A7D-6526714D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F568-4D87-40F5-BE9F-CFEA1538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e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e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e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6CC4-6179-427B-8015-602AC0684BFB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279F-3CFD-43B4-A9F1-88F4B3ED1D11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image" Target="../media/image39.gif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оловок 1"/>
          <p:cNvGrpSpPr/>
          <p:nvPr/>
        </p:nvGrpSpPr>
        <p:grpSpPr>
          <a:xfrm>
            <a:off x="407880" y="841320"/>
            <a:ext cx="8259840" cy="1243080"/>
            <a:chOff x="407880" y="841320"/>
            <a:chExt cx="8259840" cy="1243080"/>
          </a:xfrm>
        </p:grpSpPr>
        <p:pic>
          <p:nvPicPr>
            <p:cNvPr id="4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07880" y="841320"/>
              <a:ext cx="825984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28760" y="857160"/>
              <a:ext cx="82296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400"/>
              </a:br>
              <a:r>
                <a:rPr b="0" lang="ru-RU" sz="4400" spc="-1" strike="noStrike">
                  <a:solidFill>
                    <a:srgbClr val="8e0000"/>
                  </a:solidFill>
                  <a:latin typeface="Monotype Corsiva"/>
                </a:rPr>
                <a:t>Родительское собрание на тему:</a:t>
              </a:r>
              <a:br>
                <a:rPr sz="4400"/>
              </a:br>
              <a:r>
                <a:rPr b="1" lang="ru-RU" sz="3600" spc="-1" strike="noStrike">
                  <a:solidFill>
                    <a:srgbClr val="002060"/>
                  </a:solidFill>
                  <a:latin typeface="Monotype Corsiva"/>
                  <a:ea typeface="NSimSun"/>
                </a:rPr>
                <a:t>«Путешествие в страну – Развитие речи»</a:t>
              </a:r>
              <a:br>
                <a:rPr sz="3600"/>
              </a:br>
              <a:endParaRPr b="0" lang="en-US" sz="3600" spc="-1" strike="noStrike">
                <a:solidFill>
                  <a:srgbClr val="8e0000"/>
                </a:solidFill>
                <a:latin typeface="Arial"/>
              </a:endParaRPr>
            </a:p>
          </p:txBody>
        </p:sp>
      </p:grpSp>
      <p:sp>
        <p:nvSpPr>
          <p:cNvPr id="44" name=""/>
          <p:cNvSpPr txBox="1"/>
          <p:nvPr/>
        </p:nvSpPr>
        <p:spPr>
          <a:xfrm>
            <a:off x="456840" y="2143080"/>
            <a:ext cx="76150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(формирование речи детей дошкольного возраста)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FBFC-D161-4C31-8F3C-EB81D108C27F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C7A3-1287-42EC-8158-FF96B85CE8B9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48" name="Picture 2" descr="H:\Documents and Settings\Aida\Рабочий стол\НОвая ГРАФИКА сборник\детские рисунки\0370010237.jpg"/>
          <p:cNvPicPr/>
          <p:nvPr/>
        </p:nvPicPr>
        <p:blipFill>
          <a:blip r:embed="rId2"/>
          <a:stretch/>
        </p:blipFill>
        <p:spPr>
          <a:xfrm>
            <a:off x="4572000" y="321480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"/>
          <p:cNvPicPr/>
          <p:nvPr/>
        </p:nvPicPr>
        <p:blipFill>
          <a:blip r:embed="rId3"/>
          <a:stretch/>
        </p:blipFill>
        <p:spPr>
          <a:xfrm>
            <a:off x="500040" y="3071880"/>
            <a:ext cx="43880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8e0000"/>
                </a:solidFill>
                <a:latin typeface="Calibri"/>
              </a:rPr>
              <a:t>Практическое задание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D4D5-EB95-473D-93D9-FF099462F477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853E-7A8E-4B88-A47B-0A1485E0E57B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00" name="Picture 2" descr="C:\Users\Елена\Desktop\родительское собрание\img1.jpg"/>
          <p:cNvPicPr/>
          <p:nvPr/>
        </p:nvPicPr>
        <p:blipFill>
          <a:blip r:embed="rId1"/>
          <a:stretch/>
        </p:blipFill>
        <p:spPr>
          <a:xfrm>
            <a:off x="754200" y="1571760"/>
            <a:ext cx="774684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Станция Сказочная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3280" y="1143000"/>
            <a:ext cx="4043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П</a:t>
            </a: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ознакомит с задачами развития связной речи: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e0000"/>
                </a:solidFill>
                <a:latin typeface="Calibri"/>
              </a:rPr>
              <a:t>Развитие диалогической речи. Вовлечение детей в разговор во время рассматриваний предметов, иллюстраций; наблюдений за живой и неживой природой ; после просмотра мультфильмов и спектаклей.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e0000"/>
                </a:solidFill>
                <a:latin typeface="Calibri"/>
              </a:rPr>
              <a:t>Развитие инициативной речи во взаимодействии со взрослыми и сверстниками.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7EDC-444F-4BB8-9A67-122FC06149FA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E3B8-6637-4789-BC2C-AD85A9ACA46F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06" name="Picture 3" descr="C:\Users\Елена\Desktop\родительское собрание\0003.jpg"/>
          <p:cNvPicPr/>
          <p:nvPr/>
        </p:nvPicPr>
        <p:blipFill>
          <a:blip r:embed="rId1"/>
          <a:stretch/>
        </p:blipFill>
        <p:spPr>
          <a:xfrm>
            <a:off x="571680" y="1285920"/>
            <a:ext cx="40716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Телефон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разговоры по телефону (настоящему с бабушкой или игрушечному) способствуют развитию активной устной речи детей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Ситуация общения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«Расскажи…».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Взрослый с помощью наводящих вопросов побуждает ребенка делиться своими впечатлениями, опытом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( …А меня научишь???)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Необходимо создавать ситуацию успеха. Похвалить ребенка за интересный рассказ или за то, чему он вас научил.  У ребенка постепенно будет складываться понимание того, что делиться чем-то, рассказывать- это интересно и здорово!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3CCA-9F81-4FA9-9A8F-F827411D1955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CD11-6120-4556-8B3A-B465CA043C46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53735"/>
                </a:solidFill>
                <a:latin typeface="Arial"/>
              </a:rPr>
              <a:t>Для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953735"/>
                </a:solidFill>
                <a:latin typeface="Arial"/>
              </a:rPr>
              <a:t>обучения пересказыванию и составлению рассказов в нашей практике мы широко используем метод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Мнемотехника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Мнемотехника - это совокупность правил и приемов, облегчающих процесс запоминания информации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Мнемотехника помогает развивать: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ассоциативное мышление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зрительную и слуховую память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зрительное и слуховое внимание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Воображение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1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FDAB-11F9-43FD-B2E8-56502A036F7F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1F8D-6E2C-4611-A21F-D1C8C64340C6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e0000"/>
                </a:solidFill>
                <a:latin typeface="Calibri"/>
              </a:rPr>
              <a:t>Для этого используются следующие таблицы: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1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8EC6-3599-43DE-B82A-4BB64942D537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5AC2-BE4F-4A28-8070-6B67AA40F6B4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19" name="Рисунок 6" descr="SNC00149.jpg"/>
          <p:cNvPicPr/>
          <p:nvPr/>
        </p:nvPicPr>
        <p:blipFill>
          <a:blip r:embed="rId1"/>
          <a:stretch/>
        </p:blipFill>
        <p:spPr>
          <a:xfrm rot="20591400">
            <a:off x="596880" y="1562040"/>
            <a:ext cx="3214800" cy="21290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8" descr="SNC00146.jpg"/>
          <p:cNvPicPr/>
          <p:nvPr/>
        </p:nvPicPr>
        <p:blipFill>
          <a:blip r:embed="rId2"/>
          <a:stretch/>
        </p:blipFill>
        <p:spPr>
          <a:xfrm>
            <a:off x="6143760" y="1214280"/>
            <a:ext cx="2214360" cy="26593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9" descr="SNC00148.jpg"/>
          <p:cNvPicPr/>
          <p:nvPr/>
        </p:nvPicPr>
        <p:blipFill>
          <a:blip r:embed="rId3"/>
          <a:stretch/>
        </p:blipFill>
        <p:spPr>
          <a:xfrm>
            <a:off x="1357200" y="3286080"/>
            <a:ext cx="2643480" cy="31510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0" descr="SNC00150.jpg"/>
          <p:cNvPicPr/>
          <p:nvPr/>
        </p:nvPicPr>
        <p:blipFill>
          <a:blip r:embed="rId4"/>
          <a:stretch/>
        </p:blipFill>
        <p:spPr>
          <a:xfrm rot="691200">
            <a:off x="4571640" y="4016160"/>
            <a:ext cx="3597120" cy="2508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Users\Елена\Pictures\50825_html_86a5bb0.jpg"/>
          <p:cNvPicPr/>
          <p:nvPr/>
        </p:nvPicPr>
        <p:blipFill>
          <a:blip r:embed="rId5"/>
          <a:stretch/>
        </p:blipFill>
        <p:spPr>
          <a:xfrm>
            <a:off x="4143240" y="1857240"/>
            <a:ext cx="18576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8e0000"/>
                </a:solidFill>
                <a:latin typeface="Calibri"/>
              </a:rPr>
              <a:t>Практическое задание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2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7964-F91D-46D1-B764-8D893C9ED7FF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2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2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4459-B648-4C60-8FD4-B17EF2999304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28" name="Picture 2" descr="C:\Users\Елена\Pictures\50825_html_86a5bb0.jpg"/>
          <p:cNvPicPr/>
          <p:nvPr/>
        </p:nvPicPr>
        <p:blipFill>
          <a:blip r:embed="rId1"/>
          <a:stretch/>
        </p:blipFill>
        <p:spPr>
          <a:xfrm rot="20614800">
            <a:off x="857160" y="1804680"/>
            <a:ext cx="2502000" cy="2381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Users\Елена\Downloads\imgpreview (2).jpg"/>
          <p:cNvPicPr/>
          <p:nvPr/>
        </p:nvPicPr>
        <p:blipFill>
          <a:blip r:embed="rId2"/>
          <a:stretch/>
        </p:blipFill>
        <p:spPr>
          <a:xfrm>
            <a:off x="5929200" y="1571760"/>
            <a:ext cx="2571840" cy="2571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3"/>
          <a:stretch/>
        </p:blipFill>
        <p:spPr>
          <a:xfrm>
            <a:off x="3214800" y="2286000"/>
            <a:ext cx="242892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CBE9-E6EE-44E9-BA8B-C7608DCF1FDE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3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3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EB5B-D488-44C5-B82F-5D99F164FE4C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34" name="Picture 4" descr="C:\Users\Елена\Downloads\3925202labmoiu1221769130.jpg"/>
          <p:cNvPicPr/>
          <p:nvPr/>
        </p:nvPicPr>
        <p:blipFill>
          <a:blip r:embed="rId1"/>
          <a:stretch/>
        </p:blipFill>
        <p:spPr>
          <a:xfrm>
            <a:off x="928800" y="785880"/>
            <a:ext cx="734364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Станция «Веселые пальчики»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71680" y="2143080"/>
            <a:ext cx="811512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Моторные центры в коре головного мозга человека находятся рядом с моторными центрами пальцев, поэтому, развивая речь и стимулируя моторику пальцев, мы передаем импульсы в речевые центры, что активизирует речь</a:t>
            </a:r>
            <a:r>
              <a:rPr b="0" lang="ru-RU" sz="3200" spc="-1" strike="noStrike">
                <a:solidFill>
                  <a:srgbClr val="8e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3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05C2-C0BB-4BA9-855C-43F1C6C0A5A5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3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3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82C3-39D8-493C-B90E-D054F5DC7BDD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1f497d"/>
                </a:solidFill>
                <a:latin typeface="Calibri"/>
              </a:rPr>
              <a:t>Самомассаж пальцев рук.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4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A2D5-09C4-4061-957F-11C235B4699D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4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4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70FF-5C23-4F47-A73A-9DC01CE9CFB0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3071880" y="2000160"/>
            <a:ext cx="2643120" cy="284472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7"/>
          <p:cNvSpPr/>
          <p:nvPr/>
        </p:nvSpPr>
        <p:spPr>
          <a:xfrm>
            <a:off x="3286080" y="1500120"/>
            <a:ext cx="2381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e0000"/>
                </a:solidFill>
                <a:latin typeface="Cambria"/>
              </a:rPr>
              <a:t>средний</a:t>
            </a:r>
            <a:r>
              <a:rPr b="0" lang="ru-RU" sz="2000" spc="-1" strike="noStrike">
                <a:solidFill>
                  <a:srgbClr val="8e0000"/>
                </a:solidFill>
                <a:latin typeface="Cambria"/>
              </a:rPr>
              <a:t> – </a:t>
            </a:r>
            <a:r>
              <a:rPr b="0" lang="ru-RU" sz="1800" spc="-1" strike="noStrike">
                <a:solidFill>
                  <a:srgbClr val="8e0000"/>
                </a:solidFill>
                <a:latin typeface="Cambria"/>
              </a:rPr>
              <a:t>кишечник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500040" y="20001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0000"/>
                </a:solidFill>
                <a:latin typeface="Cambria"/>
                <a:ea typeface="HGｺﾞｼｯｸE"/>
              </a:rPr>
              <a:t>указательный палец -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  <a:ea typeface="HGｺﾞｼｯｸE"/>
              </a:rPr>
              <a:t>же </a:t>
            </a:r>
            <a:r>
              <a:rPr b="1" lang="ru-RU" sz="1800" spc="-1" strike="noStrike">
                <a:solidFill>
                  <a:srgbClr val="8e0000"/>
                </a:solidFill>
                <a:latin typeface="Cambria"/>
                <a:ea typeface="HGｺﾞｼｯｸE"/>
              </a:rPr>
              <a:t>желудок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  <a:ea typeface="HGｺﾞｼｯｸE"/>
              </a:rPr>
              <a:t> желудок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571680" y="3071880"/>
            <a:ext cx="25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0000"/>
                </a:solidFill>
                <a:latin typeface="Cambria"/>
                <a:ea typeface="HGｺﾞｼｯｸE"/>
              </a:rPr>
              <a:t>большой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  <a:ea typeface="HGｺﾞｼｯｸE"/>
              </a:rPr>
              <a:t> </a:t>
            </a:r>
            <a:r>
              <a:rPr b="1" lang="ru-RU" sz="1800" spc="-1" strike="noStrike">
                <a:solidFill>
                  <a:srgbClr val="8e0000"/>
                </a:solidFill>
                <a:latin typeface="Cambria"/>
                <a:ea typeface="HGｺﾞｼｯｸE"/>
              </a:rPr>
              <a:t>палец -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  <a:ea typeface="HGｺﾞｼｯｸE"/>
              </a:rPr>
              <a:t> </a:t>
            </a:r>
            <a:r>
              <a:rPr b="1" lang="ru-RU" sz="1800" spc="-1" strike="noStrike">
                <a:solidFill>
                  <a:srgbClr val="8e0000"/>
                </a:solidFill>
                <a:latin typeface="Cambria"/>
                <a:ea typeface="HGｺﾞｼｯｸE"/>
              </a:rPr>
              <a:t>голова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48" name="Прямоугольник 11"/>
          <p:cNvSpPr/>
          <p:nvPr/>
        </p:nvSpPr>
        <p:spPr>
          <a:xfrm>
            <a:off x="5929200" y="221472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0000"/>
                </a:solidFill>
                <a:latin typeface="Cambria"/>
                <a:ea typeface="HGｺﾞｼｯｸE"/>
              </a:rPr>
              <a:t>Безымянный -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  <a:ea typeface="HGｺﾞｼｯｸE"/>
              </a:rPr>
              <a:t>-– </a:t>
            </a:r>
            <a:r>
              <a:rPr b="1" lang="ru-RU" sz="1800" spc="-1" strike="noStrike">
                <a:solidFill>
                  <a:srgbClr val="8e0000"/>
                </a:solidFill>
                <a:latin typeface="Cambria"/>
                <a:ea typeface="HGｺﾞｼｯｸE"/>
              </a:rPr>
              <a:t>печень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49" name="Прямоугольник 12"/>
          <p:cNvSpPr/>
          <p:nvPr/>
        </p:nvSpPr>
        <p:spPr>
          <a:xfrm>
            <a:off x="5983200" y="3071880"/>
            <a:ext cx="22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0000"/>
                </a:solidFill>
                <a:latin typeface="Cambria"/>
                <a:ea typeface="HGｺﾞｼｯｸE"/>
              </a:rPr>
              <a:t>мизинец –сердце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50" name="Прямоугольник 13"/>
          <p:cNvSpPr/>
          <p:nvPr/>
        </p:nvSpPr>
        <p:spPr>
          <a:xfrm>
            <a:off x="428760" y="4429080"/>
            <a:ext cx="664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e0000"/>
                </a:solidFill>
                <a:latin typeface="Arial"/>
              </a:rPr>
              <a:t>На ладони находится множество биологически активных точек. Воздействуя на них, можно регулировать функционирование внутренних органов. </a:t>
            </a:r>
            <a:br>
              <a:rPr sz="2000"/>
            </a:br>
            <a:r>
              <a:rPr b="1" i="1" lang="ru-RU" sz="2000" spc="-1" strike="noStrike">
                <a:solidFill>
                  <a:srgbClr val="8e0000"/>
                </a:solidFill>
                <a:latin typeface="Arial"/>
              </a:rPr>
              <a:t> Следовательно, воздействуя на определенные точки, можно влиять на соответствующие этой точке органы человека.</a:t>
            </a:r>
            <a:endParaRPr b="0" lang="en-US" sz="20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Пальчиковая гимнастика.</a:t>
            </a:r>
            <a:br>
              <a:rPr sz="2400"/>
            </a:br>
            <a:r>
              <a:rPr b="0" lang="ru-RU" sz="2000" spc="-1" strike="noStrike">
                <a:solidFill>
                  <a:srgbClr val="8e0000"/>
                </a:solidFill>
                <a:latin typeface="Calibri"/>
              </a:rPr>
              <a:t>Развивает ловкость, подвижность, творческие способности, внимание и скорость реакции, а веселые стихи помогают снять нервное напряжение.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Пальчиковая игра «Медведь» (с предметом) </a:t>
            </a:r>
            <a:br>
              <a:rPr sz="2800"/>
            </a:b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(медленно засовывайте платочек одним пальцем в кулак) </a:t>
            </a:r>
            <a:br>
              <a:rPr sz="2800"/>
            </a:b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Лез медведь в свою берлогу, </a:t>
            </a:r>
            <a:br>
              <a:rPr sz="2800"/>
            </a:b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Все бока свои помял, </a:t>
            </a:r>
            <a:br>
              <a:rPr sz="2800"/>
            </a:b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Эй, скорее, на подмогу, </a:t>
            </a:r>
            <a:br>
              <a:rPr sz="2800"/>
            </a:b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Мишка, кажется, застрял! </a:t>
            </a:r>
            <a:br>
              <a:rPr sz="2800"/>
            </a:b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(с силой вытянуть платочек) 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5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E4E6-7F13-4A4D-9766-1BD123A838C9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5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5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9E54-6C98-41BB-8A12-BBD9B15A57CC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e0000"/>
                </a:solidFill>
                <a:latin typeface="Ariston"/>
              </a:rPr>
              <a:t>Хорошо развитая речь ребенка способствует успешному обучению в школе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сновные задачи речевого развития детей: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- овладение нормами и правилами родного языка, определёнными для каждого возраста;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- развитие у детей коммуникативных способностей (способности общаться) .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развитие словаря.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3228-A3CF-4CBE-A321-DBCCF78DF41A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E3EB-3904-40AC-80B9-5FCAED094773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6840" y="928440"/>
            <a:ext cx="425772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Пальчиками можно рассказывать стихи. </a:t>
            </a:r>
            <a:br>
              <a:rPr sz="3200"/>
            </a:b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«Под берёзой на пригорке </a:t>
            </a:r>
            <a:br>
              <a:rPr sz="2800"/>
            </a:b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Старый ёж устроил норку. </a:t>
            </a:r>
            <a:br>
              <a:rPr sz="2800"/>
            </a:b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А под листьями лежат </a:t>
            </a:r>
            <a:br>
              <a:rPr sz="2800"/>
            </a:b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Двое маленьких ежат. </a:t>
            </a:r>
            <a:br>
              <a:rPr sz="2800"/>
            </a:b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5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9DCC-534A-4469-A3DA-FB6C709B6835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5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5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FBE9-49D4-4FD9-8636-192008F867F8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60" name="Picture 3" descr="F:\DCIM\111NIKON\DSCN2338.JPG"/>
          <p:cNvPicPr/>
          <p:nvPr/>
        </p:nvPicPr>
        <p:blipFill>
          <a:blip r:embed="rId1"/>
          <a:stretch/>
        </p:blipFill>
        <p:spPr>
          <a:xfrm>
            <a:off x="4643280" y="1714680"/>
            <a:ext cx="37386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Станция «Игровая»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6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2C04-4592-4A91-82E3-29F4E186191C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6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6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0DD7-CE5F-4C02-8A65-D652AF3B4D4D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    </a:t>
            </a:r>
            <a:r>
              <a:rPr b="1" i="1" lang="ru-RU" sz="2800" spc="-1" strike="noStrike">
                <a:solidFill>
                  <a:srgbClr val="8e0000"/>
                </a:solidFill>
                <a:latin typeface="Calibri"/>
              </a:rPr>
              <a:t>На этой станции мы рассмотрим задачи по  формированию звуковой культуры речи: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Совершенствовать умение детей внятно произносить в словах гласные звуки (а,у,и,о,э,ы) и некоторые согласные звуки ( п-б-т-д-к-г-ф-в-т</a:t>
            </a:r>
            <a:r>
              <a:rPr b="0" lang="ru-RU" sz="2400" spc="-1" strike="noStrike">
                <a:solidFill>
                  <a:srgbClr val="8e0000"/>
                </a:solidFill>
                <a:latin typeface="Arial"/>
              </a:rPr>
              <a:t>-д</a:t>
            </a: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с-з-ц)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    </a:t>
            </a:r>
            <a:r>
              <a:rPr b="0" i="1" lang="ru-RU" sz="2400" spc="-1" strike="noStrike">
                <a:solidFill>
                  <a:srgbClr val="8e0000"/>
                </a:solidFill>
                <a:latin typeface="Calibri"/>
              </a:rPr>
              <a:t>Наибольшее беспокойство у родителей вызывает звукопроизношение детей, так как это наиболее заметный дефект. Окружающие могут не заметить ограниченность словаря или особенности грамматического строя речи, а вот не правильное произношение – как на ладошке. Здесь на помощь придут </a:t>
            </a:r>
            <a:r>
              <a:rPr b="1" i="1" lang="ru-RU" sz="2400" spc="-1" strike="noStrike">
                <a:solidFill>
                  <a:srgbClr val="8e0000"/>
                </a:solidFill>
                <a:latin typeface="Calibri"/>
              </a:rPr>
              <a:t>игры.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f497d"/>
                </a:solidFill>
                <a:latin typeface="Calibri"/>
              </a:rPr>
              <a:t>Чистоговорки: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Уп , уп , уп – мама варит суп. (зв. П.)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БЫ, бы, бы – идёт дым из трубы. (зв. Б)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«Бублик, баранку, батон и буханку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Пекарь из теста испёк спозаранку». (зв. П-б)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«Жа- жа –жа, есть иголки у ежа» .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66ff"/>
                </a:solidFill>
                <a:latin typeface="Calibri"/>
              </a:rPr>
              <a:t>Речев</a:t>
            </a:r>
            <a:r>
              <a:rPr b="0" i="1" lang="ru-RU" sz="2800" spc="-1" strike="noStrike">
                <a:solidFill>
                  <a:srgbClr val="0066ff"/>
                </a:solidFill>
                <a:latin typeface="Arial"/>
              </a:rPr>
              <a:t>ые</a:t>
            </a:r>
            <a:r>
              <a:rPr b="0" i="1" lang="ru-RU" sz="2800" spc="-1" strike="noStrike">
                <a:solidFill>
                  <a:srgbClr val="0066ff"/>
                </a:solidFill>
                <a:latin typeface="Calibri"/>
              </a:rPr>
              <a:t> игр</a:t>
            </a:r>
            <a:r>
              <a:rPr b="0" i="1" lang="ru-RU" sz="2800" spc="-1" strike="noStrike">
                <a:solidFill>
                  <a:srgbClr val="0066ff"/>
                </a:solidFill>
                <a:latin typeface="Arial"/>
              </a:rPr>
              <a:t>ы</a:t>
            </a:r>
            <a:r>
              <a:rPr b="0" i="1" lang="ru-RU" sz="2800" spc="-1" strike="noStrike">
                <a:solidFill>
                  <a:srgbClr val="8e0000"/>
                </a:solidFill>
                <a:latin typeface="Arial"/>
              </a:rPr>
              <a:t>:</a:t>
            </a:r>
            <a:r>
              <a:rPr b="0" i="1" lang="ru-RU" sz="2800" spc="-1" strike="noStrike">
                <a:solidFill>
                  <a:srgbClr val="8e0000"/>
                </a:solidFill>
                <a:latin typeface="Calibri"/>
              </a:rPr>
              <a:t>«Насос»</a:t>
            </a:r>
            <a:r>
              <a:rPr b="0" i="1" lang="ru-RU" sz="2800" spc="-1" strike="noStrike">
                <a:solidFill>
                  <a:srgbClr val="8e0000"/>
                </a:solidFill>
                <a:latin typeface="Arial"/>
              </a:rPr>
              <a:t>, «Комар», «Жук».</a:t>
            </a:r>
            <a:r>
              <a:rPr b="0" i="1" lang="ru-RU" sz="2800" spc="-1" strike="noStrike">
                <a:solidFill>
                  <a:srgbClr val="8e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Дети, подражая действию насоса, произносят звук «С-С-С…»</a:t>
            </a:r>
            <a:r>
              <a:rPr b="0" lang="ru-RU" sz="2800" spc="-1" strike="noStrike">
                <a:solidFill>
                  <a:srgbClr val="8e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8e0000"/>
                </a:solidFill>
                <a:latin typeface="Arial"/>
              </a:rPr>
              <a:t>комара- «з-з-з», «ж-ж-ж» и др.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Логоритмика -упражнения, где движения сопровождаются произнесением соответствующего текста.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6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0E55-2A4D-41BD-AB2B-5C14927C124D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6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6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9FB4-9170-4B42-8CBD-1AA9960B336E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8e0000"/>
                </a:solidFill>
                <a:latin typeface="Calibri"/>
              </a:rPr>
              <a:t>Практическое задание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e0000"/>
                </a:solidFill>
                <a:uFillTx/>
                <a:latin typeface="Calibri"/>
              </a:rPr>
              <a:t>Словесная игра «Почемучка»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Определить из каких слов состоят слова: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Самосвал, пылесос, самолет, мясорубка, сороконожка, босоножка, соковыжималка, листопад, снегопад, мотокросс.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7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0E3D-2C51-4682-997D-0D8185AEF20E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7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7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40CE-6FC5-4104-9831-8BE5D99981AE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75" name="Picture 3" descr="C:\Users\Елена\Pictures\pape31.jpg"/>
          <p:cNvPicPr/>
          <p:nvPr/>
        </p:nvPicPr>
        <p:blipFill>
          <a:blip r:embed="rId1"/>
          <a:stretch/>
        </p:blipFill>
        <p:spPr>
          <a:xfrm>
            <a:off x="571680" y="4214880"/>
            <a:ext cx="1962000" cy="1471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2857680" y="4786200"/>
            <a:ext cx="2442960" cy="1636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C:\Users\Елена\Downloads\best-of-national-geographic-february-2015-artnaz-com-16.jpg"/>
          <p:cNvPicPr/>
          <p:nvPr/>
        </p:nvPicPr>
        <p:blipFill>
          <a:blip r:embed="rId3"/>
          <a:stretch/>
        </p:blipFill>
        <p:spPr>
          <a:xfrm>
            <a:off x="5643720" y="4108320"/>
            <a:ext cx="276192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Что влияет на развитие речи ребенка?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e0000"/>
                </a:solidFill>
                <a:latin typeface="Calibri"/>
              </a:rPr>
              <a:t>Большое значение для развития речи дошкольника имеет обогащение словаря на основе знаний и представлений об окружающей жизни и в процессе наблюдений. 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7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8BF1-AB50-40D0-BB8B-9A8B218271DC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8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8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58E4-9913-4378-8D85-1A2A39A5DE2E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82" name="Picture 2" descr="F:\DCIM\111NIKON\DSCN2356.JPG"/>
          <p:cNvPicPr/>
          <p:nvPr/>
        </p:nvPicPr>
        <p:blipFill>
          <a:blip r:embed="rId1"/>
          <a:stretch/>
        </p:blipFill>
        <p:spPr>
          <a:xfrm rot="19924800">
            <a:off x="390240" y="2776320"/>
            <a:ext cx="3321000" cy="2490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F:\DCIM\111NIKON\DSCN2358.JPG"/>
          <p:cNvPicPr/>
          <p:nvPr/>
        </p:nvPicPr>
        <p:blipFill>
          <a:blip r:embed="rId2"/>
          <a:stretch/>
        </p:blipFill>
        <p:spPr>
          <a:xfrm rot="1351200">
            <a:off x="5446440" y="2825640"/>
            <a:ext cx="287172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F:\DCIM\111NIKON\DSCN2361.JPG"/>
          <p:cNvPicPr/>
          <p:nvPr/>
        </p:nvPicPr>
        <p:blipFill>
          <a:blip r:embed="rId3"/>
          <a:stretch/>
        </p:blipFill>
        <p:spPr>
          <a:xfrm>
            <a:off x="2976480" y="38577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499B-88E1-4268-BD0A-58AB92D76526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8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8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B732-30E4-44E0-859E-974B7044ADF6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88" name="Picture 2" descr="F:\DCIM\111NIKON\DSCN2362.JPG"/>
          <p:cNvPicPr/>
          <p:nvPr/>
        </p:nvPicPr>
        <p:blipFill>
          <a:blip r:embed="rId1"/>
          <a:stretch/>
        </p:blipFill>
        <p:spPr>
          <a:xfrm>
            <a:off x="642960" y="857160"/>
            <a:ext cx="3143160" cy="2357640"/>
          </a:xfrm>
          <a:prstGeom prst="rect">
            <a:avLst/>
          </a:prstGeom>
          <a:ln w="9360">
            <a:solidFill>
              <a:srgbClr val="8e0000"/>
            </a:solidFill>
            <a:miter/>
          </a:ln>
        </p:spPr>
      </p:pic>
      <p:pic>
        <p:nvPicPr>
          <p:cNvPr id="189" name="Picture 3" descr="F:\DCIM\111NIKON\DSCN2367.JPG"/>
          <p:cNvPicPr/>
          <p:nvPr/>
        </p:nvPicPr>
        <p:blipFill>
          <a:blip r:embed="rId2"/>
          <a:stretch/>
        </p:blipFill>
        <p:spPr>
          <a:xfrm>
            <a:off x="4071960" y="428760"/>
            <a:ext cx="2857320" cy="2143080"/>
          </a:xfrm>
          <a:prstGeom prst="rect">
            <a:avLst/>
          </a:prstGeom>
          <a:ln w="9360">
            <a:solidFill>
              <a:srgbClr val="8e0000"/>
            </a:solidFill>
            <a:miter/>
          </a:ln>
        </p:spPr>
      </p:pic>
      <p:pic>
        <p:nvPicPr>
          <p:cNvPr id="190" name="Picture 5" descr="F:\DCIM\110NIKON\DSCN2228.JPG"/>
          <p:cNvPicPr/>
          <p:nvPr/>
        </p:nvPicPr>
        <p:blipFill>
          <a:blip r:embed="rId3"/>
          <a:stretch/>
        </p:blipFill>
        <p:spPr>
          <a:xfrm>
            <a:off x="4643280" y="4214880"/>
            <a:ext cx="3643560" cy="2286000"/>
          </a:xfrm>
          <a:prstGeom prst="rect">
            <a:avLst/>
          </a:prstGeom>
          <a:ln w="9360">
            <a:solidFill>
              <a:srgbClr val="8e0000"/>
            </a:solidFill>
            <a:miter/>
          </a:ln>
        </p:spPr>
      </p:pic>
      <p:pic>
        <p:nvPicPr>
          <p:cNvPr id="191" name="Picture 6" descr="C:\Users\Елена\Desktop\DSCN2336.JPG"/>
          <p:cNvPicPr/>
          <p:nvPr/>
        </p:nvPicPr>
        <p:blipFill>
          <a:blip r:embed="rId4"/>
          <a:stretch/>
        </p:blipFill>
        <p:spPr>
          <a:xfrm>
            <a:off x="1071720" y="2928960"/>
            <a:ext cx="3619440" cy="2714760"/>
          </a:xfrm>
          <a:prstGeom prst="rect">
            <a:avLst/>
          </a:prstGeom>
          <a:ln w="9360">
            <a:solidFill>
              <a:srgbClr val="8e0000"/>
            </a:solidFill>
            <a:miter/>
          </a:ln>
        </p:spPr>
      </p:pic>
      <p:pic>
        <p:nvPicPr>
          <p:cNvPr id="192" name="Picture 7" descr="C:\Users\Елена\Desktop\DSCN2310.JPG"/>
          <p:cNvPicPr/>
          <p:nvPr/>
        </p:nvPicPr>
        <p:blipFill>
          <a:blip r:embed="rId5"/>
          <a:stretch/>
        </p:blipFill>
        <p:spPr>
          <a:xfrm>
            <a:off x="5572080" y="2143080"/>
            <a:ext cx="3048120" cy="2286000"/>
          </a:xfrm>
          <a:prstGeom prst="rect">
            <a:avLst/>
          </a:prstGeom>
          <a:ln w="9360">
            <a:solidFill>
              <a:srgbClr val="8e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9DA0-123C-418A-8690-70B61F9A0F8A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9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9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FE24-6A1A-45D2-B0DE-380631D335E3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96" name="Picture 2" descr="D:\Фото\Фото0138.jpg"/>
          <p:cNvPicPr/>
          <p:nvPr/>
        </p:nvPicPr>
        <p:blipFill>
          <a:blip r:embed="rId1"/>
          <a:stretch/>
        </p:blipFill>
        <p:spPr>
          <a:xfrm>
            <a:off x="714240" y="1571760"/>
            <a:ext cx="2822760" cy="3763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D:\Фото\Ar8002.jpg"/>
          <p:cNvPicPr/>
          <p:nvPr/>
        </p:nvPicPr>
        <p:blipFill>
          <a:blip r:embed="rId2"/>
          <a:stretch/>
        </p:blipFill>
        <p:spPr>
          <a:xfrm>
            <a:off x="3714840" y="164304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D:\Фото\Ar6172.jpg"/>
          <p:cNvPicPr/>
          <p:nvPr/>
        </p:nvPicPr>
        <p:blipFill>
          <a:blip r:embed="rId3"/>
          <a:stretch/>
        </p:blipFill>
        <p:spPr>
          <a:xfrm>
            <a:off x="6143760" y="2428920"/>
            <a:ext cx="2404800" cy="1803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D:\Фото\Фото\Фото0075.jpg"/>
          <p:cNvPicPr/>
          <p:nvPr/>
        </p:nvPicPr>
        <p:blipFill>
          <a:blip r:embed="rId4"/>
          <a:stretch/>
        </p:blipFill>
        <p:spPr>
          <a:xfrm>
            <a:off x="3714840" y="3857760"/>
            <a:ext cx="3143160" cy="235728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10"/>
          <p:cNvSpPr/>
          <p:nvPr/>
        </p:nvSpPr>
        <p:spPr>
          <a:xfrm>
            <a:off x="571680" y="7142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Arial"/>
              </a:rPr>
              <a:t>Природа имеет уникальные возможности для развития речи детей. </a:t>
            </a:r>
            <a:endParaRPr b="0" lang="en-US" sz="24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8e0000"/>
                </a:solidFill>
                <a:latin typeface="Calibri"/>
              </a:rPr>
              <a:t>Советы родителям по развитию речи детей младшего дошкольного возраста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речь взрослых (родителей и педагогов): четкая, неторопливая грамматически  и фонетически правильно оформленная, не следует искажать слова, имитировать детскую речь;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обращайте внимание детей, на то, как дети согласовывают слова в предложении, поправляйте ребенка (исправлять допущенные ошибки);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играя с ребенком упражняйте его  в согласовании имен существительных с разными частями речи, например с глаголами: возьмите куклу и спросите: «Кто к нам приехал в гости? и ребенок дает вам полный ответ: «К нам в гости приехала кукла»;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0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3F9E-C632-4823-9DE8-3922B61FFE46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0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0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FBFE-C2E9-4B09-A55C-964AB0C8540C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используйте игру «Чего не стало?» называть существительное в Р.п. ед.ч. (</a:t>
            </a:r>
            <a:r>
              <a:rPr b="0" lang="ru-RU" sz="2400" spc="-1" strike="noStrike">
                <a:solidFill>
                  <a:srgbClr val="8e0000"/>
                </a:solidFill>
                <a:latin typeface="Arial"/>
              </a:rPr>
              <a:t>поставить </a:t>
            </a: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3-4 игр</a:t>
            </a:r>
            <a:r>
              <a:rPr b="0" lang="ru-RU" sz="2400" spc="-1" strike="noStrike">
                <a:solidFill>
                  <a:srgbClr val="8e0000"/>
                </a:solidFill>
                <a:latin typeface="Arial"/>
              </a:rPr>
              <a:t>ушки</a:t>
            </a: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и</a:t>
            </a:r>
            <a:r>
              <a:rPr b="0" lang="ru-RU" sz="2400" spc="-1" strike="noStrike">
                <a:solidFill>
                  <a:srgbClr val="8e0000"/>
                </a:solidFill>
                <a:latin typeface="Arial"/>
              </a:rPr>
              <a:t> поочерёдно прятать одну из них…)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учите ребенка самостоятельно описывать игрушку. Для этого ну</a:t>
            </a:r>
            <a:r>
              <a:rPr b="0" lang="ru-RU" sz="2400" spc="-1" strike="noStrike">
                <a:solidFill>
                  <a:srgbClr val="8e0000"/>
                </a:solidFill>
                <a:latin typeface="Arial"/>
              </a:rPr>
              <a:t>ж</a:t>
            </a: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но: поставить игрушку, посмотреть, затем задать вопросы: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1. Что это? или кто это?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2. Какого цвета?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3. Это что у зайки? (показать на ушки, хвостик, лапки)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4. Как можно назвать зайку?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0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3790-ADDC-4CCA-A709-262CA636A6FB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0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0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09C2-3BCE-4078-B601-5CDAF0D60077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учите детей сравнивать предметы находить общее; чем отличается?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учите подбирать слова к определенным глаголам</a:t>
            </a:r>
            <a:r>
              <a:rPr b="0" lang="ru-RU" sz="2400" spc="-1" strike="noStrike">
                <a:solidFill>
                  <a:srgbClr val="8e0000"/>
                </a:solidFill>
                <a:latin typeface="Arial"/>
              </a:rPr>
              <a:t>, существительным</a:t>
            </a: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: собака бежит, а кто еще может бегать и т.д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для совершенствования правильного звукопроизношения используйте артикуляционную гимнастику</a:t>
            </a:r>
            <a:r>
              <a:rPr b="0" lang="ru-RU" sz="2400" spc="-1" strike="noStrike">
                <a:solidFill>
                  <a:srgbClr val="8e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1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697E-A9A0-4ACC-9BC0-213DC7D86C4F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1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1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21D6-C76F-4150-B87B-A63B80D3F2DB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253f"/>
                </a:solidFill>
                <a:latin typeface="Calibri"/>
                <a:ea typeface="Aldhabi"/>
              </a:rPr>
              <a:t>В дошкольном возрасте </a:t>
            </a:r>
            <a:r>
              <a:rPr b="1" lang="ru-RU" sz="3200" spc="-1" strike="noStrike">
                <a:solidFill>
                  <a:srgbClr val="10253f"/>
                </a:solidFill>
                <a:latin typeface="Calibri"/>
                <a:ea typeface="Aldhabi"/>
              </a:rPr>
              <a:t>происходит </a:t>
            </a:r>
            <a:r>
              <a:rPr b="1" i="1" lang="ru-RU" sz="3200" spc="-1" strike="noStrike">
                <a:solidFill>
                  <a:srgbClr val="10253f"/>
                </a:solidFill>
                <a:latin typeface="Calibri"/>
                <a:ea typeface="Aldhabi"/>
              </a:rPr>
              <a:t>активное накопление словаря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9D1A-3000-41C3-A24D-57A62CAA7776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6AB6-0AAE-4D5F-8972-8BEBF33227F8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grpSp>
        <p:nvGrpSpPr>
          <p:cNvPr id="59" name="Organization Chart 7"/>
          <p:cNvGrpSpPr/>
          <p:nvPr/>
        </p:nvGrpSpPr>
        <p:grpSpPr>
          <a:xfrm>
            <a:off x="1214280" y="2071800"/>
            <a:ext cx="7142760" cy="4499280"/>
            <a:chOff x="1214280" y="2071800"/>
            <a:chExt cx="7142760" cy="4499280"/>
          </a:xfrm>
        </p:grpSpPr>
        <p:cxnSp>
          <p:nvCxnSpPr>
            <p:cNvPr id="60" name="_s1028"/>
            <p:cNvCxnSpPr>
              <a:stCxn id="61" idx="0"/>
              <a:endCxn id="62" idx="2"/>
            </p:cNvCxnSpPr>
            <p:nvPr/>
          </p:nvCxnSpPr>
          <p:spPr>
            <a:xfrm flipV="1" rot="16200000">
              <a:off x="5168160" y="3354120"/>
              <a:ext cx="1164240" cy="1933920"/>
            </a:xfrm>
            <a:prstGeom prst="bentConnector3">
              <a:avLst>
                <a:gd name="adj1" fmla="val 9805"/>
              </a:avLst>
            </a:prstGeom>
            <a:ln w="28440">
              <a:solidFill>
                <a:srgbClr val="8e0000"/>
              </a:solidFill>
              <a:miter/>
            </a:ln>
          </p:spPr>
        </p:cxnSp>
        <p:cxnSp>
          <p:nvCxnSpPr>
            <p:cNvPr id="63" name="_s1029"/>
            <p:cNvCxnSpPr>
              <a:stCxn id="64" idx="0"/>
              <a:endCxn id="62" idx="2"/>
            </p:cNvCxnSpPr>
            <p:nvPr/>
          </p:nvCxnSpPr>
          <p:spPr>
            <a:xfrm flipH="1" flipV="1" rot="5400000">
              <a:off x="3236760" y="3356640"/>
              <a:ext cx="1164240" cy="1929600"/>
            </a:xfrm>
            <a:prstGeom prst="bentConnector3">
              <a:avLst>
                <a:gd name="adj1" fmla="val 9805"/>
              </a:avLst>
            </a:prstGeom>
            <a:ln w="28440">
              <a:solidFill>
                <a:srgbClr val="8e0000"/>
              </a:solidFill>
              <a:miter/>
            </a:ln>
          </p:spPr>
        </p:cxnSp>
        <p:sp>
          <p:nvSpPr>
            <p:cNvPr id="62" name="_s1030"/>
            <p:cNvSpPr/>
            <p:nvPr/>
          </p:nvSpPr>
          <p:spPr>
            <a:xfrm>
              <a:off x="3143160" y="2071800"/>
              <a:ext cx="3280680" cy="16678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8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ЛОВАРЬ</a:t>
              </a:r>
              <a:endParaRPr b="0" lang="en-US" sz="3000" spc="-1" strike="noStrike">
                <a:solidFill>
                  <a:srgbClr val="8e0000"/>
                </a:solidFill>
                <a:latin typeface="Arial"/>
              </a:endParaRPr>
            </a:p>
          </p:txBody>
        </p:sp>
        <p:sp>
          <p:nvSpPr>
            <p:cNvPr id="64" name="_s1031"/>
            <p:cNvSpPr/>
            <p:nvPr/>
          </p:nvSpPr>
          <p:spPr>
            <a:xfrm>
              <a:off x="1214280" y="4903200"/>
              <a:ext cx="3280680" cy="16678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8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КТИВНЫЙ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</a:t>
              </a:r>
              <a:endParaRPr b="0" lang="en-US" sz="3000" spc="-1" strike="noStrike">
                <a:solidFill>
                  <a:srgbClr val="8e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лова, которые </a:t>
              </a:r>
              <a:endParaRPr b="0" lang="en-US" sz="2000" spc="-1" strike="noStrike">
                <a:solidFill>
                  <a:srgbClr val="8e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бенок произносит </a:t>
              </a:r>
              <a:endParaRPr b="0" lang="en-US" sz="2000" spc="-1" strike="noStrike">
                <a:solidFill>
                  <a:srgbClr val="8e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своей речи.</a:t>
              </a:r>
              <a:endParaRPr b="0" lang="en-US" sz="2000" spc="-1" strike="noStrike">
                <a:solidFill>
                  <a:srgbClr val="8e0000"/>
                </a:solidFill>
                <a:latin typeface="Arial"/>
              </a:endParaRPr>
            </a:p>
          </p:txBody>
        </p:sp>
        <p:sp>
          <p:nvSpPr>
            <p:cNvPr id="61" name="_s1032"/>
            <p:cNvSpPr/>
            <p:nvPr/>
          </p:nvSpPr>
          <p:spPr>
            <a:xfrm>
              <a:off x="5076360" y="4903200"/>
              <a:ext cx="3280680" cy="16678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8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АССИВНЫЙ</a:t>
              </a:r>
              <a:r>
                <a:rPr b="0" lang="en-US" sz="3000" spc="-1" strike="noStrike">
                  <a:solidFill>
                    <a:srgbClr val="8e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 </a:t>
              </a:r>
              <a:endParaRPr b="0" lang="en-US" sz="3000" spc="-1" strike="noStrike">
                <a:solidFill>
                  <a:srgbClr val="8e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лова ребенок</a:t>
              </a:r>
              <a:endParaRPr b="0" lang="en-US" sz="2100" spc="-1" strike="noStrike">
                <a:solidFill>
                  <a:srgbClr val="8e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 произносит, </a:t>
              </a:r>
              <a:endParaRPr b="0" lang="en-US" sz="2100" spc="-1" strike="noStrike">
                <a:solidFill>
                  <a:srgbClr val="8e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о соотносит </a:t>
              </a:r>
              <a:endParaRPr b="0" lang="en-US" sz="2100" spc="-1" strike="noStrike">
                <a:solidFill>
                  <a:srgbClr val="8e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 предметами.</a:t>
              </a:r>
              <a:endParaRPr b="0" lang="en-US" sz="2100" spc="-1" strike="noStrike">
                <a:solidFill>
                  <a:srgbClr val="8e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  </a:t>
            </a:r>
            <a:r>
              <a:rPr b="1" i="1" lang="ru-RU" sz="2800" spc="-1" strike="noStrike">
                <a:solidFill>
                  <a:srgbClr val="8e0000"/>
                </a:solidFill>
                <a:latin typeface="Calibri"/>
              </a:rPr>
              <a:t>На основе проводимой работы и наблюдений за развитием речи детей можно сделать вывод: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lvl="1"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8e0000"/>
                </a:solidFill>
                <a:latin typeface="Calibri"/>
              </a:rPr>
              <a:t>     </a:t>
            </a:r>
            <a:r>
              <a:rPr b="0" lang="ru-RU" sz="3300" spc="-1" strike="noStrike">
                <a:solidFill>
                  <a:srgbClr val="8e0000"/>
                </a:solidFill>
                <a:latin typeface="Calibri"/>
              </a:rPr>
              <a:t>Слаженная работа педагогов и родителей даёт положительные результаты. Дети овладевают правильной речью. У них формируются навыки чёткого, грамматически правильного оформления высказывания и выражения мыслей.</a:t>
            </a:r>
            <a:endParaRPr b="0" lang="en-US" sz="33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1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A236-6880-48EB-B87B-110A3D212FE6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1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1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7234-1D48-46B0-AE57-42AA1F26D00A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D1A7-2292-4619-B45E-17209994FA3D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219" name="Нижний колонтитул 4" descr=""/>
          <p:cNvPicPr/>
          <p:nvPr/>
        </p:nvPicPr>
        <p:blipFill>
          <a:blip r:embed="rId1"/>
          <a:stretch/>
        </p:blipFill>
        <p:spPr>
          <a:xfrm>
            <a:off x="2066760" y="4456080"/>
            <a:ext cx="4815000" cy="1438200"/>
          </a:xfrm>
          <a:prstGeom prst="rect">
            <a:avLst/>
          </a:prstGeom>
          <a:ln w="0">
            <a:noFill/>
          </a:ln>
        </p:spPr>
      </p:pic>
      <p:sp>
        <p:nvSpPr>
          <p:cNvPr id="22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9A1A-AB3F-4888-9923-C6BA904445FF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221" name="Содержимое 6" descr=""/>
          <p:cNvPicPr/>
          <p:nvPr/>
        </p:nvPicPr>
        <p:blipFill>
          <a:blip r:embed="rId2"/>
          <a:stretch/>
        </p:blipFill>
        <p:spPr>
          <a:xfrm>
            <a:off x="433440" y="706320"/>
            <a:ext cx="6662520" cy="3895920"/>
          </a:xfrm>
          <a:prstGeom prst="rect">
            <a:avLst/>
          </a:prstGeom>
          <a:ln w="0">
            <a:noFill/>
          </a:ln>
        </p:spPr>
      </p:pic>
      <p:sp>
        <p:nvSpPr>
          <p:cNvPr id="222" name="5-конечная звезда 8"/>
          <p:cNvSpPr/>
          <p:nvPr/>
        </p:nvSpPr>
        <p:spPr>
          <a:xfrm>
            <a:off x="5072040" y="3643200"/>
            <a:ext cx="1357200" cy="1143000"/>
          </a:xfrm>
          <a:custGeom>
            <a:avLst/>
            <a:gdLst>
              <a:gd name="textAreaLeft" fmla="*/ 419400 w 1357200"/>
              <a:gd name="textAreaRight" fmla="*/ 937800 w 1357200"/>
              <a:gd name="textAreaTop" fmla="*/ 436680 h 1143000"/>
              <a:gd name="textAreaBottom" fmla="*/ 873360 h 1143000"/>
            </a:gdLst>
            <a:ahLst/>
            <a:rect l="textAreaLeft" t="textAreaTop" r="textAreaRight" b="textAreaBottom"/>
            <a:pathLst>
              <a:path w="1357313" h="1143000">
                <a:moveTo>
                  <a:pt x="1" y="436586"/>
                </a:moveTo>
                <a:lnTo>
                  <a:pt x="518450" y="436589"/>
                </a:lnTo>
                <a:lnTo>
                  <a:pt x="678657" y="0"/>
                </a:lnTo>
                <a:lnTo>
                  <a:pt x="838863" y="436589"/>
                </a:lnTo>
                <a:lnTo>
                  <a:pt x="1357312" y="436586"/>
                </a:lnTo>
                <a:lnTo>
                  <a:pt x="937876" y="706409"/>
                </a:lnTo>
                <a:lnTo>
                  <a:pt x="1098090" y="1142996"/>
                </a:lnTo>
                <a:lnTo>
                  <a:pt x="678657" y="873168"/>
                </a:lnTo>
                <a:lnTo>
                  <a:pt x="259223" y="1142996"/>
                </a:lnTo>
                <a:lnTo>
                  <a:pt x="419437" y="70640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23" name="5-конечная звезда 9"/>
          <p:cNvSpPr/>
          <p:nvPr/>
        </p:nvSpPr>
        <p:spPr>
          <a:xfrm>
            <a:off x="6929280" y="714240"/>
            <a:ext cx="1357560" cy="1143000"/>
          </a:xfrm>
          <a:custGeom>
            <a:avLst/>
            <a:gdLst>
              <a:gd name="textAreaLeft" fmla="*/ 419400 w 1357560"/>
              <a:gd name="textAreaRight" fmla="*/ 938160 w 1357560"/>
              <a:gd name="textAreaTop" fmla="*/ 436680 h 1143000"/>
              <a:gd name="textAreaBottom" fmla="*/ 873360 h 1143000"/>
            </a:gdLst>
            <a:ahLst/>
            <a:rect l="textAreaLeft" t="textAreaTop" r="textAreaRight" b="textAreaBottom"/>
            <a:pathLst>
              <a:path w="1357313" h="1143000">
                <a:moveTo>
                  <a:pt x="1" y="436586"/>
                </a:moveTo>
                <a:lnTo>
                  <a:pt x="518450" y="436589"/>
                </a:lnTo>
                <a:lnTo>
                  <a:pt x="678657" y="0"/>
                </a:lnTo>
                <a:lnTo>
                  <a:pt x="838863" y="436589"/>
                </a:lnTo>
                <a:lnTo>
                  <a:pt x="1357312" y="436586"/>
                </a:lnTo>
                <a:lnTo>
                  <a:pt x="937876" y="706409"/>
                </a:lnTo>
                <a:lnTo>
                  <a:pt x="1098090" y="1142996"/>
                </a:lnTo>
                <a:lnTo>
                  <a:pt x="678657" y="873168"/>
                </a:lnTo>
                <a:lnTo>
                  <a:pt x="259223" y="1142996"/>
                </a:lnTo>
                <a:lnTo>
                  <a:pt x="419437" y="70640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24" name="5-конечная звезда 10"/>
          <p:cNvSpPr/>
          <p:nvPr/>
        </p:nvSpPr>
        <p:spPr>
          <a:xfrm>
            <a:off x="428760" y="3214800"/>
            <a:ext cx="1357200" cy="1143000"/>
          </a:xfrm>
          <a:custGeom>
            <a:avLst/>
            <a:gdLst>
              <a:gd name="textAreaLeft" fmla="*/ 419400 w 1357200"/>
              <a:gd name="textAreaRight" fmla="*/ 937800 w 1357200"/>
              <a:gd name="textAreaTop" fmla="*/ 436680 h 1143000"/>
              <a:gd name="textAreaBottom" fmla="*/ 873360 h 1143000"/>
            </a:gdLst>
            <a:ahLst/>
            <a:rect l="textAreaLeft" t="textAreaTop" r="textAreaRight" b="textAreaBottom"/>
            <a:pathLst>
              <a:path w="1357313" h="1143000">
                <a:moveTo>
                  <a:pt x="1" y="436586"/>
                </a:moveTo>
                <a:lnTo>
                  <a:pt x="518450" y="436589"/>
                </a:lnTo>
                <a:lnTo>
                  <a:pt x="678657" y="0"/>
                </a:lnTo>
                <a:lnTo>
                  <a:pt x="838863" y="436589"/>
                </a:lnTo>
                <a:lnTo>
                  <a:pt x="1357312" y="436586"/>
                </a:lnTo>
                <a:lnTo>
                  <a:pt x="937876" y="706409"/>
                </a:lnTo>
                <a:lnTo>
                  <a:pt x="1098090" y="1142996"/>
                </a:lnTo>
                <a:lnTo>
                  <a:pt x="678657" y="873168"/>
                </a:lnTo>
                <a:lnTo>
                  <a:pt x="259223" y="1142996"/>
                </a:lnTo>
                <a:lnTo>
                  <a:pt x="419437" y="70640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225" name="Picture 2" descr="D:\Оксане\картинки\шары\b9.gif"/>
          <p:cNvPicPr/>
          <p:nvPr/>
        </p:nvPicPr>
        <p:blipFill>
          <a:blip r:embed="rId3"/>
          <a:stretch/>
        </p:blipFill>
        <p:spPr>
          <a:xfrm>
            <a:off x="6357960" y="1214280"/>
            <a:ext cx="2182680" cy="3571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D:\Оксане\картинки\шары\b9.gif"/>
          <p:cNvPicPr/>
          <p:nvPr/>
        </p:nvPicPr>
        <p:blipFill>
          <a:blip r:embed="rId4"/>
          <a:stretch/>
        </p:blipFill>
        <p:spPr>
          <a:xfrm>
            <a:off x="4286160" y="2905200"/>
            <a:ext cx="571680" cy="1047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D:\Оксане\картинки\шары\b9.gif"/>
          <p:cNvPicPr/>
          <p:nvPr/>
        </p:nvPicPr>
        <p:blipFill>
          <a:blip r:embed="rId5"/>
          <a:stretch/>
        </p:blipFill>
        <p:spPr>
          <a:xfrm>
            <a:off x="4286160" y="2905200"/>
            <a:ext cx="571680" cy="1047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D:\Оксане\картинки\шары\bestgif.narod.ru_10269.gif"/>
          <p:cNvPicPr/>
          <p:nvPr/>
        </p:nvPicPr>
        <p:blipFill>
          <a:blip r:embed="rId6"/>
          <a:stretch/>
        </p:blipFill>
        <p:spPr>
          <a:xfrm>
            <a:off x="571680" y="4572000"/>
            <a:ext cx="207144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dine Kirnberg"/>
                <a:ea typeface="Times New Roman"/>
              </a:rPr>
              <a:t>Задачи по развитию речи, которые  решаются </a:t>
            </a:r>
            <a:br>
              <a:rPr sz="3200"/>
            </a:br>
            <a:r>
              <a:rPr b="1" lang="ru-RU" sz="3200" spc="-1" strike="noStrike">
                <a:solidFill>
                  <a:srgbClr val="10253f"/>
                </a:solidFill>
                <a:latin typeface="Adine Kirnberg"/>
                <a:ea typeface="Times New Roman"/>
              </a:rPr>
              <a:t>в младшем дошкольном возрасте в ДОУ: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800280" indent="-343080">
              <a:spcBef>
                <a:spcPts val="400"/>
              </a:spcBef>
              <a:buClr>
                <a:srgbClr val="8e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8e0000"/>
                </a:solidFill>
                <a:latin typeface="Calibri"/>
              </a:rPr>
              <a:t>Формирование звуковой культуры речи (учим произносить внятно определённые звуки - водичка льётся с-с-с; комар пищит – з-з-з-з).</a:t>
            </a:r>
            <a:endParaRPr b="0" lang="en-US" sz="1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8e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e0000"/>
                </a:solidFill>
                <a:latin typeface="Calibri"/>
              </a:rPr>
              <a:t>Обогащение словаря (помогаем активизировать и расширить словарный запас)</a:t>
            </a:r>
            <a:endParaRPr b="0" lang="en-US" sz="1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8e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e0000"/>
                </a:solidFill>
                <a:latin typeface="Calibri"/>
              </a:rPr>
              <a:t>Формирование грамматического строя (учим согласовывать существительное с прилагательным - морковь большая; учим употреблять предлоги – в, на, под, за; учимся употреблять существительные во мн. ч и ед. ч. –  кошка-котята,  утка-утята).</a:t>
            </a:r>
            <a:endParaRPr b="0" lang="en-US" sz="1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8e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e0000"/>
                </a:solidFill>
                <a:latin typeface="Calibri"/>
              </a:rPr>
              <a:t>Обучение рассказыванию, развитие связной речи (Учим слушать внимательно, понимать заданный вопрос, отвечать на него, говорить не перебивая друг друга, употреблять в речи вежливые слова)</a:t>
            </a:r>
            <a:endParaRPr b="0" lang="en-US" sz="1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8e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e0000"/>
                </a:solidFill>
                <a:latin typeface="Calibri"/>
              </a:rPr>
              <a:t>Развитие интонационной выразительности (рассказывать стихи с разной интонацией – громко, тихо, медленно, быстро).</a:t>
            </a:r>
            <a:br>
              <a:rPr sz="1600"/>
            </a:br>
            <a:r>
              <a:rPr b="0" lang="ru-RU" sz="1600" spc="-1" strike="noStrike">
                <a:solidFill>
                  <a:srgbClr val="8e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e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8e0000"/>
                </a:solidFill>
                <a:latin typeface="Calibri"/>
              </a:rPr>
              <a:t>В детском саду работа по развитию речи ведётся на протяжении всех режимных моментов (утренняя зарядка в стихах, на занятиях, на прогулке и т.д.)</a:t>
            </a:r>
            <a:endParaRPr b="0" lang="en-US" sz="16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A5FF-8E37-4F5E-9619-0110939A426C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6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6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2305-D758-4E55-BEA0-026B8C05455D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33B7-ACCD-4348-B8B4-0DFC72F8220C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756B-33D9-41AC-B562-BC7F98BE502F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00040" y="3429000"/>
            <a:ext cx="8001000" cy="2938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571680" y="887400"/>
            <a:ext cx="2857320" cy="328464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13" descr=""/>
          <p:cNvPicPr/>
          <p:nvPr/>
        </p:nvPicPr>
        <p:blipFill>
          <a:blip r:embed="rId3"/>
          <a:stretch/>
        </p:blipFill>
        <p:spPr>
          <a:xfrm>
            <a:off x="3328920" y="835200"/>
            <a:ext cx="561348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Станция Творческая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360" y="4642920"/>
            <a:ext cx="8572680" cy="14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e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8e0000"/>
                </a:solidFill>
                <a:latin typeface="Calibri"/>
              </a:rPr>
              <a:t>Подскажет Вам как помочь Вашему ребенку овладеть образной 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e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8e0000"/>
                </a:solidFill>
                <a:latin typeface="Calibri"/>
              </a:rPr>
              <a:t>речью.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e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8e0000"/>
                </a:solidFill>
                <a:latin typeface="Calibri"/>
              </a:rPr>
              <a:t>Расскажет  о  важности формирования грамматического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e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8e0000"/>
                </a:solidFill>
                <a:latin typeface="Calibri"/>
              </a:rPr>
              <a:t>строя речи и простейших способах решения этой проблемы.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AA6E-BD36-43BA-8DF2-F06BD31BBBF7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8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9713-A3A6-4B58-AA1D-8E3BBC0D4BCA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81" name="Picture 2" descr="C:\Users\Елена\Desktop\родительское собрание\29766e2a37e979b18d18c428ff9c5aba_XL.jpg"/>
          <p:cNvPicPr/>
          <p:nvPr/>
        </p:nvPicPr>
        <p:blipFill>
          <a:blip r:embed="rId1"/>
          <a:stretch/>
        </p:blipFill>
        <p:spPr>
          <a:xfrm>
            <a:off x="714240" y="1500120"/>
            <a:ext cx="683424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8e0000"/>
                </a:solidFill>
                <a:latin typeface="Calibri"/>
              </a:rPr>
              <a:t>Грамматический строй речи: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Задача: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совершенствовать умение согласовывать прилагательные с существительными в роде, числе, падеже.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Упражнение: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Жёлтое…. (солнце)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Пушистые…(           )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Машина…какая? (        )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F896-DA7C-42F3-954E-82CDCEC7F211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8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8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A546-B092-490D-89DF-BC698940F47C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8e0000"/>
                </a:solidFill>
                <a:latin typeface="Calibri"/>
              </a:rPr>
              <a:t>Грамматический строй речи: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Задача: научить употреблять существительные с предлогами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Упражнение: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Зайчик ( под столом, над столом, на столе )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Ворона (над крышей, на крыши)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Мячик (под столом)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Поросенок (в коробке).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4F50-58B0-45C2-BCA3-39FB54334EAE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8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C9E4-41BC-4A1D-B209-489DE72037C6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8e0000"/>
                </a:solidFill>
                <a:latin typeface="Calibri"/>
              </a:rPr>
              <a:t>Грамматический строй речи: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Задача: Учить детей употреблять в речи существительные в форме единственного и множественного числа, обозначающих животных и их детенышей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Упражнение: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Утка- утенок- утята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Кошка- ……..- …….. 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Собака-………- …….. и т.д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333C-4453-467F-B664-41EBF1AE4013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C6DB-A566-4CA1-8494-8A0FEAC465F8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9:15:12Z</dcterms:created>
  <dc:creator>Admin</dc:creator>
  <dc:description>http://aida.ucoz.ru</dc:description>
  <dc:language>en-US</dc:language>
  <cp:lastModifiedBy>Ирина</cp:lastModifiedBy>
  <dcterms:modified xsi:type="dcterms:W3CDTF">2017-09-04T22:06:54Z</dcterms:modified>
  <cp:revision>55</cp:revision>
  <dc:subject/>
  <dc:title>Слайд 1</dc:title>
</cp:coreProperties>
</file>