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0DD-40DF-41FE-92EE-020F233D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C73-72F4-4133-8C8C-78F14702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584-1294-4B62-A2AE-BA819896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02E-67F1-4F1D-AFDC-E4B7F839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AD76-718B-4182-8E7C-5366FB7D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F82E-C27A-4BCA-9191-7B7CE293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E6EF-6715-4C02-AFB8-C407C319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F697-25A9-40B8-BA60-24B5D97F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FF9D-C1CC-4893-B298-E94E66EF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FFDC-2B75-47BA-AC19-C411182E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A525-3F4E-447A-A560-BC82A35B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1DF-BA79-4EFF-ADF3-25241DD4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6F96-DD9B-4CE1-9915-F613A148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1986-BD88-4EFE-886D-79B8BEAD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090E-0FC2-4BFD-9FDC-497B8235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FF05-968F-401F-B1E0-5EF7D8C9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251D-CD1E-494C-BFD1-B188262E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85433-00B8-4C8C-80DF-0AE658EB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8776-CDE2-4F85-A9CE-6583DFF8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5DFA-50F8-4B39-9BC3-27F7898D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BA06-19BC-4FD2-B337-2B593C9E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8483-3B8E-44E8-B05D-EC5ACE4B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D59-83B9-4F0C-B4B7-4A9352D7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95298-62AA-4336-B366-2688BC4E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7BA3E-DBD1-4B7A-BFBF-3CC8DAA9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6877-BDEB-4517-B690-287B1E0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76AA-1B49-4BFE-8F22-4674C8AA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5D6E-1E3D-410D-B653-4C8FF403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A6E9-BB91-40DD-A733-C4A954E7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D73D-F3DF-4D1D-ADB1-2748AAE3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1CD86-8C0B-47A7-95D1-05CCF47A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9CC75-4E7B-4D06-983E-BC3C5276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13047D-1D12-4393-B78C-E714617A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DC1-72F0-4B9E-AFAB-CC147402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BB338-4BC3-4384-BAC0-81EA5F27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1E622-DFE1-4A02-B53F-E3C56B0E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F7A94-48B2-44E5-B357-4CA76F27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E6007-63AE-483E-81A1-53814146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0D7AF-7F0B-4112-8A57-CC8F7F1B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90A7A-6522-4CD2-A160-59CA5C07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F3FE6-F464-40BB-8D76-6300F361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15974-7704-4E5E-AA49-B834C67B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BF23F-41CE-4838-A512-520AC08E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ECBB5-9D79-411A-AE49-C6455D21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100-9297-4A78-9442-8D4A9BE5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8E8DA-E13C-45AF-BBCD-EDB7AAF6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08ACE-DF1B-4BF7-9D76-ECA43CB5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47E80-705F-4AC9-A9BC-AB082BD5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57BA1-15C1-4C8E-B8FD-F923505B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6155D-58FF-46AF-9D2C-11F9A107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23F9C-C80C-409F-AD5B-D50AE8D6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FB448-9D37-4FCF-BBB7-43A40F06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7A08F-07C3-41BB-9271-07B73E0D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F910D-AA3A-463B-A12D-09FC2DAE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A9DDD-2799-453D-AE25-41DB5E67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C3E-423F-49A4-B2D5-3789D8D3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74819-74C6-44CF-B09A-0D0278BD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0B6-A83D-4762-A91C-409E6B4C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FA9-624C-4909-A046-AFB4177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4AE7-D11D-4319-ACCC-C2B36852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2C84-4E40-4618-9D77-60BFBC6889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D5B4-5590-4B15-91BB-E8DD0DA96CD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2AC5-BACB-45C1-8EEE-BF0B23CCE94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ACF7-46BC-442F-AC36-649FDE3B26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2FCD-6E55-48F5-B2DB-C4FCCC95B9B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84000" y="980640"/>
            <a:ext cx="4948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75f6d"/>
                </a:solidFill>
                <a:latin typeface="Century Schoolbook"/>
              </a:rPr>
              <a:t>«Треугольник        </a:t>
            </a:r>
            <a:br>
              <a:rPr sz="4400"/>
            </a:br>
            <a:r>
              <a:rPr b="1" i="1" lang="en-US" sz="4400" spc="-1" strike="noStrike">
                <a:solidFill>
                  <a:srgbClr val="575f6d"/>
                </a:solidFill>
                <a:latin typeface="Century Schoolbook"/>
              </a:rPr>
              <a:t>           в жизни </a:t>
            </a:r>
            <a:br>
              <a:rPr sz="4400"/>
            </a:br>
            <a:r>
              <a:rPr b="1" i="1" lang="en-US" sz="4400" spc="-1" strike="noStrike">
                <a:solidFill>
                  <a:srgbClr val="575f6d"/>
                </a:solidFill>
                <a:latin typeface="Century Schoolbook"/>
              </a:rPr>
              <a:t>           человека»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5435280" y="4723920"/>
            <a:ext cx="370836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9" name="Picture 7" descr="bd05091_"/>
          <p:cNvPicPr/>
          <p:nvPr/>
        </p:nvPicPr>
        <p:blipFill>
          <a:blip r:embed="rId1"/>
          <a:stretch/>
        </p:blipFill>
        <p:spPr>
          <a:xfrm>
            <a:off x="2050920" y="3860640"/>
            <a:ext cx="3068640" cy="2795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292720" y="5373720"/>
            <a:ext cx="38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ил рабо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7 «Б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«Средняя школа № 4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дреасян Меру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entury Schoolbook"/>
              </a:rPr>
              <a:t>Треугольник на 1 долларовой купюр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788000" y="3860640"/>
            <a:ext cx="4356000" cy="2997360"/>
          </a:xfrm>
          <a:prstGeom prst="rect">
            <a:avLst/>
          </a:prstGeom>
          <a:ln w="0">
            <a:noFill/>
          </a:ln>
        </p:spPr>
      </p:pic>
      <p:pic>
        <p:nvPicPr>
          <p:cNvPr id="291" name="i" descr=""/>
          <p:cNvPicPr/>
          <p:nvPr/>
        </p:nvPicPr>
        <p:blipFill>
          <a:blip r:embed="rId2"/>
          <a:stretch/>
        </p:blipFill>
        <p:spPr>
          <a:xfrm>
            <a:off x="4915080" y="765000"/>
            <a:ext cx="4228920" cy="3095640"/>
          </a:xfrm>
          <a:prstGeom prst="rect">
            <a:avLst/>
          </a:prstGeom>
          <a:ln w="0">
            <a:noFill/>
          </a:ln>
        </p:spPr>
      </p:pic>
      <p:pic>
        <p:nvPicPr>
          <p:cNvPr id="292" name="1871247" descr=""/>
          <p:cNvPicPr/>
          <p:nvPr/>
        </p:nvPicPr>
        <p:blipFill>
          <a:blip r:embed="rId3"/>
          <a:stretch/>
        </p:blipFill>
        <p:spPr>
          <a:xfrm>
            <a:off x="0" y="1484280"/>
            <a:ext cx="47815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69138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entury Schoolbook"/>
              </a:rPr>
              <a:t>Здания из Треугольник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635280" cy="5877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384360" cy="2318040"/>
          </a:xfrm>
          <a:prstGeom prst="rect">
            <a:avLst/>
          </a:prstGeom>
          <a:ln w="0">
            <a:noFill/>
          </a:ln>
        </p:spPr>
      </p:pic>
      <p:pic>
        <p:nvPicPr>
          <p:cNvPr id="296" name="i" descr=""/>
          <p:cNvPicPr/>
          <p:nvPr/>
        </p:nvPicPr>
        <p:blipFill>
          <a:blip r:embed="rId3"/>
          <a:stretch/>
        </p:blipFill>
        <p:spPr>
          <a:xfrm>
            <a:off x="3780000" y="3365640"/>
            <a:ext cx="51847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64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entury Schoolbook"/>
              </a:rPr>
              <a:t>Треугольник в природ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643280" y="4005360"/>
            <a:ext cx="4321440" cy="2663640"/>
          </a:xfrm>
          <a:prstGeom prst="rect">
            <a:avLst/>
          </a:prstGeom>
          <a:ln w="0">
            <a:noFill/>
          </a:ln>
        </p:spPr>
      </p:pic>
      <p:pic>
        <p:nvPicPr>
          <p:cNvPr id="299" name="modules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4322880" cy="2952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4321440" cy="29527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179280" y="4005360"/>
            <a:ext cx="43214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Треугольники в жизни челове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563640" y="1341360"/>
            <a:ext cx="541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войство жесткости треугольника широко используют в практике. Так, чтобы закрепить столб в вертикальном положении, к нему ставят подпорку. Такой же принцип используются при установке кронштейна, при строительстве железных конструкций. Высоковольтные линии электропередачи. Треугольники делают    конструкции надежными, а так же они используются в конструкции мос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В опросе приняли участие 20 человек (ребят). Некоторые люди написали даже несколько объектов. И вот результаты опроса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866960" cy="2781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851280" cy="2652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1908000" y="4076640"/>
            <a:ext cx="1943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58920" y="0"/>
            <a:ext cx="20509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entury Schoolbook"/>
              </a:rPr>
              <a:t>Опрос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268360" y="836640"/>
          <a:ext cx="6696360" cy="5824440"/>
        </p:xfrm>
        <a:graphic>
          <a:graphicData uri="http://schemas.openxmlformats.org/drawingml/2006/table">
            <a:tbl>
              <a:tblPr/>
              <a:tblGrid>
                <a:gridCol w="3095640"/>
                <a:gridCol w="2160720"/>
                <a:gridCol w="1440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ащиеся (клас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ъекты (предметы) написанными детьм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колько        челове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ащиеся 3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Ы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ащиеся 3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ИРАМ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ащиеся 3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Ы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ащиеся 3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ИНЕЙКА (УГОЛЬНИ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ащиеся 3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ГН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ащиеся 3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ЕРМУД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ащиеся 3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ИЧЕГО НЕ НАПИС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195640" cy="3573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71640" y="3212640"/>
            <a:ext cx="584856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1" i="1" lang="en-US" sz="5200" spc="-1" strike="noStrike">
                <a:solidFill>
                  <a:srgbClr val="575f6d"/>
                </a:solidFill>
                <a:latin typeface="Century Schoolbook"/>
              </a:rPr>
              <a:t>Продолжение следует…</a:t>
            </a:r>
            <a:br>
              <a:rPr sz="5200"/>
            </a:br>
            <a:endParaRPr b="0" lang="en-US" sz="5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2" name=""/>
          <p:cNvSpPr/>
          <p:nvPr/>
        </p:nvSpPr>
        <p:spPr>
          <a:xfrm>
            <a:off x="179280" y="2205000"/>
            <a:ext cx="51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75f6d"/>
                </a:solidFill>
                <a:latin typeface="Arial"/>
              </a:rPr>
              <a:t>И это ещё не всё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77828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2060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443640" y="0"/>
            <a:ext cx="2700360" cy="2060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6408720" y="4797360"/>
            <a:ext cx="27352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4176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Содержание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лава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- Основная ча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.1 Интересные открытия, связанные с числами 1.2Исторические факты, подтверждающие гипотез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.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ои собственные исслед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лава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.1 Заключ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.2 Список литературы, ссыл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.3 Прилож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Объект исследования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«Треугольник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Предмет исследования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«Значение треугольника в жизни человека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Цель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Найти и исследовать значение треугольника в жизни человека, чтобы понять жизненную необходимость треугольника в быт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076720" y="3529080"/>
            <a:ext cx="40672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Задачи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. Найти учёного или человека открывшег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. Найти интересные факты про треугольн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. Найти объекты или предметы, где используется треугольни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Гипотеза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Если треугольник используют в быту и в повседневной жизни, то значит он жизненно необходим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Методы исследования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. Метод обобщ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. Метод выяв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. Метод опро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4. Метод анализ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7640" y="620280"/>
            <a:ext cx="67075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75f6d"/>
                </a:solidFill>
                <a:latin typeface="Century Schoolbook"/>
              </a:rPr>
              <a:t>Кто же открыл треугольник???</a:t>
            </a:r>
            <a:r>
              <a:rPr b="0" lang="en-US" sz="2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92000" y="1341360"/>
            <a:ext cx="565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Древнегреческий ученый Герон (I век)  впервые применил знак   вместо слова треугольник. Так как Геометрия это очень старая наука и была известна ещё в Древнем Египте, учёного открытого треугольник неизвестно. По выявленным данным в интернете и книгам понятно, что, скорее всего треугольник открыл жрец. Так как жрецы были самими умными людьми в те время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3419640" cy="2305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419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entury Schoolbook"/>
              </a:rPr>
              <a:t>Шейные треугольник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124000" y="5013360"/>
            <a:ext cx="7020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аждая половина шеи по бокам от срединной линии, проведенной от подбородка до яремной вырезки, делится грудино-ключично-сосцевидной мышцей на два треугольника – передний и задний.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156360" y="1125360"/>
            <a:ext cx="2987640" cy="2492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V="1" rot="10800000">
            <a:off x="3995280" y="2420280"/>
            <a:ext cx="22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ждый из указанных треугольников посредством мышц шеи делится на ряд меньших треуг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2416320" cy="2565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419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6300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Шейные треугольник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278" name="Текст 1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90960" cy="5516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643280" y="1479600"/>
            <a:ext cx="3910320" cy="51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днижнечелюстной треуголь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Сонный треугольник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Лопаточно - трахеальный треугольник 4. Лопаточно - ключичный треуголь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. Лопаточно - трапециевидный треугольник 6. Позадичелюстная ямка 7. Подбородочный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entury Schoolbook"/>
              </a:rPr>
              <a:t>Треугольник в чакрах люде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5724360" cy="3141720"/>
          </a:xfrm>
          <a:prstGeom prst="rect">
            <a:avLst/>
          </a:prstGeom>
          <a:ln w="0">
            <a:noFill/>
          </a:ln>
        </p:spPr>
      </p:pic>
      <p:pic>
        <p:nvPicPr>
          <p:cNvPr id="282" name="Текст 12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3097080" cy="2492280"/>
          </a:xfrm>
          <a:prstGeom prst="rect">
            <a:avLst/>
          </a:prstGeom>
          <a:ln w="0">
            <a:noFill/>
          </a:ln>
        </p:spPr>
      </p:pic>
      <p:pic>
        <p:nvPicPr>
          <p:cNvPr id="283" name="in-yan-triangle-2" descr=""/>
          <p:cNvPicPr/>
          <p:nvPr/>
        </p:nvPicPr>
        <p:blipFill>
          <a:blip r:embed="rId3"/>
          <a:stretch/>
        </p:blipFill>
        <p:spPr>
          <a:xfrm>
            <a:off x="5003640" y="907920"/>
            <a:ext cx="3745080" cy="2735280"/>
          </a:xfrm>
          <a:prstGeom prst="rect">
            <a:avLst/>
          </a:prstGeom>
          <a:ln w="0">
            <a:noFill/>
          </a:ln>
        </p:spPr>
      </p:pic>
      <p:pic>
        <p:nvPicPr>
          <p:cNvPr id="284" name="i" descr=""/>
          <p:cNvPicPr/>
          <p:nvPr/>
        </p:nvPicPr>
        <p:blipFill>
          <a:blip r:embed="rId4"/>
          <a:stretch/>
        </p:blipFill>
        <p:spPr>
          <a:xfrm>
            <a:off x="324000" y="90792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entury Schoolbook"/>
              </a:rPr>
              <a:t>Треугольник в гадани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286" name="Текст 12" descr="Онлайн гадание на картах Таро на ситуацию Треугольники 11 карт"/>
          <p:cNvPicPr/>
          <p:nvPr/>
        </p:nvPicPr>
        <p:blipFill>
          <a:blip r:embed="rId1"/>
          <a:stretch/>
        </p:blipFill>
        <p:spPr>
          <a:xfrm>
            <a:off x="611280" y="765000"/>
            <a:ext cx="4825800" cy="3160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50920" y="3832200"/>
            <a:ext cx="889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хема и значение карт Таро в раскладе на ситуацию “Треугольники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а 1 – Ваша сильная сторона или преимущество в ситуации в данный момен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а 3 – Ваша слабая сторона в ситуации, в чём вы уязвимы в данный момен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а 2 – Перспективы и возможность исполнения ваших надежд и план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а 4 – Что сейчас важно для развития ситу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а 5 – С чем могут быть связаны основные препятствия и трудно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а 6 – Что говорит против изменений или вашего участия в события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а 7 – Что работает на вас, что вы можете использовать, на что опереть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а 8 – Из какого источника или какую помощь вы можете получи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а 9 – Результат развития ситуации, итог событий в будуще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а 10 – Что важно для достижения результата, на что обратить вним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а 11 – Что не важно в ситуации, на что не тратить силы и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084720" y="765000"/>
            <a:ext cx="2376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6:51:53Z</dcterms:created>
  <dc:creator>Win Xp Sp3</dc:creator>
  <dc:description/>
  <dc:language>en-US</dc:language>
  <cp:lastModifiedBy>ПК</cp:lastModifiedBy>
  <dcterms:modified xsi:type="dcterms:W3CDTF">2013-04-15T19:57:58Z</dcterms:modified>
  <cp:revision>13</cp:revision>
  <dc:subject/>
  <dc:title>Урок обобщения и систематизации знаний по теме «Начальные геомерические сведения»</dc:title>
</cp:coreProperties>
</file>