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09E-3BBD-4FE7-8916-1C4B30C2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AFC-5A8F-43A8-A2D8-2AFE5B0A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1CE-744D-450B-946C-B5BF7489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37B-C72B-4989-99A2-76AB7066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B0B9-C871-4E73-80D8-2B3A08A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CBCF-6EA3-427F-8E2D-DF962B09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ABD8-8A0B-43BB-86E0-00A908D4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E320-1559-4910-B8D1-0FD774E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3211-E001-44B9-BA38-68FC024F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22F-FA39-4D0C-A613-BEE4AD9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528-D8C0-4240-BB65-10F47F6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6AF-BA1A-4144-929E-633425A6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9045-EF1B-4C98-971E-2B9BC5F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82B-9250-4C61-B892-FC8284A5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A14-4CBA-4E84-99BE-A8B5FCC4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55E-50C0-41EA-B8C2-340F88D1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CDF1-D370-498C-8E39-45122C54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B52-14B7-4803-88DA-88E7087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C43-2E65-4B4C-8E2E-86F3973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901-44B0-4CE9-AB46-C6F43B8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67E-009E-4810-951B-B3CF326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939-25B4-47BB-B3F3-50C2D2A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EAC-58F1-4F3A-ADBB-96099C1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2BD-FF9C-48BE-8204-B8CA36A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BA1B-1D24-4CC4-8524-9BE2368DD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BD24-8712-406B-8C34-3FB24360C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72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нкина Наталь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«Ардато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бё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96840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 Верба –  атрибут в празднован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ербного воскресенья»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6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616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87280" y="53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бное святое воскресение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ихо льётся нежный свет с неб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точек пушистых освящение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я ожидания чуде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7416720" cy="446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5084640"/>
            <a:ext cx="61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природа только просыпае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янулась к солнцу. И серд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ек постепенно раскрыва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ышишь: вот и пение скворц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бное воскресенье издавна считается одним из самых больших и почитаемых предпасхальных  праздников. И очень важно  подчеркнуть особую значимость взаимопонимания, единства, многовековой дружбы, взаимообогащения и взаимоуважения  культуры  народов, проживающих  в Мордовии  и на территории всей России. Сегодня многие постепенно забывают истинный смысл христианских праздников.  В России тоже есть немало обрядов, смысл которых улавливается не всеми.   Примерно такое же отношение  мы можем наблюдать и к Вербному Христову Воскрес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374920" cy="23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243160" cy="2374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4085280"/>
            <a:ext cx="63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бочка в дом принес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ское благослове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Бог вас от бед сбере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это вербное Воскресени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обрать и систематизировать материал о празднике  Вербное воскресен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определить место и значение вербы при проведении празд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объяснить смысл обрядов главное место в которых занимает вер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знать историю возникновения празд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зучить традиции  празднования  Вербного воскресенья;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ыявить  значимость  вербы к данному праздни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пределить значимость праздника для общества на сегодняшний 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ж верба вся пушис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кинулась круг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ять весна душис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еяло кры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71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3938760" cy="59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24360" y="1125360"/>
            <a:ext cx="5003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6408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4"/>
                </a:solidFill>
                <a:latin typeface="Times New Roman"/>
              </a:rPr>
              <a:t>Вербное Воскресень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7994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8:51:09Z</dcterms:created>
  <dc:creator>Школа</dc:creator>
  <dc:description/>
  <dc:language>en-US</dc:language>
  <cp:lastModifiedBy>Катаев</cp:lastModifiedBy>
  <dcterms:modified xsi:type="dcterms:W3CDTF">2012-03-15T21:35:13Z</dcterms:modified>
  <cp:revision>3</cp:revision>
  <dc:subject/>
  <dc:title>   Вход Господень в Иерусалим</dc:title>
</cp:coreProperties>
</file>