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4.jpeg" ContentType="image/jpeg"/>
  <Override PartName="/ppt/media/image5.gif" ContentType="image/gif"/>
  <Override PartName="/ppt/media/image7.jpeg" ContentType="image/jpeg"/>
  <Override PartName="/ppt/media/image9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11.jpeg" ContentType="image/jpeg"/>
  <Override PartName="/ppt/media/image1.gif" ContentType="image/gif"/>
  <Override PartName="/ppt/media/image13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5.jpeg" ContentType="image/jpeg"/>
  <Override PartName="/ppt/media/image16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2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B423-BFFD-4923-9DBC-42F3AD76E5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DC13-9505-4046-9F78-D2FEFA3F45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C3E-9FEB-47E5-AB0C-ECF28393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3A9-FBF3-485A-A902-E704244B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B0A-1ED6-47CE-8549-03AB5D89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05A-E11B-49C0-9F2E-BD48C515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B7D-D890-4891-8528-2FB21235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D32-FB2B-4054-BC9B-9B157B61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354-A922-4833-BF35-9E02E354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746-F8F4-4565-94A5-1E60BC62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1B5-9303-462A-989B-FB50C037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D91-6529-44CD-BC48-748F6936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78E-2D5E-4E56-80CF-0FD253E4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8E5-53E5-4C01-A1B2-7F533142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08F8-4F39-425D-8F28-DA2B018CE1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gi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355680"/>
            <a:ext cx="9144000" cy="7120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684360" y="6922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Нетрадиционные формы раб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при проведении развлеч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539640" y="333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МДОУ ИРМО «Марковский детский сад комбинированного ви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258920" y="5950080"/>
            <a:ext cx="75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Воспитатель: Шкарпетова Галина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Логопед: Евдокимова Ирина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\\172.16.83.19\f\Мои документы\Мои рисунки\1193854118_dr150.jpg"/>
          <p:cNvPicPr/>
          <p:nvPr/>
        </p:nvPicPr>
        <p:blipFill>
          <a:blip r:embed="rId2"/>
          <a:stretch/>
        </p:blipFill>
        <p:spPr>
          <a:xfrm>
            <a:off x="2341440" y="3213000"/>
            <a:ext cx="44611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Polzovatiel\Desktop\IMG_2400.JPG"/>
          <p:cNvPicPr/>
          <p:nvPr/>
        </p:nvPicPr>
        <p:blipFill>
          <a:blip r:embed="rId2"/>
          <a:stretch/>
        </p:blipFill>
        <p:spPr>
          <a:xfrm>
            <a:off x="2195640" y="2349360"/>
            <a:ext cx="4998960" cy="3627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овместная выставка </a:t>
            </a:r>
            <a:br>
              <a:rPr sz="3600"/>
            </a:b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родителей с детьм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ародные обереги для семь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770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Polzovatiel\Desktop\IMG_9718.JPG"/>
          <p:cNvPicPr/>
          <p:nvPr/>
        </p:nvPicPr>
        <p:blipFill>
          <a:blip r:embed="rId2"/>
          <a:stretch/>
        </p:blipFill>
        <p:spPr>
          <a:xfrm>
            <a:off x="6796080" y="2776680"/>
            <a:ext cx="2238480" cy="340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olzovatiel\Desktop\IMG_9721.JPG"/>
          <p:cNvPicPr/>
          <p:nvPr/>
        </p:nvPicPr>
        <p:blipFill>
          <a:blip r:embed="rId3"/>
          <a:stretch/>
        </p:blipFill>
        <p:spPr>
          <a:xfrm>
            <a:off x="179280" y="2924280"/>
            <a:ext cx="2109960" cy="3230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Polzovatiel\Desktop\IMG_9770.JPG"/>
          <p:cNvPicPr/>
          <p:nvPr/>
        </p:nvPicPr>
        <p:blipFill>
          <a:blip r:embed="rId4"/>
          <a:stretch/>
        </p:blipFill>
        <p:spPr>
          <a:xfrm>
            <a:off x="2448000" y="2637000"/>
            <a:ext cx="4165560" cy="2776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Мастер-класс для родителей и детей </a:t>
            </a:r>
            <a:br>
              <a:rPr sz="32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готовление семейных оберегов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ерег «Подко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27000" y="0"/>
            <a:ext cx="9137520" cy="7047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Polzovatiel\Desktop\IMG_9735.JPG"/>
          <p:cNvPicPr/>
          <p:nvPr/>
        </p:nvPicPr>
        <p:blipFill>
          <a:blip r:embed="rId2"/>
          <a:stretch/>
        </p:blipFill>
        <p:spPr>
          <a:xfrm>
            <a:off x="6416640" y="98280"/>
            <a:ext cx="2567160" cy="384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Polzovatiel\Desktop\IMG_9741.JPG"/>
          <p:cNvPicPr/>
          <p:nvPr/>
        </p:nvPicPr>
        <p:blipFill>
          <a:blip r:embed="rId3"/>
          <a:stretch/>
        </p:blipFill>
        <p:spPr>
          <a:xfrm>
            <a:off x="271440" y="136440"/>
            <a:ext cx="2543040" cy="381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Polzovatiel\Desktop\IMG_9784.JPG"/>
          <p:cNvPicPr/>
          <p:nvPr/>
        </p:nvPicPr>
        <p:blipFill>
          <a:blip r:embed="rId4"/>
          <a:stretch/>
        </p:blipFill>
        <p:spPr>
          <a:xfrm>
            <a:off x="2340000" y="4086360"/>
            <a:ext cx="4392720" cy="2825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ерег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севидящее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Polzovatiel\Desktop\IMG_9850.JPG"/>
          <p:cNvPicPr/>
          <p:nvPr/>
        </p:nvPicPr>
        <p:blipFill>
          <a:blip r:embed="rId2"/>
          <a:stretch/>
        </p:blipFill>
        <p:spPr>
          <a:xfrm>
            <a:off x="1017720" y="1484280"/>
            <a:ext cx="7576920" cy="5052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«В этом зале все друзья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14400"/>
            <a:ext cx="963756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Polzovatiel\Desktop\IMG_9856.JPG"/>
          <p:cNvPicPr/>
          <p:nvPr/>
        </p:nvPicPr>
        <p:blipFill>
          <a:blip r:embed="rId2"/>
          <a:stretch/>
        </p:blipFill>
        <p:spPr>
          <a:xfrm>
            <a:off x="250920" y="2133720"/>
            <a:ext cx="6121440" cy="4078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Polzovatiel\Desktop\IMG_1796.JPG"/>
          <p:cNvPicPr/>
          <p:nvPr/>
        </p:nvPicPr>
        <p:blipFill>
          <a:blip r:embed="rId3"/>
          <a:srcRect l="-14364" t="0" r="0" b="0"/>
          <a:stretch/>
        </p:blipFill>
        <p:spPr>
          <a:xfrm>
            <a:off x="6084720" y="1341360"/>
            <a:ext cx="3384720" cy="3529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Наши младшие </a:t>
            </a:r>
            <a:br>
              <a:rPr sz="3600"/>
            </a:b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братишки и сестрён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" descr="C:\Users\Песня\Desktop\анимашки\137.gif"/>
          <p:cNvPicPr/>
          <p:nvPr/>
        </p:nvPicPr>
        <p:blipFill>
          <a:blip r:embed="rId4"/>
          <a:stretch/>
        </p:blipFill>
        <p:spPr>
          <a:xfrm>
            <a:off x="7451640" y="4997520"/>
            <a:ext cx="19083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Polzovatiel\Desktop\IMG_6157-25-11-16-12-02.jpeg"/>
          <p:cNvPicPr/>
          <p:nvPr/>
        </p:nvPicPr>
        <p:blipFill>
          <a:blip r:embed="rId2"/>
          <a:stretch/>
        </p:blipFill>
        <p:spPr>
          <a:xfrm>
            <a:off x="212760" y="2492280"/>
            <a:ext cx="8751960" cy="4033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48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а большая дружная сем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154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Песня\Desktop\Новая папка (2)\1015_babochkiz_narod_ru.gif"/>
          <p:cNvPicPr/>
          <p:nvPr/>
        </p:nvPicPr>
        <p:blipFill>
          <a:blip r:embed="rId2"/>
          <a:stretch/>
        </p:blipFill>
        <p:spPr>
          <a:xfrm>
            <a:off x="7318440" y="5084640"/>
            <a:ext cx="1552680" cy="1419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казатели результативно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293840"/>
            <a:ext cx="8748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уменьшение социальной дистанции меж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педагогами и родителями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проявление интереса родителей к педагогическому процессу ДО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осознание родителями своей ответственности в воспитании ребё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6" descr="C:\Users\Polzovatiel\Desktop\i.jpg"/>
          <p:cNvPicPr/>
          <p:nvPr/>
        </p:nvPicPr>
        <p:blipFill>
          <a:blip r:embed="rId3"/>
          <a:stretch/>
        </p:blipFill>
        <p:spPr>
          <a:xfrm>
            <a:off x="3276720" y="4811760"/>
            <a:ext cx="28526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Users\Песня\Desktop\Новая папка (2)\1015_babochkiz_narod_ru.gif"/>
          <p:cNvPicPr/>
          <p:nvPr/>
        </p:nvPicPr>
        <p:blipFill>
          <a:blip r:embed="rId2"/>
          <a:stretch/>
        </p:blipFill>
        <p:spPr>
          <a:xfrm rot="2191800">
            <a:off x="728640" y="792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3"/>
          <a:stretch/>
        </p:blipFill>
        <p:spPr>
          <a:xfrm>
            <a:off x="517680" y="1413000"/>
            <a:ext cx="8108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648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«Только вместе с родителями, общими усилиями, педагоги могут дать детям большое человеческое счасть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36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В. А. Сухомлин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46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C:\Documents and Settings\1\Мои документы\Мои рисунки\5da9319d0e62.jpg"/>
          <p:cNvPicPr/>
          <p:nvPr/>
        </p:nvPicPr>
        <p:blipFill>
          <a:blip r:embed="rId2"/>
          <a:stretch/>
        </p:blipFill>
        <p:spPr>
          <a:xfrm>
            <a:off x="414360" y="3943440"/>
            <a:ext cx="2232000" cy="2493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\\172.16.83.19\f\Мои документы\Мои рисунки\132375a0b9b2.png"/>
          <p:cNvPicPr/>
          <p:nvPr/>
        </p:nvPicPr>
        <p:blipFill>
          <a:blip r:embed="rId3"/>
          <a:stretch/>
        </p:blipFill>
        <p:spPr>
          <a:xfrm>
            <a:off x="6227640" y="3933720"/>
            <a:ext cx="247680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39528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1436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611280" y="836640"/>
            <a:ext cx="7993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Песня\Desktop\анимашки\medvedi-na-poezde.gif"/>
          <p:cNvPicPr/>
          <p:nvPr/>
        </p:nvPicPr>
        <p:blipFill>
          <a:blip r:embed="rId2"/>
          <a:stretch/>
        </p:blipFill>
        <p:spPr>
          <a:xfrm>
            <a:off x="4235400" y="4724280"/>
            <a:ext cx="4422960" cy="1844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2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000" y="1557360"/>
            <a:ext cx="82803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оздание эмоционального контакта, установление подлинного доверия и партнёрства с семьёй</a:t>
            </a:r>
            <a:r>
              <a:rPr b="1" i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повышение педагогической культуры, педагогической компетентности родителей в воспитании здорового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Polzovatiel\Desktop\IMG_1756.JPG"/>
          <p:cNvPicPr/>
          <p:nvPr/>
        </p:nvPicPr>
        <p:blipFill>
          <a:blip r:embed="rId2"/>
          <a:stretch/>
        </p:blipFill>
        <p:spPr>
          <a:xfrm>
            <a:off x="755640" y="1268280"/>
            <a:ext cx="3494160" cy="3811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Polzovatiel\Desktop\IMG_1739.JPG"/>
          <p:cNvPicPr/>
          <p:nvPr/>
        </p:nvPicPr>
        <p:blipFill>
          <a:blip r:embed="rId3"/>
          <a:stretch/>
        </p:blipFill>
        <p:spPr>
          <a:xfrm>
            <a:off x="5292720" y="1268280"/>
            <a:ext cx="3516480" cy="4689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«Вместе с мамо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84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Polzovatiel\Desktop\IMG_1713.JPG"/>
          <p:cNvPicPr/>
          <p:nvPr/>
        </p:nvPicPr>
        <p:blipFill>
          <a:blip r:embed="rId2"/>
          <a:stretch/>
        </p:blipFill>
        <p:spPr>
          <a:xfrm>
            <a:off x="4665600" y="2720880"/>
            <a:ext cx="4249800" cy="3189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Polzovatiel\Desktop\IMG_1709.JPG"/>
          <p:cNvPicPr/>
          <p:nvPr/>
        </p:nvPicPr>
        <p:blipFill>
          <a:blip r:embed="rId3"/>
          <a:stretch/>
        </p:blipFill>
        <p:spPr>
          <a:xfrm>
            <a:off x="439560" y="1628640"/>
            <a:ext cx="4053240" cy="3038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емейная сценка «Случай в лесу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овместно организованный </a:t>
            </a:r>
            <a:br>
              <a:rPr sz="4400"/>
            </a:br>
            <a:r>
              <a:rPr b="1" lang="ru-RU" sz="44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с родителями праздник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Искры домашнего очаг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Polzovatiel\Desktop\IMG_9825.JPG"/>
          <p:cNvPicPr/>
          <p:nvPr/>
        </p:nvPicPr>
        <p:blipFill>
          <a:blip r:embed="rId2"/>
          <a:stretch/>
        </p:blipFill>
        <p:spPr>
          <a:xfrm>
            <a:off x="136440" y="1628640"/>
            <a:ext cx="4319640" cy="288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Polzovatiel\Desktop\IMG_9822.JPG"/>
          <p:cNvPicPr/>
          <p:nvPr/>
        </p:nvPicPr>
        <p:blipFill>
          <a:blip r:embed="rId3"/>
          <a:stretch/>
        </p:blipFill>
        <p:spPr>
          <a:xfrm>
            <a:off x="4643280" y="2852640"/>
            <a:ext cx="4319640" cy="2880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Конкурс «Мячи совпадени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Users\Polzovatiel\Desktop\IMG_9832.JPG"/>
          <p:cNvPicPr/>
          <p:nvPr/>
        </p:nvPicPr>
        <p:blipFill>
          <a:blip r:embed="rId2"/>
          <a:stretch/>
        </p:blipFill>
        <p:spPr>
          <a:xfrm>
            <a:off x="196920" y="1700280"/>
            <a:ext cx="4375080" cy="291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C:\Users\Polzovatiel\Desktop\IMG_9836.JPG"/>
          <p:cNvPicPr/>
          <p:nvPr/>
        </p:nvPicPr>
        <p:blipFill>
          <a:blip r:embed="rId3"/>
          <a:stretch/>
        </p:blipFill>
        <p:spPr>
          <a:xfrm>
            <a:off x="4716360" y="2924280"/>
            <a:ext cx="4319640" cy="2881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Конкурс «Это мой ребёно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Песня\Desktop\анимашки\ramka-17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Песня\Desktop\анимашки\ramka-173.gif"/>
          <p:cNvPicPr/>
          <p:nvPr/>
        </p:nvPicPr>
        <p:blipFill>
          <a:blip r:embed="rId2"/>
          <a:stretch/>
        </p:blipFill>
        <p:spPr>
          <a:xfrm>
            <a:off x="334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Песня\Desktop\анимашки\ramka-173.gif"/>
          <p:cNvPicPr/>
          <p:nvPr/>
        </p:nvPicPr>
        <p:blipFill>
          <a:blip r:embed="rId3"/>
          <a:stretch/>
        </p:blipFill>
        <p:spPr>
          <a:xfrm>
            <a:off x="4730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Polzovatiel\Desktop\IMG_9789.JPG"/>
          <p:cNvPicPr/>
          <p:nvPr/>
        </p:nvPicPr>
        <p:blipFill>
          <a:blip r:embed="rId4"/>
          <a:stretch/>
        </p:blipFill>
        <p:spPr>
          <a:xfrm>
            <a:off x="395280" y="1484280"/>
            <a:ext cx="4336920" cy="2890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Polzovatiel\Desktop\IMG_9794.JPG"/>
          <p:cNvPicPr/>
          <p:nvPr/>
        </p:nvPicPr>
        <p:blipFill>
          <a:blip r:embed="rId5"/>
          <a:stretch/>
        </p:blipFill>
        <p:spPr>
          <a:xfrm>
            <a:off x="4859280" y="3535200"/>
            <a:ext cx="4403880" cy="2935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186c"/>
                </a:solidFill>
                <a:latin typeface="Times New Roman"/>
                <a:ea typeface="Times New Roman"/>
              </a:rPr>
              <a:t>Блиц – опрос для родите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Users\Песня\Desktop\Новая папка (2)\1015_babochkiz_narod_ru.gif"/>
          <p:cNvPicPr/>
          <p:nvPr/>
        </p:nvPicPr>
        <p:blipFill>
          <a:blip r:embed="rId6"/>
          <a:stretch/>
        </p:blipFill>
        <p:spPr>
          <a:xfrm>
            <a:off x="6732720" y="1628640"/>
            <a:ext cx="155232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03:59:11Z</dcterms:created>
  <dc:creator>Песня</dc:creator>
  <dc:description/>
  <dc:language>en-US</dc:language>
  <cp:lastModifiedBy>Admin</cp:lastModifiedBy>
  <dcterms:modified xsi:type="dcterms:W3CDTF">2017-09-05T12:55:07Z</dcterms:modified>
  <cp:revision>95</cp:revision>
  <dc:subject/>
  <dc:title>Слайд 1</dc:title>
</cp:coreProperties>
</file>