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1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4399-42B4-4825-8622-E5C21A44D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DD02-603F-402E-8BF2-087B3EA5C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183-160A-4C1A-A8EC-8DCBFB78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36E-5456-4E0F-B158-809DB6F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7C1-D934-432E-906D-739E49B6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3A5-240E-43F8-8785-461B4052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E54-5185-418B-9728-3AA3E77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114-3A32-47E4-A3F6-2B070552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58E-6ECC-4F1B-9527-863081A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7D6-C85C-4C31-B646-8924175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CCE-1684-484A-8B23-DE399108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B9B-0BDD-4242-99BC-CEA1D75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838-601C-4AA8-9701-14C168F7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D90-F1C8-41B8-84B6-8610244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BAB-CEF6-4B84-808C-53C81D03E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55680"/>
            <a:ext cx="9144000" cy="7120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84360" y="692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етрадиционные формы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и проведении развл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39640" y="33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ДОУ ИРМО «Марковский детский сад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258920" y="5950080"/>
            <a:ext cx="75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оспитатель: Шкарпетова Гал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Логопед: Евдокимова Ир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\\172.16.83.19\f\Мои документы\Мои рисунки\1193854118_dr150.jpg"/>
          <p:cNvPicPr/>
          <p:nvPr/>
        </p:nvPicPr>
        <p:blipFill>
          <a:blip r:embed="rId2"/>
          <a:stretch/>
        </p:blipFill>
        <p:spPr>
          <a:xfrm>
            <a:off x="2341440" y="3213000"/>
            <a:ext cx="4461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Polzovatiel\Desktop\IMG_2400.JPG"/>
          <p:cNvPicPr/>
          <p:nvPr/>
        </p:nvPicPr>
        <p:blipFill>
          <a:blip r:embed="rId2"/>
          <a:stretch/>
        </p:blipFill>
        <p:spPr>
          <a:xfrm>
            <a:off x="2195640" y="2349360"/>
            <a:ext cx="4998960" cy="3627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ая выставка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родителей с детьм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родные обереги для семь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77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Polzovatiel\Desktop\IMG_9718.JPG"/>
          <p:cNvPicPr/>
          <p:nvPr/>
        </p:nvPicPr>
        <p:blipFill>
          <a:blip r:embed="rId2"/>
          <a:stretch/>
        </p:blipFill>
        <p:spPr>
          <a:xfrm>
            <a:off x="6796080" y="2776680"/>
            <a:ext cx="2238480" cy="340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olzovatiel\Desktop\IMG_9721.JPG"/>
          <p:cNvPicPr/>
          <p:nvPr/>
        </p:nvPicPr>
        <p:blipFill>
          <a:blip r:embed="rId3"/>
          <a:stretch/>
        </p:blipFill>
        <p:spPr>
          <a:xfrm>
            <a:off x="179280" y="2924280"/>
            <a:ext cx="2109960" cy="323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Polzovatiel\Desktop\IMG_9770.JPG"/>
          <p:cNvPicPr/>
          <p:nvPr/>
        </p:nvPicPr>
        <p:blipFill>
          <a:blip r:embed="rId4"/>
          <a:stretch/>
        </p:blipFill>
        <p:spPr>
          <a:xfrm>
            <a:off x="2448000" y="2637000"/>
            <a:ext cx="4165560" cy="2776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астер-класс для родителей и детей </a:t>
            </a: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готовление семейных оберег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«Подк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27000" y="0"/>
            <a:ext cx="9137520" cy="704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olzovatiel\Desktop\IMG_9735.JPG"/>
          <p:cNvPicPr/>
          <p:nvPr/>
        </p:nvPicPr>
        <p:blipFill>
          <a:blip r:embed="rId2"/>
          <a:stretch/>
        </p:blipFill>
        <p:spPr>
          <a:xfrm>
            <a:off x="6416640" y="98280"/>
            <a:ext cx="2567160" cy="384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Polzovatiel\Desktop\IMG_9741.JPG"/>
          <p:cNvPicPr/>
          <p:nvPr/>
        </p:nvPicPr>
        <p:blipFill>
          <a:blip r:embed="rId3"/>
          <a:stretch/>
        </p:blipFill>
        <p:spPr>
          <a:xfrm>
            <a:off x="271440" y="136440"/>
            <a:ext cx="2543040" cy="38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Polzovatiel\Desktop\IMG_9784.JPG"/>
          <p:cNvPicPr/>
          <p:nvPr/>
        </p:nvPicPr>
        <p:blipFill>
          <a:blip r:embed="rId4"/>
          <a:stretch/>
        </p:blipFill>
        <p:spPr>
          <a:xfrm>
            <a:off x="2340000" y="4086360"/>
            <a:ext cx="4392720" cy="28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севидяще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Polzovatiel\Desktop\IMG_9850.JPG"/>
          <p:cNvPicPr/>
          <p:nvPr/>
        </p:nvPicPr>
        <p:blipFill>
          <a:blip r:embed="rId2"/>
          <a:stretch/>
        </p:blipFill>
        <p:spPr>
          <a:xfrm>
            <a:off x="1017720" y="1484280"/>
            <a:ext cx="7576920" cy="505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 этом зале все друзь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4400"/>
            <a:ext cx="96375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Polzovatiel\Desktop\IMG_9856.JPG"/>
          <p:cNvPicPr/>
          <p:nvPr/>
        </p:nvPicPr>
        <p:blipFill>
          <a:blip r:embed="rId2"/>
          <a:stretch/>
        </p:blipFill>
        <p:spPr>
          <a:xfrm>
            <a:off x="250920" y="2133720"/>
            <a:ext cx="6121440" cy="407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Polzovatiel\Desktop\IMG_1796.JPG"/>
          <p:cNvPicPr/>
          <p:nvPr/>
        </p:nvPicPr>
        <p:blipFill>
          <a:blip r:embed="rId3"/>
          <a:srcRect l="-14364" t="0" r="0" b="0"/>
          <a:stretch/>
        </p:blipFill>
        <p:spPr>
          <a:xfrm>
            <a:off x="6084720" y="1341360"/>
            <a:ext cx="338472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аши младшие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ратишки и сестрё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Users\Песня\Desktop\анимашки\137.gif"/>
          <p:cNvPicPr/>
          <p:nvPr/>
        </p:nvPicPr>
        <p:blipFill>
          <a:blip r:embed="rId4"/>
          <a:stretch/>
        </p:blipFill>
        <p:spPr>
          <a:xfrm>
            <a:off x="7451640" y="4997520"/>
            <a:ext cx="19083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Polzovatiel\Desktop\IMG_6157-25-11-16-12-02.jpeg"/>
          <p:cNvPicPr/>
          <p:nvPr/>
        </p:nvPicPr>
        <p:blipFill>
          <a:blip r:embed="rId2"/>
          <a:stretch/>
        </p:blipFill>
        <p:spPr>
          <a:xfrm>
            <a:off x="212760" y="2492280"/>
            <a:ext cx="8751960" cy="403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48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а большая дружная 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318440" y="5084640"/>
            <a:ext cx="1552680" cy="1419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результатив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2938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уменьшение социальной дистанции меж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едагогами и родителями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оявление интереса родителей к педагогическому процессу ДО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осознание родителями своей ответственности в воспитании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C:\Users\Polzovatiel\Desktop\i.jpg"/>
          <p:cNvPicPr/>
          <p:nvPr/>
        </p:nvPicPr>
        <p:blipFill>
          <a:blip r:embed="rId3"/>
          <a:stretch/>
        </p:blipFill>
        <p:spPr>
          <a:xfrm>
            <a:off x="3276720" y="4811760"/>
            <a:ext cx="2852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 rot="2191800">
            <a:off x="728640" y="7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517680" y="1413000"/>
            <a:ext cx="8108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648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Только вместе с родителями, общими усилиями, педагоги могут дать детям большое человеческое счаст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1\Мои документы\Мои рисунки\5da9319d0e62.jpg"/>
          <p:cNvPicPr/>
          <p:nvPr/>
        </p:nvPicPr>
        <p:blipFill>
          <a:blip r:embed="rId2"/>
          <a:stretch/>
        </p:blipFill>
        <p:spPr>
          <a:xfrm>
            <a:off x="414360" y="3943440"/>
            <a:ext cx="2232000" cy="249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\\172.16.83.19\f\Мои документы\Мои рисунки\132375a0b9b2.png"/>
          <p:cNvPicPr/>
          <p:nvPr/>
        </p:nvPicPr>
        <p:blipFill>
          <a:blip r:embed="rId3"/>
          <a:stretch/>
        </p:blipFill>
        <p:spPr>
          <a:xfrm>
            <a:off x="6227640" y="3933720"/>
            <a:ext cx="2476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9528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611280" y="836640"/>
            <a:ext cx="7993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Песня\Desktop\анимашки\medvedi-na-poezde.gif"/>
          <p:cNvPicPr/>
          <p:nvPr/>
        </p:nvPicPr>
        <p:blipFill>
          <a:blip r:embed="rId2"/>
          <a:stretch/>
        </p:blipFill>
        <p:spPr>
          <a:xfrm>
            <a:off x="4235400" y="4724280"/>
            <a:ext cx="4422960" cy="184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000" y="1557360"/>
            <a:ext cx="82803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здание эмоционального контакта, установление подлинного доверия и партнёрства с семьёй</a:t>
            </a:r>
            <a:r>
              <a:rPr b="1" i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овышение педагогической культуры, педагогической компетентности родителей в воспитании здоров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Polzovatiel\Desktop\IMG_1756.JPG"/>
          <p:cNvPicPr/>
          <p:nvPr/>
        </p:nvPicPr>
        <p:blipFill>
          <a:blip r:embed="rId2"/>
          <a:stretch/>
        </p:blipFill>
        <p:spPr>
          <a:xfrm>
            <a:off x="755640" y="1268280"/>
            <a:ext cx="3494160" cy="381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Polzovatiel\Desktop\IMG_1739.JPG"/>
          <p:cNvPicPr/>
          <p:nvPr/>
        </p:nvPicPr>
        <p:blipFill>
          <a:blip r:embed="rId3"/>
          <a:stretch/>
        </p:blipFill>
        <p:spPr>
          <a:xfrm>
            <a:off x="5292720" y="1268280"/>
            <a:ext cx="3516480" cy="468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месте с мамо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Polzovatiel\Desktop\IMG_1713.JPG"/>
          <p:cNvPicPr/>
          <p:nvPr/>
        </p:nvPicPr>
        <p:blipFill>
          <a:blip r:embed="rId2"/>
          <a:stretch/>
        </p:blipFill>
        <p:spPr>
          <a:xfrm>
            <a:off x="4665600" y="272088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Polzovatiel\Desktop\IMG_1709.JPG"/>
          <p:cNvPicPr/>
          <p:nvPr/>
        </p:nvPicPr>
        <p:blipFill>
          <a:blip r:embed="rId3"/>
          <a:stretch/>
        </p:blipFill>
        <p:spPr>
          <a:xfrm>
            <a:off x="439560" y="1628640"/>
            <a:ext cx="4053240" cy="303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емейная сценка «Случай в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о организованный </a:t>
            </a:r>
            <a:br>
              <a:rPr sz="4400"/>
            </a:b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 праздник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кры домашнего очаг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Polzovatiel\Desktop\IMG_9825.JPG"/>
          <p:cNvPicPr/>
          <p:nvPr/>
        </p:nvPicPr>
        <p:blipFill>
          <a:blip r:embed="rId2"/>
          <a:stretch/>
        </p:blipFill>
        <p:spPr>
          <a:xfrm>
            <a:off x="136440" y="162864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Polzovatiel\Desktop\IMG_9822.JPG"/>
          <p:cNvPicPr/>
          <p:nvPr/>
        </p:nvPicPr>
        <p:blipFill>
          <a:blip r:embed="rId3"/>
          <a:stretch/>
        </p:blipFill>
        <p:spPr>
          <a:xfrm>
            <a:off x="4643280" y="2852640"/>
            <a:ext cx="4319640" cy="28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Мячи совпаде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Polzovatiel\Desktop\IMG_9832.JPG"/>
          <p:cNvPicPr/>
          <p:nvPr/>
        </p:nvPicPr>
        <p:blipFill>
          <a:blip r:embed="rId2"/>
          <a:stretch/>
        </p:blipFill>
        <p:spPr>
          <a:xfrm>
            <a:off x="196920" y="1700280"/>
            <a:ext cx="437508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Polzovatiel\Desktop\IMG_9836.JPG"/>
          <p:cNvPicPr/>
          <p:nvPr/>
        </p:nvPicPr>
        <p:blipFill>
          <a:blip r:embed="rId3"/>
          <a:stretch/>
        </p:blipFill>
        <p:spPr>
          <a:xfrm>
            <a:off x="4716360" y="2924280"/>
            <a:ext cx="431964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Это мой ребён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Песня\Desktop\анимашки\ramka-173.gif"/>
          <p:cNvPicPr/>
          <p:nvPr/>
        </p:nvPicPr>
        <p:blipFill>
          <a:blip r:embed="rId2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Песня\Desktop\анимашки\ramka-173.gif"/>
          <p:cNvPicPr/>
          <p:nvPr/>
        </p:nvPicPr>
        <p:blipFill>
          <a:blip r:embed="rId3"/>
          <a:stretch/>
        </p:blipFill>
        <p:spPr>
          <a:xfrm>
            <a:off x="4730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Polzovatiel\Desktop\IMG_9789.JPG"/>
          <p:cNvPicPr/>
          <p:nvPr/>
        </p:nvPicPr>
        <p:blipFill>
          <a:blip r:embed="rId4"/>
          <a:stretch/>
        </p:blipFill>
        <p:spPr>
          <a:xfrm>
            <a:off x="395280" y="1484280"/>
            <a:ext cx="4336920" cy="289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Polzovatiel\Desktop\IMG_9794.JPG"/>
          <p:cNvPicPr/>
          <p:nvPr/>
        </p:nvPicPr>
        <p:blipFill>
          <a:blip r:embed="rId5"/>
          <a:stretch/>
        </p:blipFill>
        <p:spPr>
          <a:xfrm>
            <a:off x="4859280" y="3535200"/>
            <a:ext cx="4403880" cy="293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лиц – опрос дл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Песня\Desktop\Новая папка (2)\1015_babochkiz_narod_ru.gif"/>
          <p:cNvPicPr/>
          <p:nvPr/>
        </p:nvPicPr>
        <p:blipFill>
          <a:blip r:embed="rId6"/>
          <a:stretch/>
        </p:blipFill>
        <p:spPr>
          <a:xfrm>
            <a:off x="6732720" y="1628640"/>
            <a:ext cx="15523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59:11Z</dcterms:created>
  <dc:creator>Песня</dc:creator>
  <dc:description/>
  <dc:language>en-US</dc:language>
  <cp:lastModifiedBy>Admin</cp:lastModifiedBy>
  <dcterms:modified xsi:type="dcterms:W3CDTF">2017-09-05T12:55:07Z</dcterms:modified>
  <cp:revision>95</cp:revision>
  <dc:subject/>
  <dc:title>Слайд 1</dc:title>
</cp:coreProperties>
</file>