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9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13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16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85E2-C1AC-4C1E-8CDB-1CE064F7D3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F3D8-A329-44D4-AF18-D0F2AA194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F7F-F9E0-4075-B15B-87622634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49A-07C1-4225-B64E-95AFD40C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7B9-28D6-4898-BCD0-11F39474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EA7-7A8E-4360-A5EF-848A5966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A6E-8BD4-4124-A678-E8024585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84B-8E4C-47DE-9F58-DAB5765F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397-D902-4F49-8480-0E52B595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7EB-79AF-4C1F-ADDA-A27D7891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E9E-84D4-44CE-8ABA-1CB875F2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3BD-6DCD-47DF-90EE-5B06763E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A4B-A9AC-4264-92FC-044C0828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DE0-A4F1-426B-94D4-ED7B4AE3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6C0E-1E99-4EC2-B92C-C2CAD63625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355680"/>
            <a:ext cx="9144000" cy="7120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684360" y="6922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Нетрадиционные формы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ри проведении развле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39640" y="333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МДОУ ИРМО «Марковский детский сад комбинированного ви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258920" y="5950080"/>
            <a:ext cx="75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Воспитатель: Шкарпетова Галина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Логопед: Евдокимова Ирина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\\172.16.83.19\f\Мои документы\Мои рисунки\1193854118_dr150.jpg"/>
          <p:cNvPicPr/>
          <p:nvPr/>
        </p:nvPicPr>
        <p:blipFill>
          <a:blip r:embed="rId2"/>
          <a:stretch/>
        </p:blipFill>
        <p:spPr>
          <a:xfrm>
            <a:off x="2341440" y="3213000"/>
            <a:ext cx="44611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Polzovatiel\Desktop\IMG_2400.JPG"/>
          <p:cNvPicPr/>
          <p:nvPr/>
        </p:nvPicPr>
        <p:blipFill>
          <a:blip r:embed="rId2"/>
          <a:stretch/>
        </p:blipFill>
        <p:spPr>
          <a:xfrm>
            <a:off x="2195640" y="2349360"/>
            <a:ext cx="4998960" cy="3627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овместная выставка </a:t>
            </a:r>
            <a:br>
              <a:rPr sz="3600"/>
            </a:b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родителей с детьм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ародные обереги для семь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77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Polzovatiel\Desktop\IMG_9718.JPG"/>
          <p:cNvPicPr/>
          <p:nvPr/>
        </p:nvPicPr>
        <p:blipFill>
          <a:blip r:embed="rId2"/>
          <a:stretch/>
        </p:blipFill>
        <p:spPr>
          <a:xfrm>
            <a:off x="6796080" y="2776680"/>
            <a:ext cx="2238480" cy="340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olzovatiel\Desktop\IMG_9721.JPG"/>
          <p:cNvPicPr/>
          <p:nvPr/>
        </p:nvPicPr>
        <p:blipFill>
          <a:blip r:embed="rId3"/>
          <a:stretch/>
        </p:blipFill>
        <p:spPr>
          <a:xfrm>
            <a:off x="179280" y="2924280"/>
            <a:ext cx="2109960" cy="3230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Polzovatiel\Desktop\IMG_9770.JPG"/>
          <p:cNvPicPr/>
          <p:nvPr/>
        </p:nvPicPr>
        <p:blipFill>
          <a:blip r:embed="rId4"/>
          <a:stretch/>
        </p:blipFill>
        <p:spPr>
          <a:xfrm>
            <a:off x="2448000" y="2637000"/>
            <a:ext cx="4165560" cy="2776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Мастер-класс для родителей и детей </a:t>
            </a:r>
            <a:br>
              <a:rPr sz="32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готовление семейных оберегов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ерег «Подко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27000" y="0"/>
            <a:ext cx="9137520" cy="704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Polzovatiel\Desktop\IMG_9735.JPG"/>
          <p:cNvPicPr/>
          <p:nvPr/>
        </p:nvPicPr>
        <p:blipFill>
          <a:blip r:embed="rId2"/>
          <a:stretch/>
        </p:blipFill>
        <p:spPr>
          <a:xfrm>
            <a:off x="6416640" y="98280"/>
            <a:ext cx="2567160" cy="384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Polzovatiel\Desktop\IMG_9741.JPG"/>
          <p:cNvPicPr/>
          <p:nvPr/>
        </p:nvPicPr>
        <p:blipFill>
          <a:blip r:embed="rId3"/>
          <a:stretch/>
        </p:blipFill>
        <p:spPr>
          <a:xfrm>
            <a:off x="271440" y="136440"/>
            <a:ext cx="2543040" cy="381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Polzovatiel\Desktop\IMG_9784.JPG"/>
          <p:cNvPicPr/>
          <p:nvPr/>
        </p:nvPicPr>
        <p:blipFill>
          <a:blip r:embed="rId4"/>
          <a:stretch/>
        </p:blipFill>
        <p:spPr>
          <a:xfrm>
            <a:off x="2340000" y="4086360"/>
            <a:ext cx="4392720" cy="282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ерег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севидящее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Polzovatiel\Desktop\IMG_9850.JPG"/>
          <p:cNvPicPr/>
          <p:nvPr/>
        </p:nvPicPr>
        <p:blipFill>
          <a:blip r:embed="rId2"/>
          <a:stretch/>
        </p:blipFill>
        <p:spPr>
          <a:xfrm>
            <a:off x="1017720" y="1484280"/>
            <a:ext cx="7576920" cy="5052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«В этом зале все друзья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14400"/>
            <a:ext cx="963756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Polzovatiel\Desktop\IMG_9856.JPG"/>
          <p:cNvPicPr/>
          <p:nvPr/>
        </p:nvPicPr>
        <p:blipFill>
          <a:blip r:embed="rId2"/>
          <a:stretch/>
        </p:blipFill>
        <p:spPr>
          <a:xfrm>
            <a:off x="250920" y="2133720"/>
            <a:ext cx="6121440" cy="407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Polzovatiel\Desktop\IMG_1796.JPG"/>
          <p:cNvPicPr/>
          <p:nvPr/>
        </p:nvPicPr>
        <p:blipFill>
          <a:blip r:embed="rId3"/>
          <a:srcRect l="-14364" t="0" r="0" b="0"/>
          <a:stretch/>
        </p:blipFill>
        <p:spPr>
          <a:xfrm>
            <a:off x="6084720" y="1341360"/>
            <a:ext cx="3384720" cy="3529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Наши младшие </a:t>
            </a:r>
            <a:br>
              <a:rPr sz="3600"/>
            </a:b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братишки и сестрё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" descr="C:\Users\Песня\Desktop\анимашки\137.gif"/>
          <p:cNvPicPr/>
          <p:nvPr/>
        </p:nvPicPr>
        <p:blipFill>
          <a:blip r:embed="rId4"/>
          <a:stretch/>
        </p:blipFill>
        <p:spPr>
          <a:xfrm>
            <a:off x="7451640" y="4997520"/>
            <a:ext cx="19083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Polzovatiel\Desktop\IMG_6157-25-11-16-12-02.jpeg"/>
          <p:cNvPicPr/>
          <p:nvPr/>
        </p:nvPicPr>
        <p:blipFill>
          <a:blip r:embed="rId2"/>
          <a:stretch/>
        </p:blipFill>
        <p:spPr>
          <a:xfrm>
            <a:off x="212760" y="2492280"/>
            <a:ext cx="8751960" cy="4033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48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а большая дружная сем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154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Песня\Desktop\Новая папка (2)\1015_babochkiz_narod_ru.gif"/>
          <p:cNvPicPr/>
          <p:nvPr/>
        </p:nvPicPr>
        <p:blipFill>
          <a:blip r:embed="rId2"/>
          <a:stretch/>
        </p:blipFill>
        <p:spPr>
          <a:xfrm>
            <a:off x="7318440" y="5084640"/>
            <a:ext cx="1552680" cy="1419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казатели результативн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29384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уменьшение социальной дистанции меж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едагогами и родителями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роявление интереса родителей к педагогическому процессу ДО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осознание родителями своей ответственности в воспитании ребё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6" descr="C:\Users\Polzovatiel\Desktop\i.jpg"/>
          <p:cNvPicPr/>
          <p:nvPr/>
        </p:nvPicPr>
        <p:blipFill>
          <a:blip r:embed="rId3"/>
          <a:stretch/>
        </p:blipFill>
        <p:spPr>
          <a:xfrm>
            <a:off x="3276720" y="4811760"/>
            <a:ext cx="28526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Песня\Desktop\Новая папка (2)\1015_babochkiz_narod_ru.gif"/>
          <p:cNvPicPr/>
          <p:nvPr/>
        </p:nvPicPr>
        <p:blipFill>
          <a:blip r:embed="rId2"/>
          <a:stretch/>
        </p:blipFill>
        <p:spPr>
          <a:xfrm rot="2191800">
            <a:off x="728640" y="792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3"/>
          <a:stretch/>
        </p:blipFill>
        <p:spPr>
          <a:xfrm>
            <a:off x="517680" y="1413000"/>
            <a:ext cx="8108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648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«Только вместе с родителями, общими усилиями, педагоги могут дать детям большое человеческое счасть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В. А. Сухомлин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Documents and Settings\1\Мои документы\Мои рисунки\5da9319d0e62.jpg"/>
          <p:cNvPicPr/>
          <p:nvPr/>
        </p:nvPicPr>
        <p:blipFill>
          <a:blip r:embed="rId2"/>
          <a:stretch/>
        </p:blipFill>
        <p:spPr>
          <a:xfrm>
            <a:off x="414360" y="3943440"/>
            <a:ext cx="2232000" cy="249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\\172.16.83.19\f\Мои документы\Мои рисунки\132375a0b9b2.png"/>
          <p:cNvPicPr/>
          <p:nvPr/>
        </p:nvPicPr>
        <p:blipFill>
          <a:blip r:embed="rId3"/>
          <a:stretch/>
        </p:blipFill>
        <p:spPr>
          <a:xfrm>
            <a:off x="6227640" y="3933720"/>
            <a:ext cx="247680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39528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1436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611280" y="836640"/>
            <a:ext cx="7993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Песня\Desktop\анимашки\medvedi-na-poezde.gif"/>
          <p:cNvPicPr/>
          <p:nvPr/>
        </p:nvPicPr>
        <p:blipFill>
          <a:blip r:embed="rId2"/>
          <a:stretch/>
        </p:blipFill>
        <p:spPr>
          <a:xfrm>
            <a:off x="4235400" y="4724280"/>
            <a:ext cx="4422960" cy="1844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2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000" y="1557360"/>
            <a:ext cx="82803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оздание эмоционального контакта, установление подлинного доверия и партнёрства с семьёй</a:t>
            </a:r>
            <a:r>
              <a:rPr b="1" i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овышение педагогической культуры, педагогической компетентности родителей в воспитании здорово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Polzovatiel\Desktop\IMG_1756.JPG"/>
          <p:cNvPicPr/>
          <p:nvPr/>
        </p:nvPicPr>
        <p:blipFill>
          <a:blip r:embed="rId2"/>
          <a:stretch/>
        </p:blipFill>
        <p:spPr>
          <a:xfrm>
            <a:off x="755640" y="1268280"/>
            <a:ext cx="3494160" cy="381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Polzovatiel\Desktop\IMG_1739.JPG"/>
          <p:cNvPicPr/>
          <p:nvPr/>
        </p:nvPicPr>
        <p:blipFill>
          <a:blip r:embed="rId3"/>
          <a:stretch/>
        </p:blipFill>
        <p:spPr>
          <a:xfrm>
            <a:off x="5292720" y="1268280"/>
            <a:ext cx="3516480" cy="4689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«Вместе с мамо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84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Polzovatiel\Desktop\IMG_1713.JPG"/>
          <p:cNvPicPr/>
          <p:nvPr/>
        </p:nvPicPr>
        <p:blipFill>
          <a:blip r:embed="rId2"/>
          <a:stretch/>
        </p:blipFill>
        <p:spPr>
          <a:xfrm>
            <a:off x="4665600" y="2720880"/>
            <a:ext cx="4249800" cy="3189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Polzovatiel\Desktop\IMG_1709.JPG"/>
          <p:cNvPicPr/>
          <p:nvPr/>
        </p:nvPicPr>
        <p:blipFill>
          <a:blip r:embed="rId3"/>
          <a:stretch/>
        </p:blipFill>
        <p:spPr>
          <a:xfrm>
            <a:off x="439560" y="1628640"/>
            <a:ext cx="4053240" cy="3038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емейная сценка «Случай в лес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овместно организованный </a:t>
            </a:r>
            <a:br>
              <a:rPr sz="4400"/>
            </a:br>
            <a:r>
              <a:rPr b="1" lang="ru-RU" sz="44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 родителями праздник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скры домашнего очаг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Polzovatiel\Desktop\IMG_9825.JPG"/>
          <p:cNvPicPr/>
          <p:nvPr/>
        </p:nvPicPr>
        <p:blipFill>
          <a:blip r:embed="rId2"/>
          <a:stretch/>
        </p:blipFill>
        <p:spPr>
          <a:xfrm>
            <a:off x="136440" y="1628640"/>
            <a:ext cx="4319640" cy="288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Polzovatiel\Desktop\IMG_9822.JPG"/>
          <p:cNvPicPr/>
          <p:nvPr/>
        </p:nvPicPr>
        <p:blipFill>
          <a:blip r:embed="rId3"/>
          <a:stretch/>
        </p:blipFill>
        <p:spPr>
          <a:xfrm>
            <a:off x="4643280" y="2852640"/>
            <a:ext cx="4319640" cy="2880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Конкурс «Мячи совпаден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Users\Polzovatiel\Desktop\IMG_9832.JPG"/>
          <p:cNvPicPr/>
          <p:nvPr/>
        </p:nvPicPr>
        <p:blipFill>
          <a:blip r:embed="rId2"/>
          <a:stretch/>
        </p:blipFill>
        <p:spPr>
          <a:xfrm>
            <a:off x="196920" y="1700280"/>
            <a:ext cx="4375080" cy="291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Polzovatiel\Desktop\IMG_9836.JPG"/>
          <p:cNvPicPr/>
          <p:nvPr/>
        </p:nvPicPr>
        <p:blipFill>
          <a:blip r:embed="rId3"/>
          <a:stretch/>
        </p:blipFill>
        <p:spPr>
          <a:xfrm>
            <a:off x="4716360" y="2924280"/>
            <a:ext cx="4319640" cy="288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Конкурс «Это мой ребён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Песня\Desktop\анимашки\ramka-173.gif"/>
          <p:cNvPicPr/>
          <p:nvPr/>
        </p:nvPicPr>
        <p:blipFill>
          <a:blip r:embed="rId2"/>
          <a:stretch/>
        </p:blipFill>
        <p:spPr>
          <a:xfrm>
            <a:off x="334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Песня\Desktop\анимашки\ramka-173.gif"/>
          <p:cNvPicPr/>
          <p:nvPr/>
        </p:nvPicPr>
        <p:blipFill>
          <a:blip r:embed="rId3"/>
          <a:stretch/>
        </p:blipFill>
        <p:spPr>
          <a:xfrm>
            <a:off x="4730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Polzovatiel\Desktop\IMG_9789.JPG"/>
          <p:cNvPicPr/>
          <p:nvPr/>
        </p:nvPicPr>
        <p:blipFill>
          <a:blip r:embed="rId4"/>
          <a:stretch/>
        </p:blipFill>
        <p:spPr>
          <a:xfrm>
            <a:off x="395280" y="1484280"/>
            <a:ext cx="4336920" cy="2890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Polzovatiel\Desktop\IMG_9794.JPG"/>
          <p:cNvPicPr/>
          <p:nvPr/>
        </p:nvPicPr>
        <p:blipFill>
          <a:blip r:embed="rId5"/>
          <a:stretch/>
        </p:blipFill>
        <p:spPr>
          <a:xfrm>
            <a:off x="4859280" y="3535200"/>
            <a:ext cx="4403880" cy="2935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Блиц – опрос для ро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Песня\Desktop\Новая папка (2)\1015_babochkiz_narod_ru.gif"/>
          <p:cNvPicPr/>
          <p:nvPr/>
        </p:nvPicPr>
        <p:blipFill>
          <a:blip r:embed="rId6"/>
          <a:stretch/>
        </p:blipFill>
        <p:spPr>
          <a:xfrm>
            <a:off x="6732720" y="1628640"/>
            <a:ext cx="155232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03:59:11Z</dcterms:created>
  <dc:creator>Песня</dc:creator>
  <dc:description/>
  <dc:language>en-US</dc:language>
  <cp:lastModifiedBy>Admin</cp:lastModifiedBy>
  <dcterms:modified xsi:type="dcterms:W3CDTF">2017-09-05T12:55:07Z</dcterms:modified>
  <cp:revision>95</cp:revision>
  <dc:subject/>
  <dc:title>Слайд 1</dc:title>
</cp:coreProperties>
</file>