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814-015B-4488-A67C-BA46998F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4D1F-8B21-410A-8287-087A51ED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4D0-BCD5-438D-B8AA-7FE94FAA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E938-958B-414E-B505-D17A256A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EC7-439C-4CB7-8F95-044D4484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1C2-78DB-42D9-82CE-AC6F96C7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E1AB-89E5-4CD9-8878-6346B7B3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3BF-0D1B-4DCD-8BC4-F82C8D80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EED-1723-4944-BE32-D8321D7D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4AC-A142-4305-90AB-32FE6BBE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3F04-6114-49BD-A9F5-6AA28803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BC8E-F186-4C87-8880-BB17C150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F267-F4DE-421E-B157-14DA58C9EF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240" y="1356840"/>
            <a:ext cx="7558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Муниципальное казенное общеобразовательное учреждение – средняя общеобразовательная школа имени Героя Советского Союза Образцова Ивана Васильевича с.Бакур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Екатериновского района Саратовской обла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Название: «Я приглашаю Вас в музей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Терёхина Татьяна Анатольевна –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Учитель истории МКОУ СОШ с.Бакур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56840" y="1142640"/>
            <a:ext cx="85438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Участником Курской битвы был Потявин Иван Федорови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Потявин Иван Федорович до войны был трактористом. А когда началась война ушел на фронт добровольцем. Дома остались жена и четверо детей. Иван Федорович был танкистом. В своих редких письмах он никогда не жаловался, переживал за домашних и просил держаться, из последних сил. Был участником Курской битвы. Сгорел в танке во время боя в июле 1943 года. Ему было 29 л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IMG_0879"/>
          <p:cNvPicPr/>
          <p:nvPr/>
        </p:nvPicPr>
        <p:blipFill>
          <a:blip r:embed="rId2"/>
          <a:srcRect l="0" t="0" r="6912" b="0"/>
          <a:stretch/>
        </p:blipFill>
        <p:spPr>
          <a:xfrm>
            <a:off x="2500200" y="3643200"/>
            <a:ext cx="4214880" cy="2967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475776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Битва за Днеп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Битва за Днепр завершала коренной перелом в ходе Великой Отечественной войн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Свой вклад в победу в этом сражении внесли и наши земляк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Мы помним и чтим память Героя Советского Сою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6" descr="IMG_0862"/>
          <p:cNvPicPr/>
          <p:nvPr/>
        </p:nvPicPr>
        <p:blipFill>
          <a:blip r:embed="rId2"/>
          <a:stretch/>
        </p:blipFill>
        <p:spPr>
          <a:xfrm>
            <a:off x="5429160" y="1571760"/>
            <a:ext cx="3294000" cy="4114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342900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И.В.  Образцов в Красной Армии с 1936 года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В боях Великой Отечественной войны с июля 1942 года. Командир взвода 838-го стрелкового полка. Сражался с немецко-фашистскими захватчиками на Воронежском фронте. Дважды был ране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Во второй половине сентября 1943 года войска Воронежского фронта на широком участке вышли к Днепру. Полк, в составе которого сражался старшина Образцов, получил задачу форсировать реку с ходу и захватить плацдарм на правом берегу, который прикрывал бы от непосредственного огневого воздействия противника переправу главных сил дивизии и постройку понтонного моста через Днеп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3"/>
          <a:stretch/>
        </p:blipFill>
        <p:spPr>
          <a:xfrm>
            <a:off x="1727280" y="142920"/>
            <a:ext cx="56894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0" y="1285920"/>
            <a:ext cx="4857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В ночь на 23 сентября стрелковый взвод Образцова первым приступил к форсированию реки. На трех самодельных плотах, изготовленных из досок и бревен, бойцы отплыли от берега. Противник освещал водный плес ракетами, поэтому подойти скрытно к противоположному берегу не удалось. Обнаружив наши передовые штурмовые группы, фашисты открыли ураганный огонь из всех видов оруж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Над головами бойцов свистели пули, от разрывов снарядов и мин повсюду вздымались водяные фонтаны. Плоты заливало водой, швыряло взрывной волной из стороны в сторону, но « флотилия» Образцова упорно шла вперед и вскоре пристала к правому берег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4857840" y="1785960"/>
            <a:ext cx="40701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13840" y="1214280"/>
            <a:ext cx="4429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Образцов в первую очередь решил разделаться с вражеским пулеметом, который стрелял непрерывно особенно большой вред нашим переправляющимся штурмовым групп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Он взял с собой отделение сержанта Иванова, взобрался на кручу и двумя гранатами уничтожил огневую точку противник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После этого старшина ворвался в траншею и добил огнем из автомата фашист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4857840" y="2357280"/>
            <a:ext cx="39272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143000"/>
            <a:ext cx="76867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К рассвету взвод Образцова полностью овладел высотой 185,7, господствующей над окружающей местностью. Это был наибольший успех на участке пол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Командование выделило на поддержку взвода артиллерийские и минометные батареи, командиры которых утром заняли наблюдательные пункты на высоте 185,7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И каждый на этой высоте вспоминал свой родной дом – как и И. В. Образц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rcRect l="0" t="19158" r="0" b="0"/>
          <a:stretch/>
        </p:blipFill>
        <p:spPr>
          <a:xfrm>
            <a:off x="1643040" y="3571920"/>
            <a:ext cx="56898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51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Так повторялось много раз. Горстка солдат во главе с Образцовым, в содружестве с артиллеристами и минометчиками удерживала высоту до подхода наших подкреплений. Взвод  Образцова за  день боя уничтожил 90 фашистов, лично Иван уничтожил до 20 солдат противника. При отражении очередной контратаки противника отважный командир погиб в бою 25 сентября 1943 г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Похоронен в деревне Южки Киевской обла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Звание Герой Советского Союза присвоено 23 октября 1943 года посмерт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8" descr="IMG_0866"/>
          <p:cNvPicPr/>
          <p:nvPr/>
        </p:nvPicPr>
        <p:blipFill>
          <a:blip r:embed="rId2"/>
          <a:stretch/>
        </p:blipFill>
        <p:spPr>
          <a:xfrm>
            <a:off x="5643720" y="1500120"/>
            <a:ext cx="3124080" cy="4496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3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2E36-4FC2-4DE8-A210-2FAD9F211D3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FCF4-8CEC-4482-848B-C7B15F7424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В музее МОУ СОШ с. Бакуры Великой Отечественной войне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посвящена большая экспозици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IMG_0867"/>
          <p:cNvPicPr/>
          <p:nvPr/>
        </p:nvPicPr>
        <p:blipFill>
          <a:blip r:embed="rId2"/>
          <a:stretch/>
        </p:blipFill>
        <p:spPr>
          <a:xfrm>
            <a:off x="152280" y="2971800"/>
            <a:ext cx="4343400" cy="3527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IMG_0872"/>
          <p:cNvPicPr/>
          <p:nvPr/>
        </p:nvPicPr>
        <p:blipFill>
          <a:blip r:embed="rId3"/>
          <a:stretch/>
        </p:blipFill>
        <p:spPr>
          <a:xfrm>
            <a:off x="5029200" y="2971800"/>
            <a:ext cx="3886200" cy="3576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4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428760" y="1785960"/>
            <a:ext cx="3535200" cy="4714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4"/>
          <a:stretch/>
        </p:blipFill>
        <p:spPr>
          <a:xfrm>
            <a:off x="5000760" y="1785960"/>
            <a:ext cx="3483000" cy="4643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3786120" y="1214280"/>
            <a:ext cx="23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ИСЬМА с фр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26EE-A41D-4701-A3F4-2DC8E8082CA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F678-52AB-4724-88C6-FA4A99B726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IMG_0864"/>
          <p:cNvPicPr/>
          <p:nvPr/>
        </p:nvPicPr>
        <p:blipFill>
          <a:blip r:embed="rId2"/>
          <a:stretch/>
        </p:blipFill>
        <p:spPr>
          <a:xfrm>
            <a:off x="642960" y="1214280"/>
            <a:ext cx="3075120" cy="327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IMG_0871"/>
          <p:cNvPicPr/>
          <p:nvPr/>
        </p:nvPicPr>
        <p:blipFill>
          <a:blip r:embed="rId3"/>
          <a:stretch/>
        </p:blipFill>
        <p:spPr>
          <a:xfrm>
            <a:off x="5500800" y="928800"/>
            <a:ext cx="3352680" cy="3265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MG_0868"/>
          <p:cNvPicPr/>
          <p:nvPr/>
        </p:nvPicPr>
        <p:blipFill>
          <a:blip r:embed="rId4"/>
          <a:stretch/>
        </p:blipFill>
        <p:spPr>
          <a:xfrm>
            <a:off x="2362320" y="3741840"/>
            <a:ext cx="4647960" cy="311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5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13840" y="1600200"/>
            <a:ext cx="507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Победа, как она досталась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Каким путем мы к ней пришл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И раны были и усталость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И шрамы на груди земл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Могилы братские, в которы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Бойцы погибшие лежат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И въевшийся всем в лица поро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На безымянных рубеж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D:\danye\syna\Рабочий стол\Мамочка\07-05-07.jpg"/>
          <p:cNvPicPr/>
          <p:nvPr/>
        </p:nvPicPr>
        <p:blipFill>
          <a:blip r:embed="rId3"/>
          <a:stretch/>
        </p:blipFill>
        <p:spPr>
          <a:xfrm>
            <a:off x="5500800" y="1785960"/>
            <a:ext cx="292896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608040" y="357120"/>
            <a:ext cx="7927920" cy="59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465120" y="144360"/>
            <a:ext cx="8213760" cy="61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677880" y="500040"/>
            <a:ext cx="778824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465120" y="144360"/>
            <a:ext cx="8213760" cy="61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571680" y="357120"/>
            <a:ext cx="800100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Да, много сражений прошли наши односельчане. Многие не вернулись домой. Но пока живем, мы, их потомки - жива память о них. Так будем же хранить память об участниках великих сражений  веч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6840" y="1356840"/>
            <a:ext cx="49006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Calibri"/>
              </a:rPr>
              <a:t>22 июня 1941год.  Жители с.Бакуры со всех концов села собирались в центре, где по радио, уже звучал голос Молотова, который сообщил о начале войны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Calibri"/>
              </a:rPr>
              <a:t>Женщины плакали, а мужчины вскоре отправились на призывные пункт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Calibri"/>
              </a:rPr>
              <a:t>709 человек ушло на фронт из нашего села Бакур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ff"/>
                </a:solidFill>
                <a:latin typeface="Calibri"/>
              </a:rPr>
              <a:t>Из них 359 погибли на полях сражений.  Какими они были – битвы великой войны?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5500800" y="1714680"/>
            <a:ext cx="3111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6"/>
          <p:cNvSpPr txBox="1"/>
          <p:nvPr/>
        </p:nvSpPr>
        <p:spPr>
          <a:xfrm>
            <a:off x="1619280" y="33336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алинградская бит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7"/>
          <p:cNvSpPr txBox="1"/>
          <p:nvPr/>
        </p:nvSpPr>
        <p:spPr>
          <a:xfrm>
            <a:off x="1979640" y="1125360"/>
            <a:ext cx="561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17 июля 1942 — 2 февраля 1943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http://fhw.kemrsl.ru/upload/medialibrary/990/9905bc440a0b7bfb05b5560686688b1f.jpg"/>
          <p:cNvPicPr/>
          <p:nvPr/>
        </p:nvPicPr>
        <p:blipFill>
          <a:blip r:embed="rId2"/>
          <a:stretch/>
        </p:blipFill>
        <p:spPr>
          <a:xfrm>
            <a:off x="900000" y="2997360"/>
            <a:ext cx="76201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28400" y="1214280"/>
            <a:ext cx="8258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Сталинградская би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В ходе оборонительных боев летом и осенью 1942 под Сталинградом советским командованием была разработана наступательная операция под кодовым названием «Уран». Контрнаступление началось 19 ноября 1942 ударами войск Юго-Западного и частично Донского фронтов. К исходу дня советским войскам удалось продвинуться на 25-35 км. 20 ноября началось наступление на Сталинградском фронте. Танковые и механизированные корпуса обоих фронтов двигались навстречу друг другу в направлении Калача. 23 ноября в районе Калача части Юго-Западного и Сталинградского фронтов соединились и завершили окружение группировки противника. В «котел» попали 22 дивизии, свыше 330 тыс человек. 2 февраля  1943 года фашисты капитулировали . Общие потери вермахта в ходе операции составили : свыше 800 тыс человек, около 2 тыс танков, свыше 10 тыс орудий и минометов, около 3 тыс самолетов. Победа под Сталинградом имела колоссальное военно-политическое значение. Внеся коренной перелом в военные действия, она во многом предопределила дальнейший ход Второй мировой вой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Участником Сталинградской битвы был  Беляев Иван Никитови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1941 год. Началась страшная Великая отечественная война. Стар и мал встали на защиту Родины. Не обошла война стороной и наше село. На фронт уходили отцы, братья, сыновья, мужья. Деревенский труд тяжелым грузом лег на хрупкие плечи женщин и детей. Беляев Иван Никитович пересел с трактора на танк. А его жена,  Агафья Васильевна, сменила мужа за рулем трактора. Иван Никитович  писал редко, а в письмах скромно сообщал о своих военных буднях: « Жив, здоров, бьем врага, береги себя и дочку. И ждите, обязательно ждите я обязательно вернусь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3" descr="IMG_0878"/>
          <p:cNvPicPr/>
          <p:nvPr/>
        </p:nvPicPr>
        <p:blipFill>
          <a:blip r:embed="rId2"/>
          <a:stretch/>
        </p:blipFill>
        <p:spPr>
          <a:xfrm>
            <a:off x="4929120" y="1714680"/>
            <a:ext cx="3853080" cy="358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600200"/>
            <a:ext cx="46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Жена  каждое письмо прижимала к груди и плакала, а вместе е ней и соседи. К большому удивлению  в одном из писем была фотография. Эту фотокарточку Агафья Васильевна  показывала всем и каждому. Так и жили. Агафья  все время была в поле, с маленькой Аней сидела дочка  Лукерья. Жили впроголодь, ели лепешки из лебеды. Терпели, потому что понимали: « Все для фронта, все для победы!». А декабре 1942 года в дом пришла  похоронка. Ивану Беляеву  было всего 29 ле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0" descr="IMG_0882"/>
          <p:cNvPicPr/>
          <p:nvPr/>
        </p:nvPicPr>
        <p:blipFill>
          <a:blip r:embed="rId2"/>
          <a:stretch/>
        </p:blipFill>
        <p:spPr>
          <a:xfrm>
            <a:off x="5203800" y="1600200"/>
            <a:ext cx="3635280" cy="441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3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  <p:sp>
        <p:nvSpPr>
          <p:cNvPr id="71" name="WordArt 6"/>
          <p:cNvSpPr txBox="1"/>
          <p:nvPr/>
        </p:nvSpPr>
        <p:spPr>
          <a:xfrm>
            <a:off x="971640" y="1341360"/>
            <a:ext cx="78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итва На Курской дуг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Picture 2" descr="5ce2c9d530f8"/>
          <p:cNvPicPr/>
          <p:nvPr/>
        </p:nvPicPr>
        <p:blipFill>
          <a:blip r:embed="rId3"/>
          <a:stretch/>
        </p:blipFill>
        <p:spPr>
          <a:xfrm>
            <a:off x="2411280" y="2708280"/>
            <a:ext cx="47628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Битва на Курской дуге.  Ранним утром 5 июля немецкие войска из групп армий «Центр» и «Юг»  перешли в наступление в районе Курского выступа. Завязались ожесточенные бои. В ходе оборонительных боев войска Центрального (командующий генерал армии К. К. Рокоссовский) и Воронежского (командующий генерал армии Н. Ф. Ватутин) фронтов, остановив наступление противника, обескровили его ударные группировки. 12 июля началось контрнаступление, которое вылилось в самое большое встречное танковое сражение Второй мировой войны, происшедшее близ деревни Прохоровки. В сражении участвовало 1200 танков и самоходных артиллерийских установок. В ходе Курской битвы было разгромлено 30 немецких дивизий, потери немцев составили более 500 тысяч солдат и офицеров, около 1,5 тысяч танков, 3 тысячи орудий, свыше 3,7 тысячи самолет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0T12:05:25Z</dcterms:created>
  <dc:creator>Admin</dc:creator>
  <dc:description/>
  <dc:language>en-US</dc:language>
  <cp:lastModifiedBy>user</cp:lastModifiedBy>
  <dcterms:modified xsi:type="dcterms:W3CDTF">2017-04-27T14:44:45Z</dcterms:modified>
  <cp:revision>16</cp:revision>
  <dc:subject/>
  <dc:title>Слайд 1</dc:title>
</cp:coreProperties>
</file>