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B86-F33B-4911-9B72-17AE5967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B95-66FA-4170-8DF9-3B4AA6D5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00E-9A6B-4803-A1D1-5D43F0B4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CD4-EC41-477C-8057-E5735315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D7E-CCC2-4C7F-BEDC-5C5A8D08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264-582D-4D92-8BD1-27AE2C2E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2B2-FFAB-45E7-8A6B-25F7B6A4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74A-9F30-4EE2-B62C-5D9F508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BAB-2460-4717-B359-8B8EFA50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B32-9896-40E2-B3B7-F8ABA01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E69-04FE-4B83-8BFB-77F4B70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34A-A2E5-460A-965D-B5A05F7C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868E-C63E-4D8E-AEAE-00230A748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240" y="1356840"/>
            <a:ext cx="75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Муниципальное казенное общеобразовательное учреждение – средняя общеобразовательная школа имени Героя Советского Союза Образцова Ивана Васильевича с.Бакур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Екатериновского района Саратовской обла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Название: «Я приглашаю Вас в муз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Терёхина Татьяна Анатольевна 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Учитель истории МКОУ СОШ с.Баку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6840" y="1142640"/>
            <a:ext cx="8543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Участником Курской битвы был Потявин Иван Федорови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Потявин Иван Федорович до войны был трактористом. А когда началась война ушел на фронт добровольцем. Дома остались жена и четверо детей. Иван Федорович был танкистом. В своих редких письмах он никогда не жаловался, переживал за домашних и просил держаться, из последних сил. Был участником Курской битвы. Сгорел в танке во время боя в июле 1943 года. Ему было 29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IMG_0879"/>
          <p:cNvPicPr/>
          <p:nvPr/>
        </p:nvPicPr>
        <p:blipFill>
          <a:blip r:embed="rId2"/>
          <a:srcRect l="0" t="0" r="6912" b="0"/>
          <a:stretch/>
        </p:blipFill>
        <p:spPr>
          <a:xfrm>
            <a:off x="2500200" y="3643200"/>
            <a:ext cx="4214880" cy="296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47577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Битва за Днеп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Битва за Днепр завершала коренной перелом в ходе Великой Отечественной войн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Свой вклад в победу в этом сражении внесли и наши земля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Мы помним и чтим память Героя Советского Сою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6" descr="IMG_0862"/>
          <p:cNvPicPr/>
          <p:nvPr/>
        </p:nvPicPr>
        <p:blipFill>
          <a:blip r:embed="rId2"/>
          <a:stretch/>
        </p:blipFill>
        <p:spPr>
          <a:xfrm>
            <a:off x="5429160" y="1571760"/>
            <a:ext cx="329400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34290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И.В.  Образцов в Красной Армии с 1936 год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боях Великой Отечественной войны с июля 1942 года. Командир взвода 838-го стрелкового полка. Сражался с немецко-фашистскими захватчиками на Воронежском фронте. Дважды был ран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о второй половине сентября 1943 года войска Воронежского фронта на широком участке вышли к Днепру. Полк, в составе которого сражался старшина Образцов, получил задачу форсировать реку с ходу и захватить плацдарм на правом берегу, который прикрывал бы от непосредственного огневого воздействия противника переправу главных сил дивизии и постройку понтонного моста через Днеп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1727280" y="142920"/>
            <a:ext cx="5689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0" y="1285920"/>
            <a:ext cx="4857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ночь на 23 сентября стрелковый взвод Образцова первым приступил к форсированию реки. На трех самодельных плотах, изготовленных из досок и бревен, бойцы отплыли от берега. Противник освещал водный плес ракетами, поэтому подойти скрытно к противоположному берегу не удалось. Обнаружив наши передовые штурмовые группы, фашисты открыли ураганный огонь из всех видов оруж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Над головами бойцов свистели пули, от разрывов снарядов и мин повсюду вздымались водяные фонтаны. Плоты заливало водой, швыряло взрывной волной из стороны в сторону, но « флотилия» Образцова упорно шла вперед и вскоре пристала к правому бере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4070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13840" y="1214280"/>
            <a:ext cx="4429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Образцов в первую очередь решил разделаться с вражеским пулеметом, который стрелял непрерывно особенно большой вред нашим переправляющимся штурмовым групп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Он взял с собой отделение сержанта Иванова, взобрался на кручу и двумя гранатами уничтожил огневую точку противни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После этого старшина ворвался в траншею и добил огнем из автомата фашис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4857840" y="2357280"/>
            <a:ext cx="39272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143000"/>
            <a:ext cx="7686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 рассвету взвод Образцова полностью овладел высотой 185,7, господствующей над окружающей местностью. Это был наибольший успех на участке пол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омандование выделило на поддержку взвода артиллерийские и минометные батареи, командиры которых утром заняли наблюдательные пункты на высоте 185,7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И каждый на этой высоте вспоминал свой родной дом – как и И. В. Образц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rcRect l="0" t="19158" r="0" b="0"/>
          <a:stretch/>
        </p:blipFill>
        <p:spPr>
          <a:xfrm>
            <a:off x="1643040" y="3571920"/>
            <a:ext cx="56898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ак повторялось много раз. Горстка солдат во главе с Образцовым, в содружестве с артиллеристами и минометчиками удерживала высоту до подхода наших подкреплений. Взвод  Образцова за  день боя уничтожил 90 фашистов, лично Иван уничтожил до 20 солдат противника. При отражении очередной контратаки противника отважный командир погиб в бою 25 сентября 1943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Похоронен в деревне Южки Киевск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вание Герой Советского Союза присвоено 23 октября 1943 года посмер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IMG_0866"/>
          <p:cNvPicPr/>
          <p:nvPr/>
        </p:nvPicPr>
        <p:blipFill>
          <a:blip r:embed="rId2"/>
          <a:stretch/>
        </p:blipFill>
        <p:spPr>
          <a:xfrm>
            <a:off x="5643720" y="1500120"/>
            <a:ext cx="3124080" cy="449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872E-E96B-40D2-8A5C-1469DE4825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33C6-53F1-40B3-9AE4-BDD4B477D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В музее МОУ СОШ с. Бакуры Великой Отечественной войне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освящена большая экспозиц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G_0867"/>
          <p:cNvPicPr/>
          <p:nvPr/>
        </p:nvPicPr>
        <p:blipFill>
          <a:blip r:embed="rId2"/>
          <a:stretch/>
        </p:blipFill>
        <p:spPr>
          <a:xfrm>
            <a:off x="152280" y="2971800"/>
            <a:ext cx="4343400" cy="352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MG_0872"/>
          <p:cNvPicPr/>
          <p:nvPr/>
        </p:nvPicPr>
        <p:blipFill>
          <a:blip r:embed="rId3"/>
          <a:stretch/>
        </p:blipFill>
        <p:spPr>
          <a:xfrm>
            <a:off x="5029200" y="2971800"/>
            <a:ext cx="3886200" cy="357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428760" y="1785960"/>
            <a:ext cx="3535200" cy="471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5000760" y="1785960"/>
            <a:ext cx="3483000" cy="464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786120" y="1214280"/>
            <a:ext cx="23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ИСЬМА с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B4A8-B571-44DF-97D8-B51C94EADE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CF47-670A-45D2-8D78-DE4CC0F74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IMG_0864"/>
          <p:cNvPicPr/>
          <p:nvPr/>
        </p:nvPicPr>
        <p:blipFill>
          <a:blip r:embed="rId2"/>
          <a:stretch/>
        </p:blipFill>
        <p:spPr>
          <a:xfrm>
            <a:off x="642960" y="1214280"/>
            <a:ext cx="307512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MG_0871"/>
          <p:cNvPicPr/>
          <p:nvPr/>
        </p:nvPicPr>
        <p:blipFill>
          <a:blip r:embed="rId3"/>
          <a:stretch/>
        </p:blipFill>
        <p:spPr>
          <a:xfrm>
            <a:off x="5500800" y="928800"/>
            <a:ext cx="3352680" cy="3265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G_0868"/>
          <p:cNvPicPr/>
          <p:nvPr/>
        </p:nvPicPr>
        <p:blipFill>
          <a:blip r:embed="rId4"/>
          <a:stretch/>
        </p:blipFill>
        <p:spPr>
          <a:xfrm>
            <a:off x="2362320" y="3741840"/>
            <a:ext cx="4647960" cy="311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5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13840" y="160020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Победа, как она досталас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аким путем мы к ней приш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 раны были и усталост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 шрамы на груди земл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Могилы братские, в которы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Бойцы погибшие лежат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 въевшийся всем в лица поро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На безымянных рубеж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danye\syna\Рабочий стол\Мамочка\07-05-07.jpg"/>
          <p:cNvPicPr/>
          <p:nvPr/>
        </p:nvPicPr>
        <p:blipFill>
          <a:blip r:embed="rId3"/>
          <a:stretch/>
        </p:blipFill>
        <p:spPr>
          <a:xfrm>
            <a:off x="5500800" y="1785960"/>
            <a:ext cx="29289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608040" y="357120"/>
            <a:ext cx="792792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65120" y="144360"/>
            <a:ext cx="821376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677880" y="500040"/>
            <a:ext cx="77882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465120" y="144360"/>
            <a:ext cx="821376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80010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а, много сражений прошли наши односельчане. Многие не вернулись домой. Но пока живем, мы, их потомки - жива память о них. Так будем же хранить память об участниках великих сражений  веч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6840" y="1356840"/>
            <a:ext cx="4900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22 июня 1941год.  Жители с.Бакуры со всех концов села собирались в центре, где по радио, уже звучал голос Молотова, который сообщил о начале войны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Женщины плакали, а мужчины вскоре отправились на призывные пункт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709 человек ушло на фронт из нашего села Баку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Из них 359 погибли на полях сражений.  Какими они были – битвы великой войны?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5500800" y="1714680"/>
            <a:ext cx="3111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1619280" y="33336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линградская би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1979640" y="112536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7 июля 1942 — 2 февраля 1943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fhw.kemrsl.ru/upload/medialibrary/990/9905bc440a0b7bfb05b5560686688b1f.jpg"/>
          <p:cNvPicPr/>
          <p:nvPr/>
        </p:nvPicPr>
        <p:blipFill>
          <a:blip r:embed="rId2"/>
          <a:stretch/>
        </p:blipFill>
        <p:spPr>
          <a:xfrm>
            <a:off x="900000" y="2997360"/>
            <a:ext cx="76201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840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талинградская би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ходе оборонительных боев летом и осенью 1942 под Сталинградом советским командованием была разработана наступательная операция под кодовым названием «Уран». Контрнаступление началось 19 ноября 1942 ударами войск Юго-Западного и частично Донского фронтов. К исходу дня советским войскам удалось продвинуться на 25-35 км. 20 ноября началось наступление на Сталинградском фронте. Танковые и механизированные корпуса обоих фронтов двигались навстречу друг другу в направлении Калача. 23 ноября в районе Калача части Юго-Западного и Сталинградского фронтов соединились и завершили окружение группировки противника. В «котел» попали 22 дивизии, свыше 330 тыс человек. 2 февраля  1943 года фашисты капитулировали . Общие потери вермахта в ходе операции составили : свыше 800 тыс человек, около 2 тыс танков, свыше 10 тыс орудий и минометов, около 3 тыс самолетов. Победа под Сталинградом имела колоссальное военно-политическое значение. Внеся коренной перелом в военные действия, она во многом предопределила дальнейший ход Второй мирово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Участником Сталинградской битвы был  Беляев Иван Никитови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1941 год. Началась страшная Великая отечественная война. Стар и мал встали на защиту Родины. Не обошла война стороной и наше село. На фронт уходили отцы, братья, сыновья, мужья. Деревенский труд тяжелым грузом лег на хрупкие плечи женщин и детей. Беляев Иван Никитович пересел с трактора на танк. А его жена,  Агафья Васильевна, сменила мужа за рулем трактора. Иван Никитович  писал редко, а в письмах скромно сообщал о своих военных буднях: « Жив, здоров, бьем врага, береги себя и дочку. И ждите, обязательно ждите я обязательно вернусь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3" descr="IMG_0878"/>
          <p:cNvPicPr/>
          <p:nvPr/>
        </p:nvPicPr>
        <p:blipFill>
          <a:blip r:embed="rId2"/>
          <a:stretch/>
        </p:blipFill>
        <p:spPr>
          <a:xfrm>
            <a:off x="4929120" y="1714680"/>
            <a:ext cx="385308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Жена  каждое письмо прижимала к груди и плакала, а вместе е ней и соседи. К большому удивлению  в одном из писем была фотография. Эту фотокарточку Агафья Васильевна  показывала всем и каждому. Так и жили. Агафья  все время была в поле, с маленькой Аней сидела дочка  Лукерья. Жили впроголодь, ели лепешки из лебеды. Терпели, потому что понимали: « Все для фронта, все для победы!». А декабре 1942 года в дом пришла  похоронка. Ивану Беляеву  было всего 29 л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0" descr="IMG_0882"/>
          <p:cNvPicPr/>
          <p:nvPr/>
        </p:nvPicPr>
        <p:blipFill>
          <a:blip r:embed="rId2"/>
          <a:stretch/>
        </p:blipFill>
        <p:spPr>
          <a:xfrm>
            <a:off x="5203800" y="1600200"/>
            <a:ext cx="363528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971640" y="1341360"/>
            <a:ext cx="78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тва На Курской дуг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2" descr="5ce2c9d530f8"/>
          <p:cNvPicPr/>
          <p:nvPr/>
        </p:nvPicPr>
        <p:blipFill>
          <a:blip r:embed="rId3"/>
          <a:stretch/>
        </p:blipFill>
        <p:spPr>
          <a:xfrm>
            <a:off x="2411280" y="2708280"/>
            <a:ext cx="4762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encrypted-tbn3.gstatic.com/images?q=tbn:ANd9GcQFsIA0FwWHUJHXOqSztdinTUaevpelyDCt4cX3MiObtOgTcoIIzA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Битва на Курской дуге.  Ранним утром 5 июля немецкие войска из групп армий «Центр» и «Юг»  перешли в наступление в районе Курского выступа. Завязались ожесточенные бои. В ходе оборонительных боев войска Центрального (командующий генерал армии К. К. Рокоссовский) и Воронежского (командующий генерал армии Н. Ф. Ватутин) фронтов, остановив наступление противника, обескровили его ударные группировки. 12 июля началось контрнаступление, которое вылилось в самое большое встречное танковое сражение Второй мировой войны, происшедшее близ деревни Прохоровки. В сражении участвовало 1200 танков и самоходных артиллерийских установок. В ходе Курской битвы было разгромлено 30 немецких дивизий, потери немцев составили более 500 тысяч солдат и офицеров, около 1,5 тысяч танков, 3 тысячи орудий, свыше 3,7 тысячи самоле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500200" y="142920"/>
            <a:ext cx="4570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2:05:25Z</dcterms:created>
  <dc:creator>Admin</dc:creator>
  <dc:description/>
  <dc:language>en-US</dc:language>
  <cp:lastModifiedBy>user</cp:lastModifiedBy>
  <dcterms:modified xsi:type="dcterms:W3CDTF">2017-04-27T14:44:45Z</dcterms:modified>
  <cp:revision>16</cp:revision>
  <dc:subject/>
  <dc:title>Слайд 1</dc:title>
</cp:coreProperties>
</file>