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8F3-8D9D-4F5D-BB0A-E4D41142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222-6FEB-4AE3-A969-6430C2F9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8A2-4992-40B1-9548-CBA23FE6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959-1232-45AA-B6A6-F12E7D83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E49-CF0E-4E6F-B0BF-41098E2A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E456-ED66-4610-BD57-9D20FBE1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91C5-437E-48A6-A988-CC4339A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C6B8-3622-4BEF-AC15-2784FCD2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B417-BE5E-4BC3-BDFB-3F525D62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42A9-31A7-460C-A152-ADCF718E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F4DD-62BE-455A-B009-5C9A47FD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CEB-C436-4BD1-B0DB-BCE35310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B6A0-5032-4A1B-ADCE-1548266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9504-5F5F-477D-8AD0-06B7C9C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2CB7-64CF-4C2E-8AAE-4A97F6D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8838-D69F-401B-9878-D7075F52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71C-FD17-454D-A65D-233B10E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1F7-6E99-4184-B01F-09D33C2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E07-9C83-47C5-B653-890CE5E5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F24-2A13-4D94-B731-3B6276B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BAF-B0D5-4976-9397-1405D23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126-B486-4056-9DB7-C3E5F517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FA5-0860-4E71-A810-DC20224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9D5-2037-4080-879C-739E7DD2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5E74-F235-4023-B8D5-9BAD39F6A11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756-5874-4AD9-B09A-8A9802DD613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440" y="4568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ahoma"/>
              </a:rPr>
              <a:t>Я талантлив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Чтобы доказать свою талантливость, надо быть очень способным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ладиле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уд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Лев Давидович Ландау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ветский физик-теоретик, академик АН СССР (избран в 1946)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0477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14 лет стал студентом Бакинского университета, где обучался одновременно на двух факультетах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зико-математическом и химическ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ahoma"/>
              </a:rPr>
              <a:t>Самый юный студент — математи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7385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38480" y="1828800"/>
            <a:ext cx="4840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Чжан Синь-Я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10-летни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удент инженерно-педагогического университета Кит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итогам единого национального экзамена талантливый мальчик набрал 505 баллов, что на 47 больше минимального проходного уровн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ся на факультете информационных технологий, по специализации прикладная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214200"/>
            <a:ext cx="772452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Чтобы доказать свою талантливость, надо быть очень способным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05160" y="4190760"/>
            <a:ext cx="384948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ладилен                 Пруд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9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аждый ребенок отчасти гений, а каждый гений отчасти ребен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Талант — как породистый конь, необходимо научиться управлять им, а если дергать повода во все стороны, конь превратится в клячу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Горький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способност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одаренност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талантливость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гениальност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Л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ающиеся природные способности; дарование, одарен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19760" cy="130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ВОЛЬФГАНГ АМАДЕЙ МОЦАРТ</a:t>
            </a:r>
            <a:br>
              <a:rPr sz="36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встрийский композитор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тре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лет блестяще играл на скрипке и пианин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четыре год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алыш написал свой первый концерт для клавир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2" descr="http://ts4.mm.bing.net/images/thumbnail.aspx?q=1307712237947&amp;id=60530f3de2e22fc6f5c4eada07245c15&amp;url=http%3a%2f%2fwww.krugosvet.ru%2fimages%2f1001854_PH06761.jpg"/>
          <p:cNvPicPr/>
          <p:nvPr/>
        </p:nvPicPr>
        <p:blipFill>
          <a:blip r:embed="rId1"/>
          <a:srcRect l="0" t="16046" r="0" b="16046"/>
          <a:stretch/>
        </p:blipFill>
        <p:spPr>
          <a:xfrm>
            <a:off x="4267080" y="190512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ГЁТЕ Иоганн Вольфганг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емецкий поэт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государственный деятель, мыслитель и естествоиспытатель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61764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4419720" y="1905120"/>
            <a:ext cx="44956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тринадцат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годам Гёте з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ж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зык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атын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еческ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глийск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ранцузски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тальянский, древнееврейск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Человек, обладающий врожденным талантом, испытывает величайшее счастье тогда, когда использует этот талант.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арл Фридрих Гаусс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емецкий математик, астроном и физи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482840" y="2017800"/>
            <a:ext cx="320976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же в двухлетнем возрасте мальчик показал себя вундеркиндом. В три года он умел читать и писать, даже исправлял счётные ошибки отц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Людвиг ван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Бетховен</a:t>
            </a:r>
            <a:br>
              <a:rPr sz="4000"/>
            </a:b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немецкий композитор, дирижёр и пианис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3558960" cy="45529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3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ось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дам Бетховен свободно играл на органе и клавесине, начал учиться играть на скрипке и альте. В марте 1778 года отец заставил мальчика выступать в Кёльне, позаботившись о том, чтобы в афише был уменьшен возраст сына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://ts2.mm.bing.net/images/thumbnail.aspx?q=1260005760209&amp;id=da4316f5e7bbdeea03c8f2cc72438cef&amp;url=http%3a%2f%2fwww.people.su%2fimages%2fcatalog%2fimg_item_102.jpg"/>
          <p:cNvPicPr/>
          <p:nvPr/>
        </p:nvPicPr>
        <p:blipFill>
          <a:blip r:embed="rId1"/>
          <a:srcRect l="0" t="20668" r="0" b="20668"/>
          <a:stretch/>
        </p:blipFill>
        <p:spPr>
          <a:xfrm>
            <a:off x="4267080" y="1905120"/>
            <a:ext cx="4618080" cy="40827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81880" cy="12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Фредерик Шопен</a:t>
            </a:r>
            <a:br>
              <a:rPr sz="40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льский композитор и пианист-виртуоз, педаго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800" y="16765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впервые в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восьмилетнем</a:t>
            </a: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 возрасте дебютировал перед публикой с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узыкальной</a:t>
            </a: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ьесой, собственного сочинения</a:t>
            </a: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7800" y="434304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http://ts3.mm.bing.net/images/thumbnail.aspx?q=1233582758794&amp;id=e30ae2301da128105b307ac5399d4682&amp;url=http%3a%2f%2fdonbass.ua%2fmultimedia%2fimages%2fnews%2foriginal%2f2010%2f02%2f22%2fshopin.jpg"/>
          <p:cNvPicPr/>
          <p:nvPr/>
        </p:nvPicPr>
        <p:blipFill>
          <a:blip r:embed="rId1"/>
          <a:srcRect l="5941" t="0" r="5941" b="0"/>
          <a:stretch/>
        </p:blipFill>
        <p:spPr>
          <a:xfrm>
            <a:off x="533520" y="1981080"/>
            <a:ext cx="4618080" cy="39308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</cp:lastModifiedBy>
  <dcterms:modified xsi:type="dcterms:W3CDTF">2015-08-31T15:15:0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