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139-1F97-491F-8677-8DB6928E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FDC-E95D-470A-B94A-FF676EF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FD2-B461-4BCA-989A-B06DD103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138-6F64-4909-BE7A-DEAAE85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8DD-C59D-490F-A3BF-10D645E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C75-D9D4-4A2C-83C5-E2936278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3FE-6B57-4129-9F9B-230A8580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FAA-ED0B-41F0-A979-5A5C3EB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EAB-20C0-4715-8681-691752BF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B3E-4E84-4B2E-AD01-1F9F020B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FFB-9E93-46CF-B467-5525C2C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34B-F06D-4A7B-83F0-2FE9D95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589B-EAA1-4B87-8480-4D0CF342E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6337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Реки и лю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723560" y="458136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О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912000" cy="4579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922840" y="544500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 дают пресную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443720" cy="3241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663280" y="436572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екам перевозят гр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4643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2314080" y="544500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можно было плавать из реки в ре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ними прорыли кан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6898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2295000" y="5084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еках сооружают высокие пло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orexaw.com/TERMs/Industry/Plants_and_soobruzheniya/img225181_3-1_Plotina_gidroelektrostantsii_Lower_Monumental.jpg"/>
          <p:cNvPicPr/>
          <p:nvPr/>
        </p:nvPicPr>
        <p:blipFill>
          <a:blip r:embed="rId1"/>
          <a:stretch/>
        </p:blipFill>
        <p:spPr>
          <a:xfrm>
            <a:off x="1692360" y="592200"/>
            <a:ext cx="5975280" cy="4405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74040" y="53006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электроста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481800" cy="4859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3232440" y="57326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хранил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76360" y="558720"/>
            <a:ext cx="6518160" cy="4175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805920" y="522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од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714040" y="2205000"/>
            <a:ext cx="39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42 -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1:59:10Z</dcterms:created>
  <dc:creator>User</dc:creator>
  <dc:description/>
  <dc:language>en-US</dc:language>
  <cp:lastModifiedBy>User</cp:lastModifiedBy>
  <dcterms:modified xsi:type="dcterms:W3CDTF">2017-09-06T02:54:47Z</dcterms:modified>
  <cp:revision>10</cp:revision>
  <dc:subject/>
  <dc:title>Слайд 1</dc:title>
</cp:coreProperties>
</file>