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2.png" ContentType="image/pn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007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5007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3964-A1BC-46A8-B84E-7BBC608BDDE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EFEA-736D-40E8-9609-530C81BB3B9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95B-AF94-485B-88C1-3D3AD4CC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CA5-43CA-4249-B2CA-5276EF64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BC5-B757-4C22-B2A6-B77280F2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A7A-D686-422B-B293-1B901BEE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70D-433C-40EF-8F11-9BF429AB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2C5-7C40-4062-A351-D1019209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0FF-50E8-47B1-8B12-5FA2A382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551-0F9A-46CA-9E07-C708E61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DBC-BE23-463B-A815-6613F8EB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078-6AA5-4B6A-8824-97D56A8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A54-0E2C-4147-8B48-83D9610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C9A-607E-4451-ADF1-C7DD2349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1A74-E5C4-4BCA-A9DE-1C8716D20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Муниципальное  бюджетное общеобразовательное учреждение  «Средняя общеобразовательная школа»  с. Со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олинского района Сахали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Исследовательская работа 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Выполнила: ученица 3 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Щербакова 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Руководители: Клебанова Л.М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Клебанова М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Щербакова К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Лидия\Desktop\DSC00003.JPG"/>
          <p:cNvPicPr/>
          <p:nvPr/>
        </p:nvPicPr>
        <p:blipFill>
          <a:blip r:embed="rId1"/>
          <a:stretch/>
        </p:blipFill>
        <p:spPr>
          <a:xfrm>
            <a:off x="0" y="2468520"/>
            <a:ext cx="2955960" cy="438948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3419640" y="2276640"/>
            <a:ext cx="554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0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575d1"/>
                </a:solidFill>
                <a:latin typeface="Times New Roman"/>
              </a:rPr>
              <a:t>Чудесное  превращение-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575d1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решила узнать, можно ли из хозяйственного мыла сделать средство для мытья посуды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SC00595"/>
          <p:cNvPicPr/>
          <p:nvPr/>
        </p:nvPicPr>
        <p:blipFill>
          <a:blip r:embed="rId1"/>
          <a:stretch/>
        </p:blipFill>
        <p:spPr>
          <a:xfrm>
            <a:off x="5651640" y="2060640"/>
            <a:ext cx="3243240" cy="2430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468360" y="1916280"/>
            <a:ext cx="43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Берем 25 г хозяй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0,5 л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DSC00597"/>
          <p:cNvPicPr/>
          <p:nvPr/>
        </p:nvPicPr>
        <p:blipFill>
          <a:blip r:embed="rId2"/>
          <a:stretch/>
        </p:blipFill>
        <p:spPr>
          <a:xfrm>
            <a:off x="611280" y="3789360"/>
            <a:ext cx="3408120" cy="2554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427640" y="4797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тираем мыло на тер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6"/>
          <p:cNvSpPr/>
          <p:nvPr/>
        </p:nvSpPr>
        <p:spPr>
          <a:xfrm>
            <a:off x="250920" y="5013360"/>
            <a:ext cx="864216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40273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авляем кружку воды и ставим в микроволновую п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DSC00600"/>
          <p:cNvPicPr/>
          <p:nvPr/>
        </p:nvPicPr>
        <p:blipFill>
          <a:blip r:embed="rId1"/>
          <a:stretch/>
        </p:blipFill>
        <p:spPr>
          <a:xfrm>
            <a:off x="5148360" y="476280"/>
            <a:ext cx="2587680" cy="194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00601"/>
          <p:cNvPicPr/>
          <p:nvPr/>
        </p:nvPicPr>
        <p:blipFill>
          <a:blip r:embed="rId2"/>
          <a:stretch/>
        </p:blipFill>
        <p:spPr>
          <a:xfrm>
            <a:off x="324000" y="2781360"/>
            <a:ext cx="2206440" cy="1655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2771640" y="270828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ледим чтобы мыло растворилось и не образовались комочки, добавляем остатки воды и остужаем раст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324000" y="515772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20 мин полученная масса застыла и использовать ее в качестве средства для мытья посуды оказалось невозможным.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228564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 №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860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решила узнать, какие компоненты нужно добавить при изготовлении средства, чтобы оно стало густой жидкостью, и не затвер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оветом я обратилась к учителю химии, которая порекомендовала мне добавить к полученному раствору спирт и глицер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14200" y="3571920"/>
            <a:ext cx="45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ы повторили все шаги опыта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DSC00595"/>
          <p:cNvPicPr/>
          <p:nvPr/>
        </p:nvPicPr>
        <p:blipFill>
          <a:blip r:embed="rId1"/>
          <a:stretch/>
        </p:blipFill>
        <p:spPr>
          <a:xfrm>
            <a:off x="5572080" y="3357720"/>
            <a:ext cx="3387600" cy="25383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5"/>
          <p:cNvSpPr/>
          <p:nvPr/>
        </p:nvSpPr>
        <p:spPr>
          <a:xfrm>
            <a:off x="357120" y="4643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бавили в тёплый раствор     4 ст. ложки глицерина, 1 ст. ложку спи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DSC00604"/>
          <p:cNvPicPr/>
          <p:nvPr/>
        </p:nvPicPr>
        <p:blipFill>
          <a:blip r:embed="rId1"/>
          <a:stretch/>
        </p:blipFill>
        <p:spPr>
          <a:xfrm>
            <a:off x="468360" y="69228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SC00608"/>
          <p:cNvPicPr/>
          <p:nvPr/>
        </p:nvPicPr>
        <p:blipFill>
          <a:blip r:embed="rId2"/>
          <a:stretch/>
        </p:blipFill>
        <p:spPr>
          <a:xfrm>
            <a:off x="539640" y="414972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6"/>
          <p:cNvSpPr/>
          <p:nvPr/>
        </p:nvSpPr>
        <p:spPr>
          <a:xfrm>
            <a:off x="4572000" y="333360"/>
            <a:ext cx="3527280" cy="338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ая масса после охлаждения не затвердела, а стала желеобраз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ее в качестве средства для мытья посуды оказалось возможным. Опыт удал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K:\итоговые фото\DSC00643.JPG"/>
          <p:cNvPicPr/>
          <p:nvPr/>
        </p:nvPicPr>
        <p:blipFill>
          <a:blip r:embed="rId3"/>
          <a:stretch/>
        </p:blipFill>
        <p:spPr>
          <a:xfrm>
            <a:off x="5435640" y="4149720"/>
            <a:ext cx="262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994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Все проведённые исследования и опыты доказали верность моей гипотезы: из хозяйственного мыла можно сделать полезную  вещь – средство для мытья посу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Это средство обладает всеми положительными качествами хозяйственного мыла: является бактерицидным, отлично отмывает посуду. А самое главное -  не вызывает аллергию, является экологически чистым продуктом без опасных химических доба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eiryo UI"/>
                <a:ea typeface="Meiryo UI"/>
              </a:rPr>
              <a:t>Изготовить такое средство очень просто и дёш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60360" y="4206960"/>
            <a:ext cx="2784600" cy="234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SC00608"/>
          <p:cNvPicPr/>
          <p:nvPr/>
        </p:nvPicPr>
        <p:blipFill>
          <a:blip r:embed="rId2"/>
          <a:stretch/>
        </p:blipFill>
        <p:spPr>
          <a:xfrm>
            <a:off x="5643720" y="442908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122" name="Двойная стрелка влево/вправо 5"/>
          <p:cNvSpPr/>
          <p:nvPr/>
        </p:nvSpPr>
        <p:spPr>
          <a:xfrm>
            <a:off x="3571920" y="5143680"/>
            <a:ext cx="1643040" cy="360360"/>
          </a:xfrm>
          <a:prstGeom prst="left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714240" y="2286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domashnie-posidelk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714240" y="2643120"/>
            <a:ext cx="607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narodmedic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znaika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ilicone-kiev.ucoz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шлом году в своей работе я узнала о том,что из хозяйственного мыла можно сделать стеариновую свечу. А так же из стеариновой свечи можно сделать хозяйственное мы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DSC00046"/>
          <p:cNvPicPr/>
          <p:nvPr/>
        </p:nvPicPr>
        <p:blipFill>
          <a:blip r:embed="rId1"/>
          <a:stretch/>
        </p:blipFill>
        <p:spPr>
          <a:xfrm>
            <a:off x="539640" y="2781360"/>
            <a:ext cx="2711520" cy="326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11" descr="DSC00072"/>
          <p:cNvPicPr/>
          <p:nvPr/>
        </p:nvPicPr>
        <p:blipFill>
          <a:blip r:embed="rId2"/>
          <a:stretch/>
        </p:blipFill>
        <p:spPr>
          <a:xfrm>
            <a:off x="5796000" y="2565360"/>
            <a:ext cx="2635200" cy="351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Двойная стрелка влево/вправо 6"/>
          <p:cNvSpPr/>
          <p:nvPr/>
        </p:nvSpPr>
        <p:spPr>
          <a:xfrm>
            <a:off x="3419640" y="3645000"/>
            <a:ext cx="2160360" cy="50328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9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Meiryo UI"/>
                <a:ea typeface="Meiryo UI"/>
              </a:rPr>
              <a:t>Проблема:</a:t>
            </a:r>
            <a:r>
              <a:rPr b="0" lang="ru-RU" sz="2200" spc="-1" strike="noStrike">
                <a:solidFill>
                  <a:srgbClr val="c00000"/>
                </a:solidFill>
                <a:latin typeface="Meiryo UI"/>
                <a:ea typeface="Meiryo UI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Meiryo UI"/>
                <a:ea typeface="Meiryo UI"/>
              </a:rPr>
              <a:t>Что можно сделать из хозяйственного мыла?</a:t>
            </a: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ff0066"/>
                </a:solidFill>
                <a:latin typeface="Meiryo UI"/>
                <a:ea typeface="Meiryo UI"/>
              </a:rPr>
              <a:t>Цель:</a:t>
            </a:r>
            <a:r>
              <a:rPr b="0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Узнать, можно ли из хозяйственного мыла сделать другую полезную  ве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227628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eiryo UI"/>
                <a:ea typeface="Meiryo U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1. Изучить литературу о хозяйственном мы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4. Провести 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5. Провести опы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eiryo UI"/>
                <a:ea typeface="Meiryo UI"/>
              </a:rPr>
              <a:t>6. С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501300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Meiryo UI"/>
                <a:ea typeface="Meiryo UI"/>
              </a:rPr>
              <a:t>Гипотеза:</a:t>
            </a:r>
            <a:r>
              <a:rPr b="1" lang="ru-RU" sz="2600" spc="-1" strike="noStrike">
                <a:solidFill>
                  <a:srgbClr val="c00000"/>
                </a:solidFill>
                <a:latin typeface="Meiryo UI"/>
                <a:ea typeface="Meiryo UI"/>
              </a:rPr>
              <a:t> </a:t>
            </a:r>
            <a:r>
              <a:rPr b="1" i="1" lang="ru-RU" sz="2600" spc="-1" strike="noStrike">
                <a:solidFill>
                  <a:srgbClr val="000099"/>
                </a:solidFill>
                <a:latin typeface="Meiryo UI"/>
                <a:ea typeface="Meiryo UI"/>
              </a:rPr>
              <a:t>Я предполагаю, что мыло можно превратить в какую-то другую полезную в хозяйстве вещ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мы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51280" y="1267920"/>
            <a:ext cx="489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ы о том, кто первый  изобрёл мыло, до сих пор не завершены. Изобретение мыла приписывают сразу нескольким древним нар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умеры варили древесную золу с растительными маслами - этот рецепт был найден при раскопках на глиняных табличках, которые датируются примерно 2500 г. до нашей э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ие египтяне, греки и римляне тоже знали этот секрет, но в основном мыло использовалось в качестве лекарства и в косметик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i?id=87501939-48-72&amp;n=21"/>
          <p:cNvPicPr/>
          <p:nvPr/>
        </p:nvPicPr>
        <p:blipFill>
          <a:blip r:embed="rId1"/>
          <a:stretch/>
        </p:blipFill>
        <p:spPr>
          <a:xfrm>
            <a:off x="324000" y="4005360"/>
            <a:ext cx="3446280" cy="2228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0004sxx2"/>
          <p:cNvPicPr/>
          <p:nvPr/>
        </p:nvPicPr>
        <p:blipFill>
          <a:blip r:embed="rId2"/>
          <a:stretch/>
        </p:blipFill>
        <p:spPr>
          <a:xfrm>
            <a:off x="684360" y="1341360"/>
            <a:ext cx="2089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е моющие 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ым моющим средством была обыкновенная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езводных местностях использовали песок: оттирали им пя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одна вода не помогала, в ход шли другие средства: бычья желчь и мозговые кости, разложившаяся моча и свежий помет, яичные желтки и кипящее молоко, мед и пивные дрожжи, теплые отруби и бобовая мука, селитра, опилки, зола и прочее, проче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1543320" cy="235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332000" y="4437000"/>
            <a:ext cx="2660400" cy="199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627280" y="2133720"/>
            <a:ext cx="19051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2268"/>
                </a:solidFill>
                <a:latin typeface="Arial"/>
              </a:rPr>
              <a:t>Состав хозяйственного мы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61308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ло представляет собой смесь водорастворимых натриевых или калиевых солей высших жирных кислот с различными добавками, обладающая моющим действ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ом жирных кислот является натуральное органическое жировое сырье животного или растительного происхождения и жирозамени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яду с животными жирами: говяжьим, свиным, бараньим, могут быть использованы рыбьи жиры и жиры морских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76040" y="2060640"/>
            <a:ext cx="247500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47"/>
          <p:cNvSpPr/>
          <p:nvPr/>
        </p:nvSpPr>
        <p:spPr>
          <a:xfrm>
            <a:off x="2124000" y="333360"/>
            <a:ext cx="532764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езны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987640" y="5254560"/>
            <a:ext cx="2376360" cy="16034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50920" y="1413000"/>
            <a:ext cx="295272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ет хорошее удаление грязи с любых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5580000" y="1557360"/>
            <a:ext cx="330372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дает отличными бактерицидными свой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755640" y="3357720"/>
            <a:ext cx="4321080" cy="1366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инфекции раствором мыла смазывают наружную часть носовых проходов, чистят зубы, обрабатывают пораженные участк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9"/>
          <p:cNvCxnSpPr>
            <a:stCxn id="71" idx="2"/>
          </p:cNvCxnSpPr>
          <p:nvPr/>
        </p:nvCxnSpPr>
        <p:spPr>
          <a:xfrm>
            <a:off x="4716360" y="119700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7" name="Прямая со стрелкой 11"/>
          <p:cNvCxnSpPr/>
          <p:nvPr/>
        </p:nvCxnSpPr>
        <p:spPr>
          <a:xfrm flipH="1">
            <a:off x="5651280" y="1341360"/>
            <a:ext cx="383040" cy="626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8" name="Прямая со стрелкой 14"/>
          <p:cNvCxnSpPr/>
          <p:nvPr/>
        </p:nvCxnSpPr>
        <p:spPr>
          <a:xfrm>
            <a:off x="4427280" y="1125000"/>
            <a:ext cx="1152720" cy="79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3203280" y="1125000"/>
            <a:ext cx="1224720" cy="79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Прямая со стрелкой 16"/>
          <p:cNvCxnSpPr>
            <a:endCxn id="75" idx="0"/>
          </p:cNvCxnSpPr>
          <p:nvPr/>
        </p:nvCxnSpPr>
        <p:spPr>
          <a:xfrm flipH="1">
            <a:off x="2915640" y="1197000"/>
            <a:ext cx="1440360" cy="21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Прямоугольник 37"/>
          <p:cNvSpPr/>
          <p:nvPr/>
        </p:nvSpPr>
        <p:spPr>
          <a:xfrm>
            <a:off x="5292720" y="3573360"/>
            <a:ext cx="3637080" cy="165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зывает аллергии даже у маленьк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нению специалистов людям  полезно мыть тело  хозяйственным мылом 1 раз  в две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40"/>
          <p:cNvCxnSpPr/>
          <p:nvPr/>
        </p:nvCxnSpPr>
        <p:spPr>
          <a:xfrm>
            <a:off x="4427280" y="1125000"/>
            <a:ext cx="1369080" cy="237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ject 23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323244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4"/>
          <p:cNvSpPr/>
          <p:nvPr/>
        </p:nvSpPr>
        <p:spPr>
          <a:xfrm>
            <a:off x="250920" y="1197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Покупаете ли вы для своей семьи хозяйственное мы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179280" y="3429000"/>
            <a:ext cx="842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Для чего вы обычно используете хозяйственное мыл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рика, мытье посуды, мытье полов, мытье кошек,  мытье    тела, стирка детского белья и мелких вещей, поливка растений, помощь при ожогах, синяках и больных в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826920" y="765000"/>
            <a:ext cx="7490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его в опросе участвовало  36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5084640"/>
            <a:ext cx="8496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Можно ли использовать хозяйственное мыло  в быту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х-либо других целей, кроме прямого назнач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можно намазывать лыжи, дезинфицировать поверхности, растирать коровам вымя, заклеивать окна, создавать скульптуры и статуэ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2340000" y="189000"/>
            <a:ext cx="388764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о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0920" y="1125360"/>
            <a:ext cx="86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узнала много нового и интересного о применении хозяйств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ла. Результаты опроса ещё раз подтвердили, что хозяйств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ло не только отлично справляется с грязью, оно  экологич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о для здоровь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захотелось сделать безопасное и эффективное средство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тья посуды на основе хозяйственного мы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1582560" cy="180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5651640" y="5157720"/>
            <a:ext cx="2541600" cy="136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3"/>
          <a:stretch/>
        </p:blipFill>
        <p:spPr>
          <a:xfrm>
            <a:off x="1979640" y="5157720"/>
            <a:ext cx="2305080" cy="148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6870600" y="3213000"/>
            <a:ext cx="227340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3276720" y="3284640"/>
            <a:ext cx="23749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6:48:42Z</dcterms:created>
  <dc:creator>Мама</dc:creator>
  <dc:description/>
  <dc:language>en-US</dc:language>
  <cp:lastModifiedBy>Иван Щербаков</cp:lastModifiedBy>
  <dcterms:modified xsi:type="dcterms:W3CDTF">2017-09-06T09:52:33Z</dcterms:modified>
  <cp:revision>67</cp:revision>
  <dc:subject/>
  <dc:title>Хозяйственное мыло</dc:title>
</cp:coreProperties>
</file>