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12.png" ContentType="image/png"/>
  <Override PartName="/ppt/media/image49.jpeg" ContentType="image/jpeg"/>
  <Override PartName="/ppt/media/image36.png" ContentType="image/png"/>
  <Override PartName="/ppt/media/image10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37.png" ContentType="image/png"/>
  <Override PartName="/ppt/media/image7.png" ContentType="image/png"/>
  <Override PartName="/ppt/media/image13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63C-0F0A-4970-B222-167F3AC3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E45-1173-4A26-A717-94B54024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8AC01-799D-44DF-9715-CF93549E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2074B-84A2-4256-BB2C-B91D6F49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8576B-8090-4CE1-BA6F-68C0E2C3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62BBF-58C6-4E41-A783-364A65AE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CA71D-8773-45DA-B374-82FE621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8D688-F084-4EE4-A7F4-094FAFB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BFFD5-8D91-465A-AB9C-1F77674C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F0E56-D363-4141-AC29-E088D10B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11DE4-847A-4E0A-81D3-45BAF770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A6F3E-DAC1-4D3B-A769-D528D28C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B1A-BA5F-4A22-A1EB-7D065F6E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6680B-07EF-4869-85CA-3FAE0BA7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694FC-74FD-433F-BE72-1B388C18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E4304-AAA1-43D4-B6A8-97A19CC1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7797F-22B6-4557-A9C0-6F37772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2FBC7-4351-4BAF-986F-56914AAB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82255-FC5A-4AB0-8306-2F1E140D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544C1-0C4B-45EB-A16C-C8E1500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E3991-680B-4E48-8373-776AF2D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B1BF5-2FB4-48BA-ADB5-B2B24875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0C7A0-EF21-4D37-AFF3-0DC3D11A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9EF-3CD6-4A9F-9BDB-94AEDBB7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07898-BC90-46A4-A557-88354A67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2E28E-0E66-41BC-BB40-575A4065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9AD60-234A-4FB2-A7CF-7AE5DC91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95D40-E659-41EE-A0D7-F48B5E45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10FD3-C9C1-454C-9B40-2C91DBEB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D01CC-5954-44A3-8C0D-7B1C83B6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7013D-BE55-42C5-B6A8-85B45D70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37736-7A01-4342-812E-5ED50DB6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A0D23-FA30-4435-9DC6-900B78C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C77D6-2A92-483B-92F8-5FF42DC1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E26E-6727-428C-A785-416280F1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7E9DD-6B81-4D68-9EE1-703F0F96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11E3E-B8AE-4E8A-BE9F-5B7E71C0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BE841-DEE0-4365-BF7E-231417EC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FA259-708B-4376-B041-0CE159D4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F7ABA-DFC1-47C8-A89D-30DE0CE6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B6CBB-2FCE-4F25-80C6-8AF5EB3D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9AC7B-EBA0-4898-8619-B7679E2C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355CF-F624-4DF8-B3B2-0D317DA8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71174-7E4E-4CE2-9377-37363A1D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9C4F9-930E-43B9-B11C-F5316517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0520-918D-474E-A59A-C17C2149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06B7D-F92D-4232-B26A-51020EB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188CF-B2FA-4A50-9988-C407FE08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EE43A-BD86-4F66-AE31-A604DBBA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C5F18-418C-466C-9A71-3AAD021B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0D9B8-B6EB-451A-A7A4-EA11C9D7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A4C42-3889-425E-B8F1-0D5CDDB7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CC883-74B6-4914-AA63-6D9391DB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53A39-CD07-4621-822D-FD6AF994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C00F8-004F-49F9-9357-78F6A38B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E920D-1C72-4D80-8A1E-EAF520CE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DF40-6A3A-4749-AF3C-17A89621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262BE-393C-4DF1-8BD1-BFCED1E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7C28C-187A-4D37-95A0-3AB34C4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FA3D9-DEAD-4E37-8868-ED6EE04A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63588-C6D5-429C-AE04-9ECABEA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3E995-50F7-46E8-B41C-0A16D87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8CF3D-FADE-4D53-BAB3-8FA89965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6F1FC-8172-4E82-B23E-DBA6456E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A64D0-A83B-4C67-9B5D-4D906D8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B5095-CBC3-4FFF-A141-70713AEC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8750E-6B0C-4FAA-A479-D83981D1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CCEF-C6BF-481C-88F9-029ECFF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8AF84-2651-44BD-B9DE-3D1E924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1C0BA-0408-46FA-B9FA-19103488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C6485-2008-4752-833F-3C6278B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BFE35-3444-4A33-ABAA-0EC87911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7B2D9-6D25-40ED-9F7F-AD56411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88A96-94D6-482A-BF62-9BFBE2A0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09DF4-30C6-408F-9E61-FFC630FA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694BA-D8EF-4754-8FB5-0A86D9FB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7B9E2-9ED8-47B0-B8FB-9D2FDABC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C0C5A-C188-4191-B51E-5D9D1963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80F1-C9A9-4CA9-8B5B-E27BB8A4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9177B-20C3-4343-8EAB-29A946E5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4E0AF-3789-4C4E-9413-DE9718F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5E420-F19E-42E6-ACB1-A32DB11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C76DC-0B01-4160-9F8A-C97A8EF9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BBBAC-EAF3-4713-8291-3D83394B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B6BA0-9E83-415A-B970-5C7B4C9C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EEB8A-5548-41FD-AD52-8EBB13E3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3ED99-ED1A-4976-9608-BC02BB51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8CDA2-4058-408B-B09F-C4681C43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E3774-DABE-4320-8BBB-3C95C40C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4FDE-0917-4F6C-A727-DCDD962D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DAF84-D044-43BB-B941-76E25F50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02F9D-4CF4-4418-B96B-B7657F74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C766D-F4C3-4A2E-B0CE-697BEEF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3C1E8-3A62-429A-903A-EC3CEFB8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12C7C-376F-431C-B625-37F3BF16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C7621-6EDF-445E-9E33-3B40BDD1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BFD84-9258-4FC7-8377-E5628E5D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230EC-2D64-4D4C-AF41-A06CC868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96FF0-7794-489C-B2C6-A9B35A36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204D0-2517-4139-80C8-35E53DE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2981-4AB4-4C5B-A073-9D718CC9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B6466-D723-4094-AE48-1DD8EC15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A2C43-E980-4637-96E0-51AEE8B4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EBBFE-FE50-4C5B-A2BD-AECC93BE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D5C-3B70-4A7A-9C80-D34A5642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5613-59CB-4660-B928-933DDF5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B4A0-CBC6-48DA-A4DB-E89C39F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A1A7-CBB8-41AA-BC32-8FA64BAC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4066-D9AC-498A-9606-8FEA33E2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C8E9-9955-478D-9B97-D38EA169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22B5-53F7-4106-B423-398D31FF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4F44-3AC9-4A19-BFE3-8635903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5DCC-72DD-4FF3-AF7C-CE2108CD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FD5B-1941-4158-90EE-B7E75560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7209-699F-48F9-B8D2-1330C4A3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564-6155-4E50-8CBB-69C0A47A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1CAF-E5B6-45BF-97F5-C462F86C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10BB-5C74-431D-9D84-A9CCF1B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5F38-8908-47A9-AD3C-D207CCCE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9A46-54A5-4E74-8E0C-D0D5A142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25CC-807B-4DF6-BBB4-E4462715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D2C4-B624-456F-BE1D-E27CF9A7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4DEF-4384-40C5-9DEA-4A0D0E7B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40A4-3CAE-44D0-9232-5B1AC6A1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D544-17EF-4BC2-9787-3DBD0380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87512-1444-4CBC-9CA8-AF553138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2E7-F543-4AFA-9CC8-02705698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4690-CB03-4429-9515-4CB90F72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FA07-0B2D-4213-82D0-20C048A3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1126-82FB-4121-975C-C0F1708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3BCA-3352-4010-AB63-DB060D6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72D0-7345-4D71-9C65-2B65E19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E66D-45C5-4DA1-BB49-9722F9D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2962-D612-4345-ABE9-2B855D0F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9581-8AED-40A4-B450-A7265B7F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EB60D-E977-4D77-96AA-A9883817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875CA-86D3-4460-AD83-AFDEC3FB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B42-6DB8-4734-AD12-7FB9C37F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86634-BE4F-4787-BE93-DB1980BB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79161-0BD4-404B-ABE3-54982627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1EED-2E2E-436A-9D7C-6E44578E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D3C0-4564-400A-8A4C-63D31843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4861-4247-4D34-9359-2FCEF2EB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E2C3-2C57-4107-A4A8-11F01AFA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F7CF1-A1FB-400B-A37B-312D5DAB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AFF4-5D30-48B4-A2B7-F023FC6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EC48-AF02-4E42-AF9D-D7730835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AE73-D206-4EC3-8289-4A8ECAF4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AB5-EDFA-4F14-AFE6-6683058B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95E54-8091-4F47-B5B4-5561B9A6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413C3-0AA6-4945-8193-DEF2B3EE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F3F5-B50B-4B02-A184-403173E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8875-E40E-4629-B7B9-145C5F33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68BBA-B77C-4393-B7CB-363C8443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B26B1-FFA4-4957-9BEB-AC1D73F8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7B26-1FAD-4247-AF4C-F9BD7EAA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28813-ECC8-4EE9-9732-D49CF22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E9573-9492-4017-BC82-7FAE4BF0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31F8-A058-4C85-98C2-95FD301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E2B-7A38-4A86-935A-ED78CBA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AFBF-DACC-4103-900A-5CC03E7E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3922-500D-4CC0-80A0-9B10A3B1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031F-3794-4C54-B389-E063D7CA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2688B-70E1-4ACA-B2D1-E345F9EE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5573D-CE60-454E-AA33-838C6F65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8522-3813-462C-8BBF-831A5F56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B87FC-F9F8-4CDA-BE30-631F7488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4B11-3C19-4B67-A50A-E1F3FF3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A3BA8-350C-4E64-A795-1EE855FE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0305D-2267-43B8-97D0-63E4F5E0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5CA-B336-4AA1-96CA-C747CF41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96507-1DB1-44E5-AFE5-862C0B73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B98F-8356-4E5D-9D41-C8DD763B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5B2DB-349A-49E5-B1A0-0BC1408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9B92F-11F1-4853-A3B5-E0F79783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BE76C-462F-4448-8EF7-9E5436D1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8FC74-F31E-4540-B6BB-3D8073F6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EE0A0-108A-4674-9A0D-8798F210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CBBF8-6EFB-450A-A86F-288C8C5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99A84-7749-4865-B70D-9280BB57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8CB6-DD48-4656-8F05-63CEB281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C1F-4F2F-4223-96A8-76618D6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6E435-1160-41EA-A9B5-922FD30F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1CB2-5642-4094-BDC9-788C7928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C3615-AAD6-4E63-A55B-7C743BA4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5A5AF-88C8-419C-9C1B-8A2D21BD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9227-4864-48BD-A500-E66524E2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547DB-47A3-41A3-9CC4-DF812A3B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A5762-BD57-461A-8A5A-DF7FA9EE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D658-505A-4B46-9FE2-FF26D5C1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13F32-CB64-4DA1-87BE-6CF8A97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F2903-2956-4A26-85EC-2CFECA5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D1B2-B707-4802-9CF2-32C2A094446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0676-ECA0-4398-BCEE-CE5EBAEBF42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7325-EC66-4210-9A09-FCF9BE85501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9CC-D18C-4208-A093-B72AE77CE44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6378-5659-40E6-A34F-9B422280783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A10-377C-41B6-9E70-7A7D4929AFC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5372-86D5-4829-AB15-529C019F30C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8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391-13F4-4D59-BD32-72378C09795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0169-8BAD-40FA-96BE-6EE92004C31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BE15-3A76-4016-8F00-360BDAAB441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81D-CB71-484D-8D44-8B66B6E9BF6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7C57-2CC1-459D-A431-E7C33068760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E9A-EE85-40DF-B9D2-4245C7D7ABB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054D-694F-47F5-88A7-3C9FEF04BE6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B0AF-06C5-4970-A4E4-B2358B86E00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E77B-5D94-4A6B-8E49-1902039B8E3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идактические игры и упражнения для профилактики дисграфии у детей дошкольного возраста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Назови предметы по их контурам», «Расположи предметы по величине», «Найди правильную тень предмета», «Найди одинаковые тени»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63" name="Содержимое 10" descr="бабочки.bmp"/>
          <p:cNvPicPr/>
          <p:nvPr/>
        </p:nvPicPr>
        <p:blipFill>
          <a:blip r:embed="rId1"/>
          <a:stretch/>
        </p:blipFill>
        <p:spPr>
          <a:xfrm>
            <a:off x="2195640" y="2454120"/>
            <a:ext cx="4038480" cy="10940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864" name="Содержимое 13" descr="лошади6.bmp"/>
          <p:cNvPicPr/>
          <p:nvPr/>
        </p:nvPicPr>
        <p:blipFill>
          <a:blip r:embed="rId2"/>
          <a:stretch/>
        </p:blipFill>
        <p:spPr>
          <a:xfrm rot="21040800">
            <a:off x="498600" y="3885840"/>
            <a:ext cx="2116080" cy="2405160"/>
          </a:xfrm>
          <a:prstGeom prst="rect">
            <a:avLst/>
          </a:prstGeom>
          <a:ln w="9360">
            <a:solidFill>
              <a:srgbClr val="55a839"/>
            </a:solidFill>
            <a:miter/>
          </a:ln>
        </p:spPr>
      </p:pic>
      <p:pic>
        <p:nvPicPr>
          <p:cNvPr id="865" name="Содержимое 14" descr="слоны.bmp"/>
          <p:cNvPicPr/>
          <p:nvPr/>
        </p:nvPicPr>
        <p:blipFill>
          <a:blip r:embed="rId3"/>
          <a:stretch/>
        </p:blipFill>
        <p:spPr>
          <a:xfrm rot="21051000">
            <a:off x="6210360" y="3904920"/>
            <a:ext cx="2411280" cy="2692440"/>
          </a:xfrm>
          <a:prstGeom prst="rect">
            <a:avLst/>
          </a:prstGeom>
          <a:ln w="9360">
            <a:solidFill>
              <a:srgbClr val="cc3399"/>
            </a:solidFill>
            <a:miter/>
          </a:ln>
        </p:spPr>
      </p:pic>
      <p:pic>
        <p:nvPicPr>
          <p:cNvPr id="866" name="Picture 10" descr="CCI13112011_00000"/>
          <p:cNvPicPr/>
          <p:nvPr/>
        </p:nvPicPr>
        <p:blipFill>
          <a:blip r:embed="rId4"/>
          <a:stretch/>
        </p:blipFill>
        <p:spPr>
          <a:xfrm rot="4712400">
            <a:off x="3253680" y="3933720"/>
            <a:ext cx="2297160" cy="2303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</a:t>
            </a:r>
            <a:r>
              <a:rPr b="0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орисуй</a:t>
            </a: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половинку»,«Чего не хватает?», «Кто это? Дорисуй»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68" name="Содержимое 6" descr="GEDC0266.JPG"/>
          <p:cNvPicPr/>
          <p:nvPr/>
        </p:nvPicPr>
        <p:blipFill>
          <a:blip r:embed="rId1"/>
          <a:stretch/>
        </p:blipFill>
        <p:spPr>
          <a:xfrm>
            <a:off x="3294000" y="1611360"/>
            <a:ext cx="1851120" cy="2189160"/>
          </a:xfrm>
          <a:prstGeom prst="rect">
            <a:avLst/>
          </a:prstGeom>
          <a:ln w="0">
            <a:noFill/>
          </a:ln>
        </p:spPr>
      </p:pic>
      <p:pic>
        <p:nvPicPr>
          <p:cNvPr id="869" name="Содержимое 7" descr="GEDC0267.JPG"/>
          <p:cNvPicPr/>
          <p:nvPr/>
        </p:nvPicPr>
        <p:blipFill>
          <a:blip r:embed="rId2"/>
          <a:stretch/>
        </p:blipFill>
        <p:spPr>
          <a:xfrm>
            <a:off x="193680" y="1611360"/>
            <a:ext cx="2709720" cy="3294000"/>
          </a:xfrm>
          <a:prstGeom prst="rect">
            <a:avLst/>
          </a:prstGeom>
          <a:ln w="0">
            <a:noFill/>
          </a:ln>
        </p:spPr>
      </p:pic>
      <p:pic>
        <p:nvPicPr>
          <p:cNvPr id="870" name="Содержимое 10" descr="ЧАСТИ.JPG"/>
          <p:cNvPicPr/>
          <p:nvPr/>
        </p:nvPicPr>
        <p:blipFill>
          <a:blip r:embed="rId3"/>
          <a:stretch/>
        </p:blipFill>
        <p:spPr>
          <a:xfrm>
            <a:off x="5927760" y="1612800"/>
            <a:ext cx="2759040" cy="3183120"/>
          </a:xfrm>
          <a:prstGeom prst="rect">
            <a:avLst/>
          </a:prstGeom>
          <a:ln w="9360">
            <a:solidFill>
              <a:srgbClr val="004e6d"/>
            </a:solidFill>
            <a:miter/>
          </a:ln>
        </p:spPr>
      </p:pic>
      <p:pic>
        <p:nvPicPr>
          <p:cNvPr id="871" name="Picture 12" descr="iматрешка"/>
          <p:cNvPicPr/>
          <p:nvPr/>
        </p:nvPicPr>
        <p:blipFill>
          <a:blip r:embed="rId4"/>
          <a:stretch/>
        </p:blipFill>
        <p:spPr>
          <a:xfrm>
            <a:off x="3390840" y="4390920"/>
            <a:ext cx="1657440" cy="1258920"/>
          </a:xfrm>
          <a:prstGeom prst="rect">
            <a:avLst/>
          </a:prstGeom>
          <a:ln w="9360">
            <a:solidFill>
              <a:srgbClr val="000000"/>
            </a:solidFill>
            <a:prstDash val="lgDashDot"/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115560"/>
            <a:ext cx="741852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ифференциация правых и левых частей тела, ориентировка в окружающем пространстве относительно себя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68000" y="19159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ать правую, левую руку, как называются руки (правая, левая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ать карандаш правой рукой, левой рукой; взять книгу правой рукой, - левой руко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ать левой рукой правый глаз, правое ухо, левую ногу; правой рукой показать левое ухо, правую ногу; показать правые и левые части тела у  человека, сидящего напроти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пространственного положения предметов, находящихся сбоку от ребенка: «Покажи, какой предмет находится справа от тебя» и т.д.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лее представления закрепляются в речи: «Где находится книга (карандаш, ручка)?»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пространственных соотношений между 2-3 предметами и их изображения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28760" y="-10044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i="1" lang="ru-RU" sz="2800" spc="-1" strike="noStrike" u="sng">
                <a:solidFill>
                  <a:srgbClr val="cc3399"/>
                </a:solidFill>
                <a:uFillTx/>
                <a:latin typeface="Times New Roman"/>
                <a:ea typeface="Times New Roman"/>
              </a:rPr>
              <a:t>Определение пространственного расположения предметов</a:t>
            </a:r>
            <a:br>
              <a:rPr sz="2800"/>
            </a:br>
            <a:r>
              <a:rPr b="0" i="1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«Какой дом справа, слева?»«Какой транспорт едет направо, а какой налево?», «Кто находится справа, кто слева ото льва?» (можно сделать по темам), «Кто где находится?» и др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75" name="Picture 3" descr="C:\Documents and Settings\коля\Мои документы\Мои рисунки\дома.bmp"/>
          <p:cNvPicPr/>
          <p:nvPr/>
        </p:nvPicPr>
        <p:blipFill>
          <a:blip r:embed="rId1"/>
          <a:stretch/>
        </p:blipFill>
        <p:spPr>
          <a:xfrm>
            <a:off x="298440" y="2192400"/>
            <a:ext cx="4038480" cy="21510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876" name="Содержимое 9" descr="транспорт.bmp"/>
          <p:cNvPicPr/>
          <p:nvPr/>
        </p:nvPicPr>
        <p:blipFill>
          <a:blip r:embed="rId2"/>
          <a:stretch/>
        </p:blipFill>
        <p:spPr>
          <a:xfrm>
            <a:off x="5292720" y="2192400"/>
            <a:ext cx="2841480" cy="2189160"/>
          </a:xfrm>
          <a:prstGeom prst="rect">
            <a:avLst/>
          </a:prstGeom>
          <a:ln w="9360">
            <a:solidFill>
              <a:srgbClr val="07878d"/>
            </a:solidFill>
            <a:miter/>
          </a:ln>
        </p:spPr>
      </p:pic>
      <p:pic>
        <p:nvPicPr>
          <p:cNvPr id="877" name="Picture 2" descr="C:\Documents and Settings\коля\Мои документы\Мои рисунки\зоопарк.bmp"/>
          <p:cNvPicPr/>
          <p:nvPr/>
        </p:nvPicPr>
        <p:blipFill>
          <a:blip r:embed="rId3"/>
          <a:stretch/>
        </p:blipFill>
        <p:spPr>
          <a:xfrm>
            <a:off x="3780000" y="4581360"/>
            <a:ext cx="4038480" cy="13431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878" name="Содержимое 12" descr="гриб.bmp"/>
          <p:cNvPicPr/>
          <p:nvPr/>
        </p:nvPicPr>
        <p:blipFill>
          <a:blip r:embed="rId4"/>
          <a:stretch/>
        </p:blipFill>
        <p:spPr>
          <a:xfrm>
            <a:off x="328680" y="4581360"/>
            <a:ext cx="3152880" cy="2189160"/>
          </a:xfrm>
          <a:prstGeom prst="rect">
            <a:avLst/>
          </a:prstGeom>
          <a:ln w="9360">
            <a:solidFill>
              <a:srgbClr val="55a83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риентировка на лист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508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ожи круг в правом верхнем углу, слева от него крестик, в нижнем левом углу квадрат и т. 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Графические диктанты» – Нарисуй в центре листа треугольник , справа от него нарисуй круг, слева от треугольника – ромб и т.д. (сверху, снизу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иентировка на листе в клеточку: «Нарисуй такую же фигуру», «Графические диктанты в клеточку», «Зеркало» (дорисуй другую половинку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881" name="Содержимое 6" descr="утка в клетку.bmp"/>
          <p:cNvPicPr/>
          <p:nvPr/>
        </p:nvPicPr>
        <p:blipFill>
          <a:blip r:embed="rId1"/>
          <a:stretch/>
        </p:blipFill>
        <p:spPr>
          <a:xfrm>
            <a:off x="5724360" y="1844640"/>
            <a:ext cx="1649520" cy="1312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82" name="Picture 6" descr="C:\Documents and Settings\коля\Мои документы\Мои рисунки\в клетку.bmp"/>
          <p:cNvPicPr/>
          <p:nvPr/>
        </p:nvPicPr>
        <p:blipFill>
          <a:blip r:embed="rId2"/>
          <a:stretch/>
        </p:blipFill>
        <p:spPr>
          <a:xfrm>
            <a:off x="5651640" y="3500280"/>
            <a:ext cx="2058840" cy="19418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1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6-7 лет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68000" y="1052640"/>
            <a:ext cx="849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Развитие буквенного гнозис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восприятия цвета букв; развитие восприятия формы, размера и величины предметов и букв; дифференциация расположения элементов бук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дактические игры: «Какая буква спряталась», «Допиши букву», «Выбери правильно написанную букву»,  «Разбери кучу малу», и д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Развитие зрительного анализа и синтеза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Уточнение и расширение объём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рительной памяти (зрительного мнезиса)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звитие запоминания формы предмет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звитие запоминания цвета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запоминания последовательности и количества букв и предметов (вначале проводим работу по  развитию зрительной памяти,  рассматривая предметы, потом - геометрические фигур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лишь затем - буквы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шумленные буквы, наложенные друг на друга, буквы, спрятанные за предметами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86" name="Picture 9" descr="C:\Documents and Settings\коля\Мои документы\Мои рисунки\ЗАШУМЛ.bmp"/>
          <p:cNvPicPr/>
          <p:nvPr/>
        </p:nvPicPr>
        <p:blipFill>
          <a:blip r:embed="rId1"/>
          <a:stretch/>
        </p:blipFill>
        <p:spPr>
          <a:xfrm>
            <a:off x="826920" y="1557360"/>
            <a:ext cx="3024360" cy="20034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887" name="Picture 8" descr="C:\Documents and Settings\коля\Мои документы\Мои рисунки\БУКВЫ РАЗНЫЕ.bmp"/>
          <p:cNvPicPr/>
          <p:nvPr/>
        </p:nvPicPr>
        <p:blipFill>
          <a:blip r:embed="rId2"/>
          <a:stretch/>
        </p:blipFill>
        <p:spPr>
          <a:xfrm>
            <a:off x="4427640" y="1392120"/>
            <a:ext cx="3384360" cy="23338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888" name="Picture 10" descr="БУКВЫ-звери"/>
          <p:cNvPicPr/>
          <p:nvPr/>
        </p:nvPicPr>
        <p:blipFill>
          <a:blip r:embed="rId3"/>
          <a:stretch/>
        </p:blipFill>
        <p:spPr>
          <a:xfrm>
            <a:off x="1322280" y="3803760"/>
            <a:ext cx="2033640" cy="26924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889" name="Picture 12" descr="буквы жив"/>
          <p:cNvPicPr/>
          <p:nvPr/>
        </p:nvPicPr>
        <p:blipFill>
          <a:blip r:embed="rId4"/>
          <a:stretch/>
        </p:blipFill>
        <p:spPr>
          <a:xfrm>
            <a:off x="5435640" y="3867120"/>
            <a:ext cx="170352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Расшифруй слово», «Пирамидка</a:t>
            </a: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» </a:t>
            </a:r>
            <a:br>
              <a:rPr sz="2400"/>
            </a:b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(разложи по величине и прочти слово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91" name="Содержимое 8" descr="слова б.bmp"/>
          <p:cNvPicPr/>
          <p:nvPr/>
        </p:nvPicPr>
        <p:blipFill>
          <a:blip r:embed="rId1"/>
          <a:stretch/>
        </p:blipFill>
        <p:spPr>
          <a:xfrm>
            <a:off x="223920" y="1413000"/>
            <a:ext cx="2409840" cy="24476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892" name=""/>
          <p:cNvSpPr txBox="1"/>
          <p:nvPr/>
        </p:nvSpPr>
        <p:spPr>
          <a:xfrm>
            <a:off x="2916360" y="1412640"/>
            <a:ext cx="3240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шина     Жу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к              Жаб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т             Луж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к            Жакет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893" name="Picture 11" descr="Ж"/>
          <p:cNvPicPr/>
          <p:nvPr/>
        </p:nvPicPr>
        <p:blipFill>
          <a:blip r:embed="rId2"/>
          <a:stretch/>
        </p:blipFill>
        <p:spPr>
          <a:xfrm>
            <a:off x="5349960" y="1413000"/>
            <a:ext cx="24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14" descr=""/>
          <p:cNvPicPr/>
          <p:nvPr/>
        </p:nvPicPr>
        <p:blipFill>
          <a:blip r:embed="rId3"/>
          <a:stretch/>
        </p:blipFill>
        <p:spPr>
          <a:xfrm>
            <a:off x="531720" y="3925800"/>
            <a:ext cx="1778040" cy="23767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5" descr=""/>
          <p:cNvPicPr/>
          <p:nvPr/>
        </p:nvPicPr>
        <p:blipFill>
          <a:blip r:embed="rId4"/>
          <a:stretch/>
        </p:blipFill>
        <p:spPr>
          <a:xfrm>
            <a:off x="2340000" y="4005360"/>
            <a:ext cx="1571760" cy="20890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6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1344600" cy="18302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7" descr=""/>
          <p:cNvPicPr/>
          <p:nvPr/>
        </p:nvPicPr>
        <p:blipFill>
          <a:blip r:embed="rId6"/>
          <a:stretch/>
        </p:blipFill>
        <p:spPr>
          <a:xfrm>
            <a:off x="5364000" y="4292640"/>
            <a:ext cx="1319400" cy="1739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8" descr=""/>
          <p:cNvPicPr/>
          <p:nvPr/>
        </p:nvPicPr>
        <p:blipFill>
          <a:blip r:embed="rId7"/>
          <a:stretch/>
        </p:blipFill>
        <p:spPr>
          <a:xfrm>
            <a:off x="6732720" y="4437000"/>
            <a:ext cx="117288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Зачеркни неправильно написанные буквы, прочти слово», ребус «Прочти наоборот», «Слово стерлось», «Слово растаяло», «Что за буква», «Допиши буквы, прочти            слово»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00" name="Picture 7" descr="C:\Documents and Settings\коля\Мои документы\Мои рисунки\СЛОВА С.bmp"/>
          <p:cNvPicPr/>
          <p:nvPr/>
        </p:nvPicPr>
        <p:blipFill>
          <a:blip r:embed="rId1"/>
          <a:stretch/>
        </p:blipFill>
        <p:spPr>
          <a:xfrm>
            <a:off x="128520" y="1706400"/>
            <a:ext cx="4038840" cy="19306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901" name="Picture 2" descr="C:\Documents and Settings\коля\Мои документы\Мои рисунки\СЛОВА ЗЕРКАЛО.bmp"/>
          <p:cNvPicPr/>
          <p:nvPr/>
        </p:nvPicPr>
        <p:blipFill>
          <a:blip r:embed="rId2"/>
          <a:stretch/>
        </p:blipFill>
        <p:spPr>
          <a:xfrm>
            <a:off x="4856040" y="1706400"/>
            <a:ext cx="4038840" cy="2268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902" name="Picture 15" descr="ЮБ"/>
          <p:cNvPicPr/>
          <p:nvPr/>
        </p:nvPicPr>
        <p:blipFill>
          <a:blip r:embed="rId3"/>
          <a:stretch/>
        </p:blipFill>
        <p:spPr>
          <a:xfrm>
            <a:off x="1442880" y="4689360"/>
            <a:ext cx="2067120" cy="693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903" name="Picture 14" descr="ЮЮ"/>
          <p:cNvPicPr/>
          <p:nvPr/>
        </p:nvPicPr>
        <p:blipFill>
          <a:blip r:embed="rId4"/>
          <a:stretch/>
        </p:blipFill>
        <p:spPr>
          <a:xfrm>
            <a:off x="4869000" y="4527720"/>
            <a:ext cx="3456000" cy="8809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904" name="Содержимое 5" descr="GEDC0278.JPG"/>
          <p:cNvPicPr/>
          <p:nvPr/>
        </p:nvPicPr>
        <p:blipFill>
          <a:blip r:embed="rId5"/>
          <a:stretch/>
        </p:blipFill>
        <p:spPr>
          <a:xfrm>
            <a:off x="492120" y="3854520"/>
            <a:ext cx="331308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опиши буквы, получи слово», «Узнай буквы»(разные шрифты), «Элементы букв», «На какую букву похожа», «Трансформация букв»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06" name="Picture 8" descr="C:\Documents and Settings\коля\Мои документы\Мои рисунки\GEDC0277.JPG"/>
          <p:cNvPicPr/>
          <p:nvPr/>
        </p:nvPicPr>
        <p:blipFill>
          <a:blip r:embed="rId1"/>
          <a:stretch/>
        </p:blipFill>
        <p:spPr>
          <a:xfrm>
            <a:off x="3476520" y="1603440"/>
            <a:ext cx="1638360" cy="2181240"/>
          </a:xfrm>
          <a:prstGeom prst="rect">
            <a:avLst/>
          </a:prstGeom>
          <a:ln w="0">
            <a:noFill/>
          </a:ln>
        </p:spPr>
      </p:pic>
      <p:pic>
        <p:nvPicPr>
          <p:cNvPr id="907" name="Содержимое 6" descr="GEDC0269.JPG"/>
          <p:cNvPicPr/>
          <p:nvPr/>
        </p:nvPicPr>
        <p:blipFill>
          <a:blip r:embed="rId2"/>
          <a:stretch/>
        </p:blipFill>
        <p:spPr>
          <a:xfrm>
            <a:off x="5508720" y="1612800"/>
            <a:ext cx="2914560" cy="2181240"/>
          </a:xfrm>
          <a:prstGeom prst="rect">
            <a:avLst/>
          </a:prstGeom>
          <a:ln w="0">
            <a:noFill/>
          </a:ln>
        </p:spPr>
      </p:pic>
      <p:pic>
        <p:nvPicPr>
          <p:cNvPr id="908" name="Содержимое 7" descr="GEDC0280.JPG"/>
          <p:cNvPicPr/>
          <p:nvPr/>
        </p:nvPicPr>
        <p:blipFill>
          <a:blip r:embed="rId3"/>
          <a:stretch/>
        </p:blipFill>
        <p:spPr>
          <a:xfrm rot="20613000">
            <a:off x="1125360" y="438156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09" name="Содержимое 8" descr="GEDC0271.JPG"/>
          <p:cNvPicPr/>
          <p:nvPr/>
        </p:nvPicPr>
        <p:blipFill>
          <a:blip r:embed="rId4"/>
          <a:stretch/>
        </p:blipFill>
        <p:spPr>
          <a:xfrm rot="20712600">
            <a:off x="231480" y="19400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910" name="Содержимое 11" descr="GEDC0281.JPG"/>
          <p:cNvPicPr/>
          <p:nvPr/>
        </p:nvPicPr>
        <p:blipFill>
          <a:blip r:embed="rId5"/>
          <a:stretch/>
        </p:blipFill>
        <p:spPr>
          <a:xfrm rot="586200">
            <a:off x="4732200" y="421020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вед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птическая дисграф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— дисграфия, связанная с недоразвитием зрительного гнозиса, анализа, синтеза, пространственных представлений, проявляется в заменах и искажениях букв на письм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аще всего при оптической дисграфии заменяются графически сходные рукописные буквы. 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амые первые проявления данной патологии наблюдаются уже задолго до начала школьного обучения – в детском саду.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в дошкольном возрасте функции, имеющих прямое отношение к процессу письменной речи, не сформированы, то позднее это обязательно проявится в виде специфических ошибок в процессе письма и чтения.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Назови букву», «Найди правильно написанную букву», «Какого элемента не хватает»,  «Какие буквы спрятались в фигуре».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12" name="Содержимое 6" descr="GEDC0262.JPG"/>
          <p:cNvPicPr/>
          <p:nvPr/>
        </p:nvPicPr>
        <p:blipFill>
          <a:blip r:embed="rId1"/>
          <a:stretch/>
        </p:blipFill>
        <p:spPr>
          <a:xfrm>
            <a:off x="384120" y="15876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913" name="Содержимое 7" descr="GEDC0272.JPG"/>
          <p:cNvPicPr/>
          <p:nvPr/>
        </p:nvPicPr>
        <p:blipFill>
          <a:blip r:embed="rId2"/>
          <a:stretch/>
        </p:blipFill>
        <p:spPr>
          <a:xfrm>
            <a:off x="5940360" y="158436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914" name="Содержимое 8" descr="GEDC0285.JPG"/>
          <p:cNvPicPr/>
          <p:nvPr/>
        </p:nvPicPr>
        <p:blipFill>
          <a:blip r:embed="rId3"/>
          <a:stretch/>
        </p:blipFill>
        <p:spPr>
          <a:xfrm>
            <a:off x="395280" y="400536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915" name="Содержимое 9" descr="GEDC0264.JPG"/>
          <p:cNvPicPr/>
          <p:nvPr/>
        </p:nvPicPr>
        <p:blipFill>
          <a:blip r:embed="rId4"/>
          <a:stretch/>
        </p:blipFill>
        <p:spPr>
          <a:xfrm>
            <a:off x="5772240" y="4008600"/>
            <a:ext cx="2914560" cy="218124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7" descr="C:\Documents and Settings\коля\Мои документы\Мои рисунки\GEDC0268.JPG"/>
          <p:cNvPicPr/>
          <p:nvPr/>
        </p:nvPicPr>
        <p:blipFill>
          <a:blip r:embed="rId5"/>
          <a:stretch/>
        </p:blipFill>
        <p:spPr>
          <a:xfrm>
            <a:off x="3417840" y="2198520"/>
            <a:ext cx="224964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29920" y="1315800"/>
            <a:ext cx="7899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042560" y="691920"/>
            <a:ext cx="63486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Надеюсь, что предлагаемый дидактический материал пригодится вам в работе.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cc3399"/>
                </a:solidFill>
                <a:uFillTx/>
                <a:latin typeface="Times New Roman"/>
                <a:ea typeface="Times New Roman"/>
              </a:rPr>
              <a:t>Виды оптической дисграф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оптической дисграфии относится  </a:t>
            </a: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еркальное письмо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торое иногда отмечается у левшей, а также при органических поражениях мозга. Выделяют </a:t>
            </a: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теральную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форму оптической дисграфии, при которой наблюдается нарушение узнавания и воспроизведения даже изолированных букв. При </a:t>
            </a: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бальной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форме оптической дисграфии изолированные буквы воспроизводятся правильно, но при написании слова наблюдаются искажения, замены букв оптического характера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Таким образом, нарушения зрительно-пространственных функций у детей приводит к появлению целого ряда ошибок на письме</a:t>
            </a: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250560" y="1773000"/>
            <a:ext cx="8302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трудности ориентировки на листе бумаги и нахождения начала строки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замены букв по кинетическому принципу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б-д, а-о, и-у)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мешения по оптическому принципу (в-д, л-м, п-т)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едописывание элементов букв, добавление лишних элементов, неправильное расположение элементов букв относительно друг друга, зеркальное написание букв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опуски, перестановки, вставки букв и недописывание слов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есоразмерность букв, несоблюдение строки и наклон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1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чинами возникновения оптической дисграфии и дислексии могут быть трудности оптического и оптико-пространственного анализа и синтеза,  недифференцированность зрительного восприятия и памяти,  недоразвитие пространственного восприятия и пространственных представлений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1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целях профилактики нарушений письменной речи у дошкольников нужно четко определить признаки,  по которым можно предсказать неизбежность появления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граф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лексии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 детей ещё до начала их школьного обучения. Предлагаемый дидактический материал будет полезен для педагогов  дошкольного учреждения и родителей, для использования в совместной деятельности с детьми - простые игры и упражнения,  позволяющие им еще до прихода ребенка в школу устранить у него предрасположенность к нарушению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ения и письм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ажно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250920" y="981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ть и развивать зрительное восприятие и представлени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зрительный анализ и синтез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зрительно-моторные координаци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ть речевые средства, отражающие зрительно-пространственные отношени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ь дифференциации смешиваемых по оптическим признакам бук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лучшего усвоения образа букв ребенку традиционно предлагается: ощупывать, вырезать, лепить их из пластилина, обводить по контуру, писать в воздухе, определять сходство и различие оптически сходных букв и т.д.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струировать и реконструировать буквы из элементо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овать ряд упражнений по развитию зрительного, зрительно-пространственного восприятия, памяти и анализа на предметах и геометрических фигурах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одить дифференциацию букв, сходных по начертанию, в письменных упражнения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Солнце 3"/>
          <p:cNvSpPr/>
          <p:nvPr/>
        </p:nvSpPr>
        <p:spPr>
          <a:xfrm>
            <a:off x="745164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99880" y="15084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4-5 лет  </a:t>
            </a:r>
            <a:br>
              <a:rPr sz="3200"/>
            </a:b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Игры и упражн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79280" y="1504800"/>
            <a:ext cx="46800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Развитие у детей зрительного восприятия и узнавания предме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Развитие зрительного гнозиса: развитие восприятия цвета; развитие восприятия формы; развитие восприятия размера и величин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дактические игр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Найди пару»(геом. Фигуры), «Какой предмет спрятался» (зашумленные картинки), «Отгадай загадку, найди отгадку», «Соедини одинаковые снежинки»,«Найди отличия», «Дорисуй фигуру» и д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852" name="Picture 6" descr="C:\Documents and Settings\коля\Мои документы\Мои рисунки\снежинки.bmp"/>
          <p:cNvPicPr/>
          <p:nvPr/>
        </p:nvPicPr>
        <p:blipFill>
          <a:blip r:embed="rId1"/>
          <a:stretch/>
        </p:blipFill>
        <p:spPr>
          <a:xfrm>
            <a:off x="6899400" y="1504800"/>
            <a:ext cx="1704960" cy="2152800"/>
          </a:xfrm>
          <a:prstGeom prst="rect">
            <a:avLst/>
          </a:prstGeom>
          <a:ln w="9360">
            <a:solidFill>
              <a:srgbClr val="cc3399"/>
            </a:solidFill>
            <a:miter/>
          </a:ln>
        </p:spPr>
      </p:pic>
      <p:pic>
        <p:nvPicPr>
          <p:cNvPr id="853" name="Picture 7" descr="C:\Documents and Settings\коля\Мои документы\Мои рисунки\фигуры.bmp"/>
          <p:cNvPicPr/>
          <p:nvPr/>
        </p:nvPicPr>
        <p:blipFill>
          <a:blip r:embed="rId2"/>
          <a:stretch/>
        </p:blipFill>
        <p:spPr>
          <a:xfrm>
            <a:off x="5003640" y="4292640"/>
            <a:ext cx="3168720" cy="2319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54" name="Picture 8" descr="C:\Documents and Settings\коля\Мои документы\Мои рисунки\гф.bmp"/>
          <p:cNvPicPr/>
          <p:nvPr/>
        </p:nvPicPr>
        <p:blipFill>
          <a:blip r:embed="rId3"/>
          <a:stretch/>
        </p:blipFill>
        <p:spPr>
          <a:xfrm>
            <a:off x="5003640" y="1504800"/>
            <a:ext cx="1563840" cy="25196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шумленные картинки по лексическим тема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56" name="Picture 9" descr="imgpreview8"/>
          <p:cNvPicPr/>
          <p:nvPr/>
        </p:nvPicPr>
        <p:blipFill>
          <a:blip r:embed="rId1"/>
          <a:stretch/>
        </p:blipFill>
        <p:spPr>
          <a:xfrm>
            <a:off x="684360" y="1557360"/>
            <a:ext cx="2471760" cy="247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7" name="Picture 10" descr="iлев"/>
          <p:cNvPicPr/>
          <p:nvPr/>
        </p:nvPicPr>
        <p:blipFill>
          <a:blip r:embed="rId2"/>
          <a:stretch/>
        </p:blipFill>
        <p:spPr>
          <a:xfrm>
            <a:off x="5952960" y="1633680"/>
            <a:ext cx="2075040" cy="207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8" name="Picture 11" descr="iкоза"/>
          <p:cNvPicPr/>
          <p:nvPr/>
        </p:nvPicPr>
        <p:blipFill>
          <a:blip r:embed="rId3"/>
          <a:stretch/>
        </p:blipFill>
        <p:spPr>
          <a:xfrm>
            <a:off x="900000" y="4149720"/>
            <a:ext cx="1722600" cy="21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9" name="Picture 12" descr="list3"/>
          <p:cNvPicPr/>
          <p:nvPr/>
        </p:nvPicPr>
        <p:blipFill>
          <a:blip r:embed="rId4"/>
          <a:stretch/>
        </p:blipFill>
        <p:spPr>
          <a:xfrm>
            <a:off x="3419640" y="4149720"/>
            <a:ext cx="2127240" cy="2119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60" name="Picture 9" descr="i (42)"/>
          <p:cNvPicPr/>
          <p:nvPr/>
        </p:nvPicPr>
        <p:blipFill>
          <a:blip r:embed="rId5"/>
          <a:stretch/>
        </p:blipFill>
        <p:spPr>
          <a:xfrm>
            <a:off x="6018120" y="4211640"/>
            <a:ext cx="1944720" cy="1928880"/>
          </a:xfrm>
          <a:prstGeom prst="rect">
            <a:avLst/>
          </a:prstGeom>
          <a:ln w="9360">
            <a:solidFill>
              <a:srgbClr val="48432a"/>
            </a:solidFill>
            <a:miter/>
          </a:ln>
        </p:spPr>
      </p:pic>
      <p:pic>
        <p:nvPicPr>
          <p:cNvPr id="861" name="Picture 14" descr="iмедведь"/>
          <p:cNvPicPr/>
          <p:nvPr/>
        </p:nvPicPr>
        <p:blipFill>
          <a:blip r:embed="rId6"/>
          <a:stretch/>
        </p:blipFill>
        <p:spPr>
          <a:xfrm>
            <a:off x="3708360" y="1844640"/>
            <a:ext cx="1800360" cy="157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8:04:07Z</dcterms:created>
  <dc:creator>коля</dc:creator>
  <dc:description/>
  <dc:language>en-US</dc:language>
  <cp:lastModifiedBy>Пользователь</cp:lastModifiedBy>
  <dcterms:modified xsi:type="dcterms:W3CDTF">2017-09-04T10:48:06Z</dcterms:modified>
  <cp:revision>106</cp:revision>
  <dc:subject/>
  <dc:title>ПРОФИЛАКТИКА ДИСГРАФИИ У ДЕТЕЙ ДОШКОЛЬНОГО ВОЗРАСТА</dc:title>
</cp:coreProperties>
</file>