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0.png" ContentType="image/png"/>
  <Override PartName="/ppt/media/image28.png" ContentType="image/png"/>
  <Override PartName="/ppt/media/image12.png" ContentType="image/png"/>
  <Override PartName="/ppt/media/image49.jpeg" ContentType="image/jpeg"/>
  <Override PartName="/ppt/media/image36.png" ContentType="image/png"/>
  <Override PartName="/ppt/media/image10.png" ContentType="image/png"/>
  <Override PartName="/ppt/media/image40.jpeg" ContentType="image/jpeg"/>
  <Override PartName="/ppt/media/image44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48.jpeg" ContentType="image/jpeg"/>
  <Override PartName="/ppt/media/image37.png" ContentType="image/png"/>
  <Override PartName="/ppt/media/image7.png" ContentType="image/png"/>
  <Override PartName="/ppt/media/image13.png" ContentType="image/png"/>
  <Override PartName="/ppt/media/image8.jpeg" ContentType="image/jpeg"/>
  <Override PartName="/ppt/media/image39.jpeg" ContentType="image/jpeg"/>
  <Override PartName="/ppt/media/image38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010B-C323-4109-9F20-04F284D4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D153-BE6D-48B7-B6D9-FFC18905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9F6D7-1D18-4520-AEDE-63E59E26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3158B-9F15-423F-A021-2D6D4224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006C0-2453-4470-824A-0FF4B9A5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A5737-5F40-44BE-92D1-3BF868CE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0A076-0859-4801-AEAA-4953DBF6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9288D-6674-493D-A694-ED269C03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8357C-E680-4548-9AC6-84B2ABF2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66593-D106-44BC-A1A0-BD2EF318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ACD92-1956-43EC-949D-3F3EE845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1E345-6721-4F18-8F8E-5FB3A684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E99-D1FA-4A5D-B568-1F35F186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F00F4-4262-4D7A-B6E8-3B079137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54101-205D-40CB-A16F-0A63E1B9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A7975-2657-4AA2-8060-449ED251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DCB19-9294-4484-8147-36DA2AD2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273D4-6B74-4A41-9F46-9D8BB173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2F344-631F-4D53-B2D1-31177220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99E11-66D2-4F82-B9F5-52AE0CC0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E93D0-445F-4907-9CB4-E358C74E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5449C-F853-4F25-8235-D410A9F2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7700E-FE61-4205-8458-80985416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362E-4FA7-4C73-848D-D8838FF3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B62DB-1100-44DF-A11F-623459C9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130A5-9EE4-43B3-828E-FAC8BA22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5C7E8-3603-4D2F-98A4-439F68AE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DAC07-C07C-4761-8AFD-DB6E62AE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5AA12-B633-4F19-A45C-397A6EF1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3E9E6-EC5C-435A-8B20-733FC85D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B3CCA-4D37-4BAC-BE36-42F162D8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E746C-7E84-42C1-9273-FA2AAB53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252F1-A1B8-4DEB-BB5E-233857C7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561AD-05DB-44C4-8B8C-01C23850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3036-A5AF-44F7-B92B-00D1C50F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5BD0A-CB58-4528-AA20-FA325920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AB039-468F-41FB-A664-B62ABC65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DAA66-1A97-4569-B9EB-972F9059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63645-3C82-40FE-B629-E22E0CC3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8B718-B283-4871-B55B-EE472079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3D971-0781-46E0-95D0-16541E1D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CC027-5217-46B7-9E1D-73068FA7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1094B-5C74-44B8-9B30-4D74BD80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94321-1591-4660-8A8D-94A6992C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07E69-3693-4D5C-B262-E3479B38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9DDE-B2B7-4DE3-ADEB-8B21862B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E6EE1-896F-4659-BA41-0E0521F7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149A4-2BEC-4EC5-A08B-53C574C7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74CDB-7FA2-48EF-8BCB-F9DF0863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1728A-1840-4B1A-B207-0EB56B3A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49D97-9F15-4D1C-BA80-384BE4ED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94717-E85C-4E1C-B641-1DFB5C76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683ED-0FF6-47A8-902F-415EB8DF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6AB597-C3EC-4B24-9045-C382F595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586986-E84B-468F-B105-FBE2C6F1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EBFB4-E02B-4A11-B874-2569093F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68EA-7306-4FA6-93E8-F3DDADB6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720D37-C760-4B22-A633-08F8FE31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16244-F935-4523-AD6E-ABF86B7C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6BBF4-2E24-4880-89A3-9C37E8B3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870615-9337-4935-8768-9B6439D5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B06CA-457B-4F90-88C5-20797443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2651DF-7E04-4D55-982A-AB58130D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343AA-B1AC-4F24-A3FD-0ADB9D1A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23BD43-0C44-4FA8-80A4-5E9B5B77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F47EA2-6F1F-4FE3-800F-6EEDD653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8BF9F4-62E7-4A52-8FC8-D9A192A3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99B1-A087-4E00-B1E9-FB44BB57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224326-FF26-4D98-A4E8-F9FD0B10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41229E-8433-4EEC-BAD4-97BBFFFB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F6368C-8378-4954-9456-B2AD4333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2EB3A5-18FB-4ECC-8999-B6355B0A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B7B0F4-A5A9-4CFC-ADF9-071B1F2F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71B0E-C59D-4AB7-BB62-AF812DA6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3AA246-CD07-47E8-AA86-8C1EA3F8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2555CF-CF41-4D3E-A166-A0881323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73E574-581B-4DDE-AEB1-46B0648E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737CBD-7281-4BBB-98A8-31DCE0E9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EFE1-18BD-4CEB-9067-749F64E2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9376C7-0BB5-4202-9283-FA58D5E6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934DDB-9AF8-4641-95B8-17AD2C05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810697-4916-4F92-9A66-8162BB5F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BAED37-E2DE-4443-8190-E821D8F9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9C0A39-E0C9-4762-8A13-1FDBF51D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92B4D5-AE6C-442E-8D80-09021824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BAE1A3-D939-4AC6-B230-5B529521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BC7170-B151-41D5-B3FB-7BDA65D0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F1A7B1-6E7E-4EC0-B560-02669C94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F46ECE-23DA-419F-9D4F-0B066595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BBD2-48CD-4785-9244-6E5AE1DE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B2DAC8-1CA8-46D5-844C-593E1538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A6ADFC-CEB7-4D67-B2D8-6B79A389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7B67BF-ECB4-4F5B-AB9F-4407CEFB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F1DFDF-4A66-4CF5-AD2F-45821E3A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530653-DF25-478C-978A-10EE3B50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744585-DE44-42C2-BA00-8B551928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E2A460-A544-4AE5-B06A-3CD7B4CB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630D5D-D3B5-4823-AC65-3FD9F5B0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E55F53-0B15-4571-B733-310E11B5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0030B7-2002-4C8A-ADA0-E3901EF7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422C-B3F8-452A-B4A9-1701CC8B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DFE0DB-573D-4E95-A873-B6DF4F2E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B18FB9-2134-4B7C-A18B-49DBA606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7BC295-1A55-4539-A6C5-F7DEE587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E433-BDF8-41EF-9621-C3918F7F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1CC2-386D-4965-BFE2-F6343D08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CC8A-73A2-4A58-8660-9F145E8D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5DC2-FEF3-488F-A65C-37D79DBA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E0F4-CAE6-427A-8A39-9FC95567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523C-73BA-4097-B157-40D51BA3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938A9-5567-47B3-A2F9-E011DFC6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132D4-213C-4CB4-AC1B-36FFB94E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78E87-DCA1-42CC-B3E2-348EE283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12557-8D2D-40DF-A9E7-0C7CECA4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6E8A1-3D00-4796-BFAD-9DF22B0A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1A42-A2DB-4CB9-8DBE-0AB10307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8B5A5-9C82-4AE6-A077-3BE57515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AC555-BE33-4205-B76E-32E2ED43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46F75-1C54-4068-BC9C-CD6DBE6E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10635-B5E8-4ADE-A972-C37D895F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37C6E-3B92-409F-81A9-13ED19FD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E5548-33CA-448F-9C32-71BAE985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1F75D-94DB-488D-BD0C-F5C34D70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B2B96-6BB6-410E-AD93-F7448FFE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1CA4F-4BB3-4110-9FCC-962D3CAA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CE496-B8AB-4422-BE38-305D1447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74A-CC7B-412F-81E4-2FC9D5B8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6FE30-8835-40D8-8BEA-04D5DB07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01522-055E-4841-9761-4A9D39E4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1AF65-135E-4D99-9D6F-3B030354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4CDEB-BED2-434E-B6A3-04D27E11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9C7B5-E9C3-4E80-87B5-B7240BD4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57A89-5053-4AB3-B91F-9DCA1AF4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35357-D56B-4480-B349-6EE74749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60B4B-101B-42F1-9262-8E417CB9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8D949-772D-43C4-8778-47A7EC8D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D6362-4EF5-4AD1-B789-D15D4F81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5686-C2AC-4701-B80D-BB33A12E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F0CED-2647-46C5-B970-2E3EC36C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67CFD-FA02-4AA2-8426-49E826A1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C22C1-22ED-441F-8343-703C8B8F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BE002-737D-43C6-81E9-99D55F77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E2F3A-8DE9-4107-9E32-8DE51DEB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D16DD-B5DF-44FB-A6F3-BA59B835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4C9FA-57F7-444D-83BC-727D801C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8276E-A51C-4306-BAC2-706EA169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1D094-FA61-4F30-BE58-3467AC06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03D5E-9D30-41E9-83AC-0AB78E82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04D4-9B89-4C59-A719-508902F2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77069-B80F-4754-8AC7-9470140F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C07E2-6FC1-4541-9A0B-26493A5A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BE54B-A0FF-4837-B498-302EA3CA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6CE71-A6F0-4BD4-B595-2C940FFD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0E36B-1B58-4800-BCE5-4945C236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13A29-D165-4931-B7A7-A210DF7C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FD9ED-5F75-46E4-9BB8-EF03A8D3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43687-BCE2-4EC5-827E-D8558ECF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C51F0-3490-433D-ACC7-4285152E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8E824-62AD-40A5-9EAA-E99F5E4E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9964-B48B-4315-A8A5-44916C97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E812B-31B0-4157-A8C4-C1FCBC12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0294F-EAA6-44E0-B0D9-FDB0F4C8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86814-AE0D-4DEF-918C-2D295335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C7397-9EED-4E86-B830-A5CDE3F3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28930-3BC2-427D-AE4C-C8EC0AF0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8FB9B-68A0-4665-80D5-3CAADE4B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56143-873D-414E-B3FD-8C24E373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0C732-3EBA-45D2-B775-76E2652A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0AA88-7E0E-4648-8E19-57829478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8221C-3773-4DE2-9607-65F8BFDA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22D4-A97B-4DB3-A86A-64532372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C3F44-960B-4ECB-B52C-4FC29EFA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739D3-E109-4CAE-9BCB-B6D137CF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86EE4-90D9-413F-9DA1-147D5C29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956D5-7B01-4499-B2E9-4C57F2DB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9A2FF-3BAA-480C-B325-3684C6CA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16DCD-46B4-45EE-B2AB-2A550F9D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85587-7AD2-415E-BBD2-4806D717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3E5F6-C600-40C6-8586-F0AF57CC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5D543-1858-4D22-AE7E-E56E90D5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0BBD4-A436-4D17-9A83-F76EF73C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B932-1469-4C64-9CB8-4BAE8390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06952-2CC6-4211-8198-87EBE46E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F640F-3F87-4B6B-A32B-CE185935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D88F5-7386-4A4F-BF18-6B16E097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C31E9-86BB-4986-9550-EE6B1951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AECB7-957B-4A20-8C90-0B0E8F4C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85CB0-C134-4399-8964-44FC241C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0941B-1397-424D-94FE-27AC4008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89D4C-272C-49DE-8671-C72A2DC8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044E0-555A-4709-ADC5-D9E64AEC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68561-B03B-4DDB-A930-FA738007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741C-9BD4-4A63-BDA5-E2AE09C6161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6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65F7-3EFF-435B-8508-FCB3FC1282E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2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36D9-869F-431B-BC3A-6349717219E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7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3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3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3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1530-812E-4F78-A68D-AB874D7C81E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2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3732-2A71-4241-868A-B64B0D1C12C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8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4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4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2419-1F7F-49F3-A324-87BD27D5E52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3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9EFC-ED14-45C0-B285-AEBF3C31727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8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4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4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3F0B-6818-4123-8F26-6E0B35951A4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CCD1-807D-491C-B7E9-E8CEAA613A2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C1E8-549A-4A43-AB6A-C8A43708FE7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5927-B92B-4D15-BFE2-220C02CDF43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5DEB-E9D7-425C-AF61-45BBF0D0D7F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2465-9B58-4A3C-90DB-3EABBFC5503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AA3B-1079-4D9F-AC30-90B95D90153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69D1-E6B0-47C1-9B04-1AB2CEDA8EC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1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1093-15CB-41FF-8D50-4F871C6253B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Дидактические игры и упражнения для профилактики дисграфии у детей дошкольного возраста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«Назови предметы по их контурам», «Расположи предметы по величине», «Найди правильную тень предмета», «Найди одинаковые тени»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863" name="Содержимое 10" descr="бабочки.bmp"/>
          <p:cNvPicPr/>
          <p:nvPr/>
        </p:nvPicPr>
        <p:blipFill>
          <a:blip r:embed="rId1"/>
          <a:stretch/>
        </p:blipFill>
        <p:spPr>
          <a:xfrm>
            <a:off x="2195640" y="2454120"/>
            <a:ext cx="4038480" cy="109404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864" name="Содержимое 13" descr="лошади6.bmp"/>
          <p:cNvPicPr/>
          <p:nvPr/>
        </p:nvPicPr>
        <p:blipFill>
          <a:blip r:embed="rId2"/>
          <a:stretch/>
        </p:blipFill>
        <p:spPr>
          <a:xfrm rot="21040800">
            <a:off x="498600" y="3885840"/>
            <a:ext cx="2116080" cy="2405160"/>
          </a:xfrm>
          <a:prstGeom prst="rect">
            <a:avLst/>
          </a:prstGeom>
          <a:ln w="9360">
            <a:solidFill>
              <a:srgbClr val="55a839"/>
            </a:solidFill>
            <a:miter/>
          </a:ln>
        </p:spPr>
      </p:pic>
      <p:pic>
        <p:nvPicPr>
          <p:cNvPr id="865" name="Содержимое 14" descr="слоны.bmp"/>
          <p:cNvPicPr/>
          <p:nvPr/>
        </p:nvPicPr>
        <p:blipFill>
          <a:blip r:embed="rId3"/>
          <a:stretch/>
        </p:blipFill>
        <p:spPr>
          <a:xfrm rot="21051000">
            <a:off x="6210360" y="3904920"/>
            <a:ext cx="2411280" cy="2692440"/>
          </a:xfrm>
          <a:prstGeom prst="rect">
            <a:avLst/>
          </a:prstGeom>
          <a:ln w="9360">
            <a:solidFill>
              <a:srgbClr val="cc3399"/>
            </a:solidFill>
            <a:miter/>
          </a:ln>
        </p:spPr>
      </p:pic>
      <p:pic>
        <p:nvPicPr>
          <p:cNvPr id="866" name="Picture 10" descr="CCI13112011_00000"/>
          <p:cNvPicPr/>
          <p:nvPr/>
        </p:nvPicPr>
        <p:blipFill>
          <a:blip r:embed="rId4"/>
          <a:stretch/>
        </p:blipFill>
        <p:spPr>
          <a:xfrm rot="4712400">
            <a:off x="3253680" y="3933720"/>
            <a:ext cx="2297160" cy="23036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«</a:t>
            </a:r>
            <a:r>
              <a:rPr b="0" i="1" lang="ru-RU" sz="36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Дорисуй</a:t>
            </a:r>
            <a:r>
              <a:rPr b="0" i="1" lang="ru-RU" sz="3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 половинку»,«Чего не хватает?», «Кто это? Дорисуй»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868" name="Содержимое 6" descr="GEDC0266.JPG"/>
          <p:cNvPicPr/>
          <p:nvPr/>
        </p:nvPicPr>
        <p:blipFill>
          <a:blip r:embed="rId1"/>
          <a:stretch/>
        </p:blipFill>
        <p:spPr>
          <a:xfrm>
            <a:off x="3294000" y="1611360"/>
            <a:ext cx="1851120" cy="2189160"/>
          </a:xfrm>
          <a:prstGeom prst="rect">
            <a:avLst/>
          </a:prstGeom>
          <a:ln w="0">
            <a:noFill/>
          </a:ln>
        </p:spPr>
      </p:pic>
      <p:pic>
        <p:nvPicPr>
          <p:cNvPr id="869" name="Содержимое 7" descr="GEDC0267.JPG"/>
          <p:cNvPicPr/>
          <p:nvPr/>
        </p:nvPicPr>
        <p:blipFill>
          <a:blip r:embed="rId2"/>
          <a:stretch/>
        </p:blipFill>
        <p:spPr>
          <a:xfrm>
            <a:off x="193680" y="1611360"/>
            <a:ext cx="2709720" cy="3294000"/>
          </a:xfrm>
          <a:prstGeom prst="rect">
            <a:avLst/>
          </a:prstGeom>
          <a:ln w="0">
            <a:noFill/>
          </a:ln>
        </p:spPr>
      </p:pic>
      <p:pic>
        <p:nvPicPr>
          <p:cNvPr id="870" name="Содержимое 10" descr="ЧАСТИ.JPG"/>
          <p:cNvPicPr/>
          <p:nvPr/>
        </p:nvPicPr>
        <p:blipFill>
          <a:blip r:embed="rId3"/>
          <a:stretch/>
        </p:blipFill>
        <p:spPr>
          <a:xfrm>
            <a:off x="5927760" y="1612800"/>
            <a:ext cx="2759040" cy="3183120"/>
          </a:xfrm>
          <a:prstGeom prst="rect">
            <a:avLst/>
          </a:prstGeom>
          <a:ln w="9360">
            <a:solidFill>
              <a:srgbClr val="004e6d"/>
            </a:solidFill>
            <a:miter/>
          </a:ln>
        </p:spPr>
      </p:pic>
      <p:pic>
        <p:nvPicPr>
          <p:cNvPr id="871" name="Picture 12" descr="iматрешка"/>
          <p:cNvPicPr/>
          <p:nvPr/>
        </p:nvPicPr>
        <p:blipFill>
          <a:blip r:embed="rId4"/>
          <a:stretch/>
        </p:blipFill>
        <p:spPr>
          <a:xfrm>
            <a:off x="3390840" y="4390920"/>
            <a:ext cx="1657440" cy="1258920"/>
          </a:xfrm>
          <a:prstGeom prst="rect">
            <a:avLst/>
          </a:prstGeom>
          <a:ln w="9360">
            <a:solidFill>
              <a:srgbClr val="000000"/>
            </a:solidFill>
            <a:prstDash val="lgDashDot"/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115560"/>
            <a:ext cx="7418520" cy="16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Дифференциация правых и левых частей тела, ориентировка в окружающем пространстве относительно себя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468000" y="1915920"/>
            <a:ext cx="8064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казать правую, левую руку, как называются руки (правая, левая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казать карандаш правой рукой, левой рукой; взять книгу правой рукой, - левой руко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казать левой рукой правый глаз, правое ухо, левую ногу; правой рукой показать левое ухо, правую ногу; показать правые и левые части тела у  человека, сидящего напроти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пространственного положения предметов, находящихся сбоку от ребенка: «Покажи, какой предмет находится справа от тебя» и т.д.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алее представления закрепляются в речи: «Где находится книга (карандаш, ручка)?»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пространственных соотношений между 2-3 предметами и их изображения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28760" y="-100440"/>
            <a:ext cx="8229600" cy="15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0" i="1" lang="ru-RU" sz="2800" spc="-1" strike="noStrike" u="sng">
                <a:solidFill>
                  <a:srgbClr val="cc3399"/>
                </a:solidFill>
                <a:uFillTx/>
                <a:latin typeface="Times New Roman"/>
                <a:ea typeface="Times New Roman"/>
              </a:rPr>
              <a:t>Определение пространственного расположения предметов</a:t>
            </a:r>
            <a:br>
              <a:rPr sz="2800"/>
            </a:br>
            <a:r>
              <a:rPr b="0" i="1" lang="ru-RU" sz="2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«Какой дом справа, слева?»«Какой транспорт едет направо, а какой налево?», «Кто находится справа, кто слева ото льва?» (можно сделать по темам), «Кто где находится?» и др.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875" name="Picture 3" descr="C:\Documents and Settings\коля\Мои документы\Мои рисунки\дома.bmp"/>
          <p:cNvPicPr/>
          <p:nvPr/>
        </p:nvPicPr>
        <p:blipFill>
          <a:blip r:embed="rId1"/>
          <a:stretch/>
        </p:blipFill>
        <p:spPr>
          <a:xfrm>
            <a:off x="298440" y="2192400"/>
            <a:ext cx="4038480" cy="215100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876" name="Содержимое 9" descr="транспорт.bmp"/>
          <p:cNvPicPr/>
          <p:nvPr/>
        </p:nvPicPr>
        <p:blipFill>
          <a:blip r:embed="rId2"/>
          <a:stretch/>
        </p:blipFill>
        <p:spPr>
          <a:xfrm>
            <a:off x="5292720" y="2192400"/>
            <a:ext cx="2841480" cy="2189160"/>
          </a:xfrm>
          <a:prstGeom prst="rect">
            <a:avLst/>
          </a:prstGeom>
          <a:ln w="9360">
            <a:solidFill>
              <a:srgbClr val="07878d"/>
            </a:solidFill>
            <a:miter/>
          </a:ln>
        </p:spPr>
      </p:pic>
      <p:pic>
        <p:nvPicPr>
          <p:cNvPr id="877" name="Picture 2" descr="C:\Documents and Settings\коля\Мои документы\Мои рисунки\зоопарк.bmp"/>
          <p:cNvPicPr/>
          <p:nvPr/>
        </p:nvPicPr>
        <p:blipFill>
          <a:blip r:embed="rId3"/>
          <a:stretch/>
        </p:blipFill>
        <p:spPr>
          <a:xfrm>
            <a:off x="3780000" y="4581360"/>
            <a:ext cx="4038480" cy="13431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878" name="Содержимое 12" descr="гриб.bmp"/>
          <p:cNvPicPr/>
          <p:nvPr/>
        </p:nvPicPr>
        <p:blipFill>
          <a:blip r:embed="rId4"/>
          <a:stretch/>
        </p:blipFill>
        <p:spPr>
          <a:xfrm>
            <a:off x="328680" y="4581360"/>
            <a:ext cx="3152880" cy="2189160"/>
          </a:xfrm>
          <a:prstGeom prst="rect">
            <a:avLst/>
          </a:prstGeom>
          <a:ln w="9360">
            <a:solidFill>
              <a:srgbClr val="55a839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Ориентировка на листе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5087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ложи круг в правом верхнем углу, слева от него крестик, в нижнем левом углу квадрат и т. д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Графические диктанты» – Нарисуй в центре листа треугольник , справа от него нарисуй круг, слева от треугольника – ромб и т.д. (сверху, снизу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риентировка на листе в клеточку: «Нарисуй такую же фигуру», «Графические диктанты в клеточку», «Зеркало» (дорисуй другую половинку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881" name="Содержимое 6" descr="утка в клетку.bmp"/>
          <p:cNvPicPr/>
          <p:nvPr/>
        </p:nvPicPr>
        <p:blipFill>
          <a:blip r:embed="rId1"/>
          <a:stretch/>
        </p:blipFill>
        <p:spPr>
          <a:xfrm>
            <a:off x="5724360" y="1844640"/>
            <a:ext cx="1649520" cy="13129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882" name="Picture 6" descr="C:\Documents and Settings\коля\Мои документы\Мои рисунки\в клетку.bmp"/>
          <p:cNvPicPr/>
          <p:nvPr/>
        </p:nvPicPr>
        <p:blipFill>
          <a:blip r:embed="rId2"/>
          <a:stretch/>
        </p:blipFill>
        <p:spPr>
          <a:xfrm>
            <a:off x="5651640" y="3500280"/>
            <a:ext cx="2058840" cy="19418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1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i="1" lang="ru-RU" sz="40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6-7 лет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468000" y="1052640"/>
            <a:ext cx="849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Развитие буквенного гнозис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тие восприятия цвета букв; развитие восприятия формы, размера и величины предметов и букв; дифференциация расположения элементов бук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дактические игры: «Какая буква спряталась», «Допиши букву», «Выбери правильно написанную букву»,  «Разбери кучу малу», и д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Развитие зрительного анализа и синтеза</a:t>
            </a: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Уточнение и расширение объёма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рительной памяти (зрительного мнезиса)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развитие запоминания формы предмето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развитие запоминания цвета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тие запоминания последовательности и количества букв и предметов (вначале проводим работу по  развитию зрительной памяти,  рассматривая предметы, потом - геометрические фигуры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лишь затем - буквы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Зашумленные буквы, наложенные друг на друга, буквы, спрятанные за предметами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886" name="Picture 9" descr="C:\Documents and Settings\коля\Мои документы\Мои рисунки\ЗАШУМЛ.bmp"/>
          <p:cNvPicPr/>
          <p:nvPr/>
        </p:nvPicPr>
        <p:blipFill>
          <a:blip r:embed="rId1"/>
          <a:stretch/>
        </p:blipFill>
        <p:spPr>
          <a:xfrm>
            <a:off x="826920" y="1557360"/>
            <a:ext cx="3024360" cy="20034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887" name="Picture 8" descr="C:\Documents and Settings\коля\Мои документы\Мои рисунки\БУКВЫ РАЗНЫЕ.bmp"/>
          <p:cNvPicPr/>
          <p:nvPr/>
        </p:nvPicPr>
        <p:blipFill>
          <a:blip r:embed="rId2"/>
          <a:stretch/>
        </p:blipFill>
        <p:spPr>
          <a:xfrm>
            <a:off x="4427640" y="1392120"/>
            <a:ext cx="3384360" cy="233388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888" name="Picture 10" descr="БУКВЫ-звери"/>
          <p:cNvPicPr/>
          <p:nvPr/>
        </p:nvPicPr>
        <p:blipFill>
          <a:blip r:embed="rId3"/>
          <a:stretch/>
        </p:blipFill>
        <p:spPr>
          <a:xfrm>
            <a:off x="1322280" y="3803760"/>
            <a:ext cx="2033640" cy="26924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889" name="Picture 12" descr="буквы жив"/>
          <p:cNvPicPr/>
          <p:nvPr/>
        </p:nvPicPr>
        <p:blipFill>
          <a:blip r:embed="rId4"/>
          <a:stretch/>
        </p:blipFill>
        <p:spPr>
          <a:xfrm>
            <a:off x="5435640" y="3867120"/>
            <a:ext cx="1703520" cy="2565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«Расшифруй слово», «Пирамидка</a:t>
            </a:r>
            <a:r>
              <a:rPr b="0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» </a:t>
            </a:r>
            <a:br>
              <a:rPr sz="2400"/>
            </a:br>
            <a:r>
              <a:rPr b="0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(разложи по величине и прочти слово)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891" name="Содержимое 8" descr="слова б.bmp"/>
          <p:cNvPicPr/>
          <p:nvPr/>
        </p:nvPicPr>
        <p:blipFill>
          <a:blip r:embed="rId1"/>
          <a:stretch/>
        </p:blipFill>
        <p:spPr>
          <a:xfrm>
            <a:off x="223920" y="1413000"/>
            <a:ext cx="2409840" cy="24476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sp>
        <p:nvSpPr>
          <p:cNvPr id="892" name=""/>
          <p:cNvSpPr txBox="1"/>
          <p:nvPr/>
        </p:nvSpPr>
        <p:spPr>
          <a:xfrm>
            <a:off x="2916360" y="1412640"/>
            <a:ext cx="32400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ашина     Жук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ок              Жаб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т             Луж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ук            Жакет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893" name="Picture 11" descr="Ж"/>
          <p:cNvPicPr/>
          <p:nvPr/>
        </p:nvPicPr>
        <p:blipFill>
          <a:blip r:embed="rId2"/>
          <a:stretch/>
        </p:blipFill>
        <p:spPr>
          <a:xfrm>
            <a:off x="5349960" y="1413000"/>
            <a:ext cx="24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4" name="Picture 14" descr=""/>
          <p:cNvPicPr/>
          <p:nvPr/>
        </p:nvPicPr>
        <p:blipFill>
          <a:blip r:embed="rId3"/>
          <a:stretch/>
        </p:blipFill>
        <p:spPr>
          <a:xfrm>
            <a:off x="531720" y="3925800"/>
            <a:ext cx="1778040" cy="237672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15" descr=""/>
          <p:cNvPicPr/>
          <p:nvPr/>
        </p:nvPicPr>
        <p:blipFill>
          <a:blip r:embed="rId4"/>
          <a:stretch/>
        </p:blipFill>
        <p:spPr>
          <a:xfrm>
            <a:off x="2340000" y="4005360"/>
            <a:ext cx="1571760" cy="208908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16" descr=""/>
          <p:cNvPicPr/>
          <p:nvPr/>
        </p:nvPicPr>
        <p:blipFill>
          <a:blip r:embed="rId5"/>
          <a:stretch/>
        </p:blipFill>
        <p:spPr>
          <a:xfrm>
            <a:off x="3924360" y="4149720"/>
            <a:ext cx="1344600" cy="183024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17" descr=""/>
          <p:cNvPicPr/>
          <p:nvPr/>
        </p:nvPicPr>
        <p:blipFill>
          <a:blip r:embed="rId6"/>
          <a:stretch/>
        </p:blipFill>
        <p:spPr>
          <a:xfrm>
            <a:off x="5364000" y="4292640"/>
            <a:ext cx="1319400" cy="1739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18" descr=""/>
          <p:cNvPicPr/>
          <p:nvPr/>
        </p:nvPicPr>
        <p:blipFill>
          <a:blip r:embed="rId7"/>
          <a:stretch/>
        </p:blipFill>
        <p:spPr>
          <a:xfrm>
            <a:off x="6732720" y="4437000"/>
            <a:ext cx="1172880" cy="14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«Зачеркни неправильно написанные буквы, прочти слово», ребус «Прочти наоборот», «Слово стерлось», «Слово растаяло», «Что за буква», «Допиши буквы, прочти            слово»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900" name="Picture 7" descr="C:\Documents and Settings\коля\Мои документы\Мои рисунки\СЛОВА С.bmp"/>
          <p:cNvPicPr/>
          <p:nvPr/>
        </p:nvPicPr>
        <p:blipFill>
          <a:blip r:embed="rId1"/>
          <a:stretch/>
        </p:blipFill>
        <p:spPr>
          <a:xfrm>
            <a:off x="128520" y="1706400"/>
            <a:ext cx="4038840" cy="193068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901" name="Picture 2" descr="C:\Documents and Settings\коля\Мои документы\Мои рисунки\СЛОВА ЗЕРКАЛО.bmp"/>
          <p:cNvPicPr/>
          <p:nvPr/>
        </p:nvPicPr>
        <p:blipFill>
          <a:blip r:embed="rId2"/>
          <a:stretch/>
        </p:blipFill>
        <p:spPr>
          <a:xfrm>
            <a:off x="4856040" y="1706400"/>
            <a:ext cx="4038840" cy="22687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902" name="Picture 15" descr="ЮБ"/>
          <p:cNvPicPr/>
          <p:nvPr/>
        </p:nvPicPr>
        <p:blipFill>
          <a:blip r:embed="rId3"/>
          <a:stretch/>
        </p:blipFill>
        <p:spPr>
          <a:xfrm>
            <a:off x="1442880" y="4689360"/>
            <a:ext cx="2067120" cy="6937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903" name="Picture 14" descr="ЮЮ"/>
          <p:cNvPicPr/>
          <p:nvPr/>
        </p:nvPicPr>
        <p:blipFill>
          <a:blip r:embed="rId4"/>
          <a:stretch/>
        </p:blipFill>
        <p:spPr>
          <a:xfrm>
            <a:off x="4869000" y="4527720"/>
            <a:ext cx="3456000" cy="8809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904" name="Содержимое 5" descr="GEDC0278.JPG"/>
          <p:cNvPicPr/>
          <p:nvPr/>
        </p:nvPicPr>
        <p:blipFill>
          <a:blip r:embed="rId5"/>
          <a:stretch/>
        </p:blipFill>
        <p:spPr>
          <a:xfrm>
            <a:off x="492120" y="3854520"/>
            <a:ext cx="3313080" cy="24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«</a:t>
            </a:r>
            <a:r>
              <a:rPr b="0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Допиши буквы, получи слово», «Узнай буквы»(разные шрифты), «Элементы букв», «На какую букву похожа», «Трансформация букв»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906" name="Picture 8" descr="C:\Documents and Settings\коля\Мои документы\Мои рисунки\GEDC0277.JPG"/>
          <p:cNvPicPr/>
          <p:nvPr/>
        </p:nvPicPr>
        <p:blipFill>
          <a:blip r:embed="rId1"/>
          <a:stretch/>
        </p:blipFill>
        <p:spPr>
          <a:xfrm>
            <a:off x="3476520" y="1603440"/>
            <a:ext cx="1638360" cy="2181240"/>
          </a:xfrm>
          <a:prstGeom prst="rect">
            <a:avLst/>
          </a:prstGeom>
          <a:ln w="0">
            <a:noFill/>
          </a:ln>
        </p:spPr>
      </p:pic>
      <p:pic>
        <p:nvPicPr>
          <p:cNvPr id="907" name="Содержимое 6" descr="GEDC0269.JPG"/>
          <p:cNvPicPr/>
          <p:nvPr/>
        </p:nvPicPr>
        <p:blipFill>
          <a:blip r:embed="rId2"/>
          <a:stretch/>
        </p:blipFill>
        <p:spPr>
          <a:xfrm>
            <a:off x="5508720" y="1612800"/>
            <a:ext cx="2914560" cy="2181240"/>
          </a:xfrm>
          <a:prstGeom prst="rect">
            <a:avLst/>
          </a:prstGeom>
          <a:ln w="0">
            <a:noFill/>
          </a:ln>
        </p:spPr>
      </p:pic>
      <p:pic>
        <p:nvPicPr>
          <p:cNvPr id="908" name="Содержимое 7" descr="GEDC0280.JPG"/>
          <p:cNvPicPr/>
          <p:nvPr/>
        </p:nvPicPr>
        <p:blipFill>
          <a:blip r:embed="rId3"/>
          <a:stretch/>
        </p:blipFill>
        <p:spPr>
          <a:xfrm rot="20613000">
            <a:off x="1125360" y="438156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909" name="Содержимое 8" descr="GEDC0271.JPG"/>
          <p:cNvPicPr/>
          <p:nvPr/>
        </p:nvPicPr>
        <p:blipFill>
          <a:blip r:embed="rId4"/>
          <a:stretch/>
        </p:blipFill>
        <p:spPr>
          <a:xfrm rot="20712600">
            <a:off x="231480" y="194004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910" name="Содержимое 11" descr="GEDC0281.JPG"/>
          <p:cNvPicPr/>
          <p:nvPr/>
        </p:nvPicPr>
        <p:blipFill>
          <a:blip r:embed="rId5"/>
          <a:stretch/>
        </p:blipFill>
        <p:spPr>
          <a:xfrm rot="586200">
            <a:off x="4732200" y="4210200"/>
            <a:ext cx="291960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Введен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96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Оптическая дисграф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— дисграфия, связанная с недоразвитием зрительного гнозиса, анализа, синтеза, пространственных представлений, проявляется в заменах и искажениях букв на письме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аще всего при оптической дисграфии заменяются графически сходные рукописные буквы. 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амые первые проявления данной патологии наблюдаются уже задолго до начала школьного обучения – в детском саду.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в дошкольном возрасте функции, имеющих прямое отношение к процессу письменной речи, не сформированы, то позднее это обязательно проявится в виде специфических ошибок в процессе письма и чтения.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«Назови букву», «Найди правильно написанную букву», «Какого элемента не хватает»,  «Какие буквы спрятались в фигуре». 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912" name="Содержимое 6" descr="GEDC0262.JPG"/>
          <p:cNvPicPr/>
          <p:nvPr/>
        </p:nvPicPr>
        <p:blipFill>
          <a:blip r:embed="rId1"/>
          <a:stretch/>
        </p:blipFill>
        <p:spPr>
          <a:xfrm>
            <a:off x="384120" y="158760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913" name="Содержимое 7" descr="GEDC0272.JPG"/>
          <p:cNvPicPr/>
          <p:nvPr/>
        </p:nvPicPr>
        <p:blipFill>
          <a:blip r:embed="rId2"/>
          <a:stretch/>
        </p:blipFill>
        <p:spPr>
          <a:xfrm>
            <a:off x="5940360" y="158436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914" name="Содержимое 8" descr="GEDC0285.JPG"/>
          <p:cNvPicPr/>
          <p:nvPr/>
        </p:nvPicPr>
        <p:blipFill>
          <a:blip r:embed="rId3"/>
          <a:stretch/>
        </p:blipFill>
        <p:spPr>
          <a:xfrm>
            <a:off x="395280" y="400536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915" name="Содержимое 9" descr="GEDC0264.JPG"/>
          <p:cNvPicPr/>
          <p:nvPr/>
        </p:nvPicPr>
        <p:blipFill>
          <a:blip r:embed="rId4"/>
          <a:stretch/>
        </p:blipFill>
        <p:spPr>
          <a:xfrm>
            <a:off x="5772240" y="4008600"/>
            <a:ext cx="2914560" cy="218124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7" descr="C:\Documents and Settings\коля\Мои документы\Мои рисунки\GEDC0268.JPG"/>
          <p:cNvPicPr/>
          <p:nvPr/>
        </p:nvPicPr>
        <p:blipFill>
          <a:blip r:embed="rId5"/>
          <a:stretch/>
        </p:blipFill>
        <p:spPr>
          <a:xfrm>
            <a:off x="3417840" y="2198520"/>
            <a:ext cx="2249640" cy="31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29920" y="1315800"/>
            <a:ext cx="7899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042560" y="691920"/>
            <a:ext cx="6348600" cy="19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Надеюсь, что предлагаемый дидактический материал пригодится вам в работе. 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Желаю удачи!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 u="sng">
                <a:solidFill>
                  <a:srgbClr val="cc3399"/>
                </a:solidFill>
                <a:uFillTx/>
                <a:latin typeface="Times New Roman"/>
                <a:ea typeface="Times New Roman"/>
              </a:rPr>
              <a:t>Виды оптической дисграфи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 оптической дисграфии относится  </a:t>
            </a:r>
            <a:r>
              <a:rPr b="1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еркальное письмо</a:t>
            </a: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которое иногда отмечается у левшей, а также при органических поражениях мозга. Выделяют </a:t>
            </a:r>
            <a:r>
              <a:rPr b="1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итеральную</a:t>
            </a: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форму оптической дисграфии, при которой наблюдается нарушение узнавания и воспроизведения даже изолированных букв. При </a:t>
            </a:r>
            <a:r>
              <a:rPr b="1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рбальной</a:t>
            </a: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форме оптической дисграфии изолированные буквы воспроизводятся правильно, но при написании слова наблюдаются искажения, замены букв оптического характера.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Таким образом, нарушения зрительно-пространственных функций у детей приводит к появлению целого ряда ошибок на письме</a:t>
            </a:r>
            <a:r>
              <a:rPr b="1" i="1" lang="ru-RU" sz="3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250560" y="1773000"/>
            <a:ext cx="83026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трудности ориентировки на листе бумаги и нахождения начала строки;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замены букв по кинетическому принципу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б-д, а-о, и-у);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смешения по оптическому принципу (в-д, л-м, п-т);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недописывание элементов букв, добавление лишних элементов, неправильное расположение элементов букв относительно друг друга, зеркальное написание букв;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ропуски, перестановки, вставки букв и недописывание слов;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несоразмерность букв, несоблюдение строки и наклона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1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чинами возникновения оптической дисграфии и дислексии могут быть трудности оптического и оптико-пространственного анализа и синтеза,  недифференцированность зрительного восприятия и памяти,  недоразвитие пространственного восприятия и пространственных представлений.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1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целях профилактики нарушений письменной речи у дошкольников нужно четко определить признаки,  по которым можно предсказать неизбежность появления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сграфи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слексии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 детей ещё до начала их школьного обучения. Предлагаемый дидактический материал будет полезен для педагогов  дошкольного учреждения и родителей, для использования в совместной деятельности с детьми - простые игры и упражнения,  позволяющие им еще до прихода ребенка в школу устранить у него предрасположенность к нарушению </a:t>
            </a:r>
            <a:r>
              <a:rPr b="1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ения и письма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Важно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250920" y="981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ормировать и развивать зрительное восприятие и представления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вать зрительный анализ и синтез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вать зрительно-моторные координаци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ормировать речевые средства, отражающие зрительно-пространственные отношения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ь дифференциации смешиваемых по оптическим признакам букв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лучшего усвоения образа букв ребенку традиционно предлагается: ощупывать, вырезать, лепить их из пластилина, обводить по контуру, писать в воздухе, определять сходство и различие оптически сходных букв и т.д.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нструировать и реконструировать буквы из элементов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ьзовать ряд упражнений по развитию зрительного, зрительно-пространственного восприятия, памяти и анализа на предметах и геометрических фигурах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одить дифференциацию букв, сходных по начертанию, в письменных упражнениях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9" name="Солнце 3"/>
          <p:cNvSpPr/>
          <p:nvPr/>
        </p:nvSpPr>
        <p:spPr>
          <a:xfrm>
            <a:off x="7451640" y="0"/>
            <a:ext cx="914400" cy="914400"/>
          </a:xfrm>
          <a:prstGeom prst="sun">
            <a:avLst>
              <a:gd name="adj" fmla="val 25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99880" y="15084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4-5 лет  </a:t>
            </a:r>
            <a:br>
              <a:rPr sz="3200"/>
            </a:br>
            <a:r>
              <a:rPr b="0" i="1" lang="ru-RU" sz="3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 Игры и упражне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79280" y="1504800"/>
            <a:ext cx="468000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Цели и задач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Развитие у детей зрительного восприятия и узнавания предмето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Развитие зрительного гнозиса: развитие восприятия цвета; развитие восприятия формы; развитие восприятия размера и величин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дактические игры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Найди пару»(геом. Фигуры), «Какой предмет спрятался» (зашумленные картинки), «Отгадай загадку, найди отгадку», «Соедини одинаковые снежинки»,«Найди отличия», «Дорисуй фигуру» и д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852" name="Picture 6" descr="C:\Documents and Settings\коля\Мои документы\Мои рисунки\снежинки.bmp"/>
          <p:cNvPicPr/>
          <p:nvPr/>
        </p:nvPicPr>
        <p:blipFill>
          <a:blip r:embed="rId1"/>
          <a:stretch/>
        </p:blipFill>
        <p:spPr>
          <a:xfrm>
            <a:off x="6899400" y="1504800"/>
            <a:ext cx="1704960" cy="2152800"/>
          </a:xfrm>
          <a:prstGeom prst="rect">
            <a:avLst/>
          </a:prstGeom>
          <a:ln w="9360">
            <a:solidFill>
              <a:srgbClr val="cc3399"/>
            </a:solidFill>
            <a:miter/>
          </a:ln>
        </p:spPr>
      </p:pic>
      <p:pic>
        <p:nvPicPr>
          <p:cNvPr id="853" name="Picture 7" descr="C:\Documents and Settings\коля\Мои документы\Мои рисунки\фигуры.bmp"/>
          <p:cNvPicPr/>
          <p:nvPr/>
        </p:nvPicPr>
        <p:blipFill>
          <a:blip r:embed="rId2"/>
          <a:stretch/>
        </p:blipFill>
        <p:spPr>
          <a:xfrm>
            <a:off x="5003640" y="4292640"/>
            <a:ext cx="3168720" cy="23191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854" name="Picture 8" descr="C:\Documents and Settings\коля\Мои документы\Мои рисунки\гф.bmp"/>
          <p:cNvPicPr/>
          <p:nvPr/>
        </p:nvPicPr>
        <p:blipFill>
          <a:blip r:embed="rId3"/>
          <a:stretch/>
        </p:blipFill>
        <p:spPr>
          <a:xfrm>
            <a:off x="5003640" y="1504800"/>
            <a:ext cx="1563840" cy="251964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Зашумленные картинки по лексическим тема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856" name="Picture 9" descr="imgpreview8"/>
          <p:cNvPicPr/>
          <p:nvPr/>
        </p:nvPicPr>
        <p:blipFill>
          <a:blip r:embed="rId1"/>
          <a:stretch/>
        </p:blipFill>
        <p:spPr>
          <a:xfrm>
            <a:off x="684360" y="1557360"/>
            <a:ext cx="2471760" cy="2471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57" name="Picture 10" descr="iлев"/>
          <p:cNvPicPr/>
          <p:nvPr/>
        </p:nvPicPr>
        <p:blipFill>
          <a:blip r:embed="rId2"/>
          <a:stretch/>
        </p:blipFill>
        <p:spPr>
          <a:xfrm>
            <a:off x="5952960" y="1633680"/>
            <a:ext cx="2075040" cy="2074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58" name="Picture 11" descr="iкоза"/>
          <p:cNvPicPr/>
          <p:nvPr/>
        </p:nvPicPr>
        <p:blipFill>
          <a:blip r:embed="rId3"/>
          <a:stretch/>
        </p:blipFill>
        <p:spPr>
          <a:xfrm>
            <a:off x="900000" y="4149720"/>
            <a:ext cx="1722600" cy="2117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59" name="Picture 12" descr="list3"/>
          <p:cNvPicPr/>
          <p:nvPr/>
        </p:nvPicPr>
        <p:blipFill>
          <a:blip r:embed="rId4"/>
          <a:stretch/>
        </p:blipFill>
        <p:spPr>
          <a:xfrm>
            <a:off x="3419640" y="4149720"/>
            <a:ext cx="2127240" cy="2119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60" name="Picture 9" descr="i (42)"/>
          <p:cNvPicPr/>
          <p:nvPr/>
        </p:nvPicPr>
        <p:blipFill>
          <a:blip r:embed="rId5"/>
          <a:stretch/>
        </p:blipFill>
        <p:spPr>
          <a:xfrm>
            <a:off x="6018120" y="4211640"/>
            <a:ext cx="1944720" cy="1928880"/>
          </a:xfrm>
          <a:prstGeom prst="rect">
            <a:avLst/>
          </a:prstGeom>
          <a:ln w="9360">
            <a:solidFill>
              <a:srgbClr val="48432a"/>
            </a:solidFill>
            <a:miter/>
          </a:ln>
        </p:spPr>
      </p:pic>
      <p:pic>
        <p:nvPicPr>
          <p:cNvPr id="861" name="Picture 14" descr="iмедведь"/>
          <p:cNvPicPr/>
          <p:nvPr/>
        </p:nvPicPr>
        <p:blipFill>
          <a:blip r:embed="rId6"/>
          <a:stretch/>
        </p:blipFill>
        <p:spPr>
          <a:xfrm>
            <a:off x="3708360" y="1844640"/>
            <a:ext cx="1800360" cy="1571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8:04:07Z</dcterms:created>
  <dc:creator>коля</dc:creator>
  <dc:description/>
  <dc:language>en-US</dc:language>
  <cp:lastModifiedBy>Пользователь</cp:lastModifiedBy>
  <dcterms:modified xsi:type="dcterms:W3CDTF">2017-09-04T10:48:06Z</dcterms:modified>
  <cp:revision>106</cp:revision>
  <dc:subject/>
  <dc:title>ПРОФИЛАКТИКА ДИСГРАФИИ У ДЕТЕЙ ДОШКОЛЬНОГО ВОЗРАСТА</dc:title>
</cp:coreProperties>
</file>