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BBE-1E06-44F1-9223-F09C21E3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F2D-DC59-4E6D-9715-435E1EF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C2C-5C07-487B-B27D-B5CA9186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48B-FAA6-4BD5-A756-B8DB803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BB1E-C594-45D7-B129-F2246425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029-FB92-440D-8B68-73C4359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846-08D2-43E1-96AB-50311A51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32A4-227C-4652-8D02-62433BB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7C9E-393B-41C9-BE3A-8BA8A6A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BDF2-24CA-44D3-B8C3-DACFC1C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5FA4-BE93-4655-A85D-405BFD3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1B3-70F4-4AFC-8B2B-3059AA4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1185-1433-484F-BDE4-B8BBD28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F19-8C10-499C-9C9E-79FCD97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D761-0827-4772-AEDB-D15597B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2BA4-EB1C-4B47-A427-D1F96ADC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B8C-7E75-4C7E-967E-61871DF3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C731-4A5C-44A8-A041-D0A7987C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CF7A-6F62-4127-84FF-71C490E3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1094-59F6-4A5B-892A-B6FF8EBC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86D9-CC7B-486C-A9C6-20145ECE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BA2D-E715-4AC6-A568-7A411F66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7F1-629B-47CD-9513-9B24E6B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7857-9D6D-40B9-A001-4B54AA5D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E5C8-44A8-495C-A52C-5EFE34B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18A8-12C9-4C47-9BA8-BC6B5B55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9B3A-6C22-4921-9029-AA46D7C8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87B7-708C-48C4-9F6B-58A17D84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AFBF-EAB5-44F4-ABAA-2F08DDE1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4BB4-8069-41BE-B1F7-701137BF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4C60-9E81-4D84-843F-E2D95DEC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28C1-04F2-49F1-A71E-67AD9211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25F0-58FD-40AC-BAB7-4E186F67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BD2-54CD-446F-84A1-E6F2734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7BFB-70F0-4417-A54E-7312E6B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EA09-8BEF-4A14-99EB-54D832B6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1324-5807-477A-802C-48859C7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CE5C-943D-4DC2-BAC7-D3663C1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EB94-8F8A-420B-9979-118F7D5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FA4C-B64E-4FE3-982F-52E15A2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9A64-2946-4476-87D0-867DD09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135F-7FF3-4B92-A57E-ACAB6FD5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DF77-7EE5-442C-B438-6FBDA6B9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9DC-B192-4AF7-AFE7-19F26C4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C78-3B75-422E-BD77-0071E56A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FCE-6751-4E00-ACB0-39ECF4F8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259-A8AF-4A79-B536-E71FB38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55D-488E-4EBF-8309-C41AF44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f0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A2B4-E228-4978-92CD-67150606E767}" type="slidenum"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cc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cc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AA2-DFE7-49E6-AD2F-D479718E8A26}" type="slidenum"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cc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cc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f1b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E866-E0AC-4BDA-9AD3-857DA6A550E3}" type="slidenum">
              <a:rPr b="0" lang="ru-RU" sz="1200" spc="-1" strike="noStrike">
                <a:solidFill>
                  <a:srgbClr val="f3f1b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9bd99">
                  <a:alpha val="45098"/>
                </a:srgbClr>
              </a:gs>
              <a:gs pos="100000">
                <a:srgbClr val="00b07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815b">
                  <a:alpha val="45098"/>
                </a:srgbClr>
              </a:gs>
              <a:gs pos="100000">
                <a:srgbClr val="39efb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f0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f0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9b7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9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5ff2c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9b7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7674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0e5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E9A9-E808-4C7D-8389-4C792B2A1A1B}" type="slidenum">
              <a:rPr b="0" lang="ru-RU" sz="1200" spc="-1" strike="noStrike">
                <a:solidFill>
                  <a:srgbClr val="c0e5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00280" y="3643200"/>
            <a:ext cx="4888080" cy="1338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nstantia"/>
              </a:rPr>
              <a:t>Изложение по самостоятельно составленному плану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Фотография Старая ель из раздела природа 633956 - фото.сайт - Photosight.ru"/>
          <p:cNvPicPr/>
          <p:nvPr/>
        </p:nvPicPr>
        <p:blipFill>
          <a:blip r:embed="rId2"/>
          <a:srcRect l="4614" t="2654" r="3079" b="3265"/>
          <a:stretch/>
        </p:blipFill>
        <p:spPr>
          <a:xfrm>
            <a:off x="357120" y="2500200"/>
            <a:ext cx="29782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Эфирное масло ели. Житие мое"/>
          <p:cNvPicPr/>
          <p:nvPr/>
        </p:nvPicPr>
        <p:blipFill>
          <a:blip r:embed="rId1"/>
          <a:stretch/>
        </p:blipFill>
        <p:spPr>
          <a:xfrm>
            <a:off x="500040" y="928800"/>
            <a:ext cx="8185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адет семечко во влажную землю и прорастет. Оно даст жизнь новому деревцу.</a:t>
            </a:r>
            <a:endParaRPr b="0" lang="en-US" sz="40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16" name="Picture 2" descr="Ответы@Mail.Ru: Кто вырастил из семян сосну, купила семена сосны Бунге,так хочется чтоб проросла."/>
          <p:cNvPicPr/>
          <p:nvPr/>
        </p:nvPicPr>
        <p:blipFill>
          <a:blip r:embed="rId1"/>
          <a:stretch/>
        </p:blipFill>
        <p:spPr>
          <a:xfrm>
            <a:off x="571680" y="92880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нарисовать &quot; Страница 38"/>
          <p:cNvPicPr/>
          <p:nvPr/>
        </p:nvPicPr>
        <p:blipFill>
          <a:blip r:embed="rId2"/>
          <a:stretch/>
        </p:blipFill>
        <p:spPr>
          <a:xfrm>
            <a:off x="5357880" y="1000080"/>
            <a:ext cx="2214360" cy="12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На фото видно, что семя ели крылатое, кроме того почти что каждый вид &quot; Free porn"/>
          <p:cNvPicPr/>
          <p:nvPr/>
        </p:nvPicPr>
        <p:blipFill>
          <a:blip r:embed="rId3"/>
          <a:stretch/>
        </p:blipFill>
        <p:spPr>
          <a:xfrm>
            <a:off x="5286240" y="25002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85840" y="357120"/>
          <a:ext cx="8643960" cy="6072120"/>
        </p:xfrm>
        <a:graphic>
          <a:graphicData uri="http://schemas.openxmlformats.org/drawingml/2006/table">
            <a:tbl>
              <a:tblPr/>
              <a:tblGrid>
                <a:gridCol w="3471840"/>
                <a:gridCol w="5172120"/>
              </a:tblGrid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ль осен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ели    созрели се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илась  на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имние гости ел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>
                      <a:noFill/>
                    </a:lnB>
                    <a:solidFill>
                      <a:srgbClr val="99ff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дно    выскочила   забрала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лась за еду    спеш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стилась       чешуй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ffcc"/>
                      </a:solidFill>
                    </a:lnT>
                    <a:lnB>
                      <a:noFill/>
                    </a:lnB>
                    <a:solidFill>
                      <a:srgbClr val="99ffcc">
                        <a:alpha val="20000"/>
                      </a:srgbClr>
                    </a:solidFill>
                  </a:tcPr>
                </a:tc>
              </a:tr>
              <a:tr h="25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Ель дает жизнь новому деревц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рело    выле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астет даст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7120" y="4857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осени на старой ели висели тяжелые шишки. В них созрели семена. Ель готовилась накормить птиц и зверей.</a:t>
            </a:r>
            <a:endParaRPr b="0" lang="en-US" sz="36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199" name="Picture 2" descr="Еловые шишки"/>
          <p:cNvPicPr/>
          <p:nvPr/>
        </p:nvPicPr>
        <p:blipFill>
          <a:blip r:embed="rId1"/>
          <a:stretch/>
        </p:blipFill>
        <p:spPr>
          <a:xfrm>
            <a:off x="357120" y="892080"/>
            <a:ext cx="52866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дно стало зимой в лесу.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на поляну выскочила белка. Она забралась на дерево, взяла шишку и принялась за еду.</a:t>
            </a:r>
            <a:endParaRPr b="0" lang="en-US" sz="36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01" name="Picture 2" descr="Эти забавные животные (35 фото) &quot; ZikZag - Анекдоты, фото и видео приколы, смешные истории"/>
          <p:cNvPicPr/>
          <p:nvPr/>
        </p:nvPicPr>
        <p:blipFill>
          <a:blip r:embed="rId1"/>
          <a:stretch/>
        </p:blipFill>
        <p:spPr>
          <a:xfrm>
            <a:off x="428760" y="92880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Животинки... &quot; Tormashki - сайт юмора. Приколы, анекдоты, см…"/>
          <p:cNvPicPr/>
          <p:nvPr/>
        </p:nvPicPr>
        <p:blipFill>
          <a:blip r:embed="rId1"/>
          <a:stretch/>
        </p:blipFill>
        <p:spPr>
          <a:xfrm>
            <a:off x="285840" y="785880"/>
            <a:ext cx="86295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стрый дятел спешит к ели. Он сорвал шишку и улетел в лес.</a:t>
            </a:r>
            <a:endParaRPr b="0" lang="en-US" sz="40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04" name="Picture 2" descr="Чьи в лесу шишки? :: Риф Сыртланов - Социальная сеть о фотографии ФотоКто"/>
          <p:cNvPicPr/>
          <p:nvPr/>
        </p:nvPicPr>
        <p:blipFill>
          <a:blip r:embed="rId1"/>
          <a:stretch/>
        </p:blipFill>
        <p:spPr>
          <a:xfrm>
            <a:off x="428760" y="857160"/>
            <a:ext cx="59292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Птицы зимнего леса. Комментарии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571680" y="1285920"/>
            <a:ext cx="3749400" cy="490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Дятел долбит шишку на столбе"/>
          <p:cNvPicPr/>
          <p:nvPr/>
        </p:nvPicPr>
        <p:blipFill>
          <a:blip r:embed="rId2"/>
          <a:stretch/>
        </p:blipFill>
        <p:spPr>
          <a:xfrm>
            <a:off x="4714920" y="1285920"/>
            <a:ext cx="37688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йки клестов опустились на ель. Клесты засунули под чешуйки шишек кривые носы и достают семена.</a:t>
            </a:r>
            <a:endParaRPr b="0" lang="en-US" sz="36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08" name="Picture 2" descr="Обои для рабочего стола Crossbill Feeding on Fir Cones"/>
          <p:cNvPicPr/>
          <p:nvPr/>
        </p:nvPicPr>
        <p:blipFill>
          <a:blip r:embed="rId1"/>
          <a:stretch/>
        </p:blipFill>
        <p:spPr>
          <a:xfrm>
            <a:off x="428760" y="1071720"/>
            <a:ext cx="46432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Наблюдение &quot;Елочка - колкая иголочка&quot;"/>
          <p:cNvPicPr/>
          <p:nvPr/>
        </p:nvPicPr>
        <p:blipFill>
          <a:blip r:embed="rId1"/>
          <a:stretch/>
        </p:blipFill>
        <p:spPr>
          <a:xfrm>
            <a:off x="428760" y="785880"/>
            <a:ext cx="4647960" cy="571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Fomane Верующая - Снегири... клесты... в библейской легенде."/>
          <p:cNvPicPr/>
          <p:nvPr/>
        </p:nvPicPr>
        <p:blipFill>
          <a:blip r:embed="rId2"/>
          <a:stretch/>
        </p:blipFill>
        <p:spPr>
          <a:xfrm>
            <a:off x="5286240" y="857160"/>
            <a:ext cx="3333960" cy="250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Клёст-еловик, фотографии"/>
          <p:cNvPicPr/>
          <p:nvPr/>
        </p:nvPicPr>
        <p:blipFill>
          <a:blip r:embed="rId3"/>
          <a:stretch/>
        </p:blipFill>
        <p:spPr>
          <a:xfrm>
            <a:off x="5357880" y="3643200"/>
            <a:ext cx="3224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7120" y="40716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 шишек осталось на ели до весны. Пригрело солнышко. Из шишек вылетели легкие семена. </a:t>
            </a:r>
            <a:endParaRPr b="0" lang="en-US" sz="4000" spc="-1" strike="noStrike">
              <a:solidFill>
                <a:srgbClr val="c9f0ff"/>
              </a:solidFill>
              <a:latin typeface="Calibri"/>
            </a:endParaRPr>
          </a:p>
        </p:txBody>
      </p:sp>
      <p:pic>
        <p:nvPicPr>
          <p:cNvPr id="213" name="Picture 2" descr="Елка весной"/>
          <p:cNvPicPr/>
          <p:nvPr/>
        </p:nvPicPr>
        <p:blipFill>
          <a:blip r:embed="rId1"/>
          <a:stretch/>
        </p:blipFill>
        <p:spPr>
          <a:xfrm>
            <a:off x="357120" y="500040"/>
            <a:ext cx="5786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5:39:02Z</dcterms:created>
  <dc:creator>Бакшаевы</dc:creator>
  <dc:description/>
  <dc:language>en-US</dc:language>
  <cp:lastModifiedBy>DNS</cp:lastModifiedBy>
  <dcterms:modified xsi:type="dcterms:W3CDTF">2014-12-31T14:24:59Z</dcterms:modified>
  <cp:revision>6</cp:revision>
  <dc:subject/>
  <dc:title>Ель-кормилица</dc:title>
</cp:coreProperties>
</file>