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0D46-8CBC-4CAA-983D-2FDD6C165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C200-843E-4BC6-9010-496FCDEF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9B2C-2963-4369-AC40-EE9E4F58B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6F12-CC0D-4302-B44D-EE74646D2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B930-6825-47C5-9BAE-6DBD0394E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8BC2-1029-42C4-9FB0-EC182561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D965-6A41-4864-9090-08714CCA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5B59-6096-4049-8278-3AB4B285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CA85-FFBD-420E-8370-02BA6DBC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03A1-00D6-4F1D-852C-B5AFC2DF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AC26-8F76-49F3-8288-CE4A025A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6B6D-8B09-409D-836B-D294A58B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3387-7564-4768-AAD0-827425FD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35BA-1C97-4F94-857A-2BD9F38B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4D12-123F-48C7-AADF-266BED3A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377A-DA20-44D3-BA84-7058F65BF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C0AC-84EE-4C15-A777-928B8CE3F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7FDF9-4CCD-482F-9E27-4413F3E41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DB47B-860B-44AD-8A10-81C4648D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B235D-ED70-4836-A65A-95D0C32A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F0521-56AA-45D9-8497-1D99CD80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C97C1-0300-4ECA-80B6-06370A1D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D7AC-FCF2-474B-9208-C0784EF6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0480F-BA7A-4393-97C9-DDDBB52C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B0734-A87C-4ACD-B55E-7F86C066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FAC81-B6FA-447D-AF71-3AC79E77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F565A-4B43-440A-8823-996C0D33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705CA-11BA-4C5F-AB26-E67953E2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59BA4-9D8A-4CCB-9CA6-9D892233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8A52E-ADC1-430F-ABB8-576CAC6FD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025FF-EA71-4280-B7C9-FD05C15C7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FB586-399F-43E1-B03D-BF0BF26C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AA37F-6BFC-4233-9725-AECCF4BC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1B74-AE55-4F3D-B41A-DCAC4E0C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EB9C2-E93D-4391-9C38-70915049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37073-C50F-4C99-A966-A3A82830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35EFC-CB8B-4706-B2C1-330EF980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E70B0-37F3-4114-B472-26D28DB5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97494-0BEE-487A-A441-D6D8BE67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28780-9645-4DA0-A97B-E6437828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77E2B-4267-49DC-A93C-04BF48B6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3F3C9-296A-48E0-81E8-328A211E2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31C9D-6FBE-48E5-9ECB-BDDA0C3A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A4C1-B31C-46C7-98F0-03FE13A0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4BC6-ACCC-4B9A-BDDC-1563C483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BE85-88CA-4094-9C74-4463D68C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AB2D-1F7F-43C4-AB41-1FF5673A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C002-62CA-4FED-91F6-6002EA89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9bd99">
                  <a:alpha val="45098"/>
                </a:srgbClr>
              </a:gs>
              <a:gs pos="100000">
                <a:srgbClr val="00b07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815b">
                  <a:alpha val="45098"/>
                </a:srgbClr>
              </a:gs>
              <a:gs pos="100000">
                <a:srgbClr val="39efbd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9f0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9b74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9ff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5ff2c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9b74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7674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0e5f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e5f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0e5f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D88E-51DB-455F-991D-75AA58F151B3}" type="slidenum">
              <a:rPr b="0" lang="ru-RU" sz="1200" spc="-1" strike="noStrike">
                <a:solidFill>
                  <a:srgbClr val="c0e5f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9bd99">
                  <a:alpha val="45098"/>
                </a:srgbClr>
              </a:gs>
              <a:gs pos="100000">
                <a:srgbClr val="00b07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815b">
                  <a:alpha val="45098"/>
                </a:srgbClr>
              </a:gs>
              <a:gs pos="100000">
                <a:srgbClr val="39efbd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cc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cc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9b74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9ff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5ff2c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9b74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7674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f1b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3f1b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f1b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8B8A-932F-4F1F-AFD4-5688B82C0371}" type="slidenum">
              <a:rPr b="0" lang="ru-RU" sz="1200" spc="-1" strike="noStrike">
                <a:solidFill>
                  <a:srgbClr val="f3f1b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9bd99">
                  <a:alpha val="45098"/>
                </a:srgbClr>
              </a:gs>
              <a:gs pos="100000">
                <a:srgbClr val="00b07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815b">
                  <a:alpha val="45098"/>
                </a:srgbClr>
              </a:gs>
              <a:gs pos="100000">
                <a:srgbClr val="39efbd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cc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cc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9b74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9ff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5ff2c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9b74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7674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f1b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3f1b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f1b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6BDB-6239-4B09-B60D-9398F7E251DE}" type="slidenum">
              <a:rPr b="0" lang="ru-RU" sz="1200" spc="-1" strike="noStrike">
                <a:solidFill>
                  <a:srgbClr val="f3f1b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39bd99">
                  <a:alpha val="45098"/>
                </a:srgbClr>
              </a:gs>
              <a:gs pos="100000">
                <a:srgbClr val="00b07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815b">
                  <a:alpha val="45098"/>
                </a:srgbClr>
              </a:gs>
              <a:gs pos="100000">
                <a:srgbClr val="39efbd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9f0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9b74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9ff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5ff2c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9b74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7674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0e5f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e5f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0e5f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CC52-50D0-4DD0-B220-EE429570A0C8}" type="slidenum">
              <a:rPr b="0" lang="ru-RU" sz="1200" spc="-1" strike="noStrike">
                <a:solidFill>
                  <a:srgbClr val="c0e5f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500280" y="3643200"/>
            <a:ext cx="4888080" cy="1338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onstantia"/>
              </a:rPr>
              <a:t>Изложение по самостоятельно составленному плану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Фотография Старая ель из раздела природа 633956 - фото.сайт - Photosight.ru"/>
          <p:cNvPicPr/>
          <p:nvPr/>
        </p:nvPicPr>
        <p:blipFill>
          <a:blip r:embed="rId2"/>
          <a:srcRect l="4614" t="2654" r="3079" b="3265"/>
          <a:stretch/>
        </p:blipFill>
        <p:spPr>
          <a:xfrm>
            <a:off x="357120" y="2500200"/>
            <a:ext cx="297828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Эфирное масло ели. Житие мое"/>
          <p:cNvPicPr/>
          <p:nvPr/>
        </p:nvPicPr>
        <p:blipFill>
          <a:blip r:embed="rId1"/>
          <a:stretch/>
        </p:blipFill>
        <p:spPr>
          <a:xfrm>
            <a:off x="500040" y="928800"/>
            <a:ext cx="81853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7120" y="407160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падет семечко во влажную землю и прорастет. Оно даст жизнь новому деревцу.</a:t>
            </a:r>
            <a:endParaRPr b="0" lang="en-US" sz="4000" spc="-1" strike="noStrike">
              <a:solidFill>
                <a:srgbClr val="c9f0ff"/>
              </a:solidFill>
              <a:latin typeface="Calibri"/>
            </a:endParaRPr>
          </a:p>
        </p:txBody>
      </p:sp>
      <p:pic>
        <p:nvPicPr>
          <p:cNvPr id="216" name="Picture 2" descr="Ответы@Mail.Ru: Кто вырастил из семян сосну, купила семена сосны Бунге,так хочется чтоб проросла."/>
          <p:cNvPicPr/>
          <p:nvPr/>
        </p:nvPicPr>
        <p:blipFill>
          <a:blip r:embed="rId1"/>
          <a:stretch/>
        </p:blipFill>
        <p:spPr>
          <a:xfrm>
            <a:off x="571680" y="928800"/>
            <a:ext cx="4429080" cy="3322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нарисовать &quot; Страница 38"/>
          <p:cNvPicPr/>
          <p:nvPr/>
        </p:nvPicPr>
        <p:blipFill>
          <a:blip r:embed="rId2"/>
          <a:stretch/>
        </p:blipFill>
        <p:spPr>
          <a:xfrm>
            <a:off x="5357880" y="1000080"/>
            <a:ext cx="2214360" cy="1285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На фото видно, что семя ели крылатое, кроме того почти что каждый вид &quot; Free porn"/>
          <p:cNvPicPr/>
          <p:nvPr/>
        </p:nvPicPr>
        <p:blipFill>
          <a:blip r:embed="rId3"/>
          <a:stretch/>
        </p:blipFill>
        <p:spPr>
          <a:xfrm>
            <a:off x="5286240" y="250020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285840" y="357120"/>
          <a:ext cx="8643960" cy="6072120"/>
        </p:xfrm>
        <a:graphic>
          <a:graphicData uri="http://schemas.openxmlformats.org/drawingml/2006/table">
            <a:tbl>
              <a:tblPr/>
              <a:tblGrid>
                <a:gridCol w="3471840"/>
                <a:gridCol w="5172120"/>
              </a:tblGrid>
              <a:tr h="17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Ель осень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9ffcc"/>
                      </a:solidFill>
                    </a:lnT>
                    <a:lnB w="5760">
                      <a:solidFill>
                        <a:srgbClr val="99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ели    созрели сем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илась  накорм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9ffcc"/>
                      </a:solidFill>
                    </a:lnT>
                    <a:lnB w="5760">
                      <a:solidFill>
                        <a:srgbClr val="99ffcc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Зимние гости ел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9ffcc"/>
                      </a:solidFill>
                    </a:lnT>
                    <a:lnB>
                      <a:noFill/>
                    </a:lnB>
                    <a:solidFill>
                      <a:srgbClr val="99ff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лодно    выскочила   забралас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лась за еду    спеш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устилась       чешуйк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9ffcc"/>
                      </a:solidFill>
                    </a:lnT>
                    <a:lnB>
                      <a:noFill/>
                    </a:lnB>
                    <a:solidFill>
                      <a:srgbClr val="99ffcc">
                        <a:alpha val="20000"/>
                      </a:srgbClr>
                    </a:solidFill>
                  </a:tcPr>
                </a:tc>
              </a:tr>
              <a:tr h="25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Ель дает жизнь новому деревц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грело    вылете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растет даст жиз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57120" y="485784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 осени на старой ели висели тяжелые шишки. В них созрели семена. Ель готовилась накормить птиц и зверей.</a:t>
            </a:r>
            <a:endParaRPr b="0" lang="en-US" sz="3600" spc="-1" strike="noStrike">
              <a:solidFill>
                <a:srgbClr val="c9f0ff"/>
              </a:solidFill>
              <a:latin typeface="Calibri"/>
            </a:endParaRPr>
          </a:p>
        </p:txBody>
      </p:sp>
      <p:pic>
        <p:nvPicPr>
          <p:cNvPr id="199" name="Picture 2" descr="Еловые шишки"/>
          <p:cNvPicPr/>
          <p:nvPr/>
        </p:nvPicPr>
        <p:blipFill>
          <a:blip r:embed="rId1"/>
          <a:stretch/>
        </p:blipFill>
        <p:spPr>
          <a:xfrm>
            <a:off x="357120" y="892080"/>
            <a:ext cx="5286600" cy="39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57120" y="407160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лодно стало зимой в лесу.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т на поляну выскочила белка. Она забралась на дерево, взяла шишку и принялась за еду.</a:t>
            </a:r>
            <a:endParaRPr b="0" lang="en-US" sz="3600" spc="-1" strike="noStrike">
              <a:solidFill>
                <a:srgbClr val="c9f0ff"/>
              </a:solidFill>
              <a:latin typeface="Calibri"/>
            </a:endParaRPr>
          </a:p>
        </p:txBody>
      </p:sp>
      <p:pic>
        <p:nvPicPr>
          <p:cNvPr id="201" name="Picture 2" descr="Эти забавные животные (35 фото) &quot; ZikZag - Анекдоты, фото и видео приколы, смешные истории"/>
          <p:cNvPicPr/>
          <p:nvPr/>
        </p:nvPicPr>
        <p:blipFill>
          <a:blip r:embed="rId1"/>
          <a:stretch/>
        </p:blipFill>
        <p:spPr>
          <a:xfrm>
            <a:off x="428760" y="928800"/>
            <a:ext cx="45720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Животинки... &quot; Tormashki - сайт юмора. Приколы, анекдоты, см…"/>
          <p:cNvPicPr/>
          <p:nvPr/>
        </p:nvPicPr>
        <p:blipFill>
          <a:blip r:embed="rId1"/>
          <a:stretch/>
        </p:blipFill>
        <p:spPr>
          <a:xfrm>
            <a:off x="285840" y="785880"/>
            <a:ext cx="862956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57120" y="407160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стрый дятел спешит к ели. Он сорвал шишку и улетел в лес.</a:t>
            </a:r>
            <a:endParaRPr b="0" lang="en-US" sz="4000" spc="-1" strike="noStrike">
              <a:solidFill>
                <a:srgbClr val="c9f0ff"/>
              </a:solidFill>
              <a:latin typeface="Calibri"/>
            </a:endParaRPr>
          </a:p>
        </p:txBody>
      </p:sp>
      <p:pic>
        <p:nvPicPr>
          <p:cNvPr id="204" name="Picture 2" descr="Чьи в лесу шишки? :: Риф Сыртланов - Социальная сеть о фотографии ФотоКто"/>
          <p:cNvPicPr/>
          <p:nvPr/>
        </p:nvPicPr>
        <p:blipFill>
          <a:blip r:embed="rId1"/>
          <a:stretch/>
        </p:blipFill>
        <p:spPr>
          <a:xfrm>
            <a:off x="428760" y="857160"/>
            <a:ext cx="592920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Птицы зимнего леса. Комментарии :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571680" y="1285920"/>
            <a:ext cx="3749400" cy="4905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Дятел долбит шишку на столбе"/>
          <p:cNvPicPr/>
          <p:nvPr/>
        </p:nvPicPr>
        <p:blipFill>
          <a:blip r:embed="rId2"/>
          <a:stretch/>
        </p:blipFill>
        <p:spPr>
          <a:xfrm>
            <a:off x="4714920" y="1285920"/>
            <a:ext cx="376884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57120" y="407160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йки клестов опустились на ель. Клесты засунули под чешуйки шишек кривые носы и достают семена.</a:t>
            </a:r>
            <a:endParaRPr b="0" lang="en-US" sz="3600" spc="-1" strike="noStrike">
              <a:solidFill>
                <a:srgbClr val="c9f0ff"/>
              </a:solidFill>
              <a:latin typeface="Calibri"/>
            </a:endParaRPr>
          </a:p>
        </p:txBody>
      </p:sp>
      <p:pic>
        <p:nvPicPr>
          <p:cNvPr id="208" name="Picture 2" descr="Обои для рабочего стола Crossbill Feeding on Fir Cones"/>
          <p:cNvPicPr/>
          <p:nvPr/>
        </p:nvPicPr>
        <p:blipFill>
          <a:blip r:embed="rId1"/>
          <a:stretch/>
        </p:blipFill>
        <p:spPr>
          <a:xfrm>
            <a:off x="428760" y="1071720"/>
            <a:ext cx="464328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Наблюдение &quot;Елочка - колкая иголочка&quot;"/>
          <p:cNvPicPr/>
          <p:nvPr/>
        </p:nvPicPr>
        <p:blipFill>
          <a:blip r:embed="rId1"/>
          <a:stretch/>
        </p:blipFill>
        <p:spPr>
          <a:xfrm>
            <a:off x="428760" y="785880"/>
            <a:ext cx="4647960" cy="5715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Fomane Верующая - Снегири... клесты... в библейской легенде."/>
          <p:cNvPicPr/>
          <p:nvPr/>
        </p:nvPicPr>
        <p:blipFill>
          <a:blip r:embed="rId2"/>
          <a:stretch/>
        </p:blipFill>
        <p:spPr>
          <a:xfrm>
            <a:off x="5286240" y="857160"/>
            <a:ext cx="3333960" cy="2500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Клёст-еловик, фотографии"/>
          <p:cNvPicPr/>
          <p:nvPr/>
        </p:nvPicPr>
        <p:blipFill>
          <a:blip r:embed="rId3"/>
          <a:stretch/>
        </p:blipFill>
        <p:spPr>
          <a:xfrm>
            <a:off x="5357880" y="3643200"/>
            <a:ext cx="322416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57120" y="407160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ного шишек осталось на ели до весны. Пригрело солнышко. Из шишек вылетели легкие семена. </a:t>
            </a:r>
            <a:endParaRPr b="0" lang="en-US" sz="4000" spc="-1" strike="noStrike">
              <a:solidFill>
                <a:srgbClr val="c9f0ff"/>
              </a:solidFill>
              <a:latin typeface="Calibri"/>
            </a:endParaRPr>
          </a:p>
        </p:txBody>
      </p:sp>
      <p:pic>
        <p:nvPicPr>
          <p:cNvPr id="213" name="Picture 2" descr="Елка весной"/>
          <p:cNvPicPr/>
          <p:nvPr/>
        </p:nvPicPr>
        <p:blipFill>
          <a:blip r:embed="rId1"/>
          <a:stretch/>
        </p:blipFill>
        <p:spPr>
          <a:xfrm>
            <a:off x="357120" y="500040"/>
            <a:ext cx="578664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8T15:39:02Z</dcterms:created>
  <dc:creator>Бакшаевы</dc:creator>
  <dc:description/>
  <dc:language>en-US</dc:language>
  <cp:lastModifiedBy>DNS</cp:lastModifiedBy>
  <dcterms:modified xsi:type="dcterms:W3CDTF">2014-12-31T14:24:59Z</dcterms:modified>
  <cp:revision>6</cp:revision>
  <dc:subject/>
  <dc:title>Ель-кормилица</dc:title>
</cp:coreProperties>
</file>