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8A9-3AAF-40FF-A05A-453232ED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EDF-6FF5-47B7-8410-20C1C674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7DD-55CE-4F71-89F3-8680E95D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426-4D1D-4963-B72F-98C7B6BC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53A-6C9E-470E-BF06-2DD4ECF2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CB5-6D3F-4E7F-A399-A73D2701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A41-F96F-4D5B-9C91-241FBF4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807-8103-4267-846D-4C649FD9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43F-2C96-4A03-BECE-61AB499A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DF4-7DBD-4208-8AEF-AC09FE3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71D-CA5F-465C-9FBF-211B5C2F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1C4-E4DF-4AF5-8A35-F5C6ECE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46E-186E-4EAC-8282-7E04F1E7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ЗА</a:t>
            </a:r>
            <a:r>
              <a:rPr b="1" lang="en-US" sz="7000" spc="-1" strike="noStrike">
                <a:solidFill>
                  <a:srgbClr val="006600"/>
                </a:solidFill>
                <a:latin typeface="Arial"/>
              </a:rPr>
              <a:t>Т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1" lang="en-US" sz="70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С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1" lang="en-US" sz="7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Ц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Уменьшить"/>
          <p:cNvPicPr/>
          <p:nvPr/>
        </p:nvPicPr>
        <p:blipFill>
          <a:blip r:embed="rId1"/>
          <a:stretch/>
        </p:blipFill>
        <p:spPr>
          <a:xfrm>
            <a:off x="971640" y="2276640"/>
            <a:ext cx="7200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ЗА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 Обои для рабочего стола · Коллекции · Природа &#10; Snake River, Grand Teton National Park, Wyoming"/>
          <p:cNvPicPr/>
          <p:nvPr/>
        </p:nvPicPr>
        <p:blipFill>
          <a:blip r:embed="rId1"/>
          <a:stretch/>
        </p:blipFill>
        <p:spPr>
          <a:xfrm>
            <a:off x="1187280" y="1628640"/>
            <a:ext cx="648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НО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ЗА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НИ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Е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осмос_Обои_Фото_картинки заставки фото обои рабочего стола_фото обои на рабочий стол лунного затмения"/>
          <p:cNvPicPr/>
          <p:nvPr/>
        </p:nvPicPr>
        <p:blipFill>
          <a:blip r:embed="rId1"/>
          <a:stretch/>
        </p:blipFill>
        <p:spPr>
          <a:xfrm>
            <a:off x="1332000" y="2421000"/>
            <a:ext cx="6264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НО</a:t>
            </a: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СИ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Я</a:t>
            </a: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НИ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409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ТУ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обои Фото # 5483"/>
          <p:cNvPicPr/>
          <p:nvPr/>
        </p:nvPicPr>
        <p:blipFill>
          <a:blip r:embed="rId1"/>
          <a:stretch/>
        </p:blipFill>
        <p:spPr>
          <a:xfrm>
            <a:off x="1042920" y="1484280"/>
            <a:ext cx="6913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1608120"/>
            <a:ext cx="6769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Ж</a:t>
            </a: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Д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фото, обои, картинки дождь"/>
          <p:cNvPicPr/>
          <p:nvPr/>
        </p:nvPicPr>
        <p:blipFill>
          <a:blip r:embed="rId1"/>
          <a:stretch/>
        </p:blipFill>
        <p:spPr>
          <a:xfrm>
            <a:off x="1258920" y="1844640"/>
            <a:ext cx="64800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Г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РО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Г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 Обои для рабочего стола · Коллекции · Природа &#10; Lamar Valley Sunset Rainbow, Yellowstone National Park, Montana"/>
          <p:cNvPicPr/>
          <p:nvPr/>
        </p:nvPicPr>
        <p:blipFill>
          <a:blip r:embed="rId1"/>
          <a:stretch/>
        </p:blipFill>
        <p:spPr>
          <a:xfrm>
            <a:off x="1332000" y="1628640"/>
            <a:ext cx="662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Я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 Обои для рабочего стола · Коллекции · Природа &#10; Multiple Strikes"/>
          <p:cNvPicPr/>
          <p:nvPr/>
        </p:nvPicPr>
        <p:blipFill>
          <a:blip r:embed="rId1"/>
          <a:stretch/>
        </p:blipFill>
        <p:spPr>
          <a:xfrm>
            <a:off x="1258920" y="191628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22:22:25Z</dcterms:created>
  <dc:creator>Artiom &amp; Ksjuha</dc:creator>
  <dc:description/>
  <dc:language>en-US</dc:language>
  <cp:lastModifiedBy>Artiom &amp; Ksjuha</cp:lastModifiedBy>
  <dcterms:modified xsi:type="dcterms:W3CDTF">2007-04-20T17:48:12Z</dcterms:modified>
  <cp:revision>32</cp:revision>
  <dc:subject/>
  <dc:title>Слайд 1</dc:title>
</cp:coreProperties>
</file>